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A01-39E8-45CB-A60D-7EA0FE5F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F25-7814-4B06-A7CB-32CC854D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5D5-4159-47AE-902C-F6350672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6B2-5390-4FD8-A721-2ECF0242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50E-CF41-4D27-9C2E-113AAD6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339-6CBF-4465-9A2A-B660EE27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09B-BA33-4DA9-B8BB-6A09D28A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041-B0AB-4776-B7D7-FADDAA60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1DE-9C40-4C3A-9BB5-821AE668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ACF-6945-4673-A46A-A0B39BE9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097-96EE-4A35-BA43-2613726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BE0-6A95-4861-8AA2-2728724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EB4F-CFA7-4131-85C8-54CD11C79E0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19F-3540-4DC0-80AB-FD478B152D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36440" y="64944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人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pp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" descr="www.tuweimei.comComp_8549396_8RY7kd0htoDtlu5BuEfpqi54HMDa39S1.jpg"/>
          <p:cNvPicPr/>
          <p:nvPr/>
        </p:nvPicPr>
        <p:blipFill>
          <a:blip r:embed="rId2"/>
          <a:stretch/>
        </p:blipFill>
        <p:spPr>
          <a:xfrm>
            <a:off x="824040" y="685800"/>
            <a:ext cx="228744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www.tuweimei.comComp_8658093_6k8HDLIFPcq7lx9bpWDfnSi5F8QWaSFW.jpg"/>
          <p:cNvPicPr/>
          <p:nvPr/>
        </p:nvPicPr>
        <p:blipFill>
          <a:blip r:embed="rId3"/>
          <a:stretch/>
        </p:blipFill>
        <p:spPr>
          <a:xfrm>
            <a:off x="3162240" y="68580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www.tuweimei.comComp_8790292_dnNkmoU4w3jMXVITxpRbVgsPJ5UXIlem.jpg"/>
          <p:cNvPicPr/>
          <p:nvPr/>
        </p:nvPicPr>
        <p:blipFill>
          <a:blip r:embed="rId4"/>
          <a:stretch/>
        </p:blipFill>
        <p:spPr>
          <a:xfrm>
            <a:off x="755640" y="3546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www.tuweimei.comComp_8790338_d7DzeVr393tIvnspVK7XN4NLsA8aNEqr.jpg"/>
          <p:cNvPicPr/>
          <p:nvPr/>
        </p:nvPicPr>
        <p:blipFill>
          <a:blip r:embed="rId5"/>
          <a:stretch/>
        </p:blipFill>
        <p:spPr>
          <a:xfrm>
            <a:off x="5580000" y="685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4720" y="479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20640" y="3933720"/>
            <a:ext cx="39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人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136440" y="64944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www.tuweimei.comComp_9110448_Ja8E5vvDplB1m5nGpzNHlnpNm60hmbWw.jpg"/>
          <p:cNvPicPr/>
          <p:nvPr/>
        </p:nvPicPr>
        <p:blipFill>
          <a:blip r:embed="rId2"/>
          <a:stretch/>
        </p:blipFill>
        <p:spPr>
          <a:xfrm>
            <a:off x="611280" y="685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www.tuweimei.comComp_9747343_25UwGUwej5Zhsc0pkpcbMKRTX20WJnQC.jpg"/>
          <p:cNvPicPr/>
          <p:nvPr/>
        </p:nvPicPr>
        <p:blipFill>
          <a:blip r:embed="rId3"/>
          <a:stretch/>
        </p:blipFill>
        <p:spPr>
          <a:xfrm>
            <a:off x="4716360" y="708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www.tuweimei.comComp_9747346_ZHX1sZN0oLbWAkV2P55smge8WYFdwhwL.jpg"/>
          <p:cNvPicPr/>
          <p:nvPr/>
        </p:nvPicPr>
        <p:blipFill>
          <a:blip r:embed="rId4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www.tuweimei.comComp_9747348_P4PxfN9GCZ1pR6DX57BokrHZKNZoOZEe.jpg"/>
          <p:cNvPicPr/>
          <p:nvPr/>
        </p:nvPicPr>
        <p:blipFill>
          <a:blip r:embed="rId5"/>
          <a:stretch/>
        </p:blipFill>
        <p:spPr>
          <a:xfrm>
            <a:off x="4421160" y="35784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136440" y="64944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" descr="www.tuweimei.comComp_10663419_JlCadYEehm1Io1Efk4a3HWpfEL9VykM8.jpg"/>
          <p:cNvPicPr/>
          <p:nvPr/>
        </p:nvPicPr>
        <p:blipFill>
          <a:blip r:embed="rId2"/>
          <a:stretch/>
        </p:blipFill>
        <p:spPr>
          <a:xfrm>
            <a:off x="1042920" y="1052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www.tuweimei.comComp_14885878_ypaze6TNyIfphyd0ZsJQ2GymhWMFulZj.jpg"/>
          <p:cNvPicPr/>
          <p:nvPr/>
        </p:nvPicPr>
        <p:blipFill>
          <a:blip r:embed="rId3"/>
          <a:stretch/>
        </p:blipFill>
        <p:spPr>
          <a:xfrm>
            <a:off x="5315040" y="107964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" descr="www.tuweimei.comComp_14972343_2MoejwDPiXGtW6fjvlroOgSNOY444mnw.jpg"/>
          <p:cNvPicPr/>
          <p:nvPr/>
        </p:nvPicPr>
        <p:blipFill>
          <a:blip r:embed="rId4"/>
          <a:stretch/>
        </p:blipFill>
        <p:spPr>
          <a:xfrm>
            <a:off x="971640" y="37180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www.tuweimei.comComp_15959846_xLD4by8sds3PxBUaoRxwHqaNfdeaazPO.jpg"/>
          <p:cNvPicPr/>
          <p:nvPr/>
        </p:nvPicPr>
        <p:blipFill>
          <a:blip r:embed="rId5"/>
          <a:stretch/>
        </p:blipFill>
        <p:spPr>
          <a:xfrm>
            <a:off x="5052960" y="3718080"/>
            <a:ext cx="3119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136440" y="64944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www_tuweimei_comComp_11067441_8ue9neYtgc014c3Is8vwoH4EAPYvqSap.jpg"/>
          <p:cNvPicPr/>
          <p:nvPr/>
        </p:nvPicPr>
        <p:blipFill>
          <a:blip r:embed="rId2"/>
          <a:stretch/>
        </p:blipFill>
        <p:spPr>
          <a:xfrm>
            <a:off x="611280" y="37180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www_tuweimei_comComp_11067443_ZCa5eQxZtqhcpTOTaJYaZxMFGmuJhYz6.jpg"/>
          <p:cNvPicPr/>
          <p:nvPr/>
        </p:nvPicPr>
        <p:blipFill>
          <a:blip r:embed="rId3"/>
          <a:stretch/>
        </p:blipFill>
        <p:spPr>
          <a:xfrm>
            <a:off x="5508720" y="37180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" descr="www.tuweimei.comComp_16484813_lyKxsnYKgJbTvyedq3WErorkRuT8nNwO.jpg"/>
          <p:cNvPicPr/>
          <p:nvPr/>
        </p:nvPicPr>
        <p:blipFill>
          <a:blip r:embed="rId4"/>
          <a:stretch/>
        </p:blipFill>
        <p:spPr>
          <a:xfrm>
            <a:off x="961920" y="86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www.tuweimei.comComp_16795336_7EmVNk1kSg3JXZF0gsdg35y4XFSPGOJD.jpg"/>
          <p:cNvPicPr/>
          <p:nvPr/>
        </p:nvPicPr>
        <p:blipFill>
          <a:blip r:embed="rId5"/>
          <a:stretch/>
        </p:blipFill>
        <p:spPr>
          <a:xfrm>
            <a:off x="5315040" y="981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136440" y="64944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" descr="www_tuweimei_comComp_14972343_2MoejwDPiXGtW6fjvlroOgSNOY444mnw.jpg"/>
          <p:cNvPicPr/>
          <p:nvPr/>
        </p:nvPicPr>
        <p:blipFill>
          <a:blip r:embed="rId2"/>
          <a:stretch/>
        </p:blipFill>
        <p:spPr>
          <a:xfrm>
            <a:off x="971640" y="78732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www_tuweimei_comComp_15132406_bEuqM9l6QEibctQMO47lW353DS2K0L2R.jpg"/>
          <p:cNvPicPr/>
          <p:nvPr/>
        </p:nvPicPr>
        <p:blipFill>
          <a:blip r:embed="rId3"/>
          <a:stretch/>
        </p:blipFill>
        <p:spPr>
          <a:xfrm>
            <a:off x="5599080" y="78732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" descr="www_tuweimei_comComp_20164376_9cFfSi8qQLLzPrggteohQmvPw4wtnZOm.jpg"/>
          <p:cNvPicPr/>
          <p:nvPr/>
        </p:nvPicPr>
        <p:blipFill>
          <a:blip r:embed="rId4"/>
          <a:stretch/>
        </p:blipFill>
        <p:spPr>
          <a:xfrm>
            <a:off x="971640" y="3740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www_tuweimei_comComp_20164436_L6h2mAqxFjaGiOT2CorPg7mMF6Fsu4y5.jpg"/>
          <p:cNvPicPr/>
          <p:nvPr/>
        </p:nvPicPr>
        <p:blipFill>
          <a:blip r:embed="rId5"/>
          <a:stretch/>
        </p:blipFill>
        <p:spPr>
          <a:xfrm>
            <a:off x="4838760" y="3740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C2F-2449-4385-B207-3284B3B0D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7-11T14:46:58Z</dcterms:modified>
  <cp:revision>109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