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9DF-E84D-44BA-BE15-2974CAFC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1BC-D03B-4219-82B4-E8D831B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139-78BB-4A78-B372-3BBADED6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74F-5A39-4E88-B758-CEE3174B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B0A-E706-44E9-86F6-DDD33FF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F12-B2E9-4DB6-952D-352A228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D1D-DB4B-446A-B2A9-FE6C749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D28-ED10-456E-A98F-9C8FA1F7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EA1-0249-4117-8BB0-699245A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0A9-DB02-40E7-BC98-68976D0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CF1-9F42-4C73-B3F5-CE42547B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615-2472-4C62-9929-E1A29F5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CE6-694C-4C77-BD8A-B51797F200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A54-CB44-48F9-9523-BD0496A023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29162" t="4963" r="9568" b="6637"/>
          <a:stretch/>
        </p:blipFill>
        <p:spPr>
          <a:xfrm>
            <a:off x="3995640" y="907920"/>
            <a:ext cx="4940280" cy="475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2560" y="4932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宝宝夏季防蚊   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1835280" y="98100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0" spc="-1" strike="noStrike">
                <a:solidFill>
                  <a:srgbClr val="538cd5"/>
                </a:solidFill>
                <a:latin typeface="微软雅黑"/>
                <a:ea typeface="微软雅黑"/>
              </a:rPr>
              <a:t>6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7"/>
          <p:cNvSpPr/>
          <p:nvPr/>
        </p:nvSpPr>
        <p:spPr>
          <a:xfrm>
            <a:off x="1476360" y="4365720"/>
            <a:ext cx="1943280" cy="7110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9"/>
          <p:cNvSpPr/>
          <p:nvPr/>
        </p:nvSpPr>
        <p:spPr>
          <a:xfrm flipV="1">
            <a:off x="3418920" y="4572000"/>
            <a:ext cx="360360" cy="50472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.mp3" descr=""/>
          <p:cNvPicPr/>
          <p:nvPr/>
        </p:nvPicPr>
        <p:blipFill>
          <a:blip r:embed="rId2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3399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5480" y="403200"/>
            <a:ext cx="56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宝宝夏季防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-109440" y="763560"/>
            <a:ext cx="9174240" cy="612288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挂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蚊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959280" y="5300640"/>
            <a:ext cx="5184720" cy="3988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蚊帐安全、无毒，不仅防蚊效果好，帐内小小的空间会给宝宝一种安全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1680" y="906480"/>
            <a:ext cx="9175680" cy="612288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给宝宝穿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袜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穿了袜子后，蚊子感觉人的皮肤湿度降低、皮表挥发物减少，会减少叮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rcRect l="17889" t="12934" r="17140" b="0"/>
          <a:stretch/>
        </p:blipFill>
        <p:spPr>
          <a:xfrm>
            <a:off x="3132000" y="1484280"/>
            <a:ext cx="6012000" cy="5373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蔬菜中有一些含有蚊子不喜欢的气味，如含胡萝卜素的蔬菜及大蒜等有辛辣味的蔬菜，宝宝吃下后，蚊子也会离远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多吃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蔬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勤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洗澡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勤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给宝宝勤洗澡、勤换衣，保持皮肤干燥清洁，可以减少蚊虫叮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0E5-1D77-43D7-8FA4-62C20400C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0" r="14899" b="0"/>
          <a:stretch/>
        </p:blipFill>
        <p:spPr>
          <a:xfrm>
            <a:off x="971640" y="1341360"/>
            <a:ext cx="1919160" cy="144000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971640" y="3176640"/>
            <a:ext cx="1920960" cy="143964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971640" y="5013360"/>
            <a:ext cx="1920960" cy="144000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sp>
        <p:nvSpPr>
          <p:cNvPr id="68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室内摆放驱蚊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花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3132000" y="1339920"/>
            <a:ext cx="5688000" cy="144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茉莉花：花香浓郁，夏季置于室内，能杀死结核、痢 疾、白喉杆菌，蚊虫避而远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3"/>
          <p:cNvSpPr/>
          <p:nvPr/>
        </p:nvSpPr>
        <p:spPr>
          <a:xfrm>
            <a:off x="3132000" y="3176640"/>
            <a:ext cx="5688000" cy="143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   荷：具有特殊的芬芳香气，蚊虫闻之会晕眩。被蚊叮虫咬后，用它的叶熬水敷用，有清凉、消炎、止痒等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4"/>
          <p:cNvSpPr/>
          <p:nvPr/>
        </p:nvSpPr>
        <p:spPr>
          <a:xfrm>
            <a:off x="3132000" y="5013360"/>
            <a:ext cx="568800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寿菊：有一种冲鼻气味，蚊虫不敢接近它，是一种特殊的优良天然驱虫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1835280"/>
            <a:ext cx="3200400" cy="32004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268800" cy="3262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4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选择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物理类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驱蚊用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511280" y="5151600"/>
            <a:ext cx="6516720" cy="1008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电蚊拍                                                    灭蚊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要使用化学类的驱蚊用品，如蚊香、电蚊香、杀虫喷雾剂，以免影响宝宝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09:00Z</dcterms:created>
  <dc:creator>An</dc:creator>
  <dc:description/>
  <dc:language>en-US</dc:language>
  <cp:lastModifiedBy/>
  <dcterms:modified xsi:type="dcterms:W3CDTF">2015-07-11T14:14:56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