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50-2548-4943-8213-2AF3954B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698-7272-4465-8B3D-5F72FE2F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BE9-3017-4A11-8358-8CFBDA22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0A6-FB35-4BEF-A47F-89A5096A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80E3-D4B3-4815-8920-58F6F807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005C-E2B1-4A35-9910-579701C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74C8-E98C-4043-91F8-AF14361C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D653-9F84-4912-B0DC-BC5879C3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40ED-A09E-4A56-B711-D2BEB950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635-3AAF-4B50-927D-32D0D951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F113-1F3D-403C-8531-64305F09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F61-51A8-4DDA-936E-4263B120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F073-E314-4438-9A0A-D67B8022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C6C-97AC-4138-8017-10C58A7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9C28-AE76-4155-A7C8-C0785EE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AA1-AABC-4AE2-A548-8F019140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56BC-922F-4419-9FE7-97A40F0D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FDE-B765-4AEF-A82A-F5F44C1B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D0D-1D8B-4AC6-AA22-E709D3BE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454-D2B9-4A5C-B001-576F081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3008-DFDF-41F8-8E32-D92C814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6ED-26AF-43AC-99D0-11B67866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9E7-7D2F-4BEA-89B7-E3C873D7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B13D-4485-4FF6-A978-E7C9127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6F3-CACF-4216-8EE7-39532B4AB38B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975-E003-4493-A4D1-8D03169D1540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yundong/" TargetMode="External"/><Relationship Id="rId3" Type="http://schemas.openxmlformats.org/officeDocument/2006/relationships/hyperlink" Target="http://www.eeppt.com/moban/yundong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3962520"/>
            <a:ext cx="5790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Impact"/>
                <a:ea typeface="宋体"/>
              </a:rPr>
              <a:t>棒球运动</a:t>
            </a:r>
            <a:r>
              <a:rPr b="0" lang="zh-CN" sz="4400" spc="-1" strike="noStrike">
                <a:solidFill>
                  <a:srgbClr val="ff0000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Impact"/>
                <a:ea typeface="宋体"/>
              </a:rPr>
              <a:t>模板下载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571500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幻灯片之家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1522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657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7053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172200"/>
            <a:ext cx="660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体育运动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yund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4382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2388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6386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03848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40:54Z</dcterms:created>
  <dc:creator>eclipse</dc:creator>
  <dc:description/>
  <dc:language>en-US</dc:language>
  <cp:lastModifiedBy>微软用户</cp:lastModifiedBy>
  <dcterms:modified xsi:type="dcterms:W3CDTF">2015-07-05T06:49:19Z</dcterms:modified>
  <cp:revision>3</cp:revision>
  <dc:subject/>
  <dc:title>Baseball Season  Outfield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