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DD7-2046-470A-878E-9DB49822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AE5-B070-436F-A22D-3FF664AB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C2D-A953-46C3-9D7F-ADD487BF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677-4EAE-414E-94D3-71C8E7FF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25FE-F832-46F7-A924-D6780663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205A-92B8-4491-9ECC-1E297EB6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82AC-FDE3-4370-AB3A-CF272115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C51F-FC69-48EB-BBE5-63DB1FA1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AE27-86CE-4AB5-9FB2-BD4A4541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ED8E-CC33-4C0D-8BCE-6E8A8E82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7579-EDE9-4ED3-8508-E0D2FCE4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D1B-CCC2-43F4-A486-B85F202E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0753-F627-4681-8234-5330946D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1B92-79A5-466A-930C-AC623B52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8DEC-B4EF-4916-A1B0-13A58695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3CD4-8F51-4388-A670-D8809C8B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C194-8558-4F75-AC7E-3BDC704D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76E6-D941-4322-A2B4-8EFDDAC3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BA95-E694-4561-9978-D779023C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4913-D2DA-40DC-ADB3-DFE6D8EC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B332-FC1A-454A-A2C9-97B42D9A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0F73-740D-4D16-B7E1-0D120AF6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5DE-1044-497D-8D7C-75F217C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6EAC-D8FD-433B-B4EC-43B611FC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ACFC-AD17-445C-A8D8-F5E1E5A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EC0D-497B-44AD-B47F-7D6F7B7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11BF2-8A2D-422F-8407-CC039D03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D03E-40F2-43AB-93D9-DD8C89B2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5529-4122-4A35-AD6B-B1993376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526C-FFE4-4C1E-AC12-0FEEC6ED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4D1-E2C0-481B-AB24-8D39C6BD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B24-1FF5-478E-BA24-16F8B4CC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669-BA1F-4AE0-8C82-B80848BF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F50-7BAC-4E28-986C-DA26645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E20-54CB-40C8-A467-7E4E3422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A99-AA1E-4232-A5B1-736BF57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7556-173E-4BC0-9FAA-7FBEFC56F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2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Line 14"/>
          <p:cNvSpPr/>
          <p:nvPr/>
        </p:nvSpPr>
        <p:spPr>
          <a:xfrm>
            <a:off x="1523880" y="1676520"/>
            <a:ext cx="0" cy="444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AD0-1946-4995-9E4D-613ECA8909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1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Line 14"/>
          <p:cNvSpPr/>
          <p:nvPr/>
        </p:nvSpPr>
        <p:spPr>
          <a:xfrm>
            <a:off x="1523880" y="1676520"/>
            <a:ext cx="0" cy="444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ECC1-7BAB-4FB9-9190-EEB60C45F4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676520" y="3124080"/>
            <a:ext cx="7010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st **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791320" y="47242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报告人：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导  师：   教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066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27320" y="22860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毕业论文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优秀范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3" descr="bsd082c0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45"/>
          <p:cNvGrpSpPr/>
          <p:nvPr/>
        </p:nvGrpSpPr>
        <p:grpSpPr>
          <a:xfrm>
            <a:off x="2133720" y="1676520"/>
            <a:ext cx="4724280" cy="4419000"/>
            <a:chOff x="2133720" y="1676520"/>
            <a:chExt cx="4724280" cy="4419000"/>
          </a:xfrm>
        </p:grpSpPr>
        <p:grpSp>
          <p:nvGrpSpPr>
            <p:cNvPr id="145" name="Group 14"/>
            <p:cNvGrpSpPr/>
            <p:nvPr/>
          </p:nvGrpSpPr>
          <p:grpSpPr>
            <a:xfrm>
              <a:off x="2133720" y="1676520"/>
              <a:ext cx="4724280" cy="673920"/>
              <a:chOff x="2133720" y="1676520"/>
              <a:chExt cx="4724280" cy="673920"/>
            </a:xfrm>
          </p:grpSpPr>
          <p:sp>
            <p:nvSpPr>
              <p:cNvPr id="146" name="AutoShape 15"/>
              <p:cNvSpPr/>
              <p:nvPr/>
            </p:nvSpPr>
            <p:spPr>
              <a:xfrm>
                <a:off x="2514600" y="1793520"/>
                <a:ext cx="4343400" cy="44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9eff">
                      <a:alpha val="0"/>
                    </a:srgbClr>
                  </a:gs>
                  <a:gs pos="100000">
                    <a:srgbClr val="ffebfa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AutoShape 16"/>
              <p:cNvSpPr/>
              <p:nvPr/>
            </p:nvSpPr>
            <p:spPr>
              <a:xfrm>
                <a:off x="2133720" y="1676520"/>
                <a:ext cx="685800" cy="673920"/>
              </a:xfrm>
              <a:prstGeom prst="diamond">
                <a:avLst/>
              </a:prstGeom>
              <a:gradFill rotWithShape="0">
                <a:gsLst>
                  <a:gs pos="0">
                    <a:srgbClr val="5e9eff">
                      <a:alpha val="0"/>
                    </a:srgbClr>
                  </a:gs>
                  <a:gs pos="100000">
                    <a:srgbClr val="ffebfa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" name="Text Box 17"/>
              <p:cNvGrpSpPr/>
              <p:nvPr/>
            </p:nvGrpSpPr>
            <p:grpSpPr>
              <a:xfrm>
                <a:off x="2737080" y="1839960"/>
                <a:ext cx="3444840" cy="438120"/>
                <a:chOff x="2737080" y="1839960"/>
                <a:chExt cx="3444840" cy="438120"/>
              </a:xfrm>
            </p:grpSpPr>
            <p:pic>
              <p:nvPicPr>
                <p:cNvPr id="149" name="Text Box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37080" y="1839960"/>
                  <a:ext cx="344484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"/>
                <p:cNvSpPr/>
                <p:nvPr/>
              </p:nvSpPr>
              <p:spPr>
                <a:xfrm>
                  <a:off x="2742840" y="1846800"/>
                  <a:ext cx="3429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 </a:t>
                  </a:r>
                  <a:r>
                    <a:rPr b="0" lang="zh-CN" sz="2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文献综述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Text Box 18"/>
              <p:cNvGrpSpPr/>
              <p:nvPr/>
            </p:nvGrpSpPr>
            <p:grpSpPr>
              <a:xfrm>
                <a:off x="2279880" y="1768320"/>
                <a:ext cx="365040" cy="469800"/>
                <a:chOff x="2279880" y="1768320"/>
                <a:chExt cx="365040" cy="469800"/>
              </a:xfrm>
            </p:grpSpPr>
            <p:pic>
              <p:nvPicPr>
                <p:cNvPr id="152" name="Text Box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79880" y="1768320"/>
                  <a:ext cx="36504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"/>
                <p:cNvSpPr/>
                <p:nvPr/>
              </p:nvSpPr>
              <p:spPr>
                <a:xfrm>
                  <a:off x="2289240" y="17733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Group 19"/>
            <p:cNvGrpSpPr/>
            <p:nvPr/>
          </p:nvGrpSpPr>
          <p:grpSpPr>
            <a:xfrm>
              <a:off x="2133720" y="2425680"/>
              <a:ext cx="4724280" cy="673920"/>
              <a:chOff x="2133720" y="2425680"/>
              <a:chExt cx="4724280" cy="673920"/>
            </a:xfrm>
          </p:grpSpPr>
          <p:sp>
            <p:nvSpPr>
              <p:cNvPr id="155" name="AutoShape 20"/>
              <p:cNvSpPr/>
              <p:nvPr/>
            </p:nvSpPr>
            <p:spPr>
              <a:xfrm>
                <a:off x="2514600" y="2542680"/>
                <a:ext cx="4343400" cy="44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488c4">
                      <a:alpha val="0"/>
                    </a:srgbClr>
                  </a:gs>
                  <a:gs pos="100000">
                    <a:srgbClr val="96ab9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AutoShape 21"/>
              <p:cNvSpPr/>
              <p:nvPr/>
            </p:nvSpPr>
            <p:spPr>
              <a:xfrm>
                <a:off x="2133720" y="2425680"/>
                <a:ext cx="685800" cy="673920"/>
              </a:xfrm>
              <a:prstGeom prst="diamond">
                <a:avLst/>
              </a:prstGeom>
              <a:gradFill rotWithShape="0">
                <a:gsLst>
                  <a:gs pos="0">
                    <a:srgbClr val="8488c4">
                      <a:alpha val="0"/>
                    </a:srgbClr>
                  </a:gs>
                  <a:gs pos="100000">
                    <a:srgbClr val="96ab94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" name="Text Box 22"/>
              <p:cNvGrpSpPr/>
              <p:nvPr/>
            </p:nvGrpSpPr>
            <p:grpSpPr>
              <a:xfrm>
                <a:off x="2737080" y="2590560"/>
                <a:ext cx="3444840" cy="438480"/>
                <a:chOff x="2737080" y="2590560"/>
                <a:chExt cx="3444840" cy="438480"/>
              </a:xfrm>
            </p:grpSpPr>
            <p:pic>
              <p:nvPicPr>
                <p:cNvPr id="158" name="Text Box 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37080" y="2590560"/>
                  <a:ext cx="3444840" cy="43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>
                  <a:off x="2742840" y="2596680"/>
                  <a:ext cx="3429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   </a:t>
                  </a:r>
                  <a:r>
                    <a:rPr b="0" lang="zh-CN" sz="2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问题提出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Text Box 23"/>
              <p:cNvGrpSpPr/>
              <p:nvPr/>
            </p:nvGrpSpPr>
            <p:grpSpPr>
              <a:xfrm>
                <a:off x="2279880" y="2517480"/>
                <a:ext cx="365040" cy="469800"/>
                <a:chOff x="2279880" y="2517480"/>
                <a:chExt cx="365040" cy="469800"/>
              </a:xfrm>
            </p:grpSpPr>
            <p:pic>
              <p:nvPicPr>
                <p:cNvPr id="161" name="Text Box 2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880" y="2517480"/>
                  <a:ext cx="36504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>
                  <a:off x="2289240" y="2521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Group 24"/>
            <p:cNvGrpSpPr/>
            <p:nvPr/>
          </p:nvGrpSpPr>
          <p:grpSpPr>
            <a:xfrm>
              <a:off x="2133720" y="3174480"/>
              <a:ext cx="4724280" cy="673920"/>
              <a:chOff x="2133720" y="3174480"/>
              <a:chExt cx="4724280" cy="673920"/>
            </a:xfrm>
          </p:grpSpPr>
          <p:sp>
            <p:nvSpPr>
              <p:cNvPr id="164" name="AutoShape 25"/>
              <p:cNvSpPr/>
              <p:nvPr/>
            </p:nvSpPr>
            <p:spPr>
              <a:xfrm>
                <a:off x="2514600" y="3291480"/>
                <a:ext cx="4343400" cy="44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debcf">
                      <a:alpha val="0"/>
                    </a:srgbClr>
                  </a:gs>
                  <a:gs pos="100000">
                    <a:srgbClr val="156b13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AutoShape 26"/>
              <p:cNvSpPr/>
              <p:nvPr/>
            </p:nvSpPr>
            <p:spPr>
              <a:xfrm>
                <a:off x="2133720" y="3174480"/>
                <a:ext cx="685800" cy="673920"/>
              </a:xfrm>
              <a:prstGeom prst="diamond">
                <a:avLst/>
              </a:prstGeom>
              <a:gradFill rotWithShape="0">
                <a:gsLst>
                  <a:gs pos="0">
                    <a:srgbClr val="ddebcf">
                      <a:alpha val="0"/>
                    </a:srgbClr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27"/>
              <p:cNvSpPr/>
              <p:nvPr/>
            </p:nvSpPr>
            <p:spPr>
              <a:xfrm>
                <a:off x="2743200" y="3345840"/>
                <a:ext cx="3429000" cy="429120"/>
              </a:xfrm>
              <a:prstGeom prst="rect">
                <a:avLst/>
              </a:prstGeom>
              <a:gradFill rotWithShape="0">
                <a:gsLst>
                  <a:gs pos="0">
                    <a:srgbClr val="ddebcf">
                      <a:alpha val="0"/>
                    </a:srgbClr>
                  </a:gs>
                  <a:gs pos="100000">
                    <a:srgbClr val="156b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研究设计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Text Box 28"/>
              <p:cNvSpPr/>
              <p:nvPr/>
            </p:nvSpPr>
            <p:spPr>
              <a:xfrm>
                <a:off x="2289600" y="3270960"/>
                <a:ext cx="349920" cy="459720"/>
              </a:xfrm>
              <a:prstGeom prst="rect">
                <a:avLst/>
              </a:prstGeom>
              <a:gradFill rotWithShape="0">
                <a:gsLst>
                  <a:gs pos="0">
                    <a:srgbClr val="ddebcf">
                      <a:alpha val="0"/>
                    </a:srgbClr>
                  </a:gs>
                  <a:gs pos="100000">
                    <a:srgbClr val="156b1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29"/>
            <p:cNvGrpSpPr/>
            <p:nvPr/>
          </p:nvGrpSpPr>
          <p:grpSpPr>
            <a:xfrm>
              <a:off x="2133720" y="3923640"/>
              <a:ext cx="4724280" cy="673920"/>
              <a:chOff x="2133720" y="3923640"/>
              <a:chExt cx="4724280" cy="673920"/>
            </a:xfrm>
          </p:grpSpPr>
          <p:sp>
            <p:nvSpPr>
              <p:cNvPr id="169" name="AutoShape 30"/>
              <p:cNvSpPr/>
              <p:nvPr/>
            </p:nvSpPr>
            <p:spPr>
              <a:xfrm>
                <a:off x="2514600" y="4040640"/>
                <a:ext cx="4343400" cy="44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beac7">
                      <a:alpha val="0"/>
                    </a:srgbClr>
                  </a:gs>
                  <a:gs pos="100000">
                    <a:srgbClr val="fee7f2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31"/>
              <p:cNvSpPr/>
              <p:nvPr/>
            </p:nvSpPr>
            <p:spPr>
              <a:xfrm>
                <a:off x="2133720" y="3923640"/>
                <a:ext cx="685800" cy="673920"/>
              </a:xfrm>
              <a:prstGeom prst="diamond">
                <a:avLst/>
              </a:prstGeom>
              <a:gradFill rotWithShape="0">
                <a:gsLst>
                  <a:gs pos="0">
                    <a:srgbClr val="fbeac7">
                      <a:alpha val="0"/>
                    </a:srgbClr>
                  </a:gs>
                  <a:gs pos="100000">
                    <a:srgbClr val="fee7f2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1" name="Text Box 32"/>
              <p:cNvGrpSpPr/>
              <p:nvPr/>
            </p:nvGrpSpPr>
            <p:grpSpPr>
              <a:xfrm>
                <a:off x="2737080" y="4090320"/>
                <a:ext cx="3444840" cy="438120"/>
                <a:chOff x="2737080" y="4090320"/>
                <a:chExt cx="3444840" cy="438120"/>
              </a:xfrm>
            </p:grpSpPr>
            <p:pic>
              <p:nvPicPr>
                <p:cNvPr id="172" name="Text Box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737080" y="4090320"/>
                  <a:ext cx="344484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2742840" y="4095000"/>
                  <a:ext cx="3429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0" lang="zh-CN" sz="2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研究结果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Text Box 33"/>
              <p:cNvGrpSpPr/>
              <p:nvPr/>
            </p:nvGrpSpPr>
            <p:grpSpPr>
              <a:xfrm>
                <a:off x="2279880" y="4017240"/>
                <a:ext cx="365040" cy="469440"/>
                <a:chOff x="2279880" y="4017240"/>
                <a:chExt cx="365040" cy="469440"/>
              </a:xfrm>
            </p:grpSpPr>
            <p:pic>
              <p:nvPicPr>
                <p:cNvPr id="175" name="Text Box 3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79880" y="4017240"/>
                  <a:ext cx="365040" cy="46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2289240" y="40201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Group 34"/>
            <p:cNvGrpSpPr/>
            <p:nvPr/>
          </p:nvGrpSpPr>
          <p:grpSpPr>
            <a:xfrm>
              <a:off x="2133720" y="4672800"/>
              <a:ext cx="4724280" cy="673920"/>
              <a:chOff x="2133720" y="4672800"/>
              <a:chExt cx="4724280" cy="673920"/>
            </a:xfrm>
          </p:grpSpPr>
          <p:sp>
            <p:nvSpPr>
              <p:cNvPr id="178" name="AutoShape 35"/>
              <p:cNvSpPr/>
              <p:nvPr/>
            </p:nvSpPr>
            <p:spPr>
              <a:xfrm>
                <a:off x="2514600" y="4789800"/>
                <a:ext cx="4343400" cy="44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efd1">
                      <a:alpha val="0"/>
                    </a:srgbClr>
                  </a:gs>
                  <a:gs pos="100000">
                    <a:srgbClr val="d1c39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AutoShape 36"/>
              <p:cNvSpPr/>
              <p:nvPr/>
            </p:nvSpPr>
            <p:spPr>
              <a:xfrm>
                <a:off x="2133720" y="4672800"/>
                <a:ext cx="685800" cy="673920"/>
              </a:xfrm>
              <a:prstGeom prst="diamond">
                <a:avLst/>
              </a:prstGeom>
              <a:gradFill rotWithShape="0">
                <a:gsLst>
                  <a:gs pos="0">
                    <a:srgbClr val="ffefd1">
                      <a:alpha val="0"/>
                    </a:srgbClr>
                  </a:gs>
                  <a:gs pos="100000">
                    <a:srgbClr val="d1c39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0" name="Text Box 37"/>
              <p:cNvGrpSpPr/>
              <p:nvPr/>
            </p:nvGrpSpPr>
            <p:grpSpPr>
              <a:xfrm>
                <a:off x="2737080" y="4839480"/>
                <a:ext cx="3444840" cy="438120"/>
                <a:chOff x="2737080" y="4839480"/>
                <a:chExt cx="3444840" cy="438120"/>
              </a:xfrm>
            </p:grpSpPr>
            <p:pic>
              <p:nvPicPr>
                <p:cNvPr id="181" name="Text Box 3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737080" y="4839480"/>
                  <a:ext cx="344484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2742840" y="4843440"/>
                  <a:ext cx="3429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0" lang="zh-CN" sz="2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讨    论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Text Box 38"/>
              <p:cNvGrpSpPr/>
              <p:nvPr/>
            </p:nvGrpSpPr>
            <p:grpSpPr>
              <a:xfrm>
                <a:off x="2279880" y="4761360"/>
                <a:ext cx="365040" cy="469800"/>
                <a:chOff x="2279880" y="4761360"/>
                <a:chExt cx="365040" cy="469800"/>
              </a:xfrm>
            </p:grpSpPr>
            <p:pic>
              <p:nvPicPr>
                <p:cNvPr id="184" name="Text Box 3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279880" y="4761360"/>
                  <a:ext cx="36504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2289240" y="4769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40"/>
            <p:cNvGrpSpPr/>
            <p:nvPr/>
          </p:nvGrpSpPr>
          <p:grpSpPr>
            <a:xfrm>
              <a:off x="2133720" y="5421600"/>
              <a:ext cx="4724280" cy="673920"/>
              <a:chOff x="2133720" y="5421600"/>
              <a:chExt cx="4724280" cy="673920"/>
            </a:xfrm>
          </p:grpSpPr>
          <p:sp>
            <p:nvSpPr>
              <p:cNvPr id="187" name="AutoShape 41"/>
              <p:cNvSpPr/>
              <p:nvPr/>
            </p:nvSpPr>
            <p:spPr>
              <a:xfrm>
                <a:off x="2514600" y="5538600"/>
                <a:ext cx="4343400" cy="44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dcac">
                      <a:alpha val="0"/>
                    </a:srgbClr>
                  </a:gs>
                  <a:gs pos="100000">
                    <a:srgbClr val="e6dca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AutoShape 42"/>
              <p:cNvSpPr/>
              <p:nvPr/>
            </p:nvSpPr>
            <p:spPr>
              <a:xfrm>
                <a:off x="2133720" y="5421600"/>
                <a:ext cx="685800" cy="673920"/>
              </a:xfrm>
              <a:prstGeom prst="diamond">
                <a:avLst/>
              </a:prstGeom>
              <a:gradFill rotWithShape="0">
                <a:gsLst>
                  <a:gs pos="0">
                    <a:srgbClr val="e6dcac">
                      <a:alpha val="0"/>
                    </a:srgbClr>
                  </a:gs>
                  <a:gs pos="100000">
                    <a:srgbClr val="e6dca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" name="Text Box 43"/>
              <p:cNvGrpSpPr/>
              <p:nvPr/>
            </p:nvGrpSpPr>
            <p:grpSpPr>
              <a:xfrm>
                <a:off x="2737080" y="5589720"/>
                <a:ext cx="3444840" cy="432360"/>
                <a:chOff x="2737080" y="5589720"/>
                <a:chExt cx="3444840" cy="432360"/>
              </a:xfrm>
            </p:grpSpPr>
            <p:pic>
              <p:nvPicPr>
                <p:cNvPr id="190" name="Text Box 4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37080" y="5589720"/>
                  <a:ext cx="3444840" cy="43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>
                  <a:off x="2742840" y="5592960"/>
                  <a:ext cx="3429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0" lang="zh-CN" sz="2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结    论</a:t>
                  </a:r>
                  <a:endParaRPr b="0" lang="en-US" sz="2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Text Box 44"/>
              <p:cNvGrpSpPr/>
              <p:nvPr/>
            </p:nvGrpSpPr>
            <p:grpSpPr>
              <a:xfrm>
                <a:off x="2279880" y="5510160"/>
                <a:ext cx="365040" cy="469800"/>
                <a:chOff x="2279880" y="5510160"/>
                <a:chExt cx="365040" cy="469800"/>
              </a:xfrm>
            </p:grpSpPr>
            <p:pic>
              <p:nvPicPr>
                <p:cNvPr id="193" name="Text Box 4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279880" y="5510160"/>
                  <a:ext cx="36504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>
                  <a:off x="2289240" y="55177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F2DC-05A6-403E-836B-C0BC34B4B7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0" y="1828800"/>
            <a:ext cx="144792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文献综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问题提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研究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研究结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讨       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       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6" descr="bsd082c0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图片1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bsd082c0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202" name="WordArt 5" descr=""/>
          <p:cNvPicPr/>
          <p:nvPr/>
        </p:nvPicPr>
        <p:blipFill>
          <a:blip r:embed="rId3"/>
          <a:stretch/>
        </p:blipFill>
        <p:spPr>
          <a:xfrm>
            <a:off x="2425680" y="3121200"/>
            <a:ext cx="4487760" cy="19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5:34:19Z</dcterms:created>
  <dc:creator/>
  <dc:description/>
  <dc:language>en-US</dc:language>
  <cp:lastModifiedBy/>
  <dcterms:modified xsi:type="dcterms:W3CDTF">2015-07-11T14:16:57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