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23760" y="0"/>
            <a:ext cx="9167760" cy="573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7020000" y="22813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41" name="矩形 1"/>
          <p:cNvSpPr/>
          <p:nvPr/>
        </p:nvSpPr>
        <p:spPr>
          <a:xfrm>
            <a:off x="8388360" y="2281320"/>
            <a:ext cx="504720" cy="1297080"/>
          </a:xfrm>
          <a:prstGeom prst="rect">
            <a:avLst/>
          </a:prstGeom>
          <a:solidFill>
            <a:srgbClr val="e80113"/>
          </a:solidFill>
          <a:ln w="25560">
            <a:solidFill>
              <a:srgbClr val="e801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065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3880" y="11286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节情愫温情系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843280" y="696960"/>
            <a:ext cx="3600360" cy="30384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528640" y="412416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74806"/>
                </a:solidFill>
                <a:latin typeface="仿宋"/>
                <a:ea typeface="仿宋"/>
              </a:rPr>
              <a:t>祝您</a:t>
            </a:r>
            <a:r>
              <a:rPr b="0" lang="en-US" sz="2400" spc="-1" strike="noStrike">
                <a:solidFill>
                  <a:srgbClr val="974806"/>
                </a:solidFill>
                <a:latin typeface="仿宋"/>
                <a:ea typeface="仿宋"/>
              </a:rPr>
              <a:t>2012</a:t>
            </a:r>
            <a:r>
              <a:rPr b="0" lang="zh-CN" sz="2400" spc="-1" strike="noStrike">
                <a:solidFill>
                  <a:srgbClr val="974806"/>
                </a:solidFill>
                <a:latin typeface="仿宋"/>
                <a:ea typeface="仿宋"/>
              </a:rPr>
              <a:t>新春快乐！合家幸福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92520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1">
                                  <p:stCondLst>
                                    <p:cond delay="900"/>
                                  </p:stCondLst>
                                  <p:iterate type="lt">
                                    <p:tmAbs val="61.30299949646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3" dur="1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3728880" y="1488960"/>
            <a:ext cx="1662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微凉的风吹着我凌乱的头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手中行囊折磨我沉重的步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突然看见车站里熟悉的画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装满游子的梦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还有莫名的忧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979640" y="1488960"/>
            <a:ext cx="141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回家的渴望又让我热泪满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古老的歌曲又多久不曾大声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我在岁月里改变了模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心中的思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还是相同的地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724360" y="1488960"/>
            <a:ext cx="1168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我走在清晨六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无人的街带着一身疲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昨夜的沧桑匆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早已麻木在不知名的世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4322520" y="6253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9999"/>
                </a:solidFill>
                <a:latin typeface="方正苏新诗柳楷简体"/>
                <a:ea typeface="方正苏新诗柳楷简体"/>
              </a:rPr>
              <a:t>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650040" y="1627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9999"/>
                </a:solidFill>
                <a:latin typeface="方正苏新诗柳楷简体"/>
                <a:ea typeface="方正苏新诗柳楷简体"/>
              </a:rPr>
              <a:t>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4322520" y="25700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9999"/>
                </a:solidFill>
                <a:latin typeface="方正苏新诗柳楷简体"/>
                <a:ea typeface="方正苏新诗柳楷简体"/>
              </a:rPr>
              <a:t>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1480" y="35053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9999"/>
                </a:solidFill>
                <a:latin typeface="方正苏新诗柳楷简体"/>
                <a:ea typeface="方正苏新诗柳楷简体"/>
              </a:rPr>
              <a:t>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933800" y="336600"/>
            <a:ext cx="43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萌发 生机 复苏 青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492360" y="1057320"/>
            <a:ext cx="4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团圆 祝福 开心 欢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148360" y="2351160"/>
            <a:ext cx="43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亲情 感恩 质朴 温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708360" y="3218040"/>
            <a:ext cx="43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释怀 反哺 真诚 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6" presetSubtype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4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1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116000" y="687240"/>
            <a:ext cx="3024360" cy="273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719280" y="3611520"/>
            <a:ext cx="3816360" cy="974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6084720" y="1488960"/>
            <a:ext cx="14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人是铁饭是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工作让胃不再坚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红策划友情提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春节期间合理饮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" dur="16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21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0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1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39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8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14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16000" y="727200"/>
            <a:ext cx="3024360" cy="26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755640" y="3611520"/>
            <a:ext cx="3745080" cy="974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345280" y="1488960"/>
            <a:ext cx="2154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最是低头的温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岁月掩饰了娇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亲密爱人的嘘寒问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变得朴素无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红策划友情提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相濡以沫才能情比金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2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18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39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38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2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9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16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1" dur="16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1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16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18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16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9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16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20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16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2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6" dur="16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16000" y="833400"/>
            <a:ext cx="3024360" cy="244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84360" y="3622680"/>
            <a:ext cx="388764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837400" y="1488960"/>
            <a:ext cx="1662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少年不识愁滋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可怜天下父母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风华不再  铅华尽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红策划友情提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用青春去感恩天下老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20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8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16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7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6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9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18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2" dur="2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185840" y="833400"/>
            <a:ext cx="2882880" cy="2446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058760" y="3622680"/>
            <a:ext cx="3138480" cy="952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345280" y="1488960"/>
            <a:ext cx="2154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喂</a:t>
            </a:r>
            <a:r>
              <a:rPr b="0" lang="en-US" sz="1600" spc="-1" strike="noStrike">
                <a:solidFill>
                  <a:srgbClr val="999999"/>
                </a:solidFill>
                <a:latin typeface="仿宋"/>
                <a:ea typeface="仿宋"/>
              </a:rPr>
              <a:t>—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喂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你们</a:t>
            </a:r>
            <a:r>
              <a:rPr b="0" lang="en-US" sz="1600" spc="-1" strike="noStrike">
                <a:solidFill>
                  <a:srgbClr val="999999"/>
                </a:solidFill>
                <a:latin typeface="仿宋"/>
                <a:ea typeface="仿宋"/>
              </a:rPr>
              <a:t>——</a:t>
            </a: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好</a:t>
            </a:r>
            <a:r>
              <a:rPr b="0" lang="en-US" sz="1600" spc="-1" strike="noStrike">
                <a:solidFill>
                  <a:srgbClr val="999999"/>
                </a:solidFill>
                <a:latin typeface="仿宋"/>
                <a:ea typeface="仿宋"/>
              </a:rPr>
              <a:t>——</a:t>
            </a: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家里都好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快回来吧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红策划友情提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电话那头是期盼焦灼与固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38671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2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9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6" dur="9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16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2" dur="39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38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94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1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8" dur="39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38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492360" y="1498680"/>
            <a:ext cx="1871640" cy="23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2:17:00Z</dcterms:created>
  <dc:creator>An</dc:creator>
  <dc:description/>
  <dc:language>en-US</dc:language>
  <cp:lastModifiedBy/>
  <dcterms:modified xsi:type="dcterms:W3CDTF">2015-07-11T14:19:30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