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CF7-BA30-466E-A3DD-6FA30AAF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1880"/>
            <a:ext cx="822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392-6801-4CF7-8BFE-3E994F61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188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188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645-8719-4CB4-8040-AC3A010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188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188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1880"/>
            <a:ext cx="264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BC5-C6FD-4DC2-BC68-2EDEB2F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612-584B-4C4A-A30A-BBE7EEB9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89F-EA0F-43C6-8985-55BC9683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0E4-0323-48FE-8F01-2E0E8820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ACD-2E0D-4813-8B06-613496AC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426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EEE-B57D-46A7-B5E3-5EBF0F2A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188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1F0-8106-43BD-8AD0-82D3422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188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727-11D0-44B5-8B32-14F7C1D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37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1880"/>
            <a:ext cx="822960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3B9-51EC-445C-AFF4-3BB6B1A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时尚中黑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buClr>
                <a:srgbClr val="000000"/>
              </a:buClr>
              <a:buSzPct val="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A11-1D2C-4A0B-A55A-6E057BF1D9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BAE5-27C5-4086-87AC-619C380A03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4.png"/><Relationship Id="rId5" Type="http://schemas.openxmlformats.org/officeDocument/2006/relationships/image" Target="../media/image46.png"/><Relationship Id="rId6" Type="http://schemas.openxmlformats.org/officeDocument/2006/relationships/image" Target="../media/image44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hyperlink" Target="http://www.eeppt.com/tubiao/" TargetMode="External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8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32.png"/><Relationship Id="rId6" Type="http://schemas.openxmlformats.org/officeDocument/2006/relationships/image" Target="../media/image34.png"/><Relationship Id="rId7" Type="http://schemas.openxmlformats.org/officeDocument/2006/relationships/image" Target="../media/image32.png"/><Relationship Id="rId8" Type="http://schemas.openxmlformats.org/officeDocument/2006/relationships/image" Target="../media/image34.png"/><Relationship Id="rId9" Type="http://schemas.openxmlformats.org/officeDocument/2006/relationships/image" Target="../media/image3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C:\Documents and Settings\鱼不愚\桌面\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6"/>
          <p:cNvSpPr/>
          <p:nvPr/>
        </p:nvSpPr>
        <p:spPr>
          <a:xfrm>
            <a:off x="393840" y="278136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超牛</a:t>
            </a:r>
            <a:r>
              <a:rPr b="1" lang="en-US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2680" y="3933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82640" y="1357200"/>
            <a:ext cx="5907240" cy="4816440"/>
            <a:chOff x="1682640" y="1357200"/>
            <a:chExt cx="5907240" cy="4816440"/>
          </a:xfrm>
        </p:grpSpPr>
        <p:sp>
          <p:nvSpPr>
            <p:cNvPr id="254" name="椭圆 53"/>
            <p:cNvSpPr/>
            <p:nvPr/>
          </p:nvSpPr>
          <p:spPr>
            <a:xfrm>
              <a:off x="2428200" y="1872000"/>
              <a:ext cx="4286160" cy="4286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838320" y="1357200"/>
              <a:ext cx="1466640" cy="1466640"/>
              <a:chOff x="3838320" y="1357200"/>
              <a:chExt cx="1466640" cy="1466640"/>
            </a:xfrm>
          </p:grpSpPr>
          <p:sp>
            <p:nvSpPr>
              <p:cNvPr id="256" name="椭圆 37"/>
              <p:cNvSpPr/>
              <p:nvPr/>
            </p:nvSpPr>
            <p:spPr>
              <a:xfrm>
                <a:off x="3838320" y="1357200"/>
                <a:ext cx="1466640" cy="1466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8"/>
              <p:cNvSpPr/>
              <p:nvPr/>
            </p:nvSpPr>
            <p:spPr>
              <a:xfrm>
                <a:off x="3911400" y="1373760"/>
                <a:ext cx="1308600" cy="13086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000880" y="4707000"/>
              <a:ext cx="1466640" cy="1466640"/>
              <a:chOff x="2000880" y="4707000"/>
              <a:chExt cx="1466640" cy="1466640"/>
            </a:xfrm>
          </p:grpSpPr>
          <p:sp>
            <p:nvSpPr>
              <p:cNvPr id="259" name="椭圆 43"/>
              <p:cNvSpPr/>
              <p:nvPr/>
            </p:nvSpPr>
            <p:spPr>
              <a:xfrm>
                <a:off x="2000880" y="4707000"/>
                <a:ext cx="1466640" cy="1466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44"/>
              <p:cNvSpPr/>
              <p:nvPr/>
            </p:nvSpPr>
            <p:spPr>
              <a:xfrm>
                <a:off x="2049120" y="4748400"/>
                <a:ext cx="1308600" cy="13086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30120" y="4707000"/>
              <a:ext cx="1466640" cy="1466640"/>
              <a:chOff x="5730120" y="4707000"/>
              <a:chExt cx="1466640" cy="1466640"/>
            </a:xfrm>
          </p:grpSpPr>
          <p:sp>
            <p:nvSpPr>
              <p:cNvPr id="262" name="椭圆 51"/>
              <p:cNvSpPr/>
              <p:nvPr/>
            </p:nvSpPr>
            <p:spPr>
              <a:xfrm>
                <a:off x="5730120" y="4707000"/>
                <a:ext cx="1466640" cy="1466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52"/>
              <p:cNvSpPr/>
              <p:nvPr/>
            </p:nvSpPr>
            <p:spPr>
              <a:xfrm>
                <a:off x="5803200" y="4723560"/>
                <a:ext cx="1308600" cy="13086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右箭头 58"/>
            <p:cNvSpPr/>
            <p:nvPr/>
          </p:nvSpPr>
          <p:spPr>
            <a:xfrm rot="16200000">
              <a:off x="3794760" y="3048840"/>
              <a:ext cx="1561320" cy="642600"/>
            </a:xfrm>
            <a:prstGeom prst="rightArrow">
              <a:avLst>
                <a:gd name="adj1" fmla="val 25481"/>
                <a:gd name="adj2" fmla="val 549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右箭头 59"/>
            <p:cNvSpPr/>
            <p:nvPr/>
          </p:nvSpPr>
          <p:spPr>
            <a:xfrm rot="2388000">
              <a:off x="4640760" y="4259880"/>
              <a:ext cx="1561320" cy="642600"/>
            </a:xfrm>
            <a:prstGeom prst="rightArrow">
              <a:avLst>
                <a:gd name="adj1" fmla="val 25481"/>
                <a:gd name="adj2" fmla="val 549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右箭头 60"/>
            <p:cNvSpPr/>
            <p:nvPr/>
          </p:nvSpPr>
          <p:spPr>
            <a:xfrm rot="8429400">
              <a:off x="2968560" y="4276440"/>
              <a:ext cx="1561320" cy="642600"/>
            </a:xfrm>
            <a:prstGeom prst="rightArrow">
              <a:avLst>
                <a:gd name="adj1" fmla="val 25481"/>
                <a:gd name="adj2" fmla="val 549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5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750120" y="3309840"/>
              <a:ext cx="1643040" cy="1643040"/>
              <a:chOff x="3750120" y="3309840"/>
              <a:chExt cx="1643040" cy="1643040"/>
            </a:xfrm>
          </p:grpSpPr>
          <p:sp>
            <p:nvSpPr>
              <p:cNvPr id="268" name="椭圆 40"/>
              <p:cNvSpPr/>
              <p:nvPr/>
            </p:nvSpPr>
            <p:spPr>
              <a:xfrm>
                <a:off x="3750120" y="3309840"/>
                <a:ext cx="1643040" cy="16430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41"/>
              <p:cNvSpPr/>
              <p:nvPr/>
            </p:nvSpPr>
            <p:spPr>
              <a:xfrm>
                <a:off x="3804480" y="3328560"/>
                <a:ext cx="1465920" cy="1465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Box 61"/>
            <p:cNvSpPr/>
            <p:nvPr/>
          </p:nvSpPr>
          <p:spPr>
            <a:xfrm>
              <a:off x="3539880" y="3611520"/>
              <a:ext cx="209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62"/>
            <p:cNvSpPr/>
            <p:nvPr/>
          </p:nvSpPr>
          <p:spPr>
            <a:xfrm>
              <a:off x="3539880" y="1568880"/>
              <a:ext cx="209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63"/>
            <p:cNvSpPr/>
            <p:nvPr/>
          </p:nvSpPr>
          <p:spPr>
            <a:xfrm>
              <a:off x="1682640" y="4967640"/>
              <a:ext cx="209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64"/>
            <p:cNvSpPr/>
            <p:nvPr/>
          </p:nvSpPr>
          <p:spPr>
            <a:xfrm>
              <a:off x="5497560" y="4967640"/>
              <a:ext cx="209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总分关系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3" descr="C:\Documents and Settings\鱼不愚\桌面\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6"/>
          <p:cNvSpPr/>
          <p:nvPr/>
        </p:nvSpPr>
        <p:spPr>
          <a:xfrm>
            <a:off x="393840" y="278136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感谢使用</a:t>
            </a:r>
            <a:r>
              <a:rPr b="1" lang="en-US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3"/>
          <p:cNvSpPr/>
          <p:nvPr/>
        </p:nvSpPr>
        <p:spPr>
          <a:xfrm>
            <a:off x="928800" y="1674720"/>
            <a:ext cx="7215120" cy="4357800"/>
          </a:xfrm>
          <a:prstGeom prst="roundRect">
            <a:avLst>
              <a:gd name="adj" fmla="val 6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706400" y="1944720"/>
            <a:ext cx="5732640" cy="3801960"/>
            <a:chOff x="1706400" y="1944720"/>
            <a:chExt cx="5732640" cy="3801960"/>
          </a:xfrm>
        </p:grpSpPr>
        <p:grpSp>
          <p:nvGrpSpPr>
            <p:cNvPr id="50" name=""/>
            <p:cNvGrpSpPr/>
            <p:nvPr/>
          </p:nvGrpSpPr>
          <p:grpSpPr>
            <a:xfrm>
              <a:off x="1706400" y="1944720"/>
              <a:ext cx="5732640" cy="714240"/>
              <a:chOff x="1706400" y="1944720"/>
              <a:chExt cx="5732640" cy="714240"/>
            </a:xfrm>
          </p:grpSpPr>
          <p:sp>
            <p:nvSpPr>
              <p:cNvPr id="51" name="同侧圆角矩形 4"/>
              <p:cNvSpPr/>
              <p:nvPr/>
            </p:nvSpPr>
            <p:spPr>
              <a:xfrm rot="16200000">
                <a:off x="1719000" y="1932120"/>
                <a:ext cx="714240" cy="739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同侧圆角矩形 5"/>
              <p:cNvSpPr/>
              <p:nvPr/>
            </p:nvSpPr>
            <p:spPr>
              <a:xfrm flipV="1" rot="16200000">
                <a:off x="4616280" y="-163440"/>
                <a:ext cx="714240" cy="49312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同侧圆角矩形 6"/>
              <p:cNvSpPr/>
              <p:nvPr/>
            </p:nvSpPr>
            <p:spPr>
              <a:xfrm rot="16200000">
                <a:off x="1518120" y="2192760"/>
                <a:ext cx="642960" cy="22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同侧圆角矩形 7"/>
              <p:cNvSpPr/>
              <p:nvPr/>
            </p:nvSpPr>
            <p:spPr>
              <a:xfrm>
                <a:off x="2569320" y="1968840"/>
                <a:ext cx="4808160" cy="19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706400" y="2944800"/>
              <a:ext cx="5732640" cy="714240"/>
              <a:chOff x="1706400" y="2944800"/>
              <a:chExt cx="5732640" cy="714240"/>
            </a:xfrm>
          </p:grpSpPr>
          <p:sp>
            <p:nvSpPr>
              <p:cNvPr id="56" name="同侧圆角矩形 10"/>
              <p:cNvSpPr/>
              <p:nvPr/>
            </p:nvSpPr>
            <p:spPr>
              <a:xfrm rot="16200000">
                <a:off x="1719000" y="2932200"/>
                <a:ext cx="714240" cy="7394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同侧圆角矩形 11"/>
              <p:cNvSpPr/>
              <p:nvPr/>
            </p:nvSpPr>
            <p:spPr>
              <a:xfrm flipV="1" rot="16200000">
                <a:off x="4616280" y="836280"/>
                <a:ext cx="714240" cy="49312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同侧圆角矩形 12"/>
              <p:cNvSpPr/>
              <p:nvPr/>
            </p:nvSpPr>
            <p:spPr>
              <a:xfrm rot="16200000">
                <a:off x="1518120" y="3192840"/>
                <a:ext cx="642960" cy="22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侧圆角矩形 13"/>
              <p:cNvSpPr/>
              <p:nvPr/>
            </p:nvSpPr>
            <p:spPr>
              <a:xfrm>
                <a:off x="2569320" y="2968920"/>
                <a:ext cx="4808160" cy="19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706400" y="3976560"/>
              <a:ext cx="5732640" cy="714240"/>
              <a:chOff x="1706400" y="3976560"/>
              <a:chExt cx="5732640" cy="714240"/>
            </a:xfrm>
          </p:grpSpPr>
          <p:sp>
            <p:nvSpPr>
              <p:cNvPr id="61" name="同侧圆角矩形 15"/>
              <p:cNvSpPr/>
              <p:nvPr/>
            </p:nvSpPr>
            <p:spPr>
              <a:xfrm rot="16200000">
                <a:off x="1719000" y="3963960"/>
                <a:ext cx="714240" cy="7394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同侧圆角矩形 16"/>
              <p:cNvSpPr/>
              <p:nvPr/>
            </p:nvSpPr>
            <p:spPr>
              <a:xfrm flipV="1" rot="16200000">
                <a:off x="4616280" y="1868040"/>
                <a:ext cx="714240" cy="493128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同侧圆角矩形 17"/>
              <p:cNvSpPr/>
              <p:nvPr/>
            </p:nvSpPr>
            <p:spPr>
              <a:xfrm rot="16200000">
                <a:off x="1518120" y="4224600"/>
                <a:ext cx="642960" cy="22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同侧圆角矩形 18"/>
              <p:cNvSpPr/>
              <p:nvPr/>
            </p:nvSpPr>
            <p:spPr>
              <a:xfrm>
                <a:off x="2569320" y="4000680"/>
                <a:ext cx="4808160" cy="19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706400" y="5032440"/>
              <a:ext cx="5732640" cy="714240"/>
              <a:chOff x="1706400" y="5032440"/>
              <a:chExt cx="5732640" cy="714240"/>
            </a:xfrm>
          </p:grpSpPr>
          <p:sp>
            <p:nvSpPr>
              <p:cNvPr id="66" name="同侧圆角矩形 20"/>
              <p:cNvSpPr/>
              <p:nvPr/>
            </p:nvSpPr>
            <p:spPr>
              <a:xfrm rot="16200000">
                <a:off x="1719000" y="5019840"/>
                <a:ext cx="714240" cy="7394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同侧圆角矩形 21"/>
              <p:cNvSpPr/>
              <p:nvPr/>
            </p:nvSpPr>
            <p:spPr>
              <a:xfrm flipV="1" rot="16200000">
                <a:off x="4616280" y="2923920"/>
                <a:ext cx="714240" cy="493128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同侧圆角矩形 22"/>
              <p:cNvSpPr/>
              <p:nvPr/>
            </p:nvSpPr>
            <p:spPr>
              <a:xfrm rot="16200000">
                <a:off x="1518120" y="5280480"/>
                <a:ext cx="642960" cy="22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同侧圆角矩形 23"/>
              <p:cNvSpPr/>
              <p:nvPr/>
            </p:nvSpPr>
            <p:spPr>
              <a:xfrm>
                <a:off x="2569320" y="5056560"/>
                <a:ext cx="4808160" cy="19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26"/>
          <p:cNvSpPr/>
          <p:nvPr/>
        </p:nvSpPr>
        <p:spPr>
          <a:xfrm>
            <a:off x="3828960" y="201600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1809720" y="2046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3828960" y="299556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3828960" y="401940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3828960" y="50767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1809720" y="30258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1809720" y="40514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1809720" y="5108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目录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79" name="矩形​​ 2"/>
          <p:cNvSpPr/>
          <p:nvPr/>
        </p:nvSpPr>
        <p:spPr>
          <a:xfrm>
            <a:off x="5563440" y="62974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ee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57480" y="1697040"/>
            <a:ext cx="6629400" cy="792000"/>
            <a:chOff x="1257480" y="1697040"/>
            <a:chExt cx="6629400" cy="792000"/>
          </a:xfrm>
        </p:grpSpPr>
        <p:sp>
          <p:nvSpPr>
            <p:cNvPr id="83" name="AutoShape 18"/>
            <p:cNvSpPr/>
            <p:nvPr/>
          </p:nvSpPr>
          <p:spPr>
            <a:xfrm>
              <a:off x="1332720" y="1697040"/>
              <a:ext cx="655416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9"/>
            <p:cNvSpPr/>
            <p:nvPr/>
          </p:nvSpPr>
          <p:spPr>
            <a:xfrm rot="5400000">
              <a:off x="2010960" y="1018080"/>
              <a:ext cx="792000" cy="2149560"/>
            </a:xfrm>
            <a:prstGeom prst="flowChartManualInpu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7"/>
            <p:cNvSpPr/>
            <p:nvPr/>
          </p:nvSpPr>
          <p:spPr>
            <a:xfrm>
              <a:off x="1257480" y="1892880"/>
              <a:ext cx="23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8"/>
            <p:cNvSpPr/>
            <p:nvPr/>
          </p:nvSpPr>
          <p:spPr>
            <a:xfrm>
              <a:off x="3803040" y="189288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等腰三角形 19"/>
            <p:cNvSpPr/>
            <p:nvPr/>
          </p:nvSpPr>
          <p:spPr>
            <a:xfrm rot="5400000">
              <a:off x="1631520" y="1962720"/>
              <a:ext cx="302400" cy="260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57480" y="2862360"/>
            <a:ext cx="6629400" cy="792000"/>
            <a:chOff x="1257480" y="2862360"/>
            <a:chExt cx="6629400" cy="792000"/>
          </a:xfrm>
        </p:grpSpPr>
        <p:sp>
          <p:nvSpPr>
            <p:cNvPr id="89" name="AutoShape 18"/>
            <p:cNvSpPr/>
            <p:nvPr/>
          </p:nvSpPr>
          <p:spPr>
            <a:xfrm>
              <a:off x="1332720" y="2862360"/>
              <a:ext cx="655416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9"/>
            <p:cNvSpPr/>
            <p:nvPr/>
          </p:nvSpPr>
          <p:spPr>
            <a:xfrm rot="5400000">
              <a:off x="2010960" y="2183400"/>
              <a:ext cx="792000" cy="2149560"/>
            </a:xfrm>
            <a:prstGeom prst="flowChartManualInpu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1257480" y="3058200"/>
              <a:ext cx="23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6"/>
            <p:cNvSpPr/>
            <p:nvPr/>
          </p:nvSpPr>
          <p:spPr>
            <a:xfrm>
              <a:off x="3803040" y="305820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等腰三角形 27"/>
            <p:cNvSpPr/>
            <p:nvPr/>
          </p:nvSpPr>
          <p:spPr>
            <a:xfrm rot="5400000">
              <a:off x="1631520" y="3128040"/>
              <a:ext cx="302400" cy="260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7480" y="4022640"/>
            <a:ext cx="6629400" cy="792360"/>
            <a:chOff x="1257480" y="4022640"/>
            <a:chExt cx="6629400" cy="792360"/>
          </a:xfrm>
        </p:grpSpPr>
        <p:sp>
          <p:nvSpPr>
            <p:cNvPr id="95" name="AutoShape 18"/>
            <p:cNvSpPr/>
            <p:nvPr/>
          </p:nvSpPr>
          <p:spPr>
            <a:xfrm>
              <a:off x="1332720" y="4022640"/>
              <a:ext cx="6554160" cy="7923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9"/>
            <p:cNvSpPr/>
            <p:nvPr/>
          </p:nvSpPr>
          <p:spPr>
            <a:xfrm rot="5400000">
              <a:off x="2010960" y="3344040"/>
              <a:ext cx="792360" cy="2149560"/>
            </a:xfrm>
            <a:prstGeom prst="flowChartManualInpu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1"/>
            <p:cNvSpPr/>
            <p:nvPr/>
          </p:nvSpPr>
          <p:spPr>
            <a:xfrm>
              <a:off x="1257480" y="4218480"/>
              <a:ext cx="23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2"/>
            <p:cNvSpPr/>
            <p:nvPr/>
          </p:nvSpPr>
          <p:spPr>
            <a:xfrm>
              <a:off x="3803040" y="421848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等腰三角形 33"/>
            <p:cNvSpPr/>
            <p:nvPr/>
          </p:nvSpPr>
          <p:spPr>
            <a:xfrm rot="5400000">
              <a:off x="1631520" y="4288320"/>
              <a:ext cx="302400" cy="260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57480" y="5175360"/>
            <a:ext cx="6629400" cy="792000"/>
            <a:chOff x="1257480" y="5175360"/>
            <a:chExt cx="6629400" cy="792000"/>
          </a:xfrm>
        </p:grpSpPr>
        <p:sp>
          <p:nvSpPr>
            <p:cNvPr id="101" name="AutoShape 18"/>
            <p:cNvSpPr/>
            <p:nvPr/>
          </p:nvSpPr>
          <p:spPr>
            <a:xfrm>
              <a:off x="1332720" y="5175360"/>
              <a:ext cx="655416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9"/>
            <p:cNvSpPr/>
            <p:nvPr/>
          </p:nvSpPr>
          <p:spPr>
            <a:xfrm rot="5400000">
              <a:off x="2010960" y="4496400"/>
              <a:ext cx="792000" cy="2149560"/>
            </a:xfrm>
            <a:prstGeom prst="flowChartManualInpu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37"/>
            <p:cNvSpPr/>
            <p:nvPr/>
          </p:nvSpPr>
          <p:spPr>
            <a:xfrm>
              <a:off x="1257480" y="5371200"/>
              <a:ext cx="23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8"/>
            <p:cNvSpPr/>
            <p:nvPr/>
          </p:nvSpPr>
          <p:spPr>
            <a:xfrm>
              <a:off x="3803040" y="537120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等腰三角形 39"/>
            <p:cNvSpPr/>
            <p:nvPr/>
          </p:nvSpPr>
          <p:spPr>
            <a:xfrm rot="5400000">
              <a:off x="1631520" y="5441040"/>
              <a:ext cx="302400" cy="260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目录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3880" y="1666800"/>
            <a:ext cx="6286680" cy="3476880"/>
            <a:chOff x="1523880" y="1666800"/>
            <a:chExt cx="6286680" cy="3476880"/>
          </a:xfrm>
        </p:grpSpPr>
        <p:grpSp>
          <p:nvGrpSpPr>
            <p:cNvPr id="110" name=""/>
            <p:cNvGrpSpPr/>
            <p:nvPr/>
          </p:nvGrpSpPr>
          <p:grpSpPr>
            <a:xfrm>
              <a:off x="1523880" y="2643120"/>
              <a:ext cx="6286680" cy="2500560"/>
              <a:chOff x="1523880" y="2643120"/>
              <a:chExt cx="6286680" cy="2500560"/>
            </a:xfrm>
          </p:grpSpPr>
          <p:sp>
            <p:nvSpPr>
              <p:cNvPr id="111" name="圆角矩形 3"/>
              <p:cNvSpPr/>
              <p:nvPr/>
            </p:nvSpPr>
            <p:spPr>
              <a:xfrm>
                <a:off x="1523880" y="2643120"/>
                <a:ext cx="628668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圆角矩形 5"/>
              <p:cNvSpPr/>
              <p:nvPr/>
            </p:nvSpPr>
            <p:spPr>
              <a:xfrm>
                <a:off x="1642320" y="2747160"/>
                <a:ext cx="6072480" cy="229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91920" y="2040120"/>
              <a:ext cx="3537000" cy="745920"/>
              <a:chOff x="3391920" y="2040120"/>
              <a:chExt cx="3537000" cy="745920"/>
            </a:xfrm>
          </p:grpSpPr>
          <p:sp>
            <p:nvSpPr>
              <p:cNvPr id="114" name="圆角矩形 9"/>
              <p:cNvSpPr/>
              <p:nvPr/>
            </p:nvSpPr>
            <p:spPr>
              <a:xfrm>
                <a:off x="3391920" y="2040120"/>
                <a:ext cx="3537000" cy="7459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圆角矩形 10"/>
              <p:cNvSpPr/>
              <p:nvPr/>
            </p:nvSpPr>
            <p:spPr>
              <a:xfrm>
                <a:off x="3453840" y="2062800"/>
                <a:ext cx="3435840" cy="33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1"/>
              <p:cNvSpPr/>
              <p:nvPr/>
            </p:nvSpPr>
            <p:spPr>
              <a:xfrm>
                <a:off x="3858840" y="2103120"/>
                <a:ext cx="266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标题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571120" y="1666800"/>
              <a:ext cx="357120" cy="1190520"/>
              <a:chOff x="2571120" y="1666800"/>
              <a:chExt cx="357120" cy="1190520"/>
            </a:xfrm>
          </p:grpSpPr>
          <p:sp>
            <p:nvSpPr>
              <p:cNvPr id="118" name="椭圆 14"/>
              <p:cNvSpPr/>
              <p:nvPr/>
            </p:nvSpPr>
            <p:spPr>
              <a:xfrm>
                <a:off x="2623320" y="1666800"/>
                <a:ext cx="2383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圆角矩形 15"/>
              <p:cNvSpPr/>
              <p:nvPr/>
            </p:nvSpPr>
            <p:spPr>
              <a:xfrm>
                <a:off x="2628000" y="2286000"/>
                <a:ext cx="71280" cy="5713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571320"/>
                  <a:gd name="textAreaBottom" fmla="*/ 568080 h 571320"/>
                </a:gdLst>
                <a:ahLst/>
                <a:rect l="textAreaLeft" t="textAreaTop" r="textAreaRight" b="textAreaBottom"/>
                <a:pathLst>
                  <a:path w="21600" h="172366">
                    <a:moveTo>
                      <a:pt x="3600" y="0"/>
                    </a:moveTo>
                    <a:arcTo wR="3600" hR="3600" stAng="16200000" swAng="-5400000"/>
                    <a:lnTo>
                      <a:pt x="0" y="168766"/>
                    </a:lnTo>
                    <a:arcTo wR="3600" hR="3600" stAng="10800000" swAng="-5400000"/>
                    <a:lnTo>
                      <a:pt x="18000" y="1723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圆角矩形 16"/>
              <p:cNvSpPr/>
              <p:nvPr/>
            </p:nvSpPr>
            <p:spPr>
              <a:xfrm>
                <a:off x="2801520" y="2286000"/>
                <a:ext cx="71280" cy="571320"/>
              </a:xfrm>
              <a:custGeom>
                <a:avLst/>
                <a:gdLst>
                  <a:gd name="textAreaLeft" fmla="*/ 3240 w 71280"/>
                  <a:gd name="textAreaRight" fmla="*/ 68040 w 71280"/>
                  <a:gd name="textAreaTop" fmla="*/ 3240 h 571320"/>
                  <a:gd name="textAreaBottom" fmla="*/ 568080 h 571320"/>
                </a:gdLst>
                <a:ahLst/>
                <a:rect l="textAreaLeft" t="textAreaTop" r="textAreaRight" b="textAreaBottom"/>
                <a:pathLst>
                  <a:path w="21600" h="172366">
                    <a:moveTo>
                      <a:pt x="3600" y="0"/>
                    </a:moveTo>
                    <a:arcTo wR="3600" hR="3600" stAng="16200000" swAng="-5400000"/>
                    <a:lnTo>
                      <a:pt x="0" y="168766"/>
                    </a:lnTo>
                    <a:arcTo wR="3600" hR="3600" stAng="10800000" swAng="-5400000"/>
                    <a:lnTo>
                      <a:pt x="18000" y="1723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侧圆角矩形 17"/>
              <p:cNvSpPr/>
              <p:nvPr/>
            </p:nvSpPr>
            <p:spPr>
              <a:xfrm>
                <a:off x="2571120" y="1928520"/>
                <a:ext cx="357120" cy="45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18"/>
              <p:cNvSpPr/>
              <p:nvPr/>
            </p:nvSpPr>
            <p:spPr>
              <a:xfrm rot="10800000">
                <a:off x="2680200" y="1928160"/>
                <a:ext cx="118800" cy="166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Box 19"/>
            <p:cNvSpPr/>
            <p:nvPr/>
          </p:nvSpPr>
          <p:spPr>
            <a:xfrm>
              <a:off x="3547080" y="3620160"/>
              <a:ext cx="223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标题 15"/>
          <p:cNvSpPr/>
          <p:nvPr/>
        </p:nvSpPr>
        <p:spPr>
          <a:xfrm>
            <a:off x="457200" y="64296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介绍式样图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7"/>
          <p:cNvSpPr/>
          <p:nvPr/>
        </p:nvSpPr>
        <p:spPr>
          <a:xfrm>
            <a:off x="3451320" y="2000160"/>
            <a:ext cx="5121360" cy="8575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3"/>
          <p:cNvSpPr/>
          <p:nvPr/>
        </p:nvSpPr>
        <p:spPr>
          <a:xfrm>
            <a:off x="3451320" y="2857680"/>
            <a:ext cx="5121360" cy="857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"/>
          <p:cNvSpPr/>
          <p:nvPr/>
        </p:nvSpPr>
        <p:spPr>
          <a:xfrm>
            <a:off x="3451320" y="3714840"/>
            <a:ext cx="5121360" cy="857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9"/>
          <p:cNvSpPr/>
          <p:nvPr/>
        </p:nvSpPr>
        <p:spPr>
          <a:xfrm>
            <a:off x="3451320" y="4594320"/>
            <a:ext cx="5121360" cy="85716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0"/>
          <p:cNvSpPr/>
          <p:nvPr/>
        </p:nvSpPr>
        <p:spPr>
          <a:xfrm>
            <a:off x="642960" y="1928880"/>
            <a:ext cx="2165400" cy="3571920"/>
          </a:xfrm>
          <a:custGeom>
            <a:avLst/>
            <a:gdLst>
              <a:gd name="textAreaLeft" fmla="*/ 56520 w 2165400"/>
              <a:gd name="textAreaRight" fmla="*/ 2108880 w 2165400"/>
              <a:gd name="textAreaTop" fmla="*/ 56520 h 3571920"/>
              <a:gd name="textAreaBottom" fmla="*/ 3515400 h 3571920"/>
            </a:gdLst>
            <a:ahLst/>
            <a:rect l="textAreaLeft" t="textAreaTop" r="textAreaRight" b="textAreaBottom"/>
            <a:pathLst>
              <a:path w="21600" h="35628">
                <a:moveTo>
                  <a:pt x="1925" y="0"/>
                </a:moveTo>
                <a:arcTo wR="1925" hR="1925" stAng="16200000" swAng="-5400000"/>
                <a:lnTo>
                  <a:pt x="0" y="33703"/>
                </a:lnTo>
                <a:arcTo wR="1925" hR="1925" stAng="10800000" swAng="-5400000"/>
                <a:lnTo>
                  <a:pt x="19675" y="35628"/>
                </a:lnTo>
                <a:arcTo wR="1925" hR="1925" stAng="5400000" swAng="-5400000"/>
                <a:lnTo>
                  <a:pt x="21600" y="1925"/>
                </a:lnTo>
                <a:arcTo wR="1925" hR="1925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下箭头 12"/>
          <p:cNvSpPr/>
          <p:nvPr/>
        </p:nvSpPr>
        <p:spPr>
          <a:xfrm rot="16200000">
            <a:off x="2689200" y="1976400"/>
            <a:ext cx="503280" cy="753840"/>
          </a:xfrm>
          <a:prstGeom prst="downArrow">
            <a:avLst>
              <a:gd name="adj1" fmla="val 35231"/>
              <a:gd name="adj2" fmla="val 499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下箭头 16"/>
          <p:cNvSpPr/>
          <p:nvPr/>
        </p:nvSpPr>
        <p:spPr>
          <a:xfrm rot="16200000">
            <a:off x="2689200" y="2874960"/>
            <a:ext cx="503280" cy="753840"/>
          </a:xfrm>
          <a:prstGeom prst="downArrow">
            <a:avLst>
              <a:gd name="adj1" fmla="val 35231"/>
              <a:gd name="adj2" fmla="val 499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17"/>
          <p:cNvSpPr/>
          <p:nvPr/>
        </p:nvSpPr>
        <p:spPr>
          <a:xfrm rot="16200000">
            <a:off x="2689200" y="3743280"/>
            <a:ext cx="503280" cy="753840"/>
          </a:xfrm>
          <a:prstGeom prst="downArrow">
            <a:avLst>
              <a:gd name="adj1" fmla="val 35231"/>
              <a:gd name="adj2" fmla="val 499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18"/>
          <p:cNvSpPr/>
          <p:nvPr/>
        </p:nvSpPr>
        <p:spPr>
          <a:xfrm rot="16200000">
            <a:off x="2689200" y="4626000"/>
            <a:ext cx="503280" cy="753840"/>
          </a:xfrm>
          <a:prstGeom prst="downArrow">
            <a:avLst>
              <a:gd name="adj1" fmla="val 35231"/>
              <a:gd name="adj2" fmla="val 49970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3500280" y="214308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（优点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3500280" y="301464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（缺点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3500280" y="39276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（机会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3500280" y="476244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（威胁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1000080" y="3143160"/>
            <a:ext cx="149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W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分  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时尚中黑简体"/>
              </a:rPr>
              <a:t>SWOT</a:t>
            </a: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分析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42" name=""/>
          <p:cNvSpPr/>
          <p:nvPr/>
        </p:nvSpPr>
        <p:spPr>
          <a:xfrm>
            <a:off x="828720" y="1341360"/>
            <a:ext cx="480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357720" y="2643120"/>
            <a:ext cx="2309760" cy="2286000"/>
            <a:chOff x="3357720" y="2643120"/>
            <a:chExt cx="2309760" cy="2286000"/>
          </a:xfrm>
        </p:grpSpPr>
        <p:sp>
          <p:nvSpPr>
            <p:cNvPr id="146" name="立方体 21"/>
            <p:cNvSpPr/>
            <p:nvPr/>
          </p:nvSpPr>
          <p:spPr>
            <a:xfrm>
              <a:off x="3357720" y="2643120"/>
              <a:ext cx="2309760" cy="2286000"/>
            </a:xfrm>
            <a:prstGeom prst="cube">
              <a:avLst>
                <a:gd name="adj" fmla="val 2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2"/>
            <p:cNvSpPr/>
            <p:nvPr/>
          </p:nvSpPr>
          <p:spPr>
            <a:xfrm>
              <a:off x="3381840" y="3209040"/>
              <a:ext cx="1784160" cy="1542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肘形连接符 33"/>
          <p:cNvCxnSpPr/>
          <p:nvPr/>
        </p:nvCxnSpPr>
        <p:spPr>
          <a:xfrm flipV="1">
            <a:off x="2500200" y="4000320"/>
            <a:ext cx="1501200" cy="357840"/>
          </a:xfrm>
          <a:prstGeom prst="bentConnector3">
            <a:avLst>
              <a:gd name="adj1" fmla="val 49988"/>
            </a:avLst>
          </a:prstGeom>
          <a:ln cap="sq" w="41400">
            <a:solidFill>
              <a:srgbClr val="ffffff"/>
            </a:solidFill>
            <a:custDash>
              <a:ds d="300000" sp="100000"/>
            </a:custDash>
            <a:miter/>
            <a:headEnd len="med" type="oval" w="med"/>
            <a:tailEnd len="med" type="stealth" w="med"/>
          </a:ln>
        </p:spPr>
      </p:cxnSp>
      <p:sp>
        <p:nvSpPr>
          <p:cNvPr id="149" name="圆角矩形 43"/>
          <p:cNvSpPr/>
          <p:nvPr/>
        </p:nvSpPr>
        <p:spPr>
          <a:xfrm>
            <a:off x="714240" y="2000160"/>
            <a:ext cx="1536840" cy="1298520"/>
          </a:xfrm>
          <a:prstGeom prst="roundRect">
            <a:avLst>
              <a:gd name="adj" fmla="val 8912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9f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50"/>
          <p:cNvSpPr/>
          <p:nvPr/>
        </p:nvSpPr>
        <p:spPr>
          <a:xfrm>
            <a:off x="714240" y="3639960"/>
            <a:ext cx="1536840" cy="1297080"/>
          </a:xfrm>
          <a:prstGeom prst="roundRect">
            <a:avLst>
              <a:gd name="adj" fmla="val 8912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9f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51"/>
          <p:cNvSpPr/>
          <p:nvPr/>
        </p:nvSpPr>
        <p:spPr>
          <a:xfrm>
            <a:off x="6500880" y="2071800"/>
            <a:ext cx="1928880" cy="2857320"/>
          </a:xfrm>
          <a:custGeom>
            <a:avLst/>
            <a:gdLst>
              <a:gd name="textAreaLeft" fmla="*/ 50040 w 1928880"/>
              <a:gd name="textAreaRight" fmla="*/ 1878840 w 1928880"/>
              <a:gd name="textAreaTop" fmla="*/ 50040 h 2857320"/>
              <a:gd name="textAreaBottom" fmla="*/ 2807280 h 2857320"/>
            </a:gdLst>
            <a:ahLst/>
            <a:rect l="textAreaLeft" t="textAreaTop" r="textAreaRight" b="textAreaBottom"/>
            <a:pathLst>
              <a:path w="21600" h="31995">
                <a:moveTo>
                  <a:pt x="1925" y="0"/>
                </a:moveTo>
                <a:arcTo wR="1925" hR="1925" stAng="16200000" swAng="-5400000"/>
                <a:lnTo>
                  <a:pt x="0" y="30070"/>
                </a:lnTo>
                <a:arcTo wR="1925" hR="1925" stAng="10800000" swAng="-5400000"/>
                <a:lnTo>
                  <a:pt x="19675" y="31995"/>
                </a:lnTo>
                <a:arcTo wR="1925" hR="1925" stAng="5400000" swAng="-5400000"/>
                <a:lnTo>
                  <a:pt x="21600" y="1925"/>
                </a:lnTo>
                <a:arcTo wR="1925" hR="1925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f9f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53"/>
          <p:cNvSpPr/>
          <p:nvPr/>
        </p:nvSpPr>
        <p:spPr>
          <a:xfrm>
            <a:off x="785880" y="2039760"/>
            <a:ext cx="1428840" cy="46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54"/>
          <p:cNvSpPr/>
          <p:nvPr/>
        </p:nvSpPr>
        <p:spPr>
          <a:xfrm>
            <a:off x="785880" y="3679920"/>
            <a:ext cx="1428840" cy="46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55"/>
          <p:cNvSpPr/>
          <p:nvPr/>
        </p:nvSpPr>
        <p:spPr>
          <a:xfrm>
            <a:off x="6572160" y="2095560"/>
            <a:ext cx="1785960" cy="46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6"/>
          <p:cNvSpPr/>
          <p:nvPr/>
        </p:nvSpPr>
        <p:spPr>
          <a:xfrm>
            <a:off x="674640" y="2206800"/>
            <a:ext cx="16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7"/>
          <p:cNvSpPr/>
          <p:nvPr/>
        </p:nvSpPr>
        <p:spPr>
          <a:xfrm>
            <a:off x="658800" y="3892680"/>
            <a:ext cx="16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8"/>
          <p:cNvSpPr/>
          <p:nvPr/>
        </p:nvSpPr>
        <p:spPr>
          <a:xfrm>
            <a:off x="6699240" y="284796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3"/>
          <p:cNvSpPr/>
          <p:nvPr/>
        </p:nvSpPr>
        <p:spPr>
          <a:xfrm>
            <a:off x="3497400" y="3701880"/>
            <a:ext cx="16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35f"/>
                </a:solidFill>
                <a:latin typeface="时尚中黑简体"/>
                <a:ea typeface="时尚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0"/>
          <p:cNvSpPr/>
          <p:nvPr/>
        </p:nvSpPr>
        <p:spPr>
          <a:xfrm>
            <a:off x="3699000" y="2614680"/>
            <a:ext cx="16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35f"/>
                </a:solidFill>
                <a:latin typeface="时尚中黑简体"/>
                <a:ea typeface="时尚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4651200" y="3500280"/>
            <a:ext cx="16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35f"/>
                </a:solidFill>
                <a:latin typeface="时尚中黑简体"/>
                <a:ea typeface="时尚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肘形连接符 32"/>
          <p:cNvCxnSpPr/>
          <p:nvPr/>
        </p:nvCxnSpPr>
        <p:spPr>
          <a:xfrm>
            <a:off x="2428920" y="2544480"/>
            <a:ext cx="1573920" cy="313560"/>
          </a:xfrm>
          <a:prstGeom prst="bentConnector3">
            <a:avLst>
              <a:gd name="adj1" fmla="val 49988"/>
            </a:avLst>
          </a:prstGeom>
          <a:ln cap="sq" w="41400">
            <a:solidFill>
              <a:srgbClr val="ffffff"/>
            </a:solidFill>
            <a:custDash>
              <a:ds d="300000" sp="100000"/>
            </a:custDash>
            <a:miter/>
            <a:headEnd len="med" type="oval" w="med"/>
            <a:tailEnd len="med" type="stealth" w="med"/>
          </a:ln>
        </p:spPr>
      </p:cxnSp>
      <p:cxnSp>
        <p:nvCxnSpPr>
          <p:cNvPr id="162" name="肘形连接符 36"/>
          <p:cNvCxnSpPr/>
          <p:nvPr/>
        </p:nvCxnSpPr>
        <p:spPr>
          <a:xfrm flipV="1" rot="10800000">
            <a:off x="5428440" y="2856600"/>
            <a:ext cx="929520" cy="500760"/>
          </a:xfrm>
          <a:prstGeom prst="bentConnector3">
            <a:avLst>
              <a:gd name="adj1" fmla="val 49980"/>
            </a:avLst>
          </a:prstGeom>
          <a:ln cap="sq" w="41400">
            <a:solidFill>
              <a:srgbClr val="ffffff"/>
            </a:solidFill>
            <a:custDash>
              <a:ds d="300000" sp="100000"/>
            </a:custDash>
            <a:miter/>
            <a:headEnd len="med" type="oval" w="med"/>
            <a:tailEnd len="med" type="stealth" w="med"/>
          </a:ln>
        </p:spPr>
      </p:cxn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分解说明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总分关系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67" name="椭圆 38"/>
          <p:cNvSpPr/>
          <p:nvPr/>
        </p:nvSpPr>
        <p:spPr>
          <a:xfrm>
            <a:off x="2824200" y="2006640"/>
            <a:ext cx="3495600" cy="3494160"/>
          </a:xfrm>
          <a:prstGeom prst="ellipse">
            <a:avLst/>
          </a:prstGeom>
          <a:solidFill>
            <a:srgbClr val="7f7f7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37"/>
          <p:cNvSpPr/>
          <p:nvPr/>
        </p:nvSpPr>
        <p:spPr>
          <a:xfrm>
            <a:off x="2940120" y="2112840"/>
            <a:ext cx="3263760" cy="3264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20640" y="1704960"/>
            <a:ext cx="4300560" cy="3780360"/>
            <a:chOff x="2420640" y="1704960"/>
            <a:chExt cx="4300560" cy="3780360"/>
          </a:xfrm>
        </p:grpSpPr>
        <p:grpSp>
          <p:nvGrpSpPr>
            <p:cNvPr id="170" name=""/>
            <p:cNvGrpSpPr/>
            <p:nvPr/>
          </p:nvGrpSpPr>
          <p:grpSpPr>
            <a:xfrm>
              <a:off x="3786120" y="1704960"/>
              <a:ext cx="1603440" cy="1603440"/>
              <a:chOff x="3786120" y="1704960"/>
              <a:chExt cx="1603440" cy="1603440"/>
            </a:xfrm>
          </p:grpSpPr>
          <p:sp>
            <p:nvSpPr>
              <p:cNvPr id="171" name="燕尾形 19"/>
              <p:cNvSpPr/>
              <p:nvPr/>
            </p:nvSpPr>
            <p:spPr>
              <a:xfrm rot="16200000">
                <a:off x="3786120" y="1704960"/>
                <a:ext cx="1603440" cy="1603440"/>
              </a:xfrm>
              <a:custGeom>
                <a:avLst/>
                <a:gdLst>
                  <a:gd name="textAreaLeft" fmla="*/ 0 w 1603440"/>
                  <a:gd name="textAreaRight" fmla="*/ 1603800 w 1603440"/>
                  <a:gd name="textAreaTop" fmla="*/ 0 h 1603440"/>
                  <a:gd name="textAreaBottom" fmla="*/ 1603800 h 160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燕尾形 20"/>
              <p:cNvSpPr/>
              <p:nvPr/>
            </p:nvSpPr>
            <p:spPr>
              <a:xfrm rot="16200000">
                <a:off x="3866400" y="1740240"/>
                <a:ext cx="1442520" cy="1481040"/>
              </a:xfrm>
              <a:custGeom>
                <a:avLst/>
                <a:gdLst>
                  <a:gd name="textAreaLeft" fmla="*/ 0 w 1442520"/>
                  <a:gd name="textAreaRight" fmla="*/ 1442880 w 1442520"/>
                  <a:gd name="textAreaTop" fmla="*/ 0 h 1481040"/>
                  <a:gd name="textAreaBottom" fmla="*/ 1481400 h 148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20640" y="3284280"/>
              <a:ext cx="2201040" cy="2201040"/>
              <a:chOff x="2420640" y="3284280"/>
              <a:chExt cx="2201040" cy="2201040"/>
            </a:xfrm>
          </p:grpSpPr>
          <p:sp>
            <p:nvSpPr>
              <p:cNvPr id="174" name="燕尾形 25"/>
              <p:cNvSpPr/>
              <p:nvPr/>
            </p:nvSpPr>
            <p:spPr>
              <a:xfrm rot="8935200">
                <a:off x="2719440" y="3583080"/>
                <a:ext cx="1603440" cy="1603440"/>
              </a:xfrm>
              <a:custGeom>
                <a:avLst/>
                <a:gdLst>
                  <a:gd name="textAreaLeft" fmla="*/ 0 w 1603440"/>
                  <a:gd name="textAreaRight" fmla="*/ 1603800 w 1603440"/>
                  <a:gd name="textAreaTop" fmla="*/ 0 h 1603440"/>
                  <a:gd name="textAreaBottom" fmla="*/ 1603800 h 160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燕尾形 29"/>
              <p:cNvSpPr/>
              <p:nvPr/>
            </p:nvSpPr>
            <p:spPr>
              <a:xfrm rot="8935200">
                <a:off x="2765160" y="3669840"/>
                <a:ext cx="1442520" cy="1481040"/>
              </a:xfrm>
              <a:custGeom>
                <a:avLst/>
                <a:gdLst>
                  <a:gd name="textAreaLeft" fmla="*/ 0 w 1442520"/>
                  <a:gd name="textAreaRight" fmla="*/ 1442880 w 1442520"/>
                  <a:gd name="textAreaTop" fmla="*/ 0 h 1481040"/>
                  <a:gd name="textAreaBottom" fmla="*/ 1481400 h 148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575600" y="3278880"/>
              <a:ext cx="2145600" cy="2164320"/>
              <a:chOff x="4575600" y="3278880"/>
              <a:chExt cx="2145600" cy="2164320"/>
            </a:xfrm>
          </p:grpSpPr>
          <p:sp>
            <p:nvSpPr>
              <p:cNvPr id="177" name="燕尾形 31"/>
              <p:cNvSpPr/>
              <p:nvPr/>
            </p:nvSpPr>
            <p:spPr>
              <a:xfrm flipV="1" rot="1798200">
                <a:off x="4872240" y="3559320"/>
                <a:ext cx="1552320" cy="16034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360 h 1603440"/>
                  <a:gd name="textAreaBottom" fmla="*/ 1604160 h 160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燕尾形 36"/>
              <p:cNvSpPr/>
              <p:nvPr/>
            </p:nvSpPr>
            <p:spPr>
              <a:xfrm flipV="1" rot="1798200">
                <a:off x="4983480" y="3632400"/>
                <a:ext cx="1396800" cy="148104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360 h 1481040"/>
                  <a:gd name="textAreaBottom" fmla="*/ 1481760 h 148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227" y="0"/>
                    </a:lnTo>
                    <a:lnTo>
                      <a:pt x="21600" y="10800"/>
                    </a:lnTo>
                    <a:lnTo>
                      <a:pt x="15227" y="21600"/>
                    </a:lnTo>
                    <a:lnTo>
                      <a:pt x="0" y="21600"/>
                    </a:lnTo>
                    <a:lnTo>
                      <a:pt x="6373" y="1080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Box 40"/>
          <p:cNvSpPr/>
          <p:nvPr/>
        </p:nvSpPr>
        <p:spPr>
          <a:xfrm>
            <a:off x="3733920" y="1959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1"/>
          <p:cNvSpPr/>
          <p:nvPr/>
        </p:nvSpPr>
        <p:spPr>
          <a:xfrm>
            <a:off x="4944960" y="3924360"/>
            <a:ext cx="16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2608200" y="3914640"/>
            <a:ext cx="16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肘形连接符 44"/>
          <p:cNvCxnSpPr/>
          <p:nvPr/>
        </p:nvCxnSpPr>
        <p:spPr>
          <a:xfrm flipV="1">
            <a:off x="2361960" y="4345920"/>
            <a:ext cx="624600" cy="400680"/>
          </a:xfrm>
          <a:prstGeom prst="bentConnector3">
            <a:avLst>
              <a:gd name="adj1" fmla="val 50000"/>
            </a:avLst>
          </a:prstGeom>
          <a:ln w="23040">
            <a:solidFill>
              <a:srgbClr val="ffffff"/>
            </a:solidFill>
            <a:miter/>
            <a:headEnd len="lg" type="diamond" w="lg"/>
            <a:tailEnd len="lg" type="diamond" w="lg"/>
          </a:ln>
        </p:spPr>
      </p:cxnSp>
      <p:cxnSp>
        <p:nvCxnSpPr>
          <p:cNvPr id="183" name="肘形连接符 45"/>
          <p:cNvCxnSpPr/>
          <p:nvPr/>
        </p:nvCxnSpPr>
        <p:spPr>
          <a:xfrm flipV="1" rot="10800000">
            <a:off x="5000040" y="1789560"/>
            <a:ext cx="578520" cy="578520"/>
          </a:xfrm>
          <a:prstGeom prst="bentConnector3">
            <a:avLst>
              <a:gd name="adj1" fmla="val 50871"/>
            </a:avLst>
          </a:prstGeom>
          <a:ln w="23040">
            <a:solidFill>
              <a:srgbClr val="ffffff"/>
            </a:solidFill>
            <a:miter/>
            <a:headEnd len="lg" type="diamond" w="lg"/>
            <a:tailEnd len="lg" type="diamond" w="lg"/>
          </a:ln>
        </p:spPr>
      </p:cxnSp>
      <p:cxnSp>
        <p:nvCxnSpPr>
          <p:cNvPr id="184" name="肘形连接符 46"/>
          <p:cNvCxnSpPr/>
          <p:nvPr/>
        </p:nvCxnSpPr>
        <p:spPr>
          <a:xfrm rot="10800000">
            <a:off x="6198480" y="4325040"/>
            <a:ext cx="721440" cy="210600"/>
          </a:xfrm>
          <a:prstGeom prst="bentConnector3">
            <a:avLst>
              <a:gd name="adj1" fmla="val 59161"/>
            </a:avLst>
          </a:prstGeom>
          <a:ln w="23040">
            <a:solidFill>
              <a:srgbClr val="ffffff"/>
            </a:solidFill>
            <a:miter/>
            <a:headEnd len="lg" type="diamond" w="lg"/>
            <a:tailEnd len="lg" type="diamond" w="lg"/>
          </a:ln>
        </p:spPr>
      </p:cxnSp>
      <p:sp>
        <p:nvSpPr>
          <p:cNvPr id="185" name="直接连接符 57"/>
          <p:cNvSpPr/>
          <p:nvPr/>
        </p:nvSpPr>
        <p:spPr>
          <a:xfrm flipH="1">
            <a:off x="5738400" y="1574640"/>
            <a:ext cx="180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8"/>
          <p:cNvSpPr/>
          <p:nvPr/>
        </p:nvSpPr>
        <p:spPr>
          <a:xfrm>
            <a:off x="5616720" y="147168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564240" y="419580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77"/>
          <p:cNvSpPr/>
          <p:nvPr/>
        </p:nvSpPr>
        <p:spPr>
          <a:xfrm flipH="1">
            <a:off x="7071840" y="4302000"/>
            <a:ext cx="180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24"/>
          <p:cNvSpPr/>
          <p:nvPr/>
        </p:nvSpPr>
        <p:spPr>
          <a:xfrm flipH="1">
            <a:off x="2192400" y="4572000"/>
            <a:ext cx="1440" cy="43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6"/>
          <p:cNvSpPr/>
          <p:nvPr/>
        </p:nvSpPr>
        <p:spPr>
          <a:xfrm>
            <a:off x="176040" y="444960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3733920" y="3308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​​ 40"/>
          <p:cNvSpPr/>
          <p:nvPr/>
        </p:nvSpPr>
        <p:spPr>
          <a:xfrm>
            <a:off x="2411280" y="1557360"/>
            <a:ext cx="4253040" cy="425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98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541680" y="987480"/>
            <a:ext cx="2060640" cy="1465200"/>
            <a:chOff x="3541680" y="987480"/>
            <a:chExt cx="2060640" cy="1465200"/>
          </a:xfrm>
        </p:grpSpPr>
        <p:grpSp>
          <p:nvGrpSpPr>
            <p:cNvPr id="196" name=""/>
            <p:cNvGrpSpPr/>
            <p:nvPr/>
          </p:nvGrpSpPr>
          <p:grpSpPr>
            <a:xfrm>
              <a:off x="3799440" y="987480"/>
              <a:ext cx="1465560" cy="1465200"/>
              <a:chOff x="3799440" y="987480"/>
              <a:chExt cx="1465560" cy="1465200"/>
            </a:xfrm>
          </p:grpSpPr>
          <p:sp>
            <p:nvSpPr>
              <p:cNvPr id="197" name="椭圆 38"/>
              <p:cNvSpPr/>
              <p:nvPr/>
            </p:nvSpPr>
            <p:spPr>
              <a:xfrm>
                <a:off x="3799440" y="987480"/>
                <a:ext cx="1465560" cy="146520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椭圆 39"/>
              <p:cNvSpPr/>
              <p:nvPr/>
            </p:nvSpPr>
            <p:spPr>
              <a:xfrm>
                <a:off x="3868560" y="1021680"/>
                <a:ext cx="1310760" cy="1310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8"/>
            <p:cNvSpPr/>
            <p:nvPr/>
          </p:nvSpPr>
          <p:spPr>
            <a:xfrm>
              <a:off x="3541680" y="1245240"/>
              <a:ext cx="206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35040" y="2565360"/>
            <a:ext cx="2060640" cy="1463760"/>
            <a:chOff x="1535040" y="2565360"/>
            <a:chExt cx="2060640" cy="1463760"/>
          </a:xfrm>
        </p:grpSpPr>
        <p:grpSp>
          <p:nvGrpSpPr>
            <p:cNvPr id="201" name=""/>
            <p:cNvGrpSpPr/>
            <p:nvPr/>
          </p:nvGrpSpPr>
          <p:grpSpPr>
            <a:xfrm>
              <a:off x="1792800" y="2565360"/>
              <a:ext cx="1465560" cy="1463760"/>
              <a:chOff x="1792800" y="2565360"/>
              <a:chExt cx="1465560" cy="1463760"/>
            </a:xfrm>
          </p:grpSpPr>
          <p:sp>
            <p:nvSpPr>
              <p:cNvPr id="202" name="椭圆 38"/>
              <p:cNvSpPr/>
              <p:nvPr/>
            </p:nvSpPr>
            <p:spPr>
              <a:xfrm>
                <a:off x="1792800" y="2565360"/>
                <a:ext cx="1465560" cy="14637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39"/>
              <p:cNvSpPr/>
              <p:nvPr/>
            </p:nvSpPr>
            <p:spPr>
              <a:xfrm>
                <a:off x="1861920" y="2599560"/>
                <a:ext cx="1310760" cy="13093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Box 13"/>
            <p:cNvSpPr/>
            <p:nvPr/>
          </p:nvSpPr>
          <p:spPr>
            <a:xfrm>
              <a:off x="1535040" y="2822760"/>
              <a:ext cx="206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632560" y="2565360"/>
            <a:ext cx="2060640" cy="1463760"/>
            <a:chOff x="5632560" y="2565360"/>
            <a:chExt cx="2060640" cy="1463760"/>
          </a:xfrm>
        </p:grpSpPr>
        <p:grpSp>
          <p:nvGrpSpPr>
            <p:cNvPr id="206" name=""/>
            <p:cNvGrpSpPr/>
            <p:nvPr/>
          </p:nvGrpSpPr>
          <p:grpSpPr>
            <a:xfrm>
              <a:off x="5890320" y="2565360"/>
              <a:ext cx="1465560" cy="1463760"/>
              <a:chOff x="5890320" y="2565360"/>
              <a:chExt cx="1465560" cy="1463760"/>
            </a:xfrm>
          </p:grpSpPr>
          <p:sp>
            <p:nvSpPr>
              <p:cNvPr id="207" name="椭圆 38"/>
              <p:cNvSpPr/>
              <p:nvPr/>
            </p:nvSpPr>
            <p:spPr>
              <a:xfrm>
                <a:off x="5890320" y="2565360"/>
                <a:ext cx="1465560" cy="14637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39"/>
              <p:cNvSpPr/>
              <p:nvPr/>
            </p:nvSpPr>
            <p:spPr>
              <a:xfrm>
                <a:off x="5959440" y="2599560"/>
                <a:ext cx="1310760" cy="13093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18"/>
            <p:cNvSpPr/>
            <p:nvPr/>
          </p:nvSpPr>
          <p:spPr>
            <a:xfrm>
              <a:off x="5632560" y="2822760"/>
              <a:ext cx="206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217600" y="4508640"/>
            <a:ext cx="2060640" cy="1463400"/>
            <a:chOff x="2217600" y="4508640"/>
            <a:chExt cx="2060640" cy="1463400"/>
          </a:xfrm>
        </p:grpSpPr>
        <p:grpSp>
          <p:nvGrpSpPr>
            <p:cNvPr id="211" name=""/>
            <p:cNvGrpSpPr/>
            <p:nvPr/>
          </p:nvGrpSpPr>
          <p:grpSpPr>
            <a:xfrm>
              <a:off x="2475360" y="4508640"/>
              <a:ext cx="1465560" cy="1463400"/>
              <a:chOff x="2475360" y="4508640"/>
              <a:chExt cx="1465560" cy="1463400"/>
            </a:xfrm>
          </p:grpSpPr>
          <p:sp>
            <p:nvSpPr>
              <p:cNvPr id="212" name="椭圆 38"/>
              <p:cNvSpPr/>
              <p:nvPr/>
            </p:nvSpPr>
            <p:spPr>
              <a:xfrm>
                <a:off x="2475360" y="4508640"/>
                <a:ext cx="1465560" cy="14634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39"/>
              <p:cNvSpPr/>
              <p:nvPr/>
            </p:nvSpPr>
            <p:spPr>
              <a:xfrm>
                <a:off x="2544480" y="4542840"/>
                <a:ext cx="1310760" cy="13089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23"/>
            <p:cNvSpPr/>
            <p:nvPr/>
          </p:nvSpPr>
          <p:spPr>
            <a:xfrm>
              <a:off x="2217600" y="4766040"/>
              <a:ext cx="206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70520" y="4508640"/>
            <a:ext cx="2060640" cy="1463400"/>
            <a:chOff x="4970520" y="4508640"/>
            <a:chExt cx="2060640" cy="1463400"/>
          </a:xfrm>
        </p:grpSpPr>
        <p:grpSp>
          <p:nvGrpSpPr>
            <p:cNvPr id="216" name=""/>
            <p:cNvGrpSpPr/>
            <p:nvPr/>
          </p:nvGrpSpPr>
          <p:grpSpPr>
            <a:xfrm>
              <a:off x="5228280" y="4508640"/>
              <a:ext cx="1465560" cy="1463400"/>
              <a:chOff x="5228280" y="4508640"/>
              <a:chExt cx="1465560" cy="1463400"/>
            </a:xfrm>
          </p:grpSpPr>
          <p:sp>
            <p:nvSpPr>
              <p:cNvPr id="217" name="椭圆 38"/>
              <p:cNvSpPr/>
              <p:nvPr/>
            </p:nvSpPr>
            <p:spPr>
              <a:xfrm>
                <a:off x="5228280" y="4508640"/>
                <a:ext cx="1465560" cy="146340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39"/>
              <p:cNvSpPr/>
              <p:nvPr/>
            </p:nvSpPr>
            <p:spPr>
              <a:xfrm>
                <a:off x="5297400" y="4542840"/>
                <a:ext cx="1310760" cy="13089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28"/>
            <p:cNvSpPr/>
            <p:nvPr/>
          </p:nvSpPr>
          <p:spPr>
            <a:xfrm>
              <a:off x="4970520" y="4766040"/>
              <a:ext cx="206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67000" y="2463840"/>
            <a:ext cx="2610000" cy="2308320"/>
            <a:chOff x="3267000" y="2463840"/>
            <a:chExt cx="2610000" cy="2308320"/>
          </a:xfrm>
        </p:grpSpPr>
        <p:sp>
          <p:nvSpPr>
            <p:cNvPr id="221" name="正五边形 5"/>
            <p:cNvSpPr/>
            <p:nvPr/>
          </p:nvSpPr>
          <p:spPr>
            <a:xfrm>
              <a:off x="3267000" y="2463840"/>
              <a:ext cx="2610000" cy="2308320"/>
            </a:xfrm>
            <a:prstGeom prst="pentagon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正五边形 33"/>
            <p:cNvSpPr/>
            <p:nvPr/>
          </p:nvSpPr>
          <p:spPr>
            <a:xfrm>
              <a:off x="3381480" y="2563920"/>
              <a:ext cx="2381040" cy="2106000"/>
            </a:xfrm>
            <a:prstGeom prst="pentagon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36"/>
            <p:cNvSpPr/>
            <p:nvPr/>
          </p:nvSpPr>
          <p:spPr>
            <a:xfrm>
              <a:off x="3526200" y="3194280"/>
              <a:ext cx="209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总分关系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​​ 8"/>
          <p:cNvSpPr/>
          <p:nvPr/>
        </p:nvSpPr>
        <p:spPr>
          <a:xfrm>
            <a:off x="363600" y="603360"/>
            <a:ext cx="8416800" cy="5651280"/>
          </a:xfrm>
          <a:prstGeom prst="roundRect">
            <a:avLst>
              <a:gd name="adj" fmla="val 3130"/>
            </a:avLst>
          </a:prstGeom>
          <a:solidFill>
            <a:srgbClr val="d8d8d8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​​ 18"/>
          <p:cNvSpPr/>
          <p:nvPr/>
        </p:nvSpPr>
        <p:spPr>
          <a:xfrm>
            <a:off x="5563440" y="6297480"/>
            <a:ext cx="26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http://www.</a:t>
            </a:r>
            <a:r>
              <a:rPr b="0" lang="en-US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ee</a:t>
            </a:r>
            <a:r>
              <a:rPr b="0" lang="zh-CN" sz="18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85880" y="1857240"/>
            <a:ext cx="7591320" cy="3799080"/>
            <a:chOff x="785880" y="1857240"/>
            <a:chExt cx="7591320" cy="3799080"/>
          </a:xfrm>
        </p:grpSpPr>
        <p:sp>
          <p:nvSpPr>
            <p:cNvPr id="228" name="圆角矩形 23"/>
            <p:cNvSpPr/>
            <p:nvPr/>
          </p:nvSpPr>
          <p:spPr>
            <a:xfrm>
              <a:off x="5816880" y="4602600"/>
              <a:ext cx="2560320" cy="857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22"/>
            <p:cNvSpPr/>
            <p:nvPr/>
          </p:nvSpPr>
          <p:spPr>
            <a:xfrm>
              <a:off x="785880" y="4602600"/>
              <a:ext cx="2629440" cy="857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21"/>
            <p:cNvSpPr/>
            <p:nvPr/>
          </p:nvSpPr>
          <p:spPr>
            <a:xfrm>
              <a:off x="4572000" y="2013480"/>
              <a:ext cx="2786040" cy="857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500200" y="1857240"/>
              <a:ext cx="4157280" cy="3799080"/>
              <a:chOff x="2500200" y="1857240"/>
              <a:chExt cx="4157280" cy="3799080"/>
            </a:xfrm>
          </p:grpSpPr>
          <p:sp>
            <p:nvSpPr>
              <p:cNvPr id="232" name="等腰三角形 2"/>
              <p:cNvSpPr/>
              <p:nvPr/>
            </p:nvSpPr>
            <p:spPr>
              <a:xfrm>
                <a:off x="2995560" y="2517840"/>
                <a:ext cx="3055680" cy="26366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等腰三角形 3"/>
              <p:cNvSpPr/>
              <p:nvPr/>
            </p:nvSpPr>
            <p:spPr>
              <a:xfrm>
                <a:off x="3088800" y="2616120"/>
                <a:ext cx="2855880" cy="24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2500200" y="4417560"/>
                <a:ext cx="1238760" cy="1238760"/>
                <a:chOff x="2500200" y="4417560"/>
                <a:chExt cx="1238760" cy="1238760"/>
              </a:xfrm>
            </p:grpSpPr>
            <p:sp>
              <p:nvSpPr>
                <p:cNvPr id="235" name="椭圆 6"/>
                <p:cNvSpPr/>
                <p:nvPr/>
              </p:nvSpPr>
              <p:spPr>
                <a:xfrm>
                  <a:off x="2500200" y="4417560"/>
                  <a:ext cx="1238760" cy="12387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椭圆 9"/>
                <p:cNvSpPr/>
                <p:nvPr/>
              </p:nvSpPr>
              <p:spPr>
                <a:xfrm>
                  <a:off x="2520000" y="4452480"/>
                  <a:ext cx="1105200" cy="110520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920400" y="1857240"/>
                <a:ext cx="1238760" cy="1238760"/>
                <a:chOff x="3920400" y="1857240"/>
                <a:chExt cx="1238760" cy="1238760"/>
              </a:xfrm>
            </p:grpSpPr>
            <p:sp>
              <p:nvSpPr>
                <p:cNvPr id="238" name="椭圆 12"/>
                <p:cNvSpPr/>
                <p:nvPr/>
              </p:nvSpPr>
              <p:spPr>
                <a:xfrm>
                  <a:off x="3920400" y="1857240"/>
                  <a:ext cx="1238760" cy="123876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椭圆 13"/>
                <p:cNvSpPr/>
                <p:nvPr/>
              </p:nvSpPr>
              <p:spPr>
                <a:xfrm>
                  <a:off x="3940200" y="1892160"/>
                  <a:ext cx="1105200" cy="110520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18720" y="4417560"/>
                <a:ext cx="1238760" cy="1238760"/>
                <a:chOff x="5418720" y="4417560"/>
                <a:chExt cx="1238760" cy="1238760"/>
              </a:xfrm>
            </p:grpSpPr>
            <p:sp>
              <p:nvSpPr>
                <p:cNvPr id="241" name="椭圆 18"/>
                <p:cNvSpPr/>
                <p:nvPr/>
              </p:nvSpPr>
              <p:spPr>
                <a:xfrm>
                  <a:off x="5418720" y="4417560"/>
                  <a:ext cx="1238760" cy="123876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椭圆 19"/>
                <p:cNvSpPr/>
                <p:nvPr/>
              </p:nvSpPr>
              <p:spPr>
                <a:xfrm>
                  <a:off x="5438520" y="4452480"/>
                  <a:ext cx="1105200" cy="110520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3" name="TextBox 26"/>
          <p:cNvSpPr/>
          <p:nvPr/>
        </p:nvSpPr>
        <p:spPr>
          <a:xfrm>
            <a:off x="5100480" y="2152800"/>
            <a:ext cx="22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7c19"/>
                </a:solidFill>
                <a:latin typeface="时尚中黑简体"/>
                <a:ea typeface="时尚中黑简体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514440" y="4805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7c19"/>
                </a:solidFill>
                <a:latin typeface="时尚中黑简体"/>
                <a:ea typeface="时尚中黑简体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6429240" y="480528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7c19"/>
                </a:solidFill>
                <a:latin typeface="时尚中黑简体"/>
                <a:ea typeface="时尚中黑简体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9"/>
          <p:cNvSpPr/>
          <p:nvPr/>
        </p:nvSpPr>
        <p:spPr>
          <a:xfrm>
            <a:off x="3429000" y="3603600"/>
            <a:ext cx="22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>
            <a:off x="4280760" y="196200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27c19"/>
                </a:solidFill>
                <a:latin typeface="Calibri"/>
                <a:ea typeface="Calibr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1"/>
          <p:cNvSpPr/>
          <p:nvPr/>
        </p:nvSpPr>
        <p:spPr>
          <a:xfrm>
            <a:off x="2842560" y="45529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27c19"/>
                </a:solidFill>
                <a:latin typeface="Calibri"/>
                <a:ea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2"/>
          <p:cNvSpPr/>
          <p:nvPr/>
        </p:nvSpPr>
        <p:spPr>
          <a:xfrm>
            <a:off x="5758200" y="4552920"/>
            <a:ext cx="5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27c19"/>
                </a:solidFill>
                <a:latin typeface="Calibri"/>
                <a:ea typeface="Calibri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</a:rPr>
              <a:t>总分关系图表</a:t>
            </a:r>
            <a:endParaRPr b="0" lang="en-US" sz="28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5:17:07Z</dcterms:created>
  <dc:creator>Vincent</dc:creator>
  <dc:description/>
  <dc:language>en-US</dc:language>
  <cp:lastModifiedBy>微软用户</cp:lastModifiedBy>
  <dcterms:modified xsi:type="dcterms:W3CDTF">2015-07-06T14:02:32Z</dcterms:modified>
  <cp:revision>1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