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73B-BEBE-439E-8B1A-6E57E057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31C-E844-478A-A0B4-6B19E17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9CB-F99D-4B61-8333-D50FACAA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430-08B3-41E0-AEA3-0DD68653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029-5B02-4AF7-917B-4F9361F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C2B-2204-471D-93D2-69DEC41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294-591A-4F28-887E-FE33527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96F-5CA0-43B1-9092-1C61F36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DD5-952F-4B81-B2D4-018B0A6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9EE-A700-4641-91EF-E5A4A59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7E6-FA29-497C-9F54-A2EF3D9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DF7-44D4-4DED-95C0-1E89CA0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08000" cy="6875640"/>
            <a:chOff x="0" y="0"/>
            <a:chExt cx="1008000" cy="6875640"/>
          </a:xfrm>
        </p:grpSpPr>
        <p:sp>
          <p:nvSpPr>
            <p:cNvPr id="1" name="矩形 7"/>
            <p:cNvSpPr/>
            <p:nvPr/>
          </p:nvSpPr>
          <p:spPr>
            <a:xfrm>
              <a:off x="0" y="0"/>
              <a:ext cx="1008000" cy="1146960"/>
            </a:xfrm>
            <a:prstGeom prst="rect">
              <a:avLst/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矩形 8"/>
            <p:cNvSpPr/>
            <p:nvPr/>
          </p:nvSpPr>
          <p:spPr>
            <a:xfrm>
              <a:off x="0" y="1146960"/>
              <a:ext cx="1008000" cy="1146960"/>
            </a:xfrm>
            <a:prstGeom prst="rect">
              <a:avLst/>
            </a:prstGeom>
            <a:solidFill>
              <a:srgbClr val="ae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矩形 9"/>
            <p:cNvSpPr/>
            <p:nvPr/>
          </p:nvSpPr>
          <p:spPr>
            <a:xfrm>
              <a:off x="0" y="2293920"/>
              <a:ext cx="1008000" cy="1146960"/>
            </a:xfrm>
            <a:prstGeom prst="rect">
              <a:avLst/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矩形 10"/>
            <p:cNvSpPr/>
            <p:nvPr/>
          </p:nvSpPr>
          <p:spPr>
            <a:xfrm>
              <a:off x="0" y="3440880"/>
              <a:ext cx="1008000" cy="1146960"/>
            </a:xfrm>
            <a:prstGeom prst="rect">
              <a:avLst/>
            </a:prstGeom>
            <a:solidFill>
              <a:srgbClr val="eab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矩形 11"/>
            <p:cNvSpPr/>
            <p:nvPr/>
          </p:nvSpPr>
          <p:spPr>
            <a:xfrm>
              <a:off x="0" y="4587840"/>
              <a:ext cx="1008000" cy="1146960"/>
            </a:xfrm>
            <a:prstGeom prst="rect">
              <a:avLst/>
            </a:pr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矩形 12"/>
            <p:cNvSpPr/>
            <p:nvPr/>
          </p:nvSpPr>
          <p:spPr>
            <a:xfrm>
              <a:off x="0" y="5728680"/>
              <a:ext cx="1008000" cy="1146960"/>
            </a:xfrm>
            <a:prstGeom prst="rect">
              <a:avLst/>
            </a:pr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11183760" y="0"/>
            <a:ext cx="1008360" cy="6875640"/>
            <a:chOff x="11183760" y="0"/>
            <a:chExt cx="1008360" cy="6875640"/>
          </a:xfrm>
        </p:grpSpPr>
        <p:sp>
          <p:nvSpPr>
            <p:cNvPr id="8" name="矩形 14"/>
            <p:cNvSpPr/>
            <p:nvPr/>
          </p:nvSpPr>
          <p:spPr>
            <a:xfrm>
              <a:off x="11183760" y="0"/>
              <a:ext cx="1008360" cy="1146960"/>
            </a:xfrm>
            <a:prstGeom prst="rect">
              <a:avLst/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矩形 15"/>
            <p:cNvSpPr/>
            <p:nvPr/>
          </p:nvSpPr>
          <p:spPr>
            <a:xfrm>
              <a:off x="11183760" y="1146960"/>
              <a:ext cx="1008360" cy="1146960"/>
            </a:xfrm>
            <a:prstGeom prst="rect">
              <a:avLst/>
            </a:prstGeom>
            <a:solidFill>
              <a:srgbClr val="ae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矩形 16"/>
            <p:cNvSpPr/>
            <p:nvPr/>
          </p:nvSpPr>
          <p:spPr>
            <a:xfrm>
              <a:off x="11183760" y="2293920"/>
              <a:ext cx="1008360" cy="1146960"/>
            </a:xfrm>
            <a:prstGeom prst="rect">
              <a:avLst/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矩形 17"/>
            <p:cNvSpPr/>
            <p:nvPr/>
          </p:nvSpPr>
          <p:spPr>
            <a:xfrm>
              <a:off x="11183760" y="3440880"/>
              <a:ext cx="1008360" cy="1146960"/>
            </a:xfrm>
            <a:prstGeom prst="rect">
              <a:avLst/>
            </a:prstGeom>
            <a:solidFill>
              <a:srgbClr val="eab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矩形 18"/>
            <p:cNvSpPr/>
            <p:nvPr/>
          </p:nvSpPr>
          <p:spPr>
            <a:xfrm>
              <a:off x="11183760" y="4587840"/>
              <a:ext cx="1008360" cy="1146960"/>
            </a:xfrm>
            <a:prstGeom prst="rect">
              <a:avLst/>
            </a:pr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矩形 19"/>
            <p:cNvSpPr/>
            <p:nvPr/>
          </p:nvSpPr>
          <p:spPr>
            <a:xfrm>
              <a:off x="11183760" y="5728680"/>
              <a:ext cx="1008360" cy="1146960"/>
            </a:xfrm>
            <a:prstGeom prst="rect">
              <a:avLst/>
            </a:pr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A91-038C-46F3-9738-33EDF5DA18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4706640" y="1357200"/>
            <a:ext cx="2495880" cy="2196720"/>
            <a:chOff x="4706640" y="1357200"/>
            <a:chExt cx="2495880" cy="2196720"/>
          </a:xfrm>
        </p:grpSpPr>
        <p:sp>
          <p:nvSpPr>
            <p:cNvPr id="56" name="等腰三角形 6"/>
            <p:cNvSpPr/>
            <p:nvPr/>
          </p:nvSpPr>
          <p:spPr>
            <a:xfrm rot="5400000">
              <a:off x="4628520" y="143568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等腰三角形 7"/>
            <p:cNvSpPr/>
            <p:nvPr/>
          </p:nvSpPr>
          <p:spPr>
            <a:xfrm rot="16200000">
              <a:off x="4628520" y="182412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ae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等腰三角形 10"/>
            <p:cNvSpPr/>
            <p:nvPr/>
          </p:nvSpPr>
          <p:spPr>
            <a:xfrm flipH="1" rot="2199000">
              <a:off x="6047280" y="2475360"/>
              <a:ext cx="721440" cy="621360"/>
            </a:xfrm>
            <a:custGeom>
              <a:avLst/>
              <a:gdLst/>
              <a:ahLst/>
              <a:rect l="l" t="t" r="r" b="b"/>
              <a:pathLst>
                <a:path w="813025" h="699745">
                  <a:moveTo>
                    <a:pt x="0" y="699745"/>
                  </a:moveTo>
                  <a:lnTo>
                    <a:pt x="417335" y="0"/>
                  </a:lnTo>
                  <a:lnTo>
                    <a:pt x="813025" y="697738"/>
                  </a:lnTo>
                  <a:lnTo>
                    <a:pt x="0" y="699745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等腰三角形 8"/>
            <p:cNvSpPr/>
            <p:nvPr/>
          </p:nvSpPr>
          <p:spPr>
            <a:xfrm rot="5400000">
              <a:off x="4628520" y="221256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等腰三角形 9"/>
            <p:cNvSpPr/>
            <p:nvPr/>
          </p:nvSpPr>
          <p:spPr>
            <a:xfrm rot="1539000">
              <a:off x="4802400" y="2488320"/>
              <a:ext cx="776520" cy="620280"/>
            </a:xfrm>
            <a:prstGeom prst="triangle">
              <a:avLst>
                <a:gd name="adj" fmla="val 50000"/>
              </a:avLst>
            </a:prstGeom>
            <a:solidFill>
              <a:srgbClr val="eab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等腰三角形 10"/>
            <p:cNvSpPr/>
            <p:nvPr/>
          </p:nvSpPr>
          <p:spPr>
            <a:xfrm rot="19401000">
              <a:off x="5134320" y="2462400"/>
              <a:ext cx="725760" cy="62496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等腰三角形 11"/>
            <p:cNvSpPr/>
            <p:nvPr/>
          </p:nvSpPr>
          <p:spPr>
            <a:xfrm rot="15956400">
              <a:off x="5334120" y="2877480"/>
              <a:ext cx="702000" cy="60048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等腰三角形 14"/>
            <p:cNvSpPr/>
            <p:nvPr/>
          </p:nvSpPr>
          <p:spPr>
            <a:xfrm flipH="1" rot="16200000">
              <a:off x="6503760" y="144432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等腰三角形 15"/>
            <p:cNvSpPr/>
            <p:nvPr/>
          </p:nvSpPr>
          <p:spPr>
            <a:xfrm flipH="1" rot="5400000">
              <a:off x="6504120" y="183276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ae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6"/>
            <p:cNvSpPr/>
            <p:nvPr/>
          </p:nvSpPr>
          <p:spPr>
            <a:xfrm flipH="1" rot="16200000">
              <a:off x="6503760" y="2221560"/>
              <a:ext cx="776880" cy="61992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7"/>
            <p:cNvSpPr/>
            <p:nvPr/>
          </p:nvSpPr>
          <p:spPr>
            <a:xfrm flipH="1" rot="20061000">
              <a:off x="6329520" y="2497680"/>
              <a:ext cx="776520" cy="619920"/>
            </a:xfrm>
            <a:prstGeom prst="triangle">
              <a:avLst>
                <a:gd name="adj" fmla="val 50000"/>
              </a:avLst>
            </a:prstGeom>
            <a:solidFill>
              <a:srgbClr val="eab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9"/>
            <p:cNvSpPr/>
            <p:nvPr/>
          </p:nvSpPr>
          <p:spPr>
            <a:xfrm flipH="1" rot="5643600">
              <a:off x="5868360" y="2880000"/>
              <a:ext cx="710640" cy="596160"/>
            </a:xfrm>
            <a:custGeom>
              <a:avLst/>
              <a:gdLst/>
              <a:ahLst/>
              <a:rect l="l" t="t" r="r" b="b"/>
              <a:pathLst>
                <a:path w="800431" h="671911">
                  <a:moveTo>
                    <a:pt x="0" y="646024"/>
                  </a:moveTo>
                  <a:lnTo>
                    <a:pt x="344125" y="0"/>
                  </a:lnTo>
                  <a:lnTo>
                    <a:pt x="800431" y="671911"/>
                  </a:lnTo>
                  <a:lnTo>
                    <a:pt x="0" y="646024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文本框 21"/>
          <p:cNvSpPr/>
          <p:nvPr/>
        </p:nvSpPr>
        <p:spPr>
          <a:xfrm>
            <a:off x="5248440" y="168264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华文细黑"/>
                <a:ea typeface="华文细黑"/>
              </a:rPr>
              <a:t>201</a:t>
            </a:r>
            <a:r>
              <a:rPr b="0" lang="zh-CN" sz="4400" spc="-1" strike="noStrike">
                <a:solidFill>
                  <a:srgbClr val="ffc000"/>
                </a:solidFill>
                <a:latin typeface="华文细黑"/>
                <a:ea typeface="华文细黑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2"/>
          <p:cNvSpPr/>
          <p:nvPr/>
        </p:nvSpPr>
        <p:spPr>
          <a:xfrm>
            <a:off x="4591080" y="4241880"/>
            <a:ext cx="30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里输入演示者的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90648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1280" y="1047600"/>
            <a:ext cx="45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抽象类年终总结报告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演示模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2094480" y="447840"/>
            <a:ext cx="488160" cy="696600"/>
            <a:chOff x="2094480" y="447840"/>
            <a:chExt cx="488160" cy="696600"/>
          </a:xfrm>
        </p:grpSpPr>
        <p:sp>
          <p:nvSpPr>
            <p:cNvPr id="73" name="等腰三角形 8"/>
            <p:cNvSpPr/>
            <p:nvPr/>
          </p:nvSpPr>
          <p:spPr>
            <a:xfrm rot="5400000">
              <a:off x="2083320" y="752400"/>
              <a:ext cx="19404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等腰三角形 10"/>
            <p:cNvSpPr/>
            <p:nvPr/>
          </p:nvSpPr>
          <p:spPr>
            <a:xfrm rot="19401000">
              <a:off x="2316960" y="496440"/>
              <a:ext cx="228960" cy="19764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等腰三角形 11"/>
            <p:cNvSpPr/>
            <p:nvPr/>
          </p:nvSpPr>
          <p:spPr>
            <a:xfrm rot="15956400">
              <a:off x="2084040" y="554040"/>
              <a:ext cx="26820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等腰三角形 14"/>
            <p:cNvSpPr/>
            <p:nvPr/>
          </p:nvSpPr>
          <p:spPr>
            <a:xfrm flipH="1" rot="16200000">
              <a:off x="2080080" y="851760"/>
              <a:ext cx="32544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21"/>
          <p:cNvSpPr/>
          <p:nvPr/>
        </p:nvSpPr>
        <p:spPr>
          <a:xfrm>
            <a:off x="2373480" y="614520"/>
            <a:ext cx="140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细黑"/>
                <a:ea typeface="华文细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3391200" y="1020240"/>
            <a:ext cx="632880" cy="660240"/>
            <a:chOff x="3391200" y="1020240"/>
            <a:chExt cx="632880" cy="660240"/>
          </a:xfrm>
        </p:grpSpPr>
        <p:sp>
          <p:nvSpPr>
            <p:cNvPr id="79" name="等腰三角形 40"/>
            <p:cNvSpPr/>
            <p:nvPr/>
          </p:nvSpPr>
          <p:spPr>
            <a:xfrm rot="17487000">
              <a:off x="3750120" y="130572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等腰三角形 10"/>
            <p:cNvSpPr/>
            <p:nvPr/>
          </p:nvSpPr>
          <p:spPr>
            <a:xfrm rot="9888000">
              <a:off x="3412800" y="1409760"/>
              <a:ext cx="22896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等腰三角形 11"/>
            <p:cNvSpPr/>
            <p:nvPr/>
          </p:nvSpPr>
          <p:spPr>
            <a:xfrm rot="6443400">
              <a:off x="3618720" y="1403640"/>
              <a:ext cx="26784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等腰三角形 43"/>
            <p:cNvSpPr/>
            <p:nvPr/>
          </p:nvSpPr>
          <p:spPr>
            <a:xfrm flipH="1" rot="6686400">
              <a:off x="3681000" y="108900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等腰三角形 45"/>
          <p:cNvSpPr/>
          <p:nvPr/>
        </p:nvSpPr>
        <p:spPr>
          <a:xfrm rot="5400000">
            <a:off x="4350960" y="2268360"/>
            <a:ext cx="411120" cy="328680"/>
          </a:xfrm>
          <a:prstGeom prst="triangle">
            <a:avLst>
              <a:gd name="adj" fmla="val 50000"/>
            </a:avLst>
          </a:prstGeom>
          <a:solidFill>
            <a:srgbClr val="a75d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10"/>
          <p:cNvSpPr/>
          <p:nvPr/>
        </p:nvSpPr>
        <p:spPr>
          <a:xfrm rot="5400000">
            <a:off x="4365360" y="3321000"/>
            <a:ext cx="382680" cy="328680"/>
          </a:xfrm>
          <a:custGeom>
            <a:avLst/>
            <a:gdLst/>
            <a:ahLst/>
            <a:rect l="l" t="t" r="r" b="b"/>
            <a:pathLst>
              <a:path w="817525" h="703913">
                <a:moveTo>
                  <a:pt x="0" y="702570"/>
                </a:moveTo>
                <a:lnTo>
                  <a:pt x="422935" y="0"/>
                </a:lnTo>
                <a:lnTo>
                  <a:pt x="817525" y="703913"/>
                </a:lnTo>
                <a:lnTo>
                  <a:pt x="0" y="702570"/>
                </a:lnTo>
                <a:close/>
              </a:path>
            </a:pathLst>
          </a:custGeom>
          <a:solidFill>
            <a:srgbClr val="e6a1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等腰三角形 11"/>
          <p:cNvSpPr/>
          <p:nvPr/>
        </p:nvSpPr>
        <p:spPr>
          <a:xfrm rot="12600000">
            <a:off x="4281120" y="4306680"/>
            <a:ext cx="384120" cy="341280"/>
          </a:xfrm>
          <a:custGeom>
            <a:avLst/>
            <a:gdLst/>
            <a:ahLst/>
            <a:rect l="l" t="t" r="r" b="b"/>
            <a:pathLst>
              <a:path w="795669" h="676515">
                <a:moveTo>
                  <a:pt x="0" y="656230"/>
                </a:moveTo>
                <a:lnTo>
                  <a:pt x="353750" y="0"/>
                </a:lnTo>
                <a:lnTo>
                  <a:pt x="795669" y="676515"/>
                </a:lnTo>
                <a:lnTo>
                  <a:pt x="0" y="656230"/>
                </a:lnTo>
                <a:close/>
              </a:path>
            </a:pathLst>
          </a:custGeom>
          <a:solidFill>
            <a:srgbClr val="c3b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1"/>
          <p:cNvSpPr/>
          <p:nvPr/>
        </p:nvSpPr>
        <p:spPr>
          <a:xfrm>
            <a:off x="4815000" y="22431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一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1"/>
          <p:cNvSpPr/>
          <p:nvPr/>
        </p:nvSpPr>
        <p:spPr>
          <a:xfrm>
            <a:off x="4826160" y="3287880"/>
            <a:ext cx="31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1"/>
          <p:cNvSpPr/>
          <p:nvPr/>
        </p:nvSpPr>
        <p:spPr>
          <a:xfrm>
            <a:off x="4803840" y="426096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三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764440" y="586080"/>
            <a:ext cx="488160" cy="695160"/>
            <a:chOff x="2764440" y="586080"/>
            <a:chExt cx="488160" cy="695160"/>
          </a:xfrm>
        </p:grpSpPr>
        <p:sp>
          <p:nvSpPr>
            <p:cNvPr id="91" name="等腰三角形 8"/>
            <p:cNvSpPr/>
            <p:nvPr/>
          </p:nvSpPr>
          <p:spPr>
            <a:xfrm rot="5400000">
              <a:off x="2753280" y="88992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等腰三角形 10"/>
            <p:cNvSpPr/>
            <p:nvPr/>
          </p:nvSpPr>
          <p:spPr>
            <a:xfrm rot="19401000">
              <a:off x="2987280" y="635040"/>
              <a:ext cx="22896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等腰三角形 11"/>
            <p:cNvSpPr/>
            <p:nvPr/>
          </p:nvSpPr>
          <p:spPr>
            <a:xfrm rot="15956400">
              <a:off x="2754360" y="691920"/>
              <a:ext cx="26784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等腰三角形 14"/>
            <p:cNvSpPr/>
            <p:nvPr/>
          </p:nvSpPr>
          <p:spPr>
            <a:xfrm flipH="1" rot="16200000">
              <a:off x="2750400" y="98892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7"/>
          <p:cNvGrpSpPr/>
          <p:nvPr/>
        </p:nvGrpSpPr>
        <p:grpSpPr>
          <a:xfrm>
            <a:off x="8685000" y="1122480"/>
            <a:ext cx="631800" cy="650880"/>
            <a:chOff x="8685000" y="1122480"/>
            <a:chExt cx="631800" cy="650880"/>
          </a:xfrm>
        </p:grpSpPr>
        <p:sp>
          <p:nvSpPr>
            <p:cNvPr id="96" name="等腰三角形 40"/>
            <p:cNvSpPr/>
            <p:nvPr/>
          </p:nvSpPr>
          <p:spPr>
            <a:xfrm rot="17487000">
              <a:off x="9051120" y="140868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等腰三角形 10"/>
            <p:cNvSpPr/>
            <p:nvPr/>
          </p:nvSpPr>
          <p:spPr>
            <a:xfrm rot="9888000">
              <a:off x="8706600" y="1512000"/>
              <a:ext cx="22860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等腰三角形 11"/>
            <p:cNvSpPr/>
            <p:nvPr/>
          </p:nvSpPr>
          <p:spPr>
            <a:xfrm rot="6443400">
              <a:off x="8913600" y="1506240"/>
              <a:ext cx="247680" cy="228960"/>
            </a:xfrm>
            <a:custGeom>
              <a:avLst/>
              <a:gdLst/>
              <a:ahLst/>
              <a:rect l="l" t="t" r="r" b="b"/>
              <a:pathLst>
                <a:path w="731944" h="676515">
                  <a:moveTo>
                    <a:pt x="1" y="612682"/>
                  </a:moveTo>
                  <a:lnTo>
                    <a:pt x="290025" y="0"/>
                  </a:lnTo>
                  <a:lnTo>
                    <a:pt x="731944" y="676515"/>
                  </a:lnTo>
                  <a:lnTo>
                    <a:pt x="1" y="612682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等腰三角形 43"/>
            <p:cNvSpPr/>
            <p:nvPr/>
          </p:nvSpPr>
          <p:spPr>
            <a:xfrm flipH="1" rot="6687600">
              <a:off x="8974080" y="1191240"/>
              <a:ext cx="324720" cy="25920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文本框 31"/>
          <p:cNvSpPr/>
          <p:nvPr/>
        </p:nvSpPr>
        <p:spPr>
          <a:xfrm>
            <a:off x="3416400" y="86184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433600" y="2119320"/>
            <a:ext cx="7396200" cy="26575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849400" y="265896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6C4-D3EE-4A96-B4A7-EC60CAFD7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764440" y="586080"/>
            <a:ext cx="488160" cy="695160"/>
            <a:chOff x="2764440" y="586080"/>
            <a:chExt cx="488160" cy="695160"/>
          </a:xfrm>
        </p:grpSpPr>
        <p:sp>
          <p:nvSpPr>
            <p:cNvPr id="107" name="等腰三角形 8"/>
            <p:cNvSpPr/>
            <p:nvPr/>
          </p:nvSpPr>
          <p:spPr>
            <a:xfrm rot="5400000">
              <a:off x="2753280" y="88992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等腰三角形 10"/>
            <p:cNvSpPr/>
            <p:nvPr/>
          </p:nvSpPr>
          <p:spPr>
            <a:xfrm rot="19401000">
              <a:off x="2987280" y="635040"/>
              <a:ext cx="22896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等腰三角形 11"/>
            <p:cNvSpPr/>
            <p:nvPr/>
          </p:nvSpPr>
          <p:spPr>
            <a:xfrm rot="15956400">
              <a:off x="2754360" y="691920"/>
              <a:ext cx="26784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等腰三角形 14"/>
            <p:cNvSpPr/>
            <p:nvPr/>
          </p:nvSpPr>
          <p:spPr>
            <a:xfrm flipH="1" rot="16200000">
              <a:off x="2750400" y="98892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8685000" y="1122480"/>
            <a:ext cx="631800" cy="650880"/>
            <a:chOff x="8685000" y="1122480"/>
            <a:chExt cx="631800" cy="650880"/>
          </a:xfrm>
        </p:grpSpPr>
        <p:sp>
          <p:nvSpPr>
            <p:cNvPr id="112" name="等腰三角形 40"/>
            <p:cNvSpPr/>
            <p:nvPr/>
          </p:nvSpPr>
          <p:spPr>
            <a:xfrm rot="17487000">
              <a:off x="9051120" y="140868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等腰三角形 10"/>
            <p:cNvSpPr/>
            <p:nvPr/>
          </p:nvSpPr>
          <p:spPr>
            <a:xfrm rot="9888000">
              <a:off x="8706600" y="1512000"/>
              <a:ext cx="22860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等腰三角形 11"/>
            <p:cNvSpPr/>
            <p:nvPr/>
          </p:nvSpPr>
          <p:spPr>
            <a:xfrm rot="6443400">
              <a:off x="8913600" y="1506240"/>
              <a:ext cx="247680" cy="228960"/>
            </a:xfrm>
            <a:custGeom>
              <a:avLst/>
              <a:gdLst/>
              <a:ahLst/>
              <a:rect l="l" t="t" r="r" b="b"/>
              <a:pathLst>
                <a:path w="731944" h="676515">
                  <a:moveTo>
                    <a:pt x="1" y="612682"/>
                  </a:moveTo>
                  <a:lnTo>
                    <a:pt x="290025" y="0"/>
                  </a:lnTo>
                  <a:lnTo>
                    <a:pt x="731944" y="676515"/>
                  </a:lnTo>
                  <a:lnTo>
                    <a:pt x="1" y="612682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43"/>
            <p:cNvSpPr/>
            <p:nvPr/>
          </p:nvSpPr>
          <p:spPr>
            <a:xfrm flipH="1" rot="6687600">
              <a:off x="8974080" y="1191240"/>
              <a:ext cx="324720" cy="25920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文本框 31"/>
          <p:cNvSpPr/>
          <p:nvPr/>
        </p:nvSpPr>
        <p:spPr>
          <a:xfrm>
            <a:off x="3416400" y="86184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8"/>
          <p:cNvSpPr/>
          <p:nvPr/>
        </p:nvSpPr>
        <p:spPr>
          <a:xfrm>
            <a:off x="4645080" y="2779560"/>
            <a:ext cx="38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20" descr=""/>
          <p:cNvPicPr/>
          <p:nvPr/>
        </p:nvPicPr>
        <p:blipFill>
          <a:blip r:embed="rId1"/>
          <a:stretch/>
        </p:blipFill>
        <p:spPr>
          <a:xfrm>
            <a:off x="3584520" y="2292480"/>
            <a:ext cx="835200" cy="10792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25"/>
          <p:cNvSpPr/>
          <p:nvPr/>
        </p:nvSpPr>
        <p:spPr>
          <a:xfrm>
            <a:off x="4645080" y="23194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23" descr=""/>
          <p:cNvPicPr/>
          <p:nvPr/>
        </p:nvPicPr>
        <p:blipFill>
          <a:blip r:embed="rId2"/>
          <a:stretch/>
        </p:blipFill>
        <p:spPr>
          <a:xfrm>
            <a:off x="3584520" y="4218120"/>
            <a:ext cx="785880" cy="78084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38"/>
          <p:cNvSpPr/>
          <p:nvPr/>
        </p:nvSpPr>
        <p:spPr>
          <a:xfrm>
            <a:off x="4606920" y="45370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2"/>
          <p:cNvSpPr/>
          <p:nvPr/>
        </p:nvSpPr>
        <p:spPr>
          <a:xfrm>
            <a:off x="4635360" y="407520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2764440" y="586080"/>
            <a:ext cx="488160" cy="695160"/>
            <a:chOff x="2764440" y="586080"/>
            <a:chExt cx="488160" cy="695160"/>
          </a:xfrm>
        </p:grpSpPr>
        <p:sp>
          <p:nvSpPr>
            <p:cNvPr id="124" name="等腰三角形 8"/>
            <p:cNvSpPr/>
            <p:nvPr/>
          </p:nvSpPr>
          <p:spPr>
            <a:xfrm rot="5400000">
              <a:off x="2753280" y="88992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等腰三角形 10"/>
            <p:cNvSpPr/>
            <p:nvPr/>
          </p:nvSpPr>
          <p:spPr>
            <a:xfrm rot="19401000">
              <a:off x="2987280" y="635040"/>
              <a:ext cx="22896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等腰三角形 11"/>
            <p:cNvSpPr/>
            <p:nvPr/>
          </p:nvSpPr>
          <p:spPr>
            <a:xfrm rot="15956400">
              <a:off x="2754360" y="691920"/>
              <a:ext cx="26784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等腰三角形 14"/>
            <p:cNvSpPr/>
            <p:nvPr/>
          </p:nvSpPr>
          <p:spPr>
            <a:xfrm flipH="1" rot="16200000">
              <a:off x="2750400" y="98892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8685000" y="1122480"/>
            <a:ext cx="631800" cy="650880"/>
            <a:chOff x="8685000" y="1122480"/>
            <a:chExt cx="631800" cy="650880"/>
          </a:xfrm>
        </p:grpSpPr>
        <p:sp>
          <p:nvSpPr>
            <p:cNvPr id="129" name="等腰三角形 40"/>
            <p:cNvSpPr/>
            <p:nvPr/>
          </p:nvSpPr>
          <p:spPr>
            <a:xfrm rot="17487000">
              <a:off x="9051120" y="140868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等腰三角形 10"/>
            <p:cNvSpPr/>
            <p:nvPr/>
          </p:nvSpPr>
          <p:spPr>
            <a:xfrm rot="9888000">
              <a:off x="8706600" y="1512000"/>
              <a:ext cx="22860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等腰三角形 11"/>
            <p:cNvSpPr/>
            <p:nvPr/>
          </p:nvSpPr>
          <p:spPr>
            <a:xfrm rot="6443400">
              <a:off x="8913600" y="1506240"/>
              <a:ext cx="247680" cy="228960"/>
            </a:xfrm>
            <a:custGeom>
              <a:avLst/>
              <a:gdLst/>
              <a:ahLst/>
              <a:rect l="l" t="t" r="r" b="b"/>
              <a:pathLst>
                <a:path w="731944" h="676515">
                  <a:moveTo>
                    <a:pt x="1" y="612682"/>
                  </a:moveTo>
                  <a:lnTo>
                    <a:pt x="290025" y="0"/>
                  </a:lnTo>
                  <a:lnTo>
                    <a:pt x="731944" y="676515"/>
                  </a:lnTo>
                  <a:lnTo>
                    <a:pt x="1" y="612682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等腰三角形 43"/>
            <p:cNvSpPr/>
            <p:nvPr/>
          </p:nvSpPr>
          <p:spPr>
            <a:xfrm flipH="1" rot="6687600">
              <a:off x="8974080" y="1191240"/>
              <a:ext cx="324720" cy="25920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文本框 31"/>
          <p:cNvSpPr/>
          <p:nvPr/>
        </p:nvSpPr>
        <p:spPr>
          <a:xfrm>
            <a:off x="3416400" y="86184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8"/>
          <p:cNvSpPr/>
          <p:nvPr/>
        </p:nvSpPr>
        <p:spPr>
          <a:xfrm>
            <a:off x="3790800" y="488628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4473720" y="2174400"/>
            <a:ext cx="3203280" cy="2219760"/>
            <a:chOff x="4473720" y="2174400"/>
            <a:chExt cx="3203280" cy="2219760"/>
          </a:xfrm>
        </p:grpSpPr>
        <p:sp>
          <p:nvSpPr>
            <p:cNvPr id="136" name="流程图: 过程 21"/>
            <p:cNvSpPr/>
            <p:nvPr/>
          </p:nvSpPr>
          <p:spPr>
            <a:xfrm>
              <a:off x="4473720" y="2174760"/>
              <a:ext cx="3203280" cy="2219400"/>
            </a:xfrm>
            <a:prstGeom prst="flowChartProcess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接连接符 26"/>
            <p:cNvSpPr/>
            <p:nvPr/>
          </p:nvSpPr>
          <p:spPr>
            <a:xfrm>
              <a:off x="4473720" y="2174760"/>
              <a:ext cx="3203280" cy="2219400"/>
            </a:xfrm>
            <a:prstGeom prst="line">
              <a:avLst/>
            </a:prstGeom>
            <a:ln w="6480">
              <a:solidFill>
                <a:srgbClr val="a6a6a6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接连接符 27"/>
            <p:cNvSpPr/>
            <p:nvPr/>
          </p:nvSpPr>
          <p:spPr>
            <a:xfrm flipV="1">
              <a:off x="4473720" y="2174400"/>
              <a:ext cx="3203280" cy="2219400"/>
            </a:xfrm>
            <a:prstGeom prst="line">
              <a:avLst/>
            </a:prstGeom>
            <a:ln w="6480">
              <a:solidFill>
                <a:srgbClr val="a6a6a6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Picture 18" descr="8041530545_SS"/>
          <p:cNvPicPr/>
          <p:nvPr/>
        </p:nvPicPr>
        <p:blipFill>
          <a:blip r:embed="rId1"/>
          <a:stretch/>
        </p:blipFill>
        <p:spPr>
          <a:xfrm>
            <a:off x="4570560" y="2263680"/>
            <a:ext cx="30272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3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4891680" y="2497320"/>
            <a:ext cx="488160" cy="695160"/>
            <a:chOff x="4891680" y="2497320"/>
            <a:chExt cx="488160" cy="695160"/>
          </a:xfrm>
        </p:grpSpPr>
        <p:sp>
          <p:nvSpPr>
            <p:cNvPr id="141" name="等腰三角形 8"/>
            <p:cNvSpPr/>
            <p:nvPr/>
          </p:nvSpPr>
          <p:spPr>
            <a:xfrm rot="5400000">
              <a:off x="4880520" y="2801160"/>
              <a:ext cx="193680" cy="15444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等腰三角形 10"/>
            <p:cNvSpPr/>
            <p:nvPr/>
          </p:nvSpPr>
          <p:spPr>
            <a:xfrm rot="19401000">
              <a:off x="5114520" y="2546280"/>
              <a:ext cx="22896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等腰三角形 11"/>
            <p:cNvSpPr/>
            <p:nvPr/>
          </p:nvSpPr>
          <p:spPr>
            <a:xfrm rot="15956400">
              <a:off x="4881600" y="2603160"/>
              <a:ext cx="267840" cy="229320"/>
            </a:xfrm>
            <a:custGeom>
              <a:avLst/>
              <a:gdLst/>
              <a:ahLst/>
              <a:rect l="l" t="t" r="r" b="b"/>
              <a:pathLst>
                <a:path w="790647" h="676515">
                  <a:moveTo>
                    <a:pt x="0" y="588481"/>
                  </a:moveTo>
                  <a:lnTo>
                    <a:pt x="348728" y="0"/>
                  </a:lnTo>
                  <a:lnTo>
                    <a:pt x="790647" y="676515"/>
                  </a:lnTo>
                  <a:lnTo>
                    <a:pt x="0" y="588481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等腰三角形 14"/>
            <p:cNvSpPr/>
            <p:nvPr/>
          </p:nvSpPr>
          <p:spPr>
            <a:xfrm flipH="1" rot="16200000">
              <a:off x="4877640" y="290016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7000920" y="3097440"/>
            <a:ext cx="632520" cy="650880"/>
            <a:chOff x="7000920" y="3097440"/>
            <a:chExt cx="632520" cy="650880"/>
          </a:xfrm>
        </p:grpSpPr>
        <p:sp>
          <p:nvSpPr>
            <p:cNvPr id="146" name="等腰三角形 40"/>
            <p:cNvSpPr/>
            <p:nvPr/>
          </p:nvSpPr>
          <p:spPr>
            <a:xfrm rot="17487000">
              <a:off x="7368120" y="3383640"/>
              <a:ext cx="193680" cy="154800"/>
            </a:xfrm>
            <a:prstGeom prst="triangle">
              <a:avLst>
                <a:gd name="adj" fmla="val 50000"/>
              </a:avLst>
            </a:prstGeom>
            <a:solidFill>
              <a:srgbClr val="e89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等腰三角形 10"/>
            <p:cNvSpPr/>
            <p:nvPr/>
          </p:nvSpPr>
          <p:spPr>
            <a:xfrm rot="9888000">
              <a:off x="7022520" y="3487320"/>
              <a:ext cx="229320" cy="196920"/>
            </a:xfrm>
            <a:custGeom>
              <a:avLst/>
              <a:gdLst/>
              <a:ahLst/>
              <a:rect l="l" t="t" r="r" b="b"/>
              <a:pathLst>
                <a:path w="817525" h="703913">
                  <a:moveTo>
                    <a:pt x="0" y="702570"/>
                  </a:moveTo>
                  <a:lnTo>
                    <a:pt x="422935" y="0"/>
                  </a:lnTo>
                  <a:lnTo>
                    <a:pt x="817525" y="703913"/>
                  </a:lnTo>
                  <a:lnTo>
                    <a:pt x="0" y="702570"/>
                  </a:lnTo>
                  <a:close/>
                </a:path>
              </a:pathLst>
            </a:custGeom>
            <a:solidFill>
              <a:srgbClr val="e6a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等腰三角形 11"/>
            <p:cNvSpPr/>
            <p:nvPr/>
          </p:nvSpPr>
          <p:spPr>
            <a:xfrm rot="6443400">
              <a:off x="7229880" y="3480840"/>
              <a:ext cx="247680" cy="229320"/>
            </a:xfrm>
            <a:custGeom>
              <a:avLst/>
              <a:gdLst/>
              <a:ahLst/>
              <a:rect l="l" t="t" r="r" b="b"/>
              <a:pathLst>
                <a:path w="731944" h="676515">
                  <a:moveTo>
                    <a:pt x="1" y="612682"/>
                  </a:moveTo>
                  <a:lnTo>
                    <a:pt x="290025" y="0"/>
                  </a:lnTo>
                  <a:lnTo>
                    <a:pt x="731944" y="676515"/>
                  </a:lnTo>
                  <a:lnTo>
                    <a:pt x="1" y="612682"/>
                  </a:lnTo>
                  <a:close/>
                </a:path>
              </a:pathLst>
            </a:custGeom>
            <a:solidFill>
              <a:srgbClr val="c3b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等腰三角形 43"/>
            <p:cNvSpPr/>
            <p:nvPr/>
          </p:nvSpPr>
          <p:spPr>
            <a:xfrm flipH="1" rot="6687600">
              <a:off x="7290360" y="3165840"/>
              <a:ext cx="324720" cy="259560"/>
            </a:xfrm>
            <a:prstGeom prst="triangle">
              <a:avLst>
                <a:gd name="adj" fmla="val 50000"/>
              </a:avLst>
            </a:prstGeom>
            <a:solidFill>
              <a:srgbClr val="a75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文本框 31"/>
          <p:cNvSpPr/>
          <p:nvPr/>
        </p:nvSpPr>
        <p:spPr>
          <a:xfrm>
            <a:off x="5342040" y="277488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1:39:55Z</dcterms:created>
  <dc:creator>An</dc:creator>
  <dc:description/>
  <dc:language>en-US</dc:language>
  <cp:lastModifiedBy/>
  <dcterms:modified xsi:type="dcterms:W3CDTF">2015-07-11T14:18:5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