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FB49-5280-405F-B5D4-43E70AC3A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8794-8CB5-4D69-A915-171BACCC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5893-A4E9-4DC8-8396-E2896B8C1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04A4-00C2-43C9-808A-98AC59105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380F-FF09-4D14-A626-9A29C405C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CC0A-D76A-4750-B6D8-F2985E37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B5B3-576C-4D9E-B0C7-96C95BC4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E25C-BD9E-40D2-A69B-176CE635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15FA-165F-4BF0-8382-CB07D086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6585-4E31-429D-8E8D-021C4234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AA21-90F2-4365-B2AD-C6FE3A11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7B08-69BE-4DA7-8F36-E7C563C1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6731-F1D2-410E-8C17-ABB5F726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E237-C870-48ED-9F6C-C38A4FAF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2089-3972-4449-856F-42954996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129E-4637-4E62-B961-1FCB0FC7E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6C380-948A-4F33-A47F-63294B70A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CAAF-F2AA-4E13-A779-2AD2A1C5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195D-E741-465F-932A-B3FC2002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BFA4-A6AD-4576-9686-DD4E2D9F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FEBA-CBED-4DB1-8F42-6917A71B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F878-2A89-4B6D-95B1-F9A39E62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6D8C-0182-4118-91F1-7BFEB09B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47E3-94E5-4166-9E49-7854F2E3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F6F8-578D-4E07-8312-941971CDAFC6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7BC1C9D6-F6FC-45EC-9D8F-F9919A974449}" type="datetime10">
              <a:rPr b="0" lang="en-US" sz="1000" spc="-1" strike="noStrike">
                <a:solidFill>
                  <a:srgbClr val="000000"/>
                </a:solidFill>
                <a:latin typeface="Arial"/>
              </a:rPr>
              <a:t>17:13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763A-3FCC-46EF-9DDA-FCCED6A7730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320"/>
              <a:ext cx="228600" cy="1368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77A4-9C50-4F92-9DA4-4900AFB1A901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87C0E048-7DA4-4498-8F35-2B386CA6AB04}" type="datetime10">
              <a:rPr b="0" lang="en-US" sz="1000" spc="-1" strike="noStrike">
                <a:solidFill>
                  <a:srgbClr val="000000"/>
                </a:solidFill>
                <a:latin typeface="Arial"/>
              </a:rPr>
              <a:t>17:13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0EFB7108-6F7C-427B-AE06-B07622B023C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560"/>
            <a:ext cx="8391600" cy="5791320"/>
            <a:chOff x="380880" y="304560"/>
            <a:chExt cx="8391600" cy="5791320"/>
          </a:xfrm>
        </p:grpSpPr>
        <p:sp>
          <p:nvSpPr>
            <p:cNvPr id="53" name=""/>
            <p:cNvSpPr/>
            <p:nvPr/>
          </p:nvSpPr>
          <p:spPr>
            <a:xfrm flipV="1">
              <a:off x="8312040" y="303840"/>
              <a:ext cx="457200" cy="45684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3840"/>
              <a:ext cx="7943760" cy="4568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400"/>
              <a:ext cx="7943760" cy="22824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400" y="761760"/>
              <a:ext cx="447840" cy="2282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1400" y="3581280"/>
              <a:ext cx="769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章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语言概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语言的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程序的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函数的组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nghai Distributed Computing and Technology Cen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B4B8-092F-4166-BDFB-C523C6453EF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4EED59-A8CB-4B97-8EEB-498967C751F8}" type="datetime8">
              <a:rPr lang="en-US"/>
              <a:t>07/29/26 17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1.1 C</a:t>
            </a:r>
            <a:r>
              <a:rPr b="0" lang="zh-CN" sz="4400" spc="-1" strike="noStrike">
                <a:solidFill>
                  <a:srgbClr val="420000"/>
                </a:solidFill>
                <a:latin typeface="Times New Roman"/>
              </a:rPr>
              <a:t>语言的特点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语言简洁、紧凑，使用方便、灵活。一共只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个关键词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种语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运算符丰富。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种运算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数据类型丰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具有结构化的控制语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语法不太严格，程序设计自由度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允许直接访问物理地址，能进行位操作，能实现汇编语言的大部分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生成的目标代码质量高，执行效率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nghai Distributed Computing and Technology Cen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0977-A8C1-411B-9D3A-099D6F68B95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CDA849-50C7-4AFC-9852-E0147DFF2688}" type="datetime8">
              <a:rPr lang="en-US"/>
              <a:t>07/29/26 17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2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程序的结构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由一个或多个函数组成。其中有一个函数名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它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程序的主函数，即入口函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：命令行界面输出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lo, everyon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vo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in(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vo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tf(“hello, everyone”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67080" y="1143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nghai Distributed Computing and Technology Cen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0BD0-8146-46A4-B322-CF565268264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3EC3CE-EEE7-4819-9F98-C4D29CDF49BA}" type="datetime8">
              <a:rPr lang="en-US"/>
              <a:t>07/29/26 17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2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程序的结构（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：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和（单函数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vo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in(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vo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{ 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/*</a:t>
            </a: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求二数之和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*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, b, sum; 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/* </a:t>
            </a: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变量定义，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为二加数，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sum</a:t>
            </a: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存放和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*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=10; b=20;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/*a,b</a:t>
            </a: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赋初值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*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=a+b; 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/*</a:t>
            </a: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将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,b</a:t>
            </a: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之和存于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sum*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tf(“10+20=%d”, sum); 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/*</a:t>
            </a: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输出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sum*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nghai Distributed Computing and Technology Cen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1101-025C-4D31-BC30-F832E161C2C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16952B-18C4-4500-916A-B7A2214CE03F}" type="datetime8">
              <a:rPr lang="en-US"/>
              <a:t>07/29/26 17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2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程序的结构（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例：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之间的素数之和。（多函数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/* 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</a:rPr>
              <a:t>判断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k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</a:rPr>
              <a:t>是否为素数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.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</a:rPr>
              <a:t>当返回值大于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k/2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</a:rPr>
              <a:t>时，为素数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rime(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k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m=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whi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m&lt;=k/2 &amp;&amp; k%m!=0) ++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main(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, j, s;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/*s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</a:rPr>
              <a:t>为素数之和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=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f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i=1; i&lt;=100; ++i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 = prime(i);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j&gt;i/2) s = s +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intf(“%d\n”,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nghai Distributed Computing and Technology Cen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B3C3-8EE4-4D7D-A00C-7C7911B8696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3D7BC8-10C1-413E-B208-744B5EF9D6FA}" type="datetime8">
              <a:rPr lang="en-US"/>
              <a:t>07/29/26 17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5T00:51:41Z</dcterms:created>
  <dc:creator>Frank Fu</dc:creator>
  <dc:description/>
  <dc:language>en-US</dc:language>
  <cp:lastModifiedBy>gao</cp:lastModifiedBy>
  <dcterms:modified xsi:type="dcterms:W3CDTF">2015-07-09T10:47:04Z</dcterms:modified>
  <cp:revision>196</cp:revision>
  <dc:subject/>
  <dc:title>计算引论与C++程序设计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