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D58-C2D0-4937-B4E5-5D91745F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932-119B-49C3-9493-75BD2285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A1E-2FFC-418D-9065-9C40EA06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059-0797-46AD-80C0-1C39D36E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1A4-70A0-4C3C-B51C-486FB02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FF5-FEE6-4B05-9F53-BA73666C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F05-2CE0-468F-A5FA-831EFC41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261-0C72-445A-A9CC-9E3F4DAB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40D-E658-4151-85EF-C77207D8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70E-2A64-4979-B14F-D57DB52E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E43-5C28-4CA7-BF70-3BF773E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A90-3E56-42DE-AD72-1B19F4A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EC5-C8DD-4EAC-9135-E9BE4C99283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E96F-963B-4094-BC3F-25C2D102C4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3" name="Gruppieren 4"/>
          <p:cNvGrpSpPr/>
          <p:nvPr/>
        </p:nvGrpSpPr>
        <p:grpSpPr>
          <a:xfrm>
            <a:off x="870120" y="2949480"/>
            <a:ext cx="2496600" cy="2495520"/>
            <a:chOff x="870120" y="2949480"/>
            <a:chExt cx="2496600" cy="2495520"/>
          </a:xfrm>
        </p:grpSpPr>
        <p:sp>
          <p:nvSpPr>
            <p:cNvPr id="44" name="Oval 2"/>
            <p:cNvSpPr/>
            <p:nvPr/>
          </p:nvSpPr>
          <p:spPr>
            <a:xfrm>
              <a:off x="895320" y="2986200"/>
              <a:ext cx="2433600" cy="243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870840" y="2986200"/>
              <a:ext cx="2495880" cy="2450160"/>
              <a:chOff x="870840" y="2986200"/>
              <a:chExt cx="2495880" cy="2450160"/>
            </a:xfrm>
          </p:grpSpPr>
          <p:sp>
            <p:nvSpPr>
              <p:cNvPr id="46" name="Freeform 5"/>
              <p:cNvSpPr/>
              <p:nvPr/>
            </p:nvSpPr>
            <p:spPr>
              <a:xfrm>
                <a:off x="2117520" y="2986200"/>
                <a:ext cx="1249200" cy="18147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>
                <a:off x="1071720" y="4199400"/>
                <a:ext cx="2096640" cy="12369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>
                <a:off x="870840" y="2986200"/>
                <a:ext cx="1249560" cy="1819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11"/>
            <p:cNvSpPr/>
            <p:nvPr/>
          </p:nvSpPr>
          <p:spPr>
            <a:xfrm>
              <a:off x="870120" y="2949480"/>
              <a:ext cx="2495160" cy="249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Ellipse 4"/>
          <p:cNvSpPr/>
          <p:nvPr/>
        </p:nvSpPr>
        <p:spPr>
          <a:xfrm>
            <a:off x="870120" y="3838680"/>
            <a:ext cx="249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pieren 4"/>
          <p:cNvGrpSpPr/>
          <p:nvPr/>
        </p:nvGrpSpPr>
        <p:grpSpPr>
          <a:xfrm>
            <a:off x="2629080" y="2494080"/>
            <a:ext cx="2495160" cy="2495520"/>
            <a:chOff x="2629080" y="2494080"/>
            <a:chExt cx="2495160" cy="2495520"/>
          </a:xfrm>
        </p:grpSpPr>
        <p:sp>
          <p:nvSpPr>
            <p:cNvPr id="52" name="Oval 2"/>
            <p:cNvSpPr/>
            <p:nvPr/>
          </p:nvSpPr>
          <p:spPr>
            <a:xfrm>
              <a:off x="2654280" y="2530800"/>
              <a:ext cx="2432160" cy="243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2629800" y="2530800"/>
              <a:ext cx="2494440" cy="2450160"/>
              <a:chOff x="2629800" y="2530800"/>
              <a:chExt cx="2494440" cy="2450160"/>
            </a:xfrm>
          </p:grpSpPr>
          <p:sp>
            <p:nvSpPr>
              <p:cNvPr id="54" name="Freeform 5"/>
              <p:cNvSpPr/>
              <p:nvPr/>
            </p:nvSpPr>
            <p:spPr>
              <a:xfrm>
                <a:off x="3875760" y="2530800"/>
                <a:ext cx="1248480" cy="18147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2830680" y="3744000"/>
                <a:ext cx="2095200" cy="12369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2629800" y="2530800"/>
                <a:ext cx="1248840" cy="1819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AutoShape 11"/>
            <p:cNvSpPr/>
            <p:nvPr/>
          </p:nvSpPr>
          <p:spPr>
            <a:xfrm>
              <a:off x="2629080" y="2494080"/>
              <a:ext cx="2493720" cy="249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uppieren 4"/>
          <p:cNvGrpSpPr/>
          <p:nvPr/>
        </p:nvGrpSpPr>
        <p:grpSpPr>
          <a:xfrm>
            <a:off x="4251240" y="1755720"/>
            <a:ext cx="2497320" cy="2495520"/>
            <a:chOff x="4251240" y="1755720"/>
            <a:chExt cx="2497320" cy="2495520"/>
          </a:xfrm>
        </p:grpSpPr>
        <p:sp>
          <p:nvSpPr>
            <p:cNvPr id="59" name="Oval 2"/>
            <p:cNvSpPr/>
            <p:nvPr/>
          </p:nvSpPr>
          <p:spPr>
            <a:xfrm>
              <a:off x="4276440" y="1792440"/>
              <a:ext cx="2433960" cy="243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4"/>
            <p:cNvGrpSpPr/>
            <p:nvPr/>
          </p:nvGrpSpPr>
          <p:grpSpPr>
            <a:xfrm>
              <a:off x="4251960" y="1792440"/>
              <a:ext cx="2496600" cy="2450160"/>
              <a:chOff x="4251960" y="1792440"/>
              <a:chExt cx="2496600" cy="2450160"/>
            </a:xfrm>
          </p:grpSpPr>
          <p:sp>
            <p:nvSpPr>
              <p:cNvPr id="61" name="Freeform 5"/>
              <p:cNvSpPr/>
              <p:nvPr/>
            </p:nvSpPr>
            <p:spPr>
              <a:xfrm>
                <a:off x="5499000" y="1792440"/>
                <a:ext cx="1249560" cy="18147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"/>
              <p:cNvSpPr/>
              <p:nvPr/>
            </p:nvSpPr>
            <p:spPr>
              <a:xfrm>
                <a:off x="4452840" y="3005640"/>
                <a:ext cx="2096640" cy="12369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7"/>
              <p:cNvSpPr/>
              <p:nvPr/>
            </p:nvSpPr>
            <p:spPr>
              <a:xfrm>
                <a:off x="4251960" y="1792440"/>
                <a:ext cx="1249560" cy="1819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AutoShape 11"/>
            <p:cNvSpPr/>
            <p:nvPr/>
          </p:nvSpPr>
          <p:spPr>
            <a:xfrm>
              <a:off x="4251240" y="1755720"/>
              <a:ext cx="2495520" cy="249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Bogen 48"/>
          <p:cNvSpPr/>
          <p:nvPr/>
        </p:nvSpPr>
        <p:spPr>
          <a:xfrm rot="20700000">
            <a:off x="1882440" y="2835000"/>
            <a:ext cx="1465200" cy="838080"/>
          </a:xfrm>
          <a:prstGeom prst="pie">
            <a:avLst/>
          </a:prstGeom>
          <a:noFill/>
          <a:ln w="28440">
            <a:solidFill>
              <a:srgbClr val="00ad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00"/>
              </a:spcBef>
              <a:buClr>
                <a:srgbClr val="ff5233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uppieren 4"/>
          <p:cNvGrpSpPr/>
          <p:nvPr/>
        </p:nvGrpSpPr>
        <p:grpSpPr>
          <a:xfrm>
            <a:off x="5942160" y="1158840"/>
            <a:ext cx="2496600" cy="2495520"/>
            <a:chOff x="5942160" y="1158840"/>
            <a:chExt cx="2496600" cy="2495520"/>
          </a:xfrm>
        </p:grpSpPr>
        <p:sp>
          <p:nvSpPr>
            <p:cNvPr id="67" name="Oval 2"/>
            <p:cNvSpPr/>
            <p:nvPr/>
          </p:nvSpPr>
          <p:spPr>
            <a:xfrm>
              <a:off x="5967360" y="1195560"/>
              <a:ext cx="2433600" cy="243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4"/>
            <p:cNvGrpSpPr/>
            <p:nvPr/>
          </p:nvGrpSpPr>
          <p:grpSpPr>
            <a:xfrm>
              <a:off x="5942880" y="1195560"/>
              <a:ext cx="2495880" cy="2450160"/>
              <a:chOff x="5942880" y="1195560"/>
              <a:chExt cx="2495880" cy="2450160"/>
            </a:xfrm>
          </p:grpSpPr>
          <p:sp>
            <p:nvSpPr>
              <p:cNvPr id="69" name="Freeform 5"/>
              <p:cNvSpPr/>
              <p:nvPr/>
            </p:nvSpPr>
            <p:spPr>
              <a:xfrm>
                <a:off x="7189560" y="1195560"/>
                <a:ext cx="1249200" cy="18147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6"/>
              <p:cNvSpPr/>
              <p:nvPr/>
            </p:nvSpPr>
            <p:spPr>
              <a:xfrm>
                <a:off x="6143760" y="2408760"/>
                <a:ext cx="2096640" cy="12369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7"/>
              <p:cNvSpPr/>
              <p:nvPr/>
            </p:nvSpPr>
            <p:spPr>
              <a:xfrm>
                <a:off x="5942880" y="1195560"/>
                <a:ext cx="1249560" cy="1819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AutoShape 11"/>
            <p:cNvSpPr/>
            <p:nvPr/>
          </p:nvSpPr>
          <p:spPr>
            <a:xfrm>
              <a:off x="5942160" y="1158840"/>
              <a:ext cx="2495160" cy="249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Bogen 51"/>
          <p:cNvSpPr/>
          <p:nvPr/>
        </p:nvSpPr>
        <p:spPr>
          <a:xfrm rot="20700000">
            <a:off x="3560760" y="2298240"/>
            <a:ext cx="1467000" cy="839880"/>
          </a:xfrm>
          <a:prstGeom prst="pie">
            <a:avLst/>
          </a:prstGeom>
          <a:noFill/>
          <a:ln w="28440">
            <a:solidFill>
              <a:srgbClr val="00ad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00"/>
              </a:spcBef>
              <a:buClr>
                <a:srgbClr val="ff5233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Bogen 52"/>
          <p:cNvSpPr/>
          <p:nvPr/>
        </p:nvSpPr>
        <p:spPr>
          <a:xfrm rot="20700000">
            <a:off x="5240160" y="1763280"/>
            <a:ext cx="1465560" cy="838440"/>
          </a:xfrm>
          <a:prstGeom prst="pie">
            <a:avLst/>
          </a:prstGeom>
          <a:noFill/>
          <a:ln w="28440">
            <a:solidFill>
              <a:srgbClr val="00ad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00"/>
              </a:spcBef>
              <a:buClr>
                <a:srgbClr val="ff5233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4"/>
          <p:cNvSpPr/>
          <p:nvPr/>
        </p:nvSpPr>
        <p:spPr>
          <a:xfrm>
            <a:off x="2505240" y="3246480"/>
            <a:ext cx="249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4"/>
          <p:cNvSpPr/>
          <p:nvPr/>
        </p:nvSpPr>
        <p:spPr>
          <a:xfrm>
            <a:off x="4218120" y="2629080"/>
            <a:ext cx="249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4"/>
          <p:cNvSpPr/>
          <p:nvPr/>
        </p:nvSpPr>
        <p:spPr>
          <a:xfrm>
            <a:off x="5911920" y="2049480"/>
            <a:ext cx="249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llipse 53"/>
          <p:cNvSpPr/>
          <p:nvPr/>
        </p:nvSpPr>
        <p:spPr>
          <a:xfrm>
            <a:off x="682560" y="4643280"/>
            <a:ext cx="2806920" cy="62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llipse 54"/>
          <p:cNvSpPr/>
          <p:nvPr/>
        </p:nvSpPr>
        <p:spPr>
          <a:xfrm>
            <a:off x="2422440" y="4643280"/>
            <a:ext cx="2806920" cy="62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llipse 55"/>
          <p:cNvSpPr/>
          <p:nvPr/>
        </p:nvSpPr>
        <p:spPr>
          <a:xfrm>
            <a:off x="4065480" y="4643280"/>
            <a:ext cx="2805120" cy="62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59"/>
          <p:cNvSpPr/>
          <p:nvPr/>
        </p:nvSpPr>
        <p:spPr>
          <a:xfrm>
            <a:off x="5880240" y="4651200"/>
            <a:ext cx="2805120" cy="62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120" y="69372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递进层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7B6-8F4B-40C3-B4D7-5AC9FDF3A7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>http://www.1ppt.com</dc:description>
  <cp:keywords>第一PPT www.1ppt.com</cp:keywords>
  <dc:language>en-US</dc:language>
  <cp:lastModifiedBy>lenovo</cp:lastModifiedBy>
  <dcterms:modified xsi:type="dcterms:W3CDTF">2015-07-11T14:59:49Z</dcterms:modified>
  <cp:revision>1186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