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664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3280" y="134100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9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664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3280" y="3840120"/>
            <a:ext cx="259668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84012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341000"/>
            <a:ext cx="39355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640" y="3840120"/>
            <a:ext cx="806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wmf"/><Relationship Id="rId4" Type="http://schemas.openxmlformats.org/officeDocument/2006/relationships/hyperlink" Target="http://www.eeppt.com/moban/gongzuo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2349360"/>
            <a:ext cx="8281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78080" y="3435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后勤服务中心党总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016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27920" y="90972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党建工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建立和坚持党总支各项工作制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制订了“领导班子各项制度”、“党支部工作制度”和“党员管理制度”，进一步规范了党总支活动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71640" y="4437000"/>
            <a:ext cx="1255680" cy="842760"/>
            <a:chOff x="971640" y="4437000"/>
            <a:chExt cx="1255680" cy="842760"/>
          </a:xfrm>
        </p:grpSpPr>
        <p:sp>
          <p:nvSpPr>
            <p:cNvPr id="175" name=""/>
            <p:cNvSpPr/>
            <p:nvPr/>
          </p:nvSpPr>
          <p:spPr>
            <a:xfrm flipV="1">
              <a:off x="971640" y="5099760"/>
              <a:ext cx="1255680" cy="179640"/>
            </a:xfrm>
            <a:prstGeom prst="ellipse">
              <a:avLst/>
            </a:prstGeom>
            <a:gradFill rotWithShape="0">
              <a:gsLst>
                <a:gs pos="0">
                  <a:srgbClr val="041d54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92960" y="4437000"/>
              <a:ext cx="1081800" cy="728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96920" y="4449600"/>
              <a:ext cx="1069920" cy="297000"/>
            </a:xfrm>
            <a:prstGeom prst="roundRect">
              <a:avLst>
                <a:gd name="adj" fmla="val 34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09520" y="4816440"/>
              <a:ext cx="1038600" cy="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09720" y="2709720"/>
            <a:ext cx="1285920" cy="842760"/>
            <a:chOff x="909720" y="2709720"/>
            <a:chExt cx="1285920" cy="842760"/>
          </a:xfrm>
        </p:grpSpPr>
        <p:grpSp>
          <p:nvGrpSpPr>
            <p:cNvPr id="180" name=""/>
            <p:cNvGrpSpPr/>
            <p:nvPr/>
          </p:nvGrpSpPr>
          <p:grpSpPr>
            <a:xfrm>
              <a:off x="1033920" y="2709720"/>
              <a:ext cx="1108080" cy="728640"/>
              <a:chOff x="1033920" y="2709720"/>
              <a:chExt cx="1108080" cy="7286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033920" y="2709720"/>
                <a:ext cx="1108080" cy="728640"/>
                <a:chOff x="1033920" y="2709720"/>
                <a:chExt cx="1108080" cy="728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033920" y="2709720"/>
                  <a:ext cx="1108080" cy="728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ddddd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37880" y="2722320"/>
                  <a:ext cx="1095840" cy="297000"/>
                </a:xfrm>
                <a:prstGeom prst="roundRect">
                  <a:avLst>
                    <a:gd name="adj" fmla="val 3482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1051200" y="3089160"/>
                <a:ext cx="10638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909720" y="3372480"/>
              <a:ext cx="1285920" cy="179640"/>
            </a:xfrm>
            <a:prstGeom prst="ellipse">
              <a:avLst/>
            </a:prstGeom>
            <a:gradFill rotWithShape="0">
              <a:gsLst>
                <a:gs pos="0">
                  <a:srgbClr val="041d54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23960" y="27288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08280" y="2282760"/>
            <a:ext cx="360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一是认真落实会议制度：定期召开民主生活会；按规定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开总支委员会和核心组会，坚持重大事项民主决策和集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议决。同时，经常召开党政联席工作会议，很好地协调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党政的工作，增进了党政班子成员之间的团结、理解和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持，形成了党政合力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79920" y="4299120"/>
            <a:ext cx="36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二是严格落实了重大事项集体讨论分工负责的核心组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。及时发现问题，掌握情况，协调开展工作，充分发挥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后勤干部的主观能动性，增强了后勤干部的责任心和事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领导班子坚持每学期民主生活会制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党总支和各党支部在广大师生员工中树立起了廉洁高效、执政为民的良好形象。长期来，班子始终坚持贯彻民主集中制原则，坚持重大问题在党政联席会议讨论决定（处务会议制度），会议有议事规则，制度健全，每次都有会议记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领导班子成员以身作则，勤政廉政，工作兢兢业业，无私奉献。得到了从上到下教职工和学生的一致好评，也极大的激发带动了广大职工创业的积极性，促进了后勤各方面工作平稳顺利开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认真贯彻执行支部工作制度，加强对党员的教育与管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党员教育与管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展支部特色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真开展党员先进性教育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26920" y="263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826920" y="3716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292720" y="1700280"/>
            <a:ext cx="3147840" cy="23619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292720" y="1700280"/>
            <a:ext cx="3166560" cy="2448720"/>
            <a:chOff x="5292720" y="1700280"/>
            <a:chExt cx="3166560" cy="2448720"/>
          </a:xfrm>
        </p:grpSpPr>
        <p:sp>
          <p:nvSpPr>
            <p:cNvPr id="201" name=""/>
            <p:cNvSpPr/>
            <p:nvPr/>
          </p:nvSpPr>
          <p:spPr>
            <a:xfrm>
              <a:off x="5292720" y="1700280"/>
              <a:ext cx="3166560" cy="23839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120520" y="3858480"/>
              <a:ext cx="338400" cy="2905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加强党员教育与管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后勤队伍自身建设，提高全体职工的素质是我们面临的一项重要任务。后勤思想政治工作要围绕改革，转变认识，树立新观念，调动职工的社会主义劳动积极性和创造性。几年来，进行了“保持共产党员先进性教育”、“社会主义荣辱观”、“加强党的执政能力建设”等方面教育，通过教育和疏导，引导职工树立适应改革的新观念，树立“三服务、两育人”的宗旨意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展支部特色活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开展特色支部活动，活跃了组织生活，党员发挥了模范作用，增强了组织的凝聚力，各项工作也都取得了一定的成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27640" y="3645000"/>
            <a:ext cx="2590560" cy="2201040"/>
            <a:chOff x="6227640" y="3645000"/>
            <a:chExt cx="2590560" cy="2201040"/>
          </a:xfrm>
        </p:grpSpPr>
        <p:sp>
          <p:nvSpPr>
            <p:cNvPr id="210" name=""/>
            <p:cNvSpPr/>
            <p:nvPr/>
          </p:nvSpPr>
          <p:spPr>
            <a:xfrm>
              <a:off x="6227640" y="3645000"/>
              <a:ext cx="2590560" cy="21427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540280" y="5585040"/>
              <a:ext cx="276840" cy="26100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19640" y="3284640"/>
            <a:ext cx="2590200" cy="2201040"/>
            <a:chOff x="3419640" y="3284640"/>
            <a:chExt cx="2590200" cy="2201040"/>
          </a:xfrm>
        </p:grpSpPr>
        <p:sp>
          <p:nvSpPr>
            <p:cNvPr id="213" name=""/>
            <p:cNvSpPr/>
            <p:nvPr/>
          </p:nvSpPr>
          <p:spPr>
            <a:xfrm>
              <a:off x="3419640" y="3284640"/>
              <a:ext cx="2590200" cy="21427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732280" y="5224680"/>
              <a:ext cx="276840" cy="26100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3"/>
          <a:srcRect l="5221" t="0" r="0" b="0"/>
          <a:stretch/>
        </p:blipFill>
        <p:spPr>
          <a:xfrm>
            <a:off x="611280" y="2924280"/>
            <a:ext cx="2593800" cy="212868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611280" y="2924280"/>
            <a:ext cx="2590200" cy="2201040"/>
            <a:chOff x="611280" y="2924280"/>
            <a:chExt cx="2590200" cy="2201040"/>
          </a:xfrm>
        </p:grpSpPr>
        <p:sp>
          <p:nvSpPr>
            <p:cNvPr id="217" name=""/>
            <p:cNvSpPr/>
            <p:nvPr/>
          </p:nvSpPr>
          <p:spPr>
            <a:xfrm>
              <a:off x="611280" y="2924280"/>
              <a:ext cx="2590200" cy="21427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923920" y="4864320"/>
              <a:ext cx="276840" cy="26100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认真开展党员先进性教育活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学院党委的领导下，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份开始开展保持共产党员先进性教育活动以来，经过学习动员、分析评议和整改提高等阶段的工作，基本完成了保持共产党员先进性教育的各项任务，取得了教育活动的预期成效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，后勤服务中心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同志被学校评为北京市优秀共产党员和德育先进个人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被评为海淀区爱国卫生先进工作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教学为中心努力做好组织保障工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密围绕教学评建中心工作，做好思想发动和组织保障工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扎实开展“一围绕两服务”活动，进一步增强全员服务意识和自觉性，提高管理水平和服务质量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础工作扎实，思想工作落实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对分工会工作的领导，积极支持其开展工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、存在问题和不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顾三年来的工作，虽然在学校党委的领导下，在大家的共同努力下，后勤党建工作取得了一定成绩，但对照《基本标准》的要求，还有很大的差距。主要表现在以下几个方面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党组织领导成员思想理论水平和认识能力需要进一步提高，党组织的创造力、凝聚力、战斗力还须加强，敢于人先，勇于负责的精神还不够；党支部的战斗堡垒作用、党员的先锋模范作用还不够突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健全的工作机制还须进一步完善。工作应更加规范化，决策科学化。一个完整的、便于操作的比较顺畅的工作机制还没有形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党支部工作不够规范，对党员的教育和管理抓的时紧时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各项规章制度落实不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、特色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服务中心伙食科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房管科物业部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门诊部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084720" y="4365720"/>
            <a:ext cx="2052720" cy="15397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6084720" y="4365720"/>
            <a:ext cx="2016000" cy="1551960"/>
            <a:chOff x="6084720" y="4365720"/>
            <a:chExt cx="2016000" cy="1551960"/>
          </a:xfrm>
        </p:grpSpPr>
        <p:sp>
          <p:nvSpPr>
            <p:cNvPr id="233" name=""/>
            <p:cNvSpPr/>
            <p:nvPr/>
          </p:nvSpPr>
          <p:spPr>
            <a:xfrm>
              <a:off x="6084720" y="4365720"/>
              <a:ext cx="2016000" cy="15109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884360" y="5733720"/>
              <a:ext cx="21564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8027280" y="5805360"/>
            <a:ext cx="73080" cy="795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35280" y="4365720"/>
            <a:ext cx="2016000" cy="1551960"/>
            <a:chOff x="3635280" y="4365720"/>
            <a:chExt cx="2016000" cy="1551960"/>
          </a:xfrm>
        </p:grpSpPr>
        <p:sp>
          <p:nvSpPr>
            <p:cNvPr id="237" name=""/>
            <p:cNvSpPr/>
            <p:nvPr/>
          </p:nvSpPr>
          <p:spPr>
            <a:xfrm>
              <a:off x="3635280" y="4365720"/>
              <a:ext cx="2016000" cy="15109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34920" y="5733720"/>
              <a:ext cx="21564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42920" y="4365720"/>
            <a:ext cx="2016000" cy="1551960"/>
            <a:chOff x="1042920" y="4365720"/>
            <a:chExt cx="2016000" cy="1551960"/>
          </a:xfrm>
        </p:grpSpPr>
        <p:sp>
          <p:nvSpPr>
            <p:cNvPr id="240" name=""/>
            <p:cNvSpPr/>
            <p:nvPr/>
          </p:nvSpPr>
          <p:spPr>
            <a:xfrm>
              <a:off x="1042920" y="4365720"/>
              <a:ext cx="2016000" cy="151092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842560" y="5733720"/>
              <a:ext cx="215640" cy="1839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五、改进措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加强对党建工作的组织领导，落实党建工作责任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强党建制度建设与日常规范管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继续深入开展“一围绕两服务”活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充分发挥党组织的政治核心作用和党员先锋模范作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基本情况介绍基本情况介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党员及组织结构设置情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党总支领导班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0" t="15996" r="16338" b="0"/>
          <a:stretch/>
        </p:blipFill>
        <p:spPr>
          <a:xfrm>
            <a:off x="4859280" y="3860640"/>
            <a:ext cx="27370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859280" y="3860640"/>
            <a:ext cx="2736720" cy="2088720"/>
            <a:chOff x="4859280" y="3860640"/>
            <a:chExt cx="2736720" cy="2088720"/>
          </a:xfrm>
        </p:grpSpPr>
        <p:sp>
          <p:nvSpPr>
            <p:cNvPr id="88" name=""/>
            <p:cNvSpPr/>
            <p:nvPr/>
          </p:nvSpPr>
          <p:spPr>
            <a:xfrm>
              <a:off x="4859280" y="3860640"/>
              <a:ext cx="2736720" cy="2033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7302600" y="5701680"/>
              <a:ext cx="292680" cy="24768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rcRect l="0" t="0" r="9735" b="0"/>
          <a:stretch/>
        </p:blipFill>
        <p:spPr>
          <a:xfrm>
            <a:off x="1763640" y="3860640"/>
            <a:ext cx="2737080" cy="20163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763640" y="3860640"/>
            <a:ext cx="2736720" cy="2088720"/>
            <a:chOff x="1763640" y="3860640"/>
            <a:chExt cx="2736720" cy="2088720"/>
          </a:xfrm>
        </p:grpSpPr>
        <p:sp>
          <p:nvSpPr>
            <p:cNvPr id="92" name=""/>
            <p:cNvSpPr/>
            <p:nvPr/>
          </p:nvSpPr>
          <p:spPr>
            <a:xfrm>
              <a:off x="1763640" y="3860640"/>
              <a:ext cx="2736720" cy="203328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206960" y="5701680"/>
              <a:ext cx="292680" cy="24768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258920" y="436572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f2f2f2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f2f2f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898920" y="443628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rcRect l="0" t="9675" r="0" b="1447"/>
          <a:stretch/>
        </p:blipFill>
        <p:spPr>
          <a:xfrm>
            <a:off x="3635280" y="765000"/>
            <a:ext cx="4969080" cy="331164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3635280" y="765000"/>
            <a:ext cx="4968360" cy="3383640"/>
            <a:chOff x="3635280" y="765000"/>
            <a:chExt cx="4968360" cy="3383640"/>
          </a:xfrm>
        </p:grpSpPr>
        <p:sp>
          <p:nvSpPr>
            <p:cNvPr id="251" name=""/>
            <p:cNvSpPr/>
            <p:nvPr/>
          </p:nvSpPr>
          <p:spPr>
            <a:xfrm>
              <a:off x="3635280" y="765000"/>
              <a:ext cx="4968360" cy="32940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8072280" y="3747240"/>
              <a:ext cx="531360" cy="40140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党员及组织结构设置情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632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勤服务中心党总支目前共有党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，党员占后勤在编职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）总数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.9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三年来后勤服务中心党总支随着学院后勤工作的不断改进，后勤服务中心以建立了以党总支为中心，努力向一名党员一面旗帜的目标奋进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3990960" cy="266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69280" y="37368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黑体"/>
              </a:rPr>
              <a:t>41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4800" y="51577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黑体"/>
              </a:rPr>
              <a:t>后勤党总支党员比例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631044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党总支领导班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3961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目前后勤党总支班子从年龄结构、职务结构，专业知识结构等方面都基本比较合理的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总支委员平均年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全部大学本科以上学历，专业上分布有：法律、国际经济、建筑、医学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总支委员会的组成与分工。总支书记张文斌，负责后勤机关党员的管理；总支部副书记孙鹏负责行政科，物业部的党员管理；组织委员张茂林，负责门诊部门的党员管理；宣传委员廖培平负责房管科的党员管理；统战委员吕长久负责交通科党员的管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48320" y="2060640"/>
            <a:ext cx="3955680" cy="2304720"/>
            <a:chOff x="4648320" y="2060640"/>
            <a:chExt cx="3955680" cy="2304720"/>
          </a:xfrm>
        </p:grpSpPr>
        <p:cxnSp>
          <p:nvCxnSpPr>
            <p:cNvPr id="108" name="_s27666"/>
            <p:cNvCxnSpPr>
              <a:stCxn id="109" idx="3"/>
              <a:endCxn id="110" idx="2"/>
            </p:cNvCxnSpPr>
            <p:nvPr/>
          </p:nvCxnSpPr>
          <p:spPr>
            <a:xfrm flipV="1">
              <a:off x="6428160" y="2636640"/>
              <a:ext cx="198360" cy="5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27661"/>
            <p:cNvCxnSpPr>
              <a:stCxn id="112" idx="0"/>
              <a:endCxn id="110" idx="2"/>
            </p:cNvCxnSpPr>
            <p:nvPr/>
          </p:nvCxnSpPr>
          <p:spPr>
            <a:xfrm flipV="1" rot="16200000">
              <a:off x="6742080" y="2519640"/>
              <a:ext cx="1152720" cy="1385280"/>
            </a:xfrm>
            <a:prstGeom prst="bentConnector3">
              <a:avLst>
                <a:gd name="adj1" fmla="val 4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7660"/>
            <p:cNvCxnSpPr>
              <a:stCxn id="114" idx="0"/>
              <a:endCxn id="110" idx="2"/>
            </p:cNvCxnSpPr>
            <p:nvPr/>
          </p:nvCxnSpPr>
          <p:spPr>
            <a:xfrm flipV="1">
              <a:off x="6618960" y="2626200"/>
              <a:ext cx="1800" cy="115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7659"/>
            <p:cNvCxnSpPr>
              <a:stCxn id="116" idx="0"/>
              <a:endCxn id="110" idx="2"/>
            </p:cNvCxnSpPr>
            <p:nvPr/>
          </p:nvCxnSpPr>
          <p:spPr>
            <a:xfrm flipH="1" flipV="1" rot="5400000">
              <a:off x="5357520" y="2520000"/>
              <a:ext cx="1152720" cy="1385280"/>
            </a:xfrm>
            <a:prstGeom prst="bentConnector3">
              <a:avLst>
                <a:gd name="adj1" fmla="val 4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27655"/>
            <p:cNvSpPr/>
            <p:nvPr/>
          </p:nvSpPr>
          <p:spPr>
            <a:xfrm>
              <a:off x="6032880" y="206064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  <a:ea typeface="黑体"/>
                </a:rPr>
                <a:t>总支书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  <a:ea typeface="黑体"/>
                </a:rPr>
                <a:t>张文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7656"/>
            <p:cNvSpPr/>
            <p:nvPr/>
          </p:nvSpPr>
          <p:spPr>
            <a:xfrm>
              <a:off x="464832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  <a:ea typeface="黑体"/>
                </a:rPr>
                <a:t>组织委员张茂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7657"/>
            <p:cNvSpPr/>
            <p:nvPr/>
          </p:nvSpPr>
          <p:spPr>
            <a:xfrm>
              <a:off x="603288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  <a:ea typeface="黑体"/>
                </a:rPr>
                <a:t>宣传委员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廖培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7658"/>
            <p:cNvSpPr/>
            <p:nvPr/>
          </p:nvSpPr>
          <p:spPr>
            <a:xfrm>
              <a:off x="7417440" y="3789360"/>
              <a:ext cx="118656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统战委员吕长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7665"/>
            <p:cNvSpPr/>
            <p:nvPr/>
          </p:nvSpPr>
          <p:spPr>
            <a:xfrm>
              <a:off x="5242680" y="2925000"/>
              <a:ext cx="11854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Arial"/>
                  <a:ea typeface="黑体"/>
                </a:rPr>
                <a:t>副书记孙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87840" y="149076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后勤党总支构成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取得的主要成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后勤党总支，在学院党委的领导下，在以“三个代表”重要思想的指导下，认真贯彻党的十六大、十七大文件精神，全面落实以人为本的科学发展观，紧紧围绕教育教学这个中心工作，特别是在学院本科教学水平评建工作中，带领全体后勤干部职工苦干实干，奋力拼搏，在学院后勤服务保障工作中充分发挥了党员干部的先锋模范作用，取得了较突出成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3933720"/>
            <a:ext cx="3744720" cy="19321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27640" y="5661000"/>
            <a:ext cx="217440" cy="25704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加强领导班子自身建设，不断提高班子整体素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党总支几年来，始终把加强领导班子建设放在各项工作之首。把“增进团结，提高水平，做好表率”作为班子的工作标准。做到大事讲原则，小事讲风格，求同存异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59280" y="2708280"/>
            <a:ext cx="5148000" cy="630000"/>
            <a:chOff x="3059280" y="2708280"/>
            <a:chExt cx="5148000" cy="630000"/>
          </a:xfrm>
        </p:grpSpPr>
        <p:sp>
          <p:nvSpPr>
            <p:cNvPr id="127" name=""/>
            <p:cNvSpPr/>
            <p:nvPr/>
          </p:nvSpPr>
          <p:spPr>
            <a:xfrm flipV="1">
              <a:off x="3059280" y="3156840"/>
              <a:ext cx="5148000" cy="18108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0840" y="2708280"/>
              <a:ext cx="453960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坚持中心组理论学习制度，落实学习计划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59280" y="3770280"/>
            <a:ext cx="5148000" cy="630360"/>
            <a:chOff x="3059280" y="3770280"/>
            <a:chExt cx="5148000" cy="630360"/>
          </a:xfrm>
        </p:grpSpPr>
        <p:sp>
          <p:nvSpPr>
            <p:cNvPr id="130" name=""/>
            <p:cNvSpPr/>
            <p:nvPr/>
          </p:nvSpPr>
          <p:spPr>
            <a:xfrm flipV="1">
              <a:off x="3059280" y="421920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90840" y="3770280"/>
              <a:ext cx="453924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贯彻党风廉政建设责任制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59280" y="4778280"/>
            <a:ext cx="5148000" cy="630360"/>
            <a:chOff x="3059280" y="4778280"/>
            <a:chExt cx="5148000" cy="630360"/>
          </a:xfrm>
        </p:grpSpPr>
        <p:sp>
          <p:nvSpPr>
            <p:cNvPr id="133" name=""/>
            <p:cNvSpPr/>
            <p:nvPr/>
          </p:nvSpPr>
          <p:spPr>
            <a:xfrm flipV="1">
              <a:off x="3059280" y="522720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90840" y="4778280"/>
              <a:ext cx="453924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建立和坚持党总支各项工作制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59280" y="5769000"/>
            <a:ext cx="5148000" cy="630360"/>
            <a:chOff x="3059280" y="5769000"/>
            <a:chExt cx="5148000" cy="630360"/>
          </a:xfrm>
        </p:grpSpPr>
        <p:sp>
          <p:nvSpPr>
            <p:cNvPr id="136" name=""/>
            <p:cNvSpPr/>
            <p:nvPr/>
          </p:nvSpPr>
          <p:spPr>
            <a:xfrm flipV="1">
              <a:off x="3059280" y="6217920"/>
              <a:ext cx="5148000" cy="181440"/>
            </a:xfrm>
            <a:prstGeom prst="ellipse">
              <a:avLst/>
            </a:prstGeom>
            <a:gradFill rotWithShape="0">
              <a:gsLst>
                <a:gs pos="0">
                  <a:srgbClr val="041d5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90840" y="5769000"/>
              <a:ext cx="453924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黑体"/>
                </a:rPr>
                <a:t>领导班子坚持民主生活会制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4360" y="3068640"/>
            <a:ext cx="2086920" cy="2080800"/>
            <a:chOff x="684360" y="3068640"/>
            <a:chExt cx="2086920" cy="2080800"/>
          </a:xfrm>
        </p:grpSpPr>
        <p:sp>
          <p:nvSpPr>
            <p:cNvPr id="139" name=""/>
            <p:cNvSpPr/>
            <p:nvPr/>
          </p:nvSpPr>
          <p:spPr>
            <a:xfrm>
              <a:off x="684360" y="3068640"/>
              <a:ext cx="2086920" cy="2080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03440" y="3090960"/>
              <a:ext cx="2045160" cy="2022120"/>
              <a:chOff x="703440" y="3090960"/>
              <a:chExt cx="2045160" cy="2022120"/>
            </a:xfrm>
          </p:grpSpPr>
          <p:sp>
            <p:nvSpPr>
              <p:cNvPr id="141" name=""/>
              <p:cNvSpPr/>
              <p:nvPr/>
            </p:nvSpPr>
            <p:spPr>
              <a:xfrm>
                <a:off x="703440" y="3090960"/>
                <a:ext cx="2045160" cy="202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05b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940320" y="3118680"/>
                <a:ext cx="1567800" cy="757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1212120" y="3588480"/>
                <a:ext cx="1011600" cy="202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05b85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 flipV="1">
            <a:off x="282600" y="4922280"/>
            <a:ext cx="2805120" cy="3920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后勤党总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63640" y="5815080"/>
            <a:ext cx="863640" cy="12528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771560" y="5084640"/>
            <a:ext cx="816120" cy="814680"/>
            <a:chOff x="1771560" y="5084640"/>
            <a:chExt cx="816120" cy="814680"/>
          </a:xfrm>
        </p:grpSpPr>
        <p:sp>
          <p:nvSpPr>
            <p:cNvPr id="148" name=""/>
            <p:cNvSpPr/>
            <p:nvPr/>
          </p:nvSpPr>
          <p:spPr>
            <a:xfrm>
              <a:off x="1771560" y="5084640"/>
              <a:ext cx="816120" cy="814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778760" y="5093280"/>
              <a:ext cx="799920" cy="792000"/>
              <a:chOff x="1778760" y="5093280"/>
              <a:chExt cx="799920" cy="792000"/>
            </a:xfrm>
          </p:grpSpPr>
          <p:sp>
            <p:nvSpPr>
              <p:cNvPr id="150" name=""/>
              <p:cNvSpPr/>
              <p:nvPr/>
            </p:nvSpPr>
            <p:spPr>
              <a:xfrm>
                <a:off x="1778760" y="5093280"/>
                <a:ext cx="799920" cy="792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1871280" y="5104080"/>
                <a:ext cx="613080" cy="296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1977480" y="5288400"/>
                <a:ext cx="396000" cy="79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 flipV="1">
            <a:off x="324000" y="6165720"/>
            <a:ext cx="1008000" cy="14760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3360" y="5316480"/>
            <a:ext cx="952560" cy="949320"/>
            <a:chOff x="333360" y="5316480"/>
            <a:chExt cx="952560" cy="949320"/>
          </a:xfrm>
        </p:grpSpPr>
        <p:sp>
          <p:nvSpPr>
            <p:cNvPr id="155" name=""/>
            <p:cNvSpPr/>
            <p:nvPr/>
          </p:nvSpPr>
          <p:spPr>
            <a:xfrm>
              <a:off x="333360" y="5316480"/>
              <a:ext cx="952560" cy="94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42000" y="5326560"/>
              <a:ext cx="933480" cy="922680"/>
              <a:chOff x="342000" y="5326560"/>
              <a:chExt cx="933480" cy="922680"/>
            </a:xfrm>
          </p:grpSpPr>
          <p:sp>
            <p:nvSpPr>
              <p:cNvPr id="157" name=""/>
              <p:cNvSpPr/>
              <p:nvPr/>
            </p:nvSpPr>
            <p:spPr>
              <a:xfrm>
                <a:off x="342000" y="5326560"/>
                <a:ext cx="933480" cy="922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450000" y="5339160"/>
                <a:ext cx="715320" cy="345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6200000">
                <a:off x="574200" y="5553360"/>
                <a:ext cx="461520" cy="923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>
                      <a:alpha val="66274"/>
                    </a:srgbClr>
                  </a:gs>
                  <a:gs pos="100000">
                    <a:srgbClr val="bfbfbf">
                      <a:alpha val="38039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2212920" y="4532400"/>
            <a:ext cx="924120" cy="920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/>
          <p:nvPr/>
        </p:nvCxnSpPr>
        <p:spPr>
          <a:xfrm flipV="1">
            <a:off x="2555640" y="2921760"/>
            <a:ext cx="872280" cy="151524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 flipV="1">
            <a:off x="2555640" y="3983760"/>
            <a:ext cx="872280" cy="45324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163" name=""/>
          <p:cNvCxnSpPr/>
          <p:nvPr/>
        </p:nvCxnSpPr>
        <p:spPr>
          <a:xfrm>
            <a:off x="2555640" y="4437000"/>
            <a:ext cx="872280" cy="55656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  <p:cxnSp>
        <p:nvCxnSpPr>
          <p:cNvPr id="164" name=""/>
          <p:cNvCxnSpPr/>
          <p:nvPr/>
        </p:nvCxnSpPr>
        <p:spPr>
          <a:xfrm>
            <a:off x="2555640" y="4436640"/>
            <a:ext cx="872280" cy="1546920"/>
          </a:xfrm>
          <a:prstGeom prst="bentConnector3">
            <a:avLst>
              <a:gd name="adj1" fmla="val 49876"/>
            </a:avLst>
          </a:prstGeom>
          <a:ln w="19080">
            <a:solidFill>
              <a:srgbClr val="99cc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2 0.01297 L -1.38889E-006 0.01297 E">
                                      <p:cBhvr>
                                        <p:cTn id="2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坚持中心组理论学习制度，落实学习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几年来，党总支十分重视班子自身的思想建设和作风建设，注重领导班子的理论学习，坚持并完善中心组学习制度。能认真贯彻执行党组织的路线、方针、政策，及时传达上级党委的有关文件和会议精神，努力用科学的理论武装头脑、指导实践、推动工作，使领导班子成为政治坚定、团结和谐、勤政务实、开拓创新、清正廉洁的坚强领导集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党的执政能力建设，开展了认真的学习讨论研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科学发展观，按照构建和谐校园的要求，制定了学院后勤发展规划以及后勤队伍建设规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贯彻党风廉政建设责任制，加强监督检查力度，强化领导干部廉洁自律意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勤服务中心肩负着学院基建项目投资、基础设施新建及改造、交通运输、饮食医疗、校园绿化美化，以及基础设施运行维修等为教学一线服务的方方面面，涉及面广，管理使用资金多。为强化管理，规范管理，我们始终将党风廉政建设和制度化建设放在首位，认真落实党风廉政建设责任制，分级管理、职责明确、责任到人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keke</cp:lastModifiedBy>
  <dcterms:modified xsi:type="dcterms:W3CDTF">2015-07-11T15:08:23Z</dcterms:modified>
  <cp:revision>37</cp:revision>
  <dc:subject/>
  <dc:title>上海诺睿网络信息科技有限公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