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221-6217-431A-970B-D0833F34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5AE-228B-43D5-B9DE-CC02764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73E-50A0-436A-B6EB-E3E5F13A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719-6188-47FA-B6F8-3E8F6F4C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73D-8ED0-4AA7-BF5B-F0C82E97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638-AF4A-438E-89D7-9B40FB8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0522-14F0-4CFE-A9B0-51A179F1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4FB-7D75-45FF-8FBB-C695C221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926-54DE-42F6-926A-AB0BC0B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E75C-D5C0-4EAB-B58E-5B937082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D0A-6A5E-4C28-B75B-2BB2AF4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31B-666C-4562-A6B1-D948DCA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21D5-AF90-4452-8409-45B7B00C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E2D-7820-4C1F-83D6-A2604FAF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BFDA-2029-4663-8450-756DA81B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F82-AD3A-4C8F-A339-CF35F4E5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176B-4CEC-4E35-88BC-64D53C1C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A1C-5281-494A-B36D-D679EFF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794-C2CA-4A57-86FB-586EBDB3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BB2-0134-44CD-AE73-711A138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D90-9628-405D-9FB6-4B22595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9DC-4A06-45CB-A3C9-63C864A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B10-70BF-4E64-8FDA-2801734F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643-6A18-403F-BAE0-9B187EBF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976C-A6B6-46C8-A922-E82FA37AD1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2160"/>
            <a:ext cx="8353440" cy="590256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648-9CF7-480D-A8C3-1A13C51E87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5797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060720" y="-10476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550880" y="-303120"/>
            <a:ext cx="3017880" cy="324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5018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63440" y="29462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18960" y="1128600"/>
            <a:ext cx="49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动态墨莲一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5661-3B73-4901-99F8-16A90C498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579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4760"/>
            <a:ext cx="3017880" cy="324972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8" descr=""/>
          <p:cNvPicPr/>
          <p:nvPr/>
        </p:nvPicPr>
        <p:blipFill>
          <a:blip r:embed="rId5"/>
          <a:stretch/>
        </p:blipFill>
        <p:spPr>
          <a:xfrm>
            <a:off x="-84240" y="762120"/>
            <a:ext cx="32418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53960" y="52340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75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An</dc:creator>
  <dc:description/>
  <dc:language>en-US</dc:language>
  <cp:lastModifiedBy/>
  <dcterms:modified xsi:type="dcterms:W3CDTF">2015-07-11T03:57:34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