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F4E-0B7D-4848-A27C-C90D69ED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DE1-46BD-4F2E-923D-D5AE740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F56-C3B3-425F-AF84-CFC32FF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D35-FB93-44AF-979F-94DACFF6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D093-313F-40F9-B231-8772620A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D381-4B8C-4880-B7D0-1CB30776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1EED-3687-493B-8877-7FC491C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81E6-51BF-4C0A-BC4D-8E5E170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413-F3E8-4F4B-A5EF-38613E9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0F09-C407-4383-99B2-2A275CC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81F6-58EF-4F7A-8209-EB0377F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D77-1CB7-419F-8973-DD5529D4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33C9-E805-40DF-AE64-AE8B653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4F6B-2924-497E-A9EA-2D36E52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218-3B1E-4135-8187-B641DE7B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2BD2-CBF4-4C31-AD3D-C1D3E3E3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BCCE-C710-45B9-93E6-719C0AE6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752-4C09-4A09-ADEF-5C12FBB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5D5-1933-4CC9-98BE-801E897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4A5-C144-407F-A167-398F8B22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F4B-55FC-4745-B61A-3B169213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3AB-0F61-49C5-B646-52BDB7E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A31-6054-42EF-8244-2778542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F92-A9B6-4B41-8CCE-5D541B8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B72-A0F7-499B-9BF2-95654EBA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036-85AC-4068-ABD5-5989AFC6F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57233999.taobao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大提琴音乐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very_violiny_qx" descr=""/>
          <p:cNvPicPr/>
          <p:nvPr/>
        </p:nvPicPr>
        <p:blipFill>
          <a:blip r:embed="rId4"/>
          <a:stretch/>
        </p:blipFill>
        <p:spPr>
          <a:xfrm>
            <a:off x="2971800" y="16002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3" name="very_violiny_sld" descr=""/>
          <p:cNvPicPr/>
          <p:nvPr/>
        </p:nvPicPr>
        <p:blipFill>
          <a:blip r:embed="rId5"/>
          <a:stretch/>
        </p:blipFill>
        <p:spPr>
          <a:xfrm>
            <a:off x="5867280" y="16002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4" name="very_violiny_prt" descr=""/>
          <p:cNvPicPr/>
          <p:nvPr/>
        </p:nvPicPr>
        <p:blipFill>
          <a:blip r:embed="rId6"/>
          <a:stretch/>
        </p:blipFill>
        <p:spPr>
          <a:xfrm>
            <a:off x="2971800" y="3733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95" name="very_violiny_trs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1692360" y="486900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青苹果出品   必属精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http://www.docin.com/cuiyul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Arial"/>
                <a:ea typeface="宋体"/>
              </a:rPr>
              <a:t>淘宝店：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shop57233999.taoba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98484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8:58Z</dcterms:created>
  <dc:creator>eclipse</dc:creator>
  <dc:description/>
  <dc:language>en-US</dc:language>
  <cp:lastModifiedBy>微软用户</cp:lastModifiedBy>
  <dcterms:modified xsi:type="dcterms:W3CDTF">2015-07-05T07:00:04Z</dcterms:modified>
  <cp:revision>5</cp:revision>
  <dc:subject/>
  <dc:title>Liquid 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