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E635-2CC9-45CF-AB7F-94E668251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90CB-E7B0-44A0-8D7C-D33C770D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6AB5-F5E2-4F18-A798-3015D2121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78A0-1D01-48E4-A314-29C07E2A5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EC4D-475B-451E-BE4D-482FE3CD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3193-DB44-4DC3-B857-A043D6E4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CB2B-EDF3-43E9-BD60-48E198E3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55E9-6118-49FA-82FE-711B9725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DDE6-1730-4A75-B760-C0D5AD32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D6A7-A34A-487C-AFDF-9B41BBB7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7AB2-6EDD-4104-AC39-4B8273A1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9CBB-6F71-4082-9F9B-98A84F51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3F7D-9E69-47EE-813C-35796780895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286080" y="4786200"/>
            <a:ext cx="52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643200" y="551016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可爱卡通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14400" y="1773360"/>
            <a:ext cx="288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动物便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492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5A51-0FB1-40BA-A4AA-D102258912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7-11T14:40:18Z</dcterms:modified>
  <cp:revision>7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