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62F-80F8-4D2E-8063-917DE88B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B41-0620-4167-B2A1-5C5D9D18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937-3940-482D-9B67-94BD773F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705-C7FC-48D4-A93A-FA0D8E9C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821-79BD-48E9-93CE-74E3DE9A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3F2-B03B-48A6-A85D-B79BFA0E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699-C189-486B-84A2-179DD1A9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5F8-9B7A-4D91-9C92-CA7C74EF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129-FAD4-47CB-B2FE-6F4A9175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869-FEDF-452C-95D9-AE3BA9FF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D71-9504-47F2-9C94-6DBED69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E9F-10A0-43D3-BD57-7641C875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A3A6-DF4C-49A5-9674-FF637E1AF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1273320" y="12193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8"/>
          <p:cNvPicPr/>
          <p:nvPr/>
        </p:nvPicPr>
        <p:blipFill>
          <a:blip r:embed="rId17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方正姚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1722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80" y="601992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124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7520" y="1981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钓鱼的启示课件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钓鱼的人"/>
          <p:cNvPicPr/>
          <p:nvPr/>
        </p:nvPicPr>
        <p:blipFill>
          <a:blip r:embed="rId2"/>
          <a:stretch/>
        </p:blipFill>
        <p:spPr>
          <a:xfrm>
            <a:off x="609480" y="533520"/>
            <a:ext cx="7925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隶书"/>
              </a:rPr>
              <a:t>美 味 鲈 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2004391413924438"/>
          <p:cNvPicPr/>
          <p:nvPr/>
        </p:nvPicPr>
        <p:blipFill>
          <a:blip r:embed="rId2"/>
          <a:stretch/>
        </p:blipFill>
        <p:spPr>
          <a:xfrm>
            <a:off x="1066680" y="15238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麒麟鲈鱼"/>
          <p:cNvPicPr/>
          <p:nvPr/>
        </p:nvPicPr>
        <p:blipFill>
          <a:blip r:embed="rId3"/>
          <a:stretch/>
        </p:blipFill>
        <p:spPr>
          <a:xfrm>
            <a:off x="1066680" y="3962520"/>
            <a:ext cx="3429000" cy="221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甜辣鲈鱼"/>
          <p:cNvPicPr/>
          <p:nvPr/>
        </p:nvPicPr>
        <p:blipFill>
          <a:blip r:embed="rId4"/>
          <a:stretch/>
        </p:blipFill>
        <p:spPr>
          <a:xfrm>
            <a:off x="4648320" y="3962520"/>
            <a:ext cx="342900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qzhluyu"/>
          <p:cNvPicPr/>
          <p:nvPr/>
        </p:nvPicPr>
        <p:blipFill>
          <a:blip r:embed="rId5"/>
          <a:stretch/>
        </p:blipFill>
        <p:spPr>
          <a:xfrm>
            <a:off x="4648320" y="1523880"/>
            <a:ext cx="3429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  <a:ea typeface="隶书"/>
              </a:rPr>
              <a:t>分析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父亲和“我”钓到一条怎样的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一条“我”以前从未见到过的大鲈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父亲为什么让“我”把鱼放回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因为距离开放捕捞鱼的时间还有两个小时，父亲不原意做违反规定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09588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请你朗读下面一段父亲告诫我的话，说说你对这句话的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道德只是个简单的是与非的问题，但是实践起来却很难。要是人们从小受到像把钓到了大鲈鱼放回湖中这样严格的教育的话，就会获得道德实践的勇气和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隶书"/>
              </a:rPr>
              <a:t>比较下面的两句话，说说那句更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我把鱼钩从大鲈鱼的嘴唇上取下来，把它放回到湖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0" y="22096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我慢慢地把鱼钩从大鲈鱼的嘴唇上取下来，依依不舍地把它放回到湖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219320" y="45720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  <a:ea typeface="隶书"/>
              </a:rPr>
              <a:t>B</a:t>
            </a:r>
            <a:r>
              <a:rPr b="0" lang="zh-CN" sz="3600" spc="-1" strike="noStrike">
                <a:solidFill>
                  <a:srgbClr val="00ffff"/>
                </a:solidFill>
                <a:latin typeface="Arial"/>
                <a:ea typeface="隶书"/>
              </a:rPr>
              <a:t>更好一些。因为它形象地刻画出“我”沮丧的心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1722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EA9-1832-4E8A-A68C-94603D5890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隶书"/>
              </a:rPr>
              <a:t>但是，在人生的旅途中，我却不止一次地遇到了与那条鲈鱼相似的诱惑人的“鱼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隶书"/>
              </a:rPr>
              <a:t>这个“鱼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指人生中名利、财富等诱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这篇课文给了你什么样的</a:t>
            </a:r>
            <a:r>
              <a:rPr b="0" lang="zh-CN" sz="6600" spc="-1" strike="noStrike">
                <a:solidFill>
                  <a:srgbClr val="ffff66"/>
                </a:solidFill>
                <a:latin typeface="Arial"/>
                <a:ea typeface="隶书"/>
              </a:rPr>
              <a:t>启发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u=2454343471,2736686862&amp;gp=2"/>
          <p:cNvPicPr/>
          <p:nvPr/>
        </p:nvPicPr>
        <p:blipFill>
          <a:blip r:embed="rId2"/>
          <a:stretch/>
        </p:blipFill>
        <p:spPr>
          <a:xfrm>
            <a:off x="4648320" y="3733920"/>
            <a:ext cx="2666880" cy="1690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3244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4267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13:22:48Z</dcterms:created>
  <dc:creator>An</dc:creator>
  <dc:description/>
  <dc:language>en-US</dc:language>
  <cp:lastModifiedBy/>
  <dcterms:modified xsi:type="dcterms:W3CDTF">2015-07-11T03:51:10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