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3E5-17BC-43FF-BFF3-15364976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7E9E-655E-4E33-89F3-7B94F8AB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0FA-4400-4808-A862-2786D944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F2F-EB15-4D70-9443-8825BE2D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C92-6055-4F40-BB91-80F506A3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91E2-EE18-48E9-AEB2-CBABDE0B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C91-ED74-4AB9-9CA2-CE9A96D5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8EDD-256D-4174-A22C-5BE4FD76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ABC-B0D1-4BFF-B2A0-0E4E69DD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AD43-480B-45BB-A2E8-F9B23797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2D6-95A7-496B-9DDB-EA13ABE3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57B-5CDF-4A98-905E-19054D9A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527B-5F75-4831-B764-0B0E437FCB2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866B-0C2B-40FC-B110-A11F19791D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2" descr="C:\Documents and Settings\Administrator\桌面\2013\中国风 2013 新年 年会\图底.jpg"/>
          <p:cNvPicPr/>
          <p:nvPr/>
        </p:nvPicPr>
        <p:blipFill>
          <a:blip r:embed="rId1"/>
          <a:stretch/>
        </p:blipFill>
        <p:spPr>
          <a:xfrm>
            <a:off x="6480" y="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矩形 2"/>
          <p:cNvSpPr/>
          <p:nvPr/>
        </p:nvSpPr>
        <p:spPr>
          <a:xfrm>
            <a:off x="2872440" y="2060640"/>
            <a:ext cx="383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74806"/>
                </a:solidFill>
                <a:latin typeface="华文隶书"/>
                <a:ea typeface="华文隶书"/>
              </a:rPr>
              <a:t>淡雅古典</a:t>
            </a:r>
            <a:r>
              <a:rPr b="0" lang="zh-CN" sz="4000" spc="-1" strike="noStrike">
                <a:solidFill>
                  <a:srgbClr val="974806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974806"/>
                </a:solidFill>
                <a:latin typeface="华文隶书"/>
                <a:ea typeface="华文隶书"/>
              </a:rPr>
              <a:t>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720" y="6308640"/>
            <a:ext cx="561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背景素材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182-C51A-4C50-A57B-DC8405771D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09:03:00Z</dcterms:created>
  <dc:creator>第一PPT模板网-WWW.1PPT.COM</dc:creator>
  <dc:description/>
  <dc:language>en-US</dc:language>
  <cp:lastModifiedBy>User</cp:lastModifiedBy>
  <dcterms:modified xsi:type="dcterms:W3CDTF">2015-07-03T09:29:47Z</dcterms:modified>
  <cp:revision>2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