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6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11.gif" ContentType="image/gif"/>
  <Override PartName="/ppt/media/image12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69C-D377-412E-990B-6003EAC9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07C-ACBF-4FCD-9D79-DACD76AB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F21-6ECE-43E8-A582-8007CA50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56C-4014-4C22-B7D6-8B03D93A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4B6-9F15-42F3-BF09-F3B265D2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1AB-8417-46C9-90DC-150F5CF0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F9F-233E-40EA-8075-15C6DB88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017-74E2-4147-95D1-BC6F9313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E1B-F1DD-437E-919E-D826CA1B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A2D-08D0-4FCD-A402-BC58137B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977-5186-4B00-AE6C-9881D201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1B0-BF19-490B-859E-7B692B05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BB28-4BA8-43D1-9AEA-EB85FEAFD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549360"/>
            <a:ext cx="91440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39240" y="981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反比例函数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476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堂练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981000"/>
            <a:ext cx="82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蓄水池的排水管每时排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6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将满池水全部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蓄水池的容积是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63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蓄水池的容积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8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×6=48(m</a:t>
            </a:r>
            <a:r>
              <a:rPr b="1" lang="en-US" sz="2800" spc="-1" strike="noStrike" baseline="30000">
                <a:solidFill>
                  <a:srgbClr val="3333cc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327492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增加排水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每时的排水量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(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将满池水排空所需的时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(h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如何变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43498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答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此时所需时间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(h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将减少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2720" y="507060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4360" y="5516640"/>
            <a:ext cx="6624360" cy="1370520"/>
            <a:chOff x="684360" y="5516640"/>
            <a:chExt cx="6624360" cy="1370520"/>
          </a:xfrm>
        </p:grpSpPr>
        <p:sp>
          <p:nvSpPr>
            <p:cNvPr id="136" name=""/>
            <p:cNvSpPr/>
            <p:nvPr/>
          </p:nvSpPr>
          <p:spPr>
            <a:xfrm>
              <a:off x="684360" y="5717880"/>
              <a:ext cx="6624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解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:t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与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Q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之间的函数关系式为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364000" y="5516640"/>
              <a:ext cx="929880" cy="92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476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堂练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81000"/>
            <a:ext cx="82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蓄水池的排水管每时排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6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将满池水全部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准备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将满池水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每时的排水量至少为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9242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=5h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,Q=48/5=9.6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所以每时的排水量至少为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9.6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78936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排水管的最大排水量为每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最少多长时间可将满池水全部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472428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Q=12(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,t=48/12=4(h)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所以最少需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4h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可将满池水全部排空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5589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函数图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图象请对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出直观解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和同伴交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2920" y="2576520"/>
            <a:ext cx="2879640" cy="1644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42920" y="4456080"/>
            <a:ext cx="3745080" cy="1133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042920" y="5818320"/>
            <a:ext cx="3384720" cy="5634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06360" y="865080"/>
            <a:ext cx="8837640" cy="4723920"/>
            <a:chOff x="306360" y="865080"/>
            <a:chExt cx="8837640" cy="472392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306360" y="865080"/>
              <a:ext cx="88376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464080" y="4365360"/>
              <a:ext cx="309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832440" y="2709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08440" y="3070080"/>
              <a:ext cx="1079640" cy="1150920"/>
            </a:xfrm>
            <a:custGeom>
              <a:avLst/>
              <a:gdLst/>
              <a:ahLst/>
              <a:rect l="l" t="t" r="r" b="b"/>
              <a:pathLst>
                <a:path w="680" h="725">
                  <a:moveTo>
                    <a:pt x="680" y="0"/>
                  </a:moveTo>
                  <a:cubicBezTo>
                    <a:pt x="646" y="189"/>
                    <a:pt x="612" y="378"/>
                    <a:pt x="499" y="499"/>
                  </a:cubicBezTo>
                  <a:cubicBezTo>
                    <a:pt x="386" y="620"/>
                    <a:pt x="193" y="672"/>
                    <a:pt x="0" y="725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4080" y="4510080"/>
              <a:ext cx="1225440" cy="1008000"/>
            </a:xfrm>
            <a:custGeom>
              <a:avLst/>
              <a:gdLst/>
              <a:ahLst/>
              <a:rect l="l" t="t" r="r" b="b"/>
              <a:pathLst>
                <a:path w="772" h="635">
                  <a:moveTo>
                    <a:pt x="772" y="0"/>
                  </a:moveTo>
                  <a:cubicBezTo>
                    <a:pt x="587" y="15"/>
                    <a:pt x="402" y="30"/>
                    <a:pt x="273" y="136"/>
                  </a:cubicBezTo>
                  <a:cubicBezTo>
                    <a:pt x="144" y="242"/>
                    <a:pt x="72" y="438"/>
                    <a:pt x="0" y="635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68800" y="2995560"/>
              <a:ext cx="2087640" cy="2233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58240" y="2997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3520" y="2565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73400" y="441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77400" y="4654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46960" y="4365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43720" y="3573360"/>
              <a:ext cx="288720" cy="792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32440" y="4365360"/>
              <a:ext cx="648000" cy="2876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49880" y="3908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63320" y="350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39640" y="33336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超越自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1BB-D48A-4F2E-B3F8-9519E99775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5724360" y="907920"/>
            <a:ext cx="3191400" cy="2925360"/>
            <a:chOff x="5724360" y="907920"/>
            <a:chExt cx="3191400" cy="2925360"/>
          </a:xfrm>
        </p:grpSpPr>
        <p:sp>
          <p:nvSpPr>
            <p:cNvPr id="169" name=""/>
            <p:cNvSpPr/>
            <p:nvPr/>
          </p:nvSpPr>
          <p:spPr>
            <a:xfrm>
              <a:off x="5724360" y="260964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092720" y="95364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68720" y="1314360"/>
              <a:ext cx="1079640" cy="1150920"/>
            </a:xfrm>
            <a:custGeom>
              <a:avLst/>
              <a:gdLst/>
              <a:ahLst/>
              <a:rect l="l" t="t" r="r" b="b"/>
              <a:pathLst>
                <a:path w="680" h="725">
                  <a:moveTo>
                    <a:pt x="680" y="0"/>
                  </a:moveTo>
                  <a:cubicBezTo>
                    <a:pt x="646" y="189"/>
                    <a:pt x="612" y="378"/>
                    <a:pt x="499" y="499"/>
                  </a:cubicBezTo>
                  <a:cubicBezTo>
                    <a:pt x="386" y="620"/>
                    <a:pt x="193" y="672"/>
                    <a:pt x="0" y="725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64360" y="2754360"/>
              <a:ext cx="1225440" cy="1008000"/>
            </a:xfrm>
            <a:custGeom>
              <a:avLst/>
              <a:gdLst/>
              <a:ahLst/>
              <a:rect l="l" t="t" r="r" b="b"/>
              <a:pathLst>
                <a:path w="772" h="635">
                  <a:moveTo>
                    <a:pt x="772" y="0"/>
                  </a:moveTo>
                  <a:cubicBezTo>
                    <a:pt x="587" y="15"/>
                    <a:pt x="402" y="30"/>
                    <a:pt x="273" y="136"/>
                  </a:cubicBezTo>
                  <a:cubicBezTo>
                    <a:pt x="144" y="242"/>
                    <a:pt x="72" y="438"/>
                    <a:pt x="0" y="635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9080" y="1239840"/>
              <a:ext cx="2087640" cy="2233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8520" y="1339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33440" y="907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33680" y="27082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37680" y="2997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06880" y="2708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04000" y="1817640"/>
              <a:ext cx="288720" cy="792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92720" y="2609640"/>
              <a:ext cx="647640" cy="287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76680" y="21780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22880" y="1793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5280" y="5680080"/>
            <a:ext cx="6048360" cy="628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200160"/>
            <a:ext cx="5846760" cy="1212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1557360"/>
            <a:ext cx="1800360" cy="46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24000" y="2222640"/>
            <a:ext cx="5040000" cy="541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95280" y="2874960"/>
            <a:ext cx="2808360" cy="5000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250920" y="3591000"/>
            <a:ext cx="5832360" cy="998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627120" y="4599000"/>
            <a:ext cx="55832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6653160" y="1833480"/>
            <a:ext cx="365040" cy="1165680"/>
            <a:chOff x="6653160" y="1833480"/>
            <a:chExt cx="365040" cy="1165680"/>
          </a:xfrm>
        </p:grpSpPr>
        <p:sp>
          <p:nvSpPr>
            <p:cNvPr id="191" name=""/>
            <p:cNvSpPr/>
            <p:nvPr/>
          </p:nvSpPr>
          <p:spPr>
            <a:xfrm>
              <a:off x="6840720" y="1833480"/>
              <a:ext cx="0" cy="719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53160" y="2600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597800" y="2133720"/>
            <a:ext cx="365040" cy="720360"/>
            <a:chOff x="7597800" y="2133720"/>
            <a:chExt cx="365040" cy="720360"/>
          </a:xfrm>
        </p:grpSpPr>
        <p:sp>
          <p:nvSpPr>
            <p:cNvPr id="194" name=""/>
            <p:cNvSpPr/>
            <p:nvPr/>
          </p:nvSpPr>
          <p:spPr>
            <a:xfrm>
              <a:off x="7597800" y="2133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772400" y="2565000"/>
              <a:ext cx="0" cy="2890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8028000" y="6165720"/>
            <a:ext cx="503280" cy="287640"/>
          </a:xfrm>
          <a:custGeom>
            <a:avLst/>
            <a:gdLst>
              <a:gd name="textAreaLeft" fmla="*/ 62640 w 503280"/>
              <a:gd name="textAreaRight" fmla="*/ 440640 w 5032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5900760" y="1698480"/>
            <a:ext cx="3178080" cy="2900520"/>
            <a:chOff x="5900760" y="1698480"/>
            <a:chExt cx="3178080" cy="2900520"/>
          </a:xfrm>
        </p:grpSpPr>
        <p:sp>
          <p:nvSpPr>
            <p:cNvPr id="199" name=""/>
            <p:cNvSpPr/>
            <p:nvPr/>
          </p:nvSpPr>
          <p:spPr>
            <a:xfrm>
              <a:off x="5900760" y="337500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269120" y="1719000"/>
              <a:ext cx="0" cy="28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45120" y="2079360"/>
              <a:ext cx="1079640" cy="1150920"/>
            </a:xfrm>
            <a:custGeom>
              <a:avLst/>
              <a:gdLst/>
              <a:ahLst/>
              <a:rect l="l" t="t" r="r" b="b"/>
              <a:pathLst>
                <a:path w="680" h="725">
                  <a:moveTo>
                    <a:pt x="680" y="0"/>
                  </a:moveTo>
                  <a:cubicBezTo>
                    <a:pt x="646" y="189"/>
                    <a:pt x="612" y="378"/>
                    <a:pt x="499" y="499"/>
                  </a:cubicBezTo>
                  <a:cubicBezTo>
                    <a:pt x="386" y="620"/>
                    <a:pt x="193" y="672"/>
                    <a:pt x="0" y="725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40760" y="3519360"/>
              <a:ext cx="1225440" cy="1008000"/>
            </a:xfrm>
            <a:custGeom>
              <a:avLst/>
              <a:gdLst/>
              <a:ahLst/>
              <a:rect l="l" t="t" r="r" b="b"/>
              <a:pathLst>
                <a:path w="772" h="635">
                  <a:moveTo>
                    <a:pt x="772" y="0"/>
                  </a:moveTo>
                  <a:cubicBezTo>
                    <a:pt x="587" y="15"/>
                    <a:pt x="402" y="30"/>
                    <a:pt x="273" y="136"/>
                  </a:cubicBezTo>
                  <a:cubicBezTo>
                    <a:pt x="144" y="242"/>
                    <a:pt x="72" y="438"/>
                    <a:pt x="0" y="635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5480" y="2004840"/>
              <a:ext cx="2087640" cy="2233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94560" y="2130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10200" y="169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5440" y="31129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13720" y="3787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83640" y="3498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80400" y="2582640"/>
              <a:ext cx="288720" cy="792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69120" y="3375000"/>
              <a:ext cx="647640" cy="287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53440" y="29685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99640" y="2584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7840" y="5608800"/>
            <a:ext cx="5943600" cy="628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4000" y="200160"/>
            <a:ext cx="5776920" cy="1212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17680" y="1503360"/>
            <a:ext cx="1699920" cy="466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07800" y="2151000"/>
            <a:ext cx="5072400" cy="541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95280" y="2803680"/>
            <a:ext cx="2808360" cy="500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316080" y="3519360"/>
            <a:ext cx="5702040" cy="998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692280" y="4527720"/>
            <a:ext cx="54514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7012080" y="2403360"/>
            <a:ext cx="653760" cy="398880"/>
            <a:chOff x="7012080" y="2403360"/>
            <a:chExt cx="653760" cy="398880"/>
          </a:xfrm>
        </p:grpSpPr>
        <p:sp>
          <p:nvSpPr>
            <p:cNvPr id="221" name=""/>
            <p:cNvSpPr/>
            <p:nvPr/>
          </p:nvSpPr>
          <p:spPr>
            <a:xfrm>
              <a:off x="7300800" y="2403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12080" y="2619360"/>
              <a:ext cx="28728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949800" y="3448080"/>
            <a:ext cx="863640" cy="398880"/>
            <a:chOff x="6949800" y="3448080"/>
            <a:chExt cx="863640" cy="398880"/>
          </a:xfrm>
        </p:grpSpPr>
        <p:sp>
          <p:nvSpPr>
            <p:cNvPr id="224" name=""/>
            <p:cNvSpPr/>
            <p:nvPr/>
          </p:nvSpPr>
          <p:spPr>
            <a:xfrm>
              <a:off x="6949800" y="34480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00720" y="3612600"/>
              <a:ext cx="61272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7636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8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343e"/>
                </a:solidFill>
                <a:latin typeface="Times New Roman"/>
              </a:rPr>
              <a:t>小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57200"/>
            <a:ext cx="8915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点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反比例函数               的图象上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=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反比例函数                      的图象在第二、四象限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取值范围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比例函数的图象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称图形，又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称图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6200" y="2438280"/>
            <a:ext cx="737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               的图象上有三点（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函数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大小关系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bright="-66000"/>
          </a:blip>
          <a:stretch/>
        </p:blipFill>
        <p:spPr>
          <a:xfrm>
            <a:off x="1219320" y="2209680"/>
            <a:ext cx="914400" cy="82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72960" y="3429000"/>
            <a:ext cx="607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乙两地相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一辆汽车从甲地开往乙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汽车到达乙地所用的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(h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为汽车的平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(km/h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函数，则这个函数的图象大致是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4946760"/>
            <a:ext cx="6410160" cy="191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93760" y="5181480"/>
            <a:ext cx="1278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实际问题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图象就可能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有一支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362320" y="762120"/>
            <a:ext cx="1295280" cy="892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3000" y="137160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〈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19112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543800" y="380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343e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343e"/>
                </a:solidFill>
                <a:latin typeface="Times New Roman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343e"/>
                </a:solidFill>
                <a:latin typeface="Times New Roman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21120" y="2743200"/>
            <a:ext cx="14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lt; 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lt; 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复习提问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66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反比例函数图象是什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276720"/>
            <a:ext cx="83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&gt;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支曲线分别位于第一、三象限内，在每一象限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增大而减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&lt;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支曲线分别位于第二、四象限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每一象限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增大而增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685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什么是反比例函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5922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7200" y="2362320"/>
            <a:ext cx="6630840" cy="1079280"/>
            <a:chOff x="457200" y="2362320"/>
            <a:chExt cx="6630840" cy="107928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2590920" y="2362320"/>
              <a:ext cx="1079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57200" y="2590560"/>
              <a:ext cx="663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3.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反比例函数           图象有哪些性质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648320" y="1828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双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9840" y="990720"/>
            <a:ext cx="9074160" cy="897840"/>
            <a:chOff x="69840" y="990720"/>
            <a:chExt cx="9074160" cy="897840"/>
          </a:xfrm>
        </p:grpSpPr>
        <p:sp>
          <p:nvSpPr>
            <p:cNvPr id="72" name=""/>
            <p:cNvSpPr/>
            <p:nvPr/>
          </p:nvSpPr>
          <p:spPr>
            <a:xfrm>
              <a:off x="69840" y="1219320"/>
              <a:ext cx="907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般地，形如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 =  —   ( 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常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k = 0 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函数叫做反比例函数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800600" y="1335240"/>
              <a:ext cx="162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35200" y="99072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35200" y="142884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源于生活中的数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762120"/>
            <a:ext cx="8305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沼泽地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们</a:t>
            </a:r>
            <a:r>
              <a:rPr b="0" lang="zh-CN" sz="2800" spc="-1" strike="noStrike">
                <a:solidFill>
                  <a:srgbClr val="d4fb57"/>
                </a:solidFill>
                <a:latin typeface="隶书"/>
                <a:ea typeface="隶书"/>
              </a:rPr>
              <a:t>常常用木板来垫脚</a:t>
            </a:r>
            <a:r>
              <a:rPr b="0" lang="en-US" sz="2800" spc="-1" strike="noStrike">
                <a:solidFill>
                  <a:srgbClr val="d4fb57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d4fb57"/>
                </a:solidFill>
                <a:latin typeface="隶书"/>
                <a:ea typeface="隶书"/>
              </a:rPr>
              <a:t>当人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木板对地面的压力一定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随着</a:t>
            </a:r>
            <a:r>
              <a:rPr b="0" lang="zh-CN" sz="2800" spc="-1" strike="noStrike">
                <a:solidFill>
                  <a:srgbClr val="d4fb57"/>
                </a:solidFill>
                <a:latin typeface="隶书"/>
                <a:ea typeface="隶书"/>
              </a:rPr>
              <a:t>木板面积的变化</a:t>
            </a:r>
            <a:r>
              <a:rPr b="0" lang="en-US" sz="2800" spc="-1" strike="noStrike">
                <a:solidFill>
                  <a:srgbClr val="d4fb57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和木板对地面的压强将如何变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765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科技小组进行野外考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途中遇到一片十几米宽的烂泥湿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安全迅速通过这片湿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们沿着前进路线铺垫了若干木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构筑了一条临时通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而顺利完成了任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能解释他们这样做的道理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人和木板对湿地的压力一定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着木板面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变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和木板对地面的压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Pa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如何变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5800" y="18900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2781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人和木板对湿地地面的压力合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N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代数式表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,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反比例函数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55640" y="4005360"/>
            <a:ext cx="7920000" cy="968400"/>
            <a:chOff x="755640" y="4005360"/>
            <a:chExt cx="7920000" cy="968400"/>
          </a:xfrm>
        </p:grpSpPr>
        <p:sp>
          <p:nvSpPr>
            <p:cNvPr id="82" name=""/>
            <p:cNvSpPr/>
            <p:nvPr/>
          </p:nvSpPr>
          <p:spPr>
            <a:xfrm>
              <a:off x="755640" y="4181400"/>
              <a:ext cx="79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解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:                               P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是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的反比例函数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1908000" y="4005360"/>
              <a:ext cx="2374920" cy="96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755640" y="49975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木板面积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压强是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26920" y="5562720"/>
            <a:ext cx="7272360" cy="840600"/>
            <a:chOff x="826920" y="5562720"/>
            <a:chExt cx="7272360" cy="840600"/>
          </a:xfrm>
        </p:grpSpPr>
        <p:sp>
          <p:nvSpPr>
            <p:cNvPr id="86" name=""/>
            <p:cNvSpPr/>
            <p:nvPr/>
          </p:nvSpPr>
          <p:spPr>
            <a:xfrm>
              <a:off x="826920" y="5661000"/>
              <a:ext cx="727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解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: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当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S=0.2m</a:t>
              </a:r>
              <a:r>
                <a:rPr b="1" lang="en-US" sz="2800" spc="-1" strike="noStrike" baseline="30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时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,P=——=3000(P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38480" y="55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14800" y="5943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765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科技小组进行野外考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途中遇到一片十几米宽的烂泥湿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安全迅速通过这片湿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们沿着前进路线铺垫了若干木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构筑了一条临时通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而顺利完成了任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能解释他们这样做的道理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人和木板对湿地的压力一定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着木板面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变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和木板对地面的压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Pa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如何变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800" y="18900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781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人和木板对湿地地面的压力合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N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3429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335772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要求压强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0Pa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木板面积至少要多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33720"/>
            <a:ext cx="68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≤6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S≥600/6000=0.1(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木板面积至少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0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直角坐标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出相应函数的图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在课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的图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602136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需在第一象限作出函数的图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2133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利用图象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出直观解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同伴交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32130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已知图象上的某点的横坐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该点的纵坐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已知图象上点的纵坐标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0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这些点所处位置及它们横坐标的取值范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际上这些点都在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=6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方的图象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692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木板面积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压强是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413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要求压强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0Pa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木板面积至少要多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0"/>
            <a:ext cx="16225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做一做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692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341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蓄电池的电压是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写出这一函数的表达式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205000"/>
            <a:ext cx="77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因为电流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与电压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之间的关系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R=U(U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为定值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,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把图象上的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的坐标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9,4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代入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得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=3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所以蓄电池的电压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=36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55640" y="3573360"/>
            <a:ext cx="6408720" cy="955800"/>
            <a:chOff x="755640" y="3573360"/>
            <a:chExt cx="6408720" cy="955800"/>
          </a:xfrm>
        </p:grpSpPr>
        <p:sp>
          <p:nvSpPr>
            <p:cNvPr id="107" name=""/>
            <p:cNvSpPr/>
            <p:nvPr/>
          </p:nvSpPr>
          <p:spPr>
            <a:xfrm>
              <a:off x="755640" y="3717720"/>
              <a:ext cx="640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这一函数的表达式为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4356000" y="3573360"/>
              <a:ext cx="1079640" cy="95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611280" y="436572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下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回答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以此蓄电池为电源的用电器电流不得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A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用电器的可变电阻应控制在什么范围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8720" y="580536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解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当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≤10A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解得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R≥3.6(</a:t>
            </a:r>
            <a:r>
              <a:rPr b="1" lang="el-GR" sz="2800" spc="-1" strike="noStrike">
                <a:solidFill>
                  <a:srgbClr val="3333cc"/>
                </a:solidFill>
                <a:latin typeface="宋体"/>
              </a:rPr>
              <a:t>Ω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)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所以可变电阻应不小于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3.6</a:t>
            </a:r>
            <a:r>
              <a:rPr b="1" lang="el-GR" sz="2800" spc="-1" strike="noStrike">
                <a:solidFill>
                  <a:srgbClr val="3333cc"/>
                </a:solidFill>
                <a:latin typeface="宋体"/>
              </a:rPr>
              <a:t>Ω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404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课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125360"/>
            <a:ext cx="86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写出这两个函数的表达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求出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坐标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是怎样求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同伴交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33520" y="3809880"/>
            <a:ext cx="7284960" cy="1380600"/>
            <a:chOff x="533520" y="3809880"/>
            <a:chExt cx="7284960" cy="1380600"/>
          </a:xfrm>
        </p:grpSpPr>
        <p:sp>
          <p:nvSpPr>
            <p:cNvPr id="115" name=""/>
            <p:cNvSpPr/>
            <p:nvPr/>
          </p:nvSpPr>
          <p:spPr>
            <a:xfrm>
              <a:off x="533520" y="4243320"/>
              <a:ext cx="640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2)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点的坐标是两个函数组成的方程组的另一个解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得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6797880" y="3809880"/>
              <a:ext cx="10206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3702240" y="4674960"/>
              <a:ext cx="718920" cy="47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133720" y="5334120"/>
            <a:ext cx="29718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685800" y="3276720"/>
            <a:ext cx="6985080" cy="977760"/>
            <a:chOff x="685800" y="3276720"/>
            <a:chExt cx="6985080" cy="977760"/>
          </a:xfrm>
        </p:grpSpPr>
        <p:sp>
          <p:nvSpPr>
            <p:cNvPr id="120" name=""/>
            <p:cNvSpPr/>
            <p:nvPr/>
          </p:nvSpPr>
          <p:spPr>
            <a:xfrm>
              <a:off x="685800" y="3513240"/>
              <a:ext cx="69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所以所求的函数表达式为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:y=2x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y=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9116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1160" y="3733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1280" y="2133720"/>
            <a:ext cx="8137440" cy="1503360"/>
            <a:chOff x="611280" y="2133720"/>
            <a:chExt cx="8137440" cy="1503360"/>
          </a:xfrm>
        </p:grpSpPr>
        <p:grpSp>
          <p:nvGrpSpPr>
            <p:cNvPr id="124" name=""/>
            <p:cNvGrpSpPr/>
            <p:nvPr/>
          </p:nvGrpSpPr>
          <p:grpSpPr>
            <a:xfrm>
              <a:off x="611280" y="2349720"/>
              <a:ext cx="8137440" cy="1287360"/>
              <a:chOff x="611280" y="2349720"/>
              <a:chExt cx="8137440" cy="1287360"/>
            </a:xfrm>
          </p:grpSpPr>
          <p:sp>
            <p:nvSpPr>
              <p:cNvPr id="125" name=""/>
              <p:cNvSpPr/>
              <p:nvPr/>
            </p:nvSpPr>
            <p:spPr>
              <a:xfrm>
                <a:off x="611280" y="2349720"/>
                <a:ext cx="813744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解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:(1)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把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点坐标              分别代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y=k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x,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y=—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解得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=2.k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=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48000" y="2420640"/>
                <a:ext cx="1224000" cy="464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"/>
            <p:cNvSpPr/>
            <p:nvPr/>
          </p:nvSpPr>
          <p:spPr>
            <a:xfrm>
              <a:off x="7925040" y="2514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48720" y="213372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9:53:09Z</dcterms:created>
  <dc:creator>An</dc:creator>
  <dc:description/>
  <dc:language>en-US</dc:language>
  <cp:lastModifiedBy/>
  <dcterms:modified xsi:type="dcterms:W3CDTF">2015-07-11T14:23:00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