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24.jpeg" ContentType="image/jpeg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7.gif" ContentType="image/gi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8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8BB-B86B-4380-8954-225CB404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3EC-8113-4615-90CC-1C35FB92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E4F-E283-4594-8297-80FC42D1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4A6-BC0C-4196-8962-D9A8174E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437-6071-40AC-AE92-6B64EF05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796-3A1A-4A2B-BEE1-E262B31D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04A-7519-4754-A4C4-25867E63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CEC-AB79-489A-81D4-4C450A2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D54-9B98-47B4-BA26-A68DBCB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ACE-273F-4501-AB55-3BD37FF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02B-2771-4A61-B341-9851173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F47-7B95-4AE6-B1D1-20CF217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3F55-2063-443C-87EF-08470131A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700280"/>
            <a:ext cx="84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17.1.2</a:t>
            </a: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反比例函数的图象与性质（</a:t>
            </a:r>
            <a:r>
              <a:rPr b="1" lang="en-US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2</a:t>
            </a: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7480" y="765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反比例函数图像和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54936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76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你能解答第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小题吗了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77336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1773360"/>
            <a:ext cx="8748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如果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B(-1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(3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都在反比例函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=k/x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图象上，那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大小又如何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867280" cy="50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720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想一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50160" y="260280"/>
            <a:ext cx="2898000" cy="3431520"/>
            <a:chOff x="5150160" y="260280"/>
            <a:chExt cx="2898000" cy="3431520"/>
          </a:xfrm>
        </p:grpSpPr>
        <p:grpSp>
          <p:nvGrpSpPr>
            <p:cNvPr id="110" name=""/>
            <p:cNvGrpSpPr/>
            <p:nvPr/>
          </p:nvGrpSpPr>
          <p:grpSpPr>
            <a:xfrm>
              <a:off x="6791040" y="1326960"/>
              <a:ext cx="618480" cy="459720"/>
              <a:chOff x="6791040" y="1326960"/>
              <a:chExt cx="618480" cy="45972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1040" y="1479240"/>
                <a:ext cx="28548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7043040" y="13269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515000" y="2012760"/>
              <a:ext cx="495000" cy="628560"/>
              <a:chOff x="7515000" y="2012760"/>
              <a:chExt cx="495000" cy="62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15000" y="2355840"/>
                <a:ext cx="28548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7591680" y="20127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6543000" y="1555560"/>
              <a:ext cx="380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05520" y="1555560"/>
              <a:ext cx="0" cy="1371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3360" y="1536480"/>
              <a:ext cx="380520" cy="1371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523920" y="2469960"/>
              <a:ext cx="10666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1320" y="246996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280" y="2469960"/>
              <a:ext cx="114264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150160" y="2927160"/>
              <a:ext cx="1392840" cy="764640"/>
              <a:chOff x="5150160" y="2927160"/>
              <a:chExt cx="1392840" cy="7646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5150160" y="3232080"/>
                <a:ext cx="687960" cy="459720"/>
                <a:chOff x="5150160" y="3232080"/>
                <a:chExt cx="687960" cy="45972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52640" y="3346560"/>
                  <a:ext cx="28548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5150160" y="32320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5705280" y="2927160"/>
                <a:ext cx="837720" cy="5335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6981480" y="260280"/>
              <a:ext cx="10666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260280"/>
            <a:ext cx="442764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在一个反比例函数图象上任取两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平行线，与坐标轴围成的矩形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平行线，与坐标轴围成的矩形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什么关系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反比例函数的图象绕原点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能与原来的图象重合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675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反比例函数图象的两支曲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下列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会与坐标轴相交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反比例函数的图象是轴对称图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反比例函数的图象是中心对称图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205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它们都不与坐标轴相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933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轴对称图形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它们有两条对称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54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中心对称图形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称中心是坐标原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1125360"/>
            <a:ext cx="61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反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= 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关系式。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645000"/>
            <a:ext cx="62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正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=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1.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/>
          </p:cNvPr>
          <p:cNvSpPr/>
          <p:nvPr/>
        </p:nvSpPr>
        <p:spPr>
          <a:xfrm>
            <a:off x="539640" y="404640"/>
            <a:ext cx="121932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7068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图形写出函数的解析式。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35640" y="2133720"/>
            <a:ext cx="2732040" cy="2088720"/>
            <a:chOff x="5435640" y="2133720"/>
            <a:chExt cx="2732040" cy="2088720"/>
          </a:xfrm>
        </p:grpSpPr>
        <p:sp>
          <p:nvSpPr>
            <p:cNvPr id="139" name=""/>
            <p:cNvSpPr/>
            <p:nvPr/>
          </p:nvSpPr>
          <p:spPr>
            <a:xfrm>
              <a:off x="6870600" y="2136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0440" y="3310200"/>
              <a:ext cx="866880" cy="753840"/>
            </a:xfrm>
            <a:custGeom>
              <a:avLst/>
              <a:gdLst/>
              <a:ahLst/>
              <a:rect l="l" t="t" r="r" b="b"/>
              <a:pathLst>
                <a:path w="1033" h="1024">
                  <a:moveTo>
                    <a:pt x="1033" y="0"/>
                  </a:moveTo>
                  <a:cubicBezTo>
                    <a:pt x="730" y="18"/>
                    <a:pt x="428" y="37"/>
                    <a:pt x="256" y="208"/>
                  </a:cubicBezTo>
                  <a:cubicBezTo>
                    <a:pt x="84" y="379"/>
                    <a:pt x="42" y="701"/>
                    <a:pt x="0" y="102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3360" y="2346480"/>
              <a:ext cx="811440" cy="682560"/>
            </a:xfrm>
            <a:custGeom>
              <a:avLst/>
              <a:gdLst/>
              <a:ahLst/>
              <a:rect l="l" t="t" r="r" b="b"/>
              <a:pathLst>
                <a:path w="1019" h="984">
                  <a:moveTo>
                    <a:pt x="1019" y="0"/>
                  </a:moveTo>
                  <a:cubicBezTo>
                    <a:pt x="954" y="286"/>
                    <a:pt x="890" y="572"/>
                    <a:pt x="720" y="736"/>
                  </a:cubicBezTo>
                  <a:cubicBezTo>
                    <a:pt x="550" y="900"/>
                    <a:pt x="275" y="942"/>
                    <a:pt x="0" y="984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7320" y="2927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5400" y="3148200"/>
              <a:ext cx="19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31000" y="213372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0080" y="2249280"/>
              <a:ext cx="0" cy="19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99320" y="3062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5640" y="2610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15040" y="2940120"/>
              <a:ext cx="71640" cy="71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96000" y="3833640"/>
            <a:ext cx="2448000" cy="3024360"/>
            <a:chOff x="6696000" y="3833640"/>
            <a:chExt cx="2448000" cy="3024360"/>
          </a:xfrm>
        </p:grpSpPr>
        <p:sp>
          <p:nvSpPr>
            <p:cNvPr id="150" name=""/>
            <p:cNvSpPr/>
            <p:nvPr/>
          </p:nvSpPr>
          <p:spPr>
            <a:xfrm>
              <a:off x="6696000" y="3833640"/>
              <a:ext cx="2376360" cy="3024360"/>
            </a:xfrm>
            <a:prstGeom prst="wedgeRoundRectCallout">
              <a:avLst>
                <a:gd name="adj1" fmla="val -70643"/>
                <a:gd name="adj2" fmla="val 66796"/>
                <a:gd name="adj3" fmla="val 16667"/>
              </a:avLst>
            </a:prstGeom>
            <a:solidFill>
              <a:srgbClr val="0000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838920" y="3906720"/>
              <a:ext cx="2305080" cy="2906640"/>
              <a:chOff x="6838920" y="3906720"/>
              <a:chExt cx="2305080" cy="2906640"/>
            </a:xfrm>
          </p:grpSpPr>
          <p:sp>
            <p:nvSpPr>
              <p:cNvPr id="152" name=""/>
              <p:cNvSpPr/>
              <p:nvPr/>
            </p:nvSpPr>
            <p:spPr>
              <a:xfrm>
                <a:off x="6838920" y="3906720"/>
                <a:ext cx="2305080" cy="28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已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与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成正比例，当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3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4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求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1.5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的值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解：设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kx</a:t>
                </a:r>
                <a:r>
                  <a:rPr b="1" lang="en-US" sz="2000" spc="-1" strike="noStrike" baseline="30000">
                    <a:solidFill>
                      <a:srgbClr val="ffff66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,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因为   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3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4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，所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9k=4,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所以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k=     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，当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x=1.5</a:t>
                </a:r>
                <a:r>
                  <a:rPr b="1" lang="zh-CN" sz="2000" spc="-1" strike="noStrike">
                    <a:solidFill>
                      <a:srgbClr val="ffff66"/>
                    </a:solidFill>
                    <a:latin typeface="Times New Roman"/>
                  </a:rPr>
                  <a:t>时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</a:rPr>
                  <a:t>y=    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×(1.5)</a:t>
                </a:r>
                <a:r>
                  <a:rPr b="1" lang="en-US" sz="2000" spc="-1" strike="noStrike" baseline="30000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66"/>
                    </a:solidFill>
                    <a:latin typeface="Times New Roman"/>
                    <a:ea typeface="Times New Roman"/>
                  </a:rPr>
                  <a:t>=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7196040" y="6232320"/>
                <a:ext cx="444600" cy="581040"/>
                <a:chOff x="7196040" y="6232320"/>
                <a:chExt cx="444600" cy="581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208640" y="64450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96040" y="62323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238880" y="653400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8331120" y="5470560"/>
                <a:ext cx="444600" cy="580680"/>
                <a:chOff x="8331120" y="5470560"/>
                <a:chExt cx="444600" cy="5806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343720" y="568296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331120" y="54705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373960" y="5771880"/>
                  <a:ext cx="21600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39640" y="476280"/>
            <a:ext cx="8135640" cy="5706000"/>
            <a:chOff x="539640" y="476280"/>
            <a:chExt cx="8135640" cy="5706000"/>
          </a:xfrm>
        </p:grpSpPr>
        <p:sp>
          <p:nvSpPr>
            <p:cNvPr id="162" name=""/>
            <p:cNvSpPr/>
            <p:nvPr/>
          </p:nvSpPr>
          <p:spPr>
            <a:xfrm>
              <a:off x="618480" y="1123920"/>
              <a:ext cx="805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640" y="1123920"/>
              <a:ext cx="79776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 的图象在第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象限，在每个象限内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增大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双曲线              经过点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68320" y="893880"/>
              <a:ext cx="1769760" cy="834840"/>
              <a:chOff x="1768320" y="893880"/>
              <a:chExt cx="1769760" cy="834840"/>
            </a:xfrm>
          </p:grpSpPr>
          <p:sp>
            <p:nvSpPr>
              <p:cNvPr id="165" name=""/>
              <p:cNvSpPr/>
              <p:nvPr/>
            </p:nvSpPr>
            <p:spPr>
              <a:xfrm>
                <a:off x="1768320" y="1081080"/>
                <a:ext cx="119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05480" y="1370160"/>
                <a:ext cx="59220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66680" y="120816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68480" y="893880"/>
                <a:ext cx="3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6080" y="1370160"/>
                <a:ext cx="15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97440" y="1943280"/>
              <a:ext cx="1515600" cy="926640"/>
              <a:chOff x="2197440" y="1943280"/>
              <a:chExt cx="1515600" cy="926640"/>
            </a:xfrm>
          </p:grpSpPr>
          <p:sp>
            <p:nvSpPr>
              <p:cNvPr id="171" name=""/>
              <p:cNvSpPr/>
              <p:nvPr/>
            </p:nvSpPr>
            <p:spPr>
              <a:xfrm>
                <a:off x="2197440" y="216216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60640" y="2436480"/>
                <a:ext cx="59256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1640" y="194328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8600" y="2349360"/>
                <a:ext cx="70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39640" y="2862360"/>
              <a:ext cx="813564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的图象在二、四象限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取值范围是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对于函数               ，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&lt;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而增大，这部分图象在第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象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y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减小而增大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= ____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47360" y="3625920"/>
              <a:ext cx="1515240" cy="927000"/>
              <a:chOff x="2547360" y="3625920"/>
              <a:chExt cx="1515240" cy="927000"/>
            </a:xfrm>
          </p:grpSpPr>
          <p:sp>
            <p:nvSpPr>
              <p:cNvPr id="177" name=""/>
              <p:cNvSpPr/>
              <p:nvPr/>
            </p:nvSpPr>
            <p:spPr>
              <a:xfrm>
                <a:off x="2547360" y="3845160"/>
                <a:ext cx="8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0200" y="4119480"/>
                <a:ext cx="5922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1200" y="3625920"/>
                <a:ext cx="67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8520" y="4032360"/>
                <a:ext cx="70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35200" y="2621160"/>
              <a:ext cx="1913760" cy="844200"/>
              <a:chOff x="1735200" y="2621160"/>
              <a:chExt cx="1913760" cy="84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2403360" y="2621160"/>
                <a:ext cx="116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10360" y="2944800"/>
                <a:ext cx="103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735200" y="2815920"/>
                <a:ext cx="1483200" cy="520560"/>
                <a:chOff x="1735200" y="2815920"/>
                <a:chExt cx="1483200" cy="520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35200" y="2815920"/>
                  <a:ext cx="876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 =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420640" y="3079080"/>
                  <a:ext cx="7977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1673640" y="4869000"/>
              <a:ext cx="3667680" cy="596880"/>
              <a:chOff x="1673640" y="4869000"/>
              <a:chExt cx="3667680" cy="596880"/>
            </a:xfrm>
          </p:grpSpPr>
          <p:sp>
            <p:nvSpPr>
              <p:cNvPr id="188" name=""/>
              <p:cNvSpPr/>
              <p:nvPr/>
            </p:nvSpPr>
            <p:spPr>
              <a:xfrm>
                <a:off x="1673640" y="4884480"/>
                <a:ext cx="3667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 =(2m+1)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m+2m-16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80000" y="4869000"/>
                <a:ext cx="31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80040" y="476280"/>
              <a:ext cx="1594440" cy="4597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练习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788000" y="119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400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3416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44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6365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76720" y="2116080"/>
            <a:ext cx="820800" cy="662400"/>
            <a:chOff x="5076720" y="2116080"/>
            <a:chExt cx="820800" cy="662400"/>
          </a:xfrm>
        </p:grpSpPr>
        <p:sp>
          <p:nvSpPr>
            <p:cNvPr id="198" name=""/>
            <p:cNvSpPr/>
            <p:nvPr/>
          </p:nvSpPr>
          <p:spPr>
            <a:xfrm>
              <a:off x="5076720" y="2249280"/>
              <a:ext cx="776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5520" y="23796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5520" y="2116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08360" y="2455920"/>
              <a:ext cx="2160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89560" y="2450880"/>
              <a:ext cx="73080" cy="0"/>
            </a:xfrm>
            <a:prstGeom prst="line">
              <a:avLst/>
            </a:prstGeom>
            <a:ln w="22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932360" y="1844640"/>
            <a:ext cx="2015280" cy="1952640"/>
            <a:chOff x="4932360" y="1844640"/>
            <a:chExt cx="2015280" cy="1952640"/>
          </a:xfrm>
        </p:grpSpPr>
        <p:sp>
          <p:nvSpPr>
            <p:cNvPr id="204" name=""/>
            <p:cNvSpPr/>
            <p:nvPr/>
          </p:nvSpPr>
          <p:spPr>
            <a:xfrm>
              <a:off x="4932360" y="1852560"/>
              <a:ext cx="1944720" cy="1944720"/>
            </a:xfrm>
            <a:prstGeom prst="wedgeRoundRectCallout">
              <a:avLst>
                <a:gd name="adj1" fmla="val -45018"/>
                <a:gd name="adj2" fmla="val 96287"/>
                <a:gd name="adj3" fmla="val 16667"/>
              </a:avLst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995720" y="1844640"/>
              <a:ext cx="1951920" cy="1878840"/>
              <a:chOff x="4995720" y="1844640"/>
              <a:chExt cx="1951920" cy="1878840"/>
            </a:xfrm>
          </p:grpSpPr>
          <p:sp>
            <p:nvSpPr>
              <p:cNvPr id="206" name=""/>
              <p:cNvSpPr/>
              <p:nvPr/>
            </p:nvSpPr>
            <p:spPr>
              <a:xfrm>
                <a:off x="4995720" y="2970360"/>
                <a:ext cx="751320" cy="685080"/>
              </a:xfrm>
              <a:custGeom>
                <a:avLst/>
                <a:gdLst/>
                <a:ahLst/>
                <a:rect l="l" t="t" r="r" b="b"/>
                <a:pathLst>
                  <a:path w="1031" h="1024">
                    <a:moveTo>
                      <a:pt x="0" y="0"/>
                    </a:moveTo>
                    <a:cubicBezTo>
                      <a:pt x="225" y="22"/>
                      <a:pt x="451" y="45"/>
                      <a:pt x="623" y="216"/>
                    </a:cubicBezTo>
                    <a:cubicBezTo>
                      <a:pt x="795" y="387"/>
                      <a:pt x="913" y="705"/>
                      <a:pt x="1031" y="1024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024880" y="1844640"/>
                <a:ext cx="1922760" cy="1878840"/>
                <a:chOff x="5024880" y="1844640"/>
                <a:chExt cx="1922760" cy="18788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973120" y="2043360"/>
                  <a:ext cx="760680" cy="698040"/>
                </a:xfrm>
                <a:custGeom>
                  <a:avLst/>
                  <a:gdLst/>
                  <a:ahLst/>
                  <a:rect l="l" t="t" r="r" b="b"/>
                  <a:pathLst>
                    <a:path w="1179" h="953">
                      <a:moveTo>
                        <a:pt x="0" y="0"/>
                      </a:moveTo>
                      <a:cubicBezTo>
                        <a:pt x="106" y="306"/>
                        <a:pt x="212" y="612"/>
                        <a:pt x="408" y="771"/>
                      </a:cubicBezTo>
                      <a:cubicBezTo>
                        <a:pt x="604" y="930"/>
                        <a:pt x="891" y="941"/>
                        <a:pt x="1179" y="953"/>
                      </a:cubicBez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024880" y="1844640"/>
                  <a:ext cx="1922760" cy="1878840"/>
                  <a:chOff x="5024880" y="1844640"/>
                  <a:chExt cx="1922760" cy="18788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024880" y="2861280"/>
                    <a:ext cx="1753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V="1">
                    <a:off x="5865480" y="1901520"/>
                    <a:ext cx="0" cy="182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598440" y="2757240"/>
                    <a:ext cx="349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623560" y="1844640"/>
                    <a:ext cx="349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03280" y="981000"/>
          <a:ext cx="7056360" cy="5192640"/>
        </p:xfrm>
        <a:graphic>
          <a:graphicData uri="http://schemas.openxmlformats.org/drawingml/2006/table">
            <a:tbl>
              <a:tblPr/>
              <a:tblGrid>
                <a:gridCol w="1440000"/>
                <a:gridCol w="2808000"/>
                <a:gridCol w="280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解析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象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492360" y="2405160"/>
            <a:ext cx="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1480" y="328464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516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30400" y="3238560"/>
            <a:ext cx="5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4186080"/>
            <a:ext cx="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5108400"/>
            <a:ext cx="56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4322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6360" y="504180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44960" y="1455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=kx  ( 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0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96000" y="1413000"/>
            <a:ext cx="2952720" cy="623880"/>
            <a:chOff x="5796000" y="1413000"/>
            <a:chExt cx="2952720" cy="623880"/>
          </a:xfrm>
        </p:grpSpPr>
        <p:sp>
          <p:nvSpPr>
            <p:cNvPr id="225" name=""/>
            <p:cNvSpPr/>
            <p:nvPr/>
          </p:nvSpPr>
          <p:spPr>
            <a:xfrm>
              <a:off x="6372360" y="15364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 k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是常数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,k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≠0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796000" y="1413000"/>
              <a:ext cx="820800" cy="623880"/>
              <a:chOff x="5796000" y="1413000"/>
              <a:chExt cx="820800" cy="623880"/>
            </a:xfrm>
          </p:grpSpPr>
          <p:sp>
            <p:nvSpPr>
              <p:cNvPr id="227" name=""/>
              <p:cNvSpPr/>
              <p:nvPr/>
            </p:nvSpPr>
            <p:spPr>
              <a:xfrm>
                <a:off x="5796000" y="154584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y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84800" y="16380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4800" y="141300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27640" y="1752480"/>
                <a:ext cx="2160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173400" y="19321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1680" y="19321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3368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2640" y="350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0320" y="2392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4862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63920" y="4264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7240" y="4249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373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5345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213372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198900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0720" y="2450880"/>
            <a:ext cx="863280" cy="718920"/>
            <a:chOff x="4500720" y="2450880"/>
            <a:chExt cx="863280" cy="718920"/>
          </a:xfrm>
        </p:grpSpPr>
        <p:sp>
          <p:nvSpPr>
            <p:cNvPr id="244" name=""/>
            <p:cNvSpPr/>
            <p:nvPr/>
          </p:nvSpPr>
          <p:spPr>
            <a:xfrm>
              <a:off x="4500720" y="2823840"/>
              <a:ext cx="86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916160" y="245088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0040" y="2536560"/>
              <a:ext cx="550440" cy="57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72000" y="4292280"/>
            <a:ext cx="863640" cy="718920"/>
            <a:chOff x="4572000" y="4292280"/>
            <a:chExt cx="863640" cy="718920"/>
          </a:xfrm>
        </p:grpSpPr>
        <p:sp>
          <p:nvSpPr>
            <p:cNvPr id="248" name=""/>
            <p:cNvSpPr/>
            <p:nvPr/>
          </p:nvSpPr>
          <p:spPr>
            <a:xfrm>
              <a:off x="4572000" y="466524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987800" y="429228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2160" y="4436640"/>
              <a:ext cx="50472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140600" y="2454120"/>
            <a:ext cx="863640" cy="719280"/>
            <a:chOff x="7140600" y="2454120"/>
            <a:chExt cx="863640" cy="719280"/>
          </a:xfrm>
        </p:grpSpPr>
        <p:sp>
          <p:nvSpPr>
            <p:cNvPr id="252" name=""/>
            <p:cNvSpPr/>
            <p:nvPr/>
          </p:nvSpPr>
          <p:spPr>
            <a:xfrm>
              <a:off x="7140600" y="28270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556400" y="245412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9480" y="2525400"/>
              <a:ext cx="219240" cy="25560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0" y="0"/>
                  </a:moveTo>
                  <a:cubicBezTo>
                    <a:pt x="0" y="37"/>
                    <a:pt x="1" y="74"/>
                    <a:pt x="24" y="93"/>
                  </a:cubicBezTo>
                  <a:cubicBezTo>
                    <a:pt x="47" y="112"/>
                    <a:pt x="92" y="113"/>
                    <a:pt x="138" y="1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9120" y="2874960"/>
              <a:ext cx="227160" cy="21888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0" y="7"/>
                  </a:moveTo>
                  <a:cubicBezTo>
                    <a:pt x="1" y="3"/>
                    <a:pt x="2" y="0"/>
                    <a:pt x="20" y="3"/>
                  </a:cubicBezTo>
                  <a:cubicBezTo>
                    <a:pt x="38" y="6"/>
                    <a:pt x="89" y="4"/>
                    <a:pt x="110" y="27"/>
                  </a:cubicBezTo>
                  <a:cubicBezTo>
                    <a:pt x="131" y="50"/>
                    <a:pt x="137" y="94"/>
                    <a:pt x="143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1520" y="4282920"/>
            <a:ext cx="863640" cy="719280"/>
            <a:chOff x="7121520" y="4282920"/>
            <a:chExt cx="863640" cy="719280"/>
          </a:xfrm>
        </p:grpSpPr>
        <p:sp>
          <p:nvSpPr>
            <p:cNvPr id="257" name=""/>
            <p:cNvSpPr/>
            <p:nvPr/>
          </p:nvSpPr>
          <p:spPr>
            <a:xfrm>
              <a:off x="7121520" y="465588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37320" y="428292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3400" y="4690800"/>
              <a:ext cx="228600" cy="25236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117" y="0"/>
                  </a:moveTo>
                  <a:cubicBezTo>
                    <a:pt x="81" y="8"/>
                    <a:pt x="46" y="16"/>
                    <a:pt x="27" y="46"/>
                  </a:cubicBezTo>
                  <a:cubicBezTo>
                    <a:pt x="8" y="76"/>
                    <a:pt x="4" y="159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59760" y="4368600"/>
              <a:ext cx="228600" cy="23184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40" y="0"/>
                  </a:moveTo>
                  <a:lnTo>
                    <a:pt x="144" y="20"/>
                  </a:lnTo>
                  <a:cubicBezTo>
                    <a:pt x="141" y="40"/>
                    <a:pt x="144" y="98"/>
                    <a:pt x="120" y="119"/>
                  </a:cubicBezTo>
                  <a:cubicBezTo>
                    <a:pt x="96" y="140"/>
                    <a:pt x="48" y="143"/>
                    <a:pt x="0" y="1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0920" y="1581120"/>
            <a:ext cx="1042920" cy="222696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表分析正比例函数和反比例函数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401760"/>
            <a:ext cx="139716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 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651240"/>
            <a:ext cx="30592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06880" y="777960"/>
            <a:ext cx="618480" cy="796680"/>
            <a:chOff x="3206880" y="777960"/>
            <a:chExt cx="618480" cy="796680"/>
          </a:xfrm>
        </p:grpSpPr>
        <p:sp>
          <p:nvSpPr>
            <p:cNvPr id="267" name=""/>
            <p:cNvSpPr/>
            <p:nvPr/>
          </p:nvSpPr>
          <p:spPr>
            <a:xfrm>
              <a:off x="3379680" y="120960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3720" y="10540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9680" y="77796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06880" y="1209600"/>
              <a:ext cx="14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08000" y="2441880"/>
            <a:ext cx="4392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函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x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一坐标系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大致是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6000" y="2806560"/>
            <a:ext cx="446040" cy="796680"/>
            <a:chOff x="1116000" y="2806560"/>
            <a:chExt cx="446040" cy="796680"/>
          </a:xfrm>
        </p:grpSpPr>
        <p:sp>
          <p:nvSpPr>
            <p:cNvPr id="273" name=""/>
            <p:cNvSpPr/>
            <p:nvPr/>
          </p:nvSpPr>
          <p:spPr>
            <a:xfrm>
              <a:off x="1116000" y="3238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0400" y="3082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28065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8000" y="42181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切实数，在下列函数中，当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时，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总是增大的函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537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 = -5x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-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B)y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51080" y="5360400"/>
            <a:ext cx="38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538440" y="5208480"/>
            <a:ext cx="446040" cy="839520"/>
            <a:chOff x="3538440" y="5208480"/>
            <a:chExt cx="446040" cy="839520"/>
          </a:xfrm>
        </p:grpSpPr>
        <p:sp>
          <p:nvSpPr>
            <p:cNvPr id="280" name=""/>
            <p:cNvSpPr/>
            <p:nvPr/>
          </p:nvSpPr>
          <p:spPr>
            <a:xfrm>
              <a:off x="3538440" y="5640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52840" y="55274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38440" y="52084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589640" y="260280"/>
            <a:ext cx="3438000" cy="2561760"/>
            <a:chOff x="4589640" y="260280"/>
            <a:chExt cx="3438000" cy="2561760"/>
          </a:xfrm>
        </p:grpSpPr>
        <p:grpSp>
          <p:nvGrpSpPr>
            <p:cNvPr id="284" name=""/>
            <p:cNvGrpSpPr/>
            <p:nvPr/>
          </p:nvGrpSpPr>
          <p:grpSpPr>
            <a:xfrm>
              <a:off x="5105520" y="272880"/>
              <a:ext cx="1257480" cy="1211040"/>
              <a:chOff x="5105520" y="272880"/>
              <a:chExt cx="1257480" cy="1211040"/>
            </a:xfrm>
          </p:grpSpPr>
          <p:sp>
            <p:nvSpPr>
              <p:cNvPr id="285" name=""/>
              <p:cNvSpPr/>
              <p:nvPr/>
            </p:nvSpPr>
            <p:spPr>
              <a:xfrm>
                <a:off x="5105520" y="96012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5668920" y="4042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75360" y="90468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31120" y="2728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249880" y="612720"/>
                <a:ext cx="83844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21400" y="887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87960" y="455400"/>
                <a:ext cx="420840" cy="436680"/>
              </a:xfrm>
              <a:custGeom>
                <a:avLst/>
                <a:gdLst/>
                <a:ahLst/>
                <a:rect l="l" t="t" r="r" b="b"/>
                <a:pathLst>
                  <a:path w="265" h="275">
                    <a:moveTo>
                      <a:pt x="265" y="0"/>
                    </a:moveTo>
                    <a:cubicBezTo>
                      <a:pt x="254" y="82"/>
                      <a:pt x="244" y="165"/>
                      <a:pt x="200" y="211"/>
                    </a:cubicBezTo>
                    <a:cubicBezTo>
                      <a:pt x="156" y="257"/>
                      <a:pt x="78" y="266"/>
                      <a:pt x="0" y="27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08880" y="1019160"/>
                <a:ext cx="333360" cy="393480"/>
              </a:xfrm>
              <a:custGeom>
                <a:avLst/>
                <a:gdLst/>
                <a:ahLst/>
                <a:rect l="l" t="t" r="r" b="b"/>
                <a:pathLst>
                  <a:path w="210" h="248">
                    <a:moveTo>
                      <a:pt x="210" y="8"/>
                    </a:moveTo>
                    <a:cubicBezTo>
                      <a:pt x="150" y="4"/>
                      <a:pt x="91" y="0"/>
                      <a:pt x="56" y="40"/>
                    </a:cubicBezTo>
                    <a:cubicBezTo>
                      <a:pt x="21" y="80"/>
                      <a:pt x="9" y="212"/>
                      <a:pt x="0" y="248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770880" y="260280"/>
              <a:ext cx="1256760" cy="1211040"/>
              <a:chOff x="6770880" y="260280"/>
              <a:chExt cx="1256760" cy="1211040"/>
            </a:xfrm>
          </p:grpSpPr>
          <p:sp>
            <p:nvSpPr>
              <p:cNvPr id="294" name=""/>
              <p:cNvSpPr/>
              <p:nvPr/>
            </p:nvSpPr>
            <p:spPr>
              <a:xfrm>
                <a:off x="6770880" y="947520"/>
                <a:ext cx="11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333920" y="391680"/>
                <a:ext cx="0" cy="10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40360" y="892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96120" y="260280"/>
                <a:ext cx="28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914880" y="600120"/>
                <a:ext cx="83808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6400" y="874800"/>
                <a:ext cx="28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14880" y="1004760"/>
                <a:ext cx="344160" cy="407880"/>
              </a:xfrm>
              <a:custGeom>
                <a:avLst/>
                <a:gdLst/>
                <a:ahLst/>
                <a:rect l="l" t="t" r="r" b="b"/>
                <a:pathLst>
                  <a:path w="217" h="257">
                    <a:moveTo>
                      <a:pt x="0" y="12"/>
                    </a:moveTo>
                    <a:cubicBezTo>
                      <a:pt x="58" y="6"/>
                      <a:pt x="117" y="0"/>
                      <a:pt x="153" y="41"/>
                    </a:cubicBezTo>
                    <a:cubicBezTo>
                      <a:pt x="189" y="82"/>
                      <a:pt x="203" y="169"/>
                      <a:pt x="217" y="257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14920" y="547560"/>
                <a:ext cx="365040" cy="339840"/>
              </a:xfrm>
              <a:custGeom>
                <a:avLst/>
                <a:gdLst/>
                <a:ahLst/>
                <a:rect l="l" t="t" r="r" b="b"/>
                <a:pathLst>
                  <a:path w="230" h="214">
                    <a:moveTo>
                      <a:pt x="2" y="0"/>
                    </a:moveTo>
                    <a:cubicBezTo>
                      <a:pt x="1" y="65"/>
                      <a:pt x="0" y="130"/>
                      <a:pt x="38" y="166"/>
                    </a:cubicBezTo>
                    <a:cubicBezTo>
                      <a:pt x="76" y="202"/>
                      <a:pt x="198" y="206"/>
                      <a:pt x="230" y="21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4589640" y="803160"/>
              <a:ext cx="3438000" cy="2018880"/>
              <a:chOff x="4589640" y="803160"/>
              <a:chExt cx="3438000" cy="20188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105520" y="1611360"/>
                <a:ext cx="1257120" cy="1210680"/>
                <a:chOff x="5105520" y="1611360"/>
                <a:chExt cx="1257120" cy="12106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105520" y="22982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5187960" y="1611360"/>
                  <a:ext cx="1174680" cy="1210680"/>
                  <a:chOff x="5187960" y="1611360"/>
                  <a:chExt cx="1174680" cy="12106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V="1">
                    <a:off x="5668920" y="1742760"/>
                    <a:ext cx="0" cy="107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075360" y="2242800"/>
                    <a:ext cx="287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630760" y="1611360"/>
                    <a:ext cx="287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621400" y="222552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87960" y="1793520"/>
                    <a:ext cx="4208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75">
                        <a:moveTo>
                          <a:pt x="265" y="0"/>
                        </a:moveTo>
                        <a:cubicBezTo>
                          <a:pt x="254" y="82"/>
                          <a:pt x="244" y="165"/>
                          <a:pt x="200" y="211"/>
                        </a:cubicBezTo>
                        <a:cubicBezTo>
                          <a:pt x="156" y="257"/>
                          <a:pt x="78" y="266"/>
                          <a:pt x="0" y="275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708520" y="2357280"/>
                    <a:ext cx="33336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48">
                        <a:moveTo>
                          <a:pt x="210" y="8"/>
                        </a:moveTo>
                        <a:cubicBezTo>
                          <a:pt x="150" y="4"/>
                          <a:pt x="91" y="0"/>
                          <a:pt x="56" y="40"/>
                        </a:cubicBezTo>
                        <a:cubicBezTo>
                          <a:pt x="21" y="80"/>
                          <a:pt x="9" y="212"/>
                          <a:pt x="0" y="248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369040" y="1928520"/>
                    <a:ext cx="672840" cy="76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6770880" y="1611360"/>
                <a:ext cx="1256760" cy="1210680"/>
                <a:chOff x="6770880" y="1611360"/>
                <a:chExt cx="1256760" cy="12106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770880" y="229824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333920" y="174276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740360" y="224280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96120" y="161136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86400" y="222552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999120" y="1923840"/>
                  <a:ext cx="672840" cy="76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914880" y="2355480"/>
                  <a:ext cx="344160" cy="40752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14920" y="1898280"/>
                  <a:ext cx="365040" cy="33948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4589640" y="8445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20160" y="80316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31040" y="212400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26280" y="21333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618080" y="2852640"/>
            <a:ext cx="3463560" cy="2531880"/>
            <a:chOff x="4618080" y="2852640"/>
            <a:chExt cx="3463560" cy="2531880"/>
          </a:xfrm>
        </p:grpSpPr>
        <p:sp>
          <p:nvSpPr>
            <p:cNvPr id="327" name=""/>
            <p:cNvSpPr/>
            <p:nvPr/>
          </p:nvSpPr>
          <p:spPr>
            <a:xfrm>
              <a:off x="4618080" y="3386160"/>
              <a:ext cx="43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659480" y="2852640"/>
              <a:ext cx="3422160" cy="2531880"/>
              <a:chOff x="4659480" y="2852640"/>
              <a:chExt cx="3422160" cy="2531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088240" y="2868480"/>
                <a:ext cx="1256760" cy="1211040"/>
                <a:chOff x="5088240" y="2868480"/>
                <a:chExt cx="1256760" cy="1211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088240" y="355572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5651280" y="299988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7720" y="3500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613480" y="286848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5354640" y="3270240"/>
                  <a:ext cx="837720" cy="70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03760" y="348300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232240" y="3612960"/>
                  <a:ext cx="34416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32280" y="3155760"/>
                  <a:ext cx="36504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799320" y="2852640"/>
                <a:ext cx="1257480" cy="1211040"/>
                <a:chOff x="6799320" y="2852640"/>
                <a:chExt cx="1257480" cy="1211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799320" y="353988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7362720" y="298404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769160" y="348444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24920" y="285264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315200" y="34671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37360" y="3055680"/>
                  <a:ext cx="673200" cy="762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43680" y="3597120"/>
                  <a:ext cx="34452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443720" y="3139920"/>
                  <a:ext cx="36540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6348600" y="334476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659480" y="4665600"/>
                <a:ext cx="433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55080" y="4674960"/>
                <a:ext cx="43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5121360" y="4165560"/>
                <a:ext cx="1257480" cy="1210680"/>
                <a:chOff x="5121360" y="4165560"/>
                <a:chExt cx="1257480" cy="12106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121360" y="48524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5684760" y="4296960"/>
                  <a:ext cx="0" cy="107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91200" y="4797000"/>
                  <a:ext cx="28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46960" y="41655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5121360" y="4426920"/>
                  <a:ext cx="838080" cy="70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637240" y="477972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65720" y="4909680"/>
                  <a:ext cx="344520" cy="40752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65760" y="4452480"/>
                  <a:ext cx="365400" cy="33948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824880" y="4173480"/>
                <a:ext cx="1256760" cy="1211040"/>
                <a:chOff x="6824880" y="4173480"/>
                <a:chExt cx="1256760" cy="12110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824880" y="4860720"/>
                  <a:ext cx="11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7387920" y="4304880"/>
                  <a:ext cx="0" cy="10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794360" y="48052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50120" y="4173480"/>
                  <a:ext cx="28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40400" y="4788000"/>
                  <a:ext cx="28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994440" y="4572000"/>
                  <a:ext cx="672840" cy="762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68880" y="4917960"/>
                  <a:ext cx="344160" cy="40788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68920" y="4460760"/>
                  <a:ext cx="365040" cy="33984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8" name=""/>
          <p:cNvSpPr/>
          <p:nvPr/>
        </p:nvSpPr>
        <p:spPr>
          <a:xfrm>
            <a:off x="4464000" y="292428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757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3220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43480" y="4848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762120"/>
            <a:ext cx="89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反比例函数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，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和表达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14440" cy="841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28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补充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5911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47640" y="476280"/>
            <a:ext cx="144000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330200" y="954720"/>
            <a:ext cx="10947240" cy="5061600"/>
            <a:chOff x="1330200" y="954720"/>
            <a:chExt cx="10947240" cy="5061600"/>
          </a:xfrm>
        </p:grpSpPr>
        <p:sp>
          <p:nvSpPr>
            <p:cNvPr id="378" name=""/>
            <p:cNvSpPr/>
            <p:nvPr/>
          </p:nvSpPr>
          <p:spPr>
            <a:xfrm>
              <a:off x="1330200" y="954720"/>
              <a:ext cx="7634160" cy="50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请大家围绕以下三个问题小结本节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什么是反比例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反比例函数的图象是什么样子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③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反比例函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性质是什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79640" y="3898800"/>
              <a:ext cx="8497800" cy="941760"/>
              <a:chOff x="3779640" y="3898800"/>
              <a:chExt cx="8497800" cy="9417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3779640" y="3898800"/>
                <a:ext cx="8497800" cy="941760"/>
                <a:chOff x="3779640" y="3898800"/>
                <a:chExt cx="8497800" cy="94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779640" y="4214880"/>
                  <a:ext cx="8497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          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（   是常数，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865320" y="3898800"/>
                  <a:ext cx="1222200" cy="941760"/>
                  <a:chOff x="3865320" y="3898800"/>
                  <a:chExt cx="1222200" cy="941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865320" y="4127400"/>
                    <a:ext cx="776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 =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570200" y="4416480"/>
                    <a:ext cx="517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647960" y="42591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4720" y="389880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>
                <a:off x="6916680" y="41688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17920" y="41544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76960" y="416880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3132000" y="476280"/>
            <a:ext cx="1116000" cy="4597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考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</a:rPr>
              <a:t>例题：根据反比例函数图象确定字母系数取值范围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76720" y="1773360"/>
            <a:ext cx="3382920" cy="3476520"/>
            <a:chOff x="5076720" y="1773360"/>
            <a:chExt cx="3382920" cy="3476520"/>
          </a:xfrm>
        </p:grpSpPr>
        <p:grpSp>
          <p:nvGrpSpPr>
            <p:cNvPr id="393" name=""/>
            <p:cNvGrpSpPr/>
            <p:nvPr/>
          </p:nvGrpSpPr>
          <p:grpSpPr>
            <a:xfrm>
              <a:off x="5076720" y="1773360"/>
              <a:ext cx="3382920" cy="3456000"/>
              <a:chOff x="5076720" y="1773360"/>
              <a:chExt cx="3382920" cy="3456000"/>
            </a:xfrm>
          </p:grpSpPr>
          <p:sp>
            <p:nvSpPr>
              <p:cNvPr id="394" name=""/>
              <p:cNvSpPr/>
              <p:nvPr/>
            </p:nvSpPr>
            <p:spPr>
              <a:xfrm>
                <a:off x="5076720" y="342900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-50400" bIns="-50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516720" y="1773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27640" y="3429000"/>
                <a:ext cx="43164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40720" y="3500640"/>
                <a:ext cx="71892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6360" y="1773360"/>
                <a:ext cx="50292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7107120" y="4365720"/>
              <a:ext cx="1339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8000" y="2060640"/>
              <a:ext cx="1295640" cy="1297080"/>
            </a:xfrm>
            <a:custGeom>
              <a:avLst/>
              <a:gdLst/>
              <a:ahLst/>
              <a:rect l="l" t="t" r="r" b="b"/>
              <a:pathLst>
                <a:path w="816" h="817">
                  <a:moveTo>
                    <a:pt x="0" y="817"/>
                  </a:moveTo>
                  <a:cubicBezTo>
                    <a:pt x="249" y="817"/>
                    <a:pt x="499" y="817"/>
                    <a:pt x="635" y="681"/>
                  </a:cubicBezTo>
                  <a:cubicBezTo>
                    <a:pt x="771" y="545"/>
                    <a:pt x="786" y="113"/>
                    <a:pt x="816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88000" y="3441960"/>
              <a:ext cx="1224000" cy="1282680"/>
            </a:xfrm>
            <a:custGeom>
              <a:avLst/>
              <a:gdLst/>
              <a:ahLst/>
              <a:rect l="l" t="t" r="r" b="b"/>
              <a:pathLst>
                <a:path w="771" h="808">
                  <a:moveTo>
                    <a:pt x="771" y="37"/>
                  </a:moveTo>
                  <a:cubicBezTo>
                    <a:pt x="540" y="18"/>
                    <a:pt x="310" y="0"/>
                    <a:pt x="182" y="128"/>
                  </a:cubicBezTo>
                  <a:cubicBezTo>
                    <a:pt x="54" y="256"/>
                    <a:pt x="27" y="532"/>
                    <a:pt x="0" y="80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00000" y="1773360"/>
            <a:ext cx="3382920" cy="3456000"/>
            <a:chOff x="900000" y="1773360"/>
            <a:chExt cx="3382920" cy="345600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2933640" y="2211480"/>
              <a:ext cx="1244520" cy="85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"/>
            <p:cNvGrpSpPr/>
            <p:nvPr/>
          </p:nvGrpSpPr>
          <p:grpSpPr>
            <a:xfrm>
              <a:off x="900000" y="1773360"/>
              <a:ext cx="3382920" cy="3456000"/>
              <a:chOff x="900000" y="1773360"/>
              <a:chExt cx="3382920" cy="34560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900000" y="1773360"/>
                <a:ext cx="3382920" cy="3456000"/>
                <a:chOff x="900000" y="1773360"/>
                <a:chExt cx="3382920" cy="34560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900000" y="3429000"/>
                  <a:ext cx="302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1160" rIns="101160" tIns="-50400" bIns="-50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2340000" y="1773360"/>
                  <a:ext cx="0" cy="34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1160" rIns="101160" tIns="50400" bIns="50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50920" y="3429000"/>
                  <a:ext cx="4316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564000" y="3500640"/>
                  <a:ext cx="7189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979640" y="1773360"/>
                  <a:ext cx="5029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7920" rIns="97920" tIns="48960" bIns="489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544480" y="2133720"/>
                <a:ext cx="1090800" cy="1150920"/>
              </a:xfrm>
              <a:custGeom>
                <a:avLst/>
                <a:gdLst/>
                <a:ahLst/>
                <a:rect l="l" t="t" r="r" b="b"/>
                <a:pathLst>
                  <a:path w="597" h="680">
                    <a:moveTo>
                      <a:pt x="7" y="0"/>
                    </a:moveTo>
                    <a:cubicBezTo>
                      <a:pt x="3" y="215"/>
                      <a:pt x="0" y="431"/>
                      <a:pt x="98" y="544"/>
                    </a:cubicBezTo>
                    <a:cubicBezTo>
                      <a:pt x="196" y="657"/>
                      <a:pt x="396" y="668"/>
                      <a:pt x="597" y="68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87280" y="3524400"/>
                <a:ext cx="1008000" cy="1200240"/>
              </a:xfrm>
              <a:custGeom>
                <a:avLst/>
                <a:gdLst/>
                <a:ahLst/>
                <a:rect l="l" t="t" r="r" b="b"/>
                <a:pathLst>
                  <a:path w="635" h="756">
                    <a:moveTo>
                      <a:pt x="0" y="31"/>
                    </a:moveTo>
                    <a:cubicBezTo>
                      <a:pt x="174" y="15"/>
                      <a:pt x="348" y="0"/>
                      <a:pt x="454" y="121"/>
                    </a:cubicBezTo>
                    <a:cubicBezTo>
                      <a:pt x="560" y="242"/>
                      <a:pt x="597" y="499"/>
                      <a:pt x="635" y="75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160" rIns="101160" tIns="50400" bIns="50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04640"/>
            <a:ext cx="856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进一步熟悉作函数图象的步骤，会做反比例函数的图象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体会函数的三种表示方法的相互转化，对函数进行认识上的整合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逐步提高从函数图象中获取信息的能力，探索并掌握反比例函数的主要性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k(x+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k/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它们在同一坐标系中的图象大致位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57200" y="2209680"/>
            <a:ext cx="1828800" cy="1980720"/>
            <a:chOff x="457200" y="2209680"/>
            <a:chExt cx="1828800" cy="1980720"/>
          </a:xfrm>
        </p:grpSpPr>
        <p:sp>
          <p:nvSpPr>
            <p:cNvPr id="416" name=""/>
            <p:cNvSpPr/>
            <p:nvPr/>
          </p:nvSpPr>
          <p:spPr>
            <a:xfrm>
              <a:off x="4572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1430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514600" y="2209680"/>
            <a:ext cx="1828800" cy="1980720"/>
            <a:chOff x="2514600" y="2209680"/>
            <a:chExt cx="1828800" cy="1980720"/>
          </a:xfrm>
        </p:grpSpPr>
        <p:sp>
          <p:nvSpPr>
            <p:cNvPr id="422" name=""/>
            <p:cNvSpPr/>
            <p:nvPr/>
          </p:nvSpPr>
          <p:spPr>
            <a:xfrm>
              <a:off x="25146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2004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954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54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384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572000" y="2209680"/>
            <a:ext cx="1828800" cy="1980720"/>
            <a:chOff x="4572000" y="2209680"/>
            <a:chExt cx="1828800" cy="1980720"/>
          </a:xfrm>
        </p:grpSpPr>
        <p:sp>
          <p:nvSpPr>
            <p:cNvPr id="428" name=""/>
            <p:cNvSpPr/>
            <p:nvPr/>
          </p:nvSpPr>
          <p:spPr>
            <a:xfrm>
              <a:off x="457200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25780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5288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5288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588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705720" y="2209680"/>
            <a:ext cx="1828800" cy="1980720"/>
            <a:chOff x="6705720" y="2209680"/>
            <a:chExt cx="1828800" cy="1980720"/>
          </a:xfrm>
        </p:grpSpPr>
        <p:sp>
          <p:nvSpPr>
            <p:cNvPr id="434" name=""/>
            <p:cNvSpPr/>
            <p:nvPr/>
          </p:nvSpPr>
          <p:spPr>
            <a:xfrm>
              <a:off x="6705720" y="32004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91520" y="22856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400" bIns="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6600" y="320040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6600" y="2209680"/>
              <a:ext cx="2286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29600" y="3200400"/>
              <a:ext cx="3049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85800" y="2514600"/>
            <a:ext cx="129528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743200"/>
            <a:ext cx="99036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876920" y="2819520"/>
            <a:ext cx="11430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2743200"/>
            <a:ext cx="129528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2209680"/>
            <a:ext cx="53316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88" y="0"/>
                </a:moveTo>
                <a:cubicBezTo>
                  <a:pt x="312" y="168"/>
                  <a:pt x="336" y="336"/>
                  <a:pt x="288" y="432"/>
                </a:cubicBezTo>
                <a:cubicBezTo>
                  <a:pt x="240" y="528"/>
                  <a:pt x="120" y="552"/>
                  <a:pt x="0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3276720"/>
            <a:ext cx="609840" cy="6094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0"/>
                </a:moveTo>
                <a:cubicBezTo>
                  <a:pt x="272" y="16"/>
                  <a:pt x="160" y="32"/>
                  <a:pt x="96" y="96"/>
                </a:cubicBezTo>
                <a:cubicBezTo>
                  <a:pt x="32" y="160"/>
                  <a:pt x="16" y="272"/>
                  <a:pt x="0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3352680"/>
            <a:ext cx="609840" cy="60984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384" y="0"/>
                </a:moveTo>
                <a:cubicBezTo>
                  <a:pt x="272" y="16"/>
                  <a:pt x="160" y="32"/>
                  <a:pt x="96" y="96"/>
                </a:cubicBezTo>
                <a:cubicBezTo>
                  <a:pt x="32" y="160"/>
                  <a:pt x="16" y="272"/>
                  <a:pt x="0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220968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88" y="0"/>
                </a:moveTo>
                <a:cubicBezTo>
                  <a:pt x="312" y="168"/>
                  <a:pt x="336" y="336"/>
                  <a:pt x="288" y="432"/>
                </a:cubicBezTo>
                <a:cubicBezTo>
                  <a:pt x="240" y="528"/>
                  <a:pt x="120" y="552"/>
                  <a:pt x="0" y="57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40080" y="24382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8" y="0"/>
                </a:moveTo>
                <a:cubicBezTo>
                  <a:pt x="4" y="108"/>
                  <a:pt x="0" y="216"/>
                  <a:pt x="56" y="288"/>
                </a:cubicBezTo>
                <a:cubicBezTo>
                  <a:pt x="112" y="360"/>
                  <a:pt x="228" y="396"/>
                  <a:pt x="344" y="4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3526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96" y="16"/>
                  <a:pt x="192" y="32"/>
                  <a:pt x="240" y="96"/>
                </a:cubicBezTo>
                <a:cubicBezTo>
                  <a:pt x="288" y="160"/>
                  <a:pt x="288" y="272"/>
                  <a:pt x="288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67480" y="2438280"/>
            <a:ext cx="546120" cy="685800"/>
          </a:xfrm>
          <a:custGeom>
            <a:avLst/>
            <a:gdLst/>
            <a:ahLst/>
            <a:rect l="l" t="t" r="r" b="b"/>
            <a:pathLst>
              <a:path w="344" h="432">
                <a:moveTo>
                  <a:pt x="8" y="0"/>
                </a:moveTo>
                <a:cubicBezTo>
                  <a:pt x="4" y="108"/>
                  <a:pt x="0" y="216"/>
                  <a:pt x="56" y="288"/>
                </a:cubicBezTo>
                <a:cubicBezTo>
                  <a:pt x="112" y="360"/>
                  <a:pt x="228" y="396"/>
                  <a:pt x="344" y="4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34290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96" y="16"/>
                  <a:pt x="192" y="32"/>
                  <a:pt x="240" y="96"/>
                </a:cubicBezTo>
                <a:cubicBezTo>
                  <a:pt x="288" y="160"/>
                  <a:pt x="288" y="272"/>
                  <a:pt x="288" y="3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57200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57200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449568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449568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34B-BF7F-4729-BAA9-1573C0A197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324000" y="260280"/>
            <a:ext cx="8456040" cy="5979600"/>
            <a:chOff x="324000" y="260280"/>
            <a:chExt cx="8456040" cy="597960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363240" y="260280"/>
              <a:ext cx="8416800" cy="28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324000" y="3714840"/>
              <a:ext cx="8219880" cy="2525040"/>
              <a:chOff x="324000" y="3714840"/>
              <a:chExt cx="8219880" cy="2525040"/>
            </a:xfrm>
          </p:grpSpPr>
          <p:sp>
            <p:nvSpPr>
              <p:cNvPr id="461" name=""/>
              <p:cNvSpPr/>
              <p:nvPr/>
            </p:nvSpPr>
            <p:spPr>
              <a:xfrm>
                <a:off x="324000" y="4764240"/>
                <a:ext cx="168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110960" y="3924360"/>
                <a:ext cx="0" cy="17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10560" y="4149720"/>
                <a:ext cx="1014120" cy="11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112040" y="4800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88840" y="47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69040" y="3905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00080" y="566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4880" y="4821480"/>
                <a:ext cx="563040" cy="726840"/>
              </a:xfrm>
              <a:custGeom>
                <a:avLst/>
                <a:gdLst/>
                <a:ahLst/>
                <a:rect l="l" t="t" r="r" b="b"/>
                <a:pathLst>
                  <a:path w="453" h="589">
                    <a:moveTo>
                      <a:pt x="0" y="0"/>
                    </a:moveTo>
                    <a:cubicBezTo>
                      <a:pt x="144" y="41"/>
                      <a:pt x="288" y="83"/>
                      <a:pt x="363" y="181"/>
                    </a:cubicBezTo>
                    <a:cubicBezTo>
                      <a:pt x="438" y="279"/>
                      <a:pt x="445" y="434"/>
                      <a:pt x="453" y="5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23640" y="4037040"/>
                <a:ext cx="733320" cy="615960"/>
              </a:xfrm>
              <a:custGeom>
                <a:avLst/>
                <a:gdLst/>
                <a:ahLst/>
                <a:rect l="l" t="t" r="r" b="b"/>
                <a:pathLst>
                  <a:path w="454" h="499">
                    <a:moveTo>
                      <a:pt x="0" y="0"/>
                    </a:moveTo>
                    <a:cubicBezTo>
                      <a:pt x="30" y="140"/>
                      <a:pt x="60" y="280"/>
                      <a:pt x="136" y="363"/>
                    </a:cubicBezTo>
                    <a:cubicBezTo>
                      <a:pt x="212" y="446"/>
                      <a:pt x="333" y="472"/>
                      <a:pt x="454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85080" y="5662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73440" y="4721400"/>
                <a:ext cx="17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394240" y="3876840"/>
                <a:ext cx="0" cy="174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04360" y="46530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00560" y="470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40800" y="3857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9360" y="4778640"/>
                <a:ext cx="586800" cy="731520"/>
              </a:xfrm>
              <a:custGeom>
                <a:avLst/>
                <a:gdLst/>
                <a:ahLst/>
                <a:rect l="l" t="t" r="r" b="b"/>
                <a:pathLst>
                  <a:path w="453" h="589">
                    <a:moveTo>
                      <a:pt x="0" y="0"/>
                    </a:moveTo>
                    <a:cubicBezTo>
                      <a:pt x="144" y="41"/>
                      <a:pt x="288" y="83"/>
                      <a:pt x="363" y="181"/>
                    </a:cubicBezTo>
                    <a:cubicBezTo>
                      <a:pt x="438" y="279"/>
                      <a:pt x="445" y="434"/>
                      <a:pt x="453" y="5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11600" y="3989520"/>
                <a:ext cx="764640" cy="620640"/>
              </a:xfrm>
              <a:custGeom>
                <a:avLst/>
                <a:gdLst/>
                <a:ahLst/>
                <a:rect l="l" t="t" r="r" b="b"/>
                <a:pathLst>
                  <a:path w="454" h="499">
                    <a:moveTo>
                      <a:pt x="0" y="0"/>
                    </a:moveTo>
                    <a:cubicBezTo>
                      <a:pt x="30" y="140"/>
                      <a:pt x="60" y="280"/>
                      <a:pt x="136" y="363"/>
                    </a:cubicBezTo>
                    <a:cubicBezTo>
                      <a:pt x="212" y="446"/>
                      <a:pt x="333" y="472"/>
                      <a:pt x="454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60720" y="4076640"/>
                <a:ext cx="99828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32360" y="4808520"/>
                <a:ext cx="172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608600" y="37753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164000" y="4149720"/>
                <a:ext cx="96984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8692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95720" y="3957840"/>
                <a:ext cx="688680" cy="730080"/>
              </a:xfrm>
              <a:custGeom>
                <a:avLst/>
                <a:gdLst/>
                <a:ahLst/>
                <a:rect l="l" t="t" r="r" b="b"/>
                <a:pathLst>
                  <a:path w="409" h="499">
                    <a:moveTo>
                      <a:pt x="409" y="0"/>
                    </a:moveTo>
                    <a:cubicBezTo>
                      <a:pt x="397" y="139"/>
                      <a:pt x="386" y="279"/>
                      <a:pt x="318" y="362"/>
                    </a:cubicBezTo>
                    <a:cubicBezTo>
                      <a:pt x="250" y="445"/>
                      <a:pt x="125" y="472"/>
                      <a:pt x="0" y="4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34240" y="4991040"/>
                <a:ext cx="688320" cy="609840"/>
              </a:xfrm>
              <a:custGeom>
                <a:avLst/>
                <a:gdLst/>
                <a:ahLst/>
                <a:rect l="l" t="t" r="r" b="b"/>
                <a:pathLst>
                  <a:path w="499" h="454">
                    <a:moveTo>
                      <a:pt x="499" y="0"/>
                    </a:moveTo>
                    <a:cubicBezTo>
                      <a:pt x="359" y="7"/>
                      <a:pt x="219" y="15"/>
                      <a:pt x="136" y="91"/>
                    </a:cubicBezTo>
                    <a:cubicBezTo>
                      <a:pt x="53" y="167"/>
                      <a:pt x="26" y="310"/>
                      <a:pt x="0" y="45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35000" y="4444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673040" y="3714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70160" y="4724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411280" y="4773600"/>
                <a:ext cx="172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274920" y="383688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42920" y="4124520"/>
                <a:ext cx="107928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55120" y="44118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25440" y="477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49440" y="37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60720" y="5780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55640" y="3979800"/>
                <a:ext cx="598320" cy="648000"/>
              </a:xfrm>
              <a:custGeom>
                <a:avLst/>
                <a:gdLst/>
                <a:ahLst/>
                <a:rect l="l" t="t" r="r" b="b"/>
                <a:pathLst>
                  <a:path w="377" h="408">
                    <a:moveTo>
                      <a:pt x="363" y="0"/>
                    </a:moveTo>
                    <a:cubicBezTo>
                      <a:pt x="370" y="125"/>
                      <a:pt x="377" y="250"/>
                      <a:pt x="317" y="318"/>
                    </a:cubicBezTo>
                    <a:cubicBezTo>
                      <a:pt x="257" y="386"/>
                      <a:pt x="128" y="397"/>
                      <a:pt x="0" y="4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348000" y="4916520"/>
                <a:ext cx="575640" cy="647640"/>
              </a:xfrm>
              <a:custGeom>
                <a:avLst/>
                <a:gdLst/>
                <a:ahLst/>
                <a:rect l="l" t="t" r="r" b="b"/>
                <a:pathLst>
                  <a:path w="363" h="408">
                    <a:moveTo>
                      <a:pt x="363" y="0"/>
                    </a:moveTo>
                    <a:cubicBezTo>
                      <a:pt x="256" y="11"/>
                      <a:pt x="150" y="23"/>
                      <a:pt x="90" y="91"/>
                    </a:cubicBezTo>
                    <a:cubicBezTo>
                      <a:pt x="30" y="159"/>
                      <a:pt x="15" y="283"/>
                      <a:pt x="0" y="4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16207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48000" y="1628640"/>
            <a:ext cx="518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8360" y="30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086600" cy="25113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477120" y="304920"/>
            <a:ext cx="2438280" cy="1447560"/>
          </a:xfrm>
          <a:prstGeom prst="cloudCallout">
            <a:avLst>
              <a:gd name="adj1" fmla="val -84375"/>
              <a:gd name="adj2" fmla="val 15109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684360" y="5334120"/>
            <a:ext cx="4495680" cy="1523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762120" y="914400"/>
            <a:ext cx="6095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！</a:t>
            </a:r>
            <a:endParaRPr b="1" i="1" lang="en-US" sz="4800" spc="1" strike="noStrike">
              <a:ln w="12600">
                <a:solidFill>
                  <a:srgbClr val="80008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知识回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2120"/>
            <a:ext cx="8534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反比例函数的表达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的图象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    的图象在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象限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  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,2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 的图象经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-3)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它的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1371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1066680" cy="84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90920" y="2514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01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1143000" cy="9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二、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57200"/>
            <a:ext cx="3352680" cy="87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1360" y="0"/>
            <a:ext cx="1278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复习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1360" y="0"/>
            <a:ext cx="1278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复习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反比例函数是一个怎样的图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反比例函数的图象的位置与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k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怎样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63400" y="5373720"/>
            <a:ext cx="56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&gt;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两支曲线分别位于第一、三象限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&lt;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两支曲线分别位于第二、四象限内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637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反比例函数的图象是双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08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反比例函数                                        的图象，回答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3353040" cy="108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函数图象分别位于哪几个象限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886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、三象限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876920"/>
            <a:ext cx="55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gt;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一象限；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lt;0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三象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6021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每一个象限内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当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取什么值时，图象在第一象限？当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取什么值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图象在第三象限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51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在每个象限内，随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值的增大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怎样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2621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0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3962520" cy="101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760" y="304920"/>
            <a:ext cx="364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有又什么共同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95680"/>
            <a:ext cx="86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函数图象分别位于哪个象限内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gt;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四象限；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lt;0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图象在第二象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在每个象限内，随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值的增大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怎样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172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每一个象限内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13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比例函数             的图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增大而减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在每一象限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增大而增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990360" cy="95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8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知识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303120"/>
            <a:ext cx="3581280" cy="687240"/>
            <a:chOff x="228600" y="303120"/>
            <a:chExt cx="3581280" cy="687240"/>
          </a:xfrm>
        </p:grpSpPr>
        <p:grpSp>
          <p:nvGrpSpPr>
            <p:cNvPr id="85" name=""/>
            <p:cNvGrpSpPr/>
            <p:nvPr/>
          </p:nvGrpSpPr>
          <p:grpSpPr>
            <a:xfrm>
              <a:off x="228600" y="303120"/>
              <a:ext cx="2362320" cy="520200"/>
              <a:chOff x="228600" y="303120"/>
              <a:chExt cx="2362320" cy="520200"/>
            </a:xfrm>
          </p:grpSpPr>
          <p:sp>
            <p:nvSpPr>
              <p:cNvPr id="86" name=""/>
              <p:cNvSpPr/>
              <p:nvPr/>
            </p:nvSpPr>
            <p:spPr>
              <a:xfrm>
                <a:off x="228600" y="35172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8880" y="30312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56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09480" y="137160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函数中，其图象位于第一、三象限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其所在的象限内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增大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6933960" cy="9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05720" y="1371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函数中，其图象位于第一、三象限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其所在的象限内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增大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77000" cy="98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590920"/>
            <a:ext cx="876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-2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B(-1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C(3,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在反比例函数            的图象上，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大小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505320"/>
            <a:ext cx="845820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k=4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图象在第一、三象限内，每一象限内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增大而减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0  ,    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Gungsuh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=3&gt;0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(-2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(-1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第三象限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(3,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第一象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gt;0, 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lt;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&lt;0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即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1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Gungsuh"/>
              </a:rPr>
              <a:t>&lt;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MS 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572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（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990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你能解答第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题吗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3:06:45Z</dcterms:created>
  <dc:creator>An</dc:creator>
  <dc:description/>
  <dc:language>en-US</dc:language>
  <cp:lastModifiedBy/>
  <dcterms:modified xsi:type="dcterms:W3CDTF">2015-07-11T05:59:29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