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4A8-B0F7-4D4C-824D-1769CE85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2A4-C6E9-492F-BF8B-741784B7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444-3DA0-4A8F-BB01-1463B888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D46-6723-4A0D-A857-68DB0431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BFF-8002-4FC1-8D03-9202FDA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061-F17A-4553-86CC-86AA567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8CE-D55D-4BE1-8D9E-724B857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D04-C7D2-4E2D-8356-87FFB44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926-85DB-456D-83C5-077FEC0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62C-43B9-4604-8BEC-7E63274A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B11-0ECB-442B-9779-2E376FE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68B-5E6B-440E-8197-804E4DB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5B6-69E2-46BF-A85C-04F023622D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43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811240" y="15825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光斑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6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59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62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63" name="矩形 36"/>
              <p:cNvSpPr/>
              <p:nvPr/>
            </p:nvSpPr>
            <p:spPr>
              <a:xfrm>
                <a:off x="-19800" y="14500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66" name="矩形 34"/>
              <p:cNvSpPr/>
              <p:nvPr/>
            </p:nvSpPr>
            <p:spPr>
              <a:xfrm>
                <a:off x="-19800" y="19036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69" name="矩形 32"/>
              <p:cNvSpPr/>
              <p:nvPr/>
            </p:nvSpPr>
            <p:spPr>
              <a:xfrm>
                <a:off x="-19800" y="23572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72" name="矩形 30"/>
              <p:cNvSpPr/>
              <p:nvPr/>
            </p:nvSpPr>
            <p:spPr>
              <a:xfrm>
                <a:off x="-19800" y="28108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75" name="矩形 28"/>
              <p:cNvSpPr/>
              <p:nvPr/>
            </p:nvSpPr>
            <p:spPr>
              <a:xfrm>
                <a:off x="-19800" y="32648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78" name="矩形 26"/>
              <p:cNvSpPr/>
              <p:nvPr/>
            </p:nvSpPr>
            <p:spPr>
              <a:xfrm>
                <a:off x="-19800" y="37184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81" name="矩形 24"/>
              <p:cNvSpPr/>
              <p:nvPr/>
            </p:nvSpPr>
            <p:spPr>
              <a:xfrm>
                <a:off x="-39240" y="41720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TextBox 38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B6B-8737-42D3-B720-200F89CBE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dc:language>en-US</dc:language>
  <cp:lastModifiedBy>微软中国</cp:lastModifiedBy>
  <dcterms:modified xsi:type="dcterms:W3CDTF">2015-07-11T14:41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