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4C3-FF79-4B75-8014-25E0DFC5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206-B5A8-455F-8E4B-084B334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5AF-0FBD-47D6-AC83-BA01B3B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046-6495-4EAC-922F-8F3FEC0B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92E4-5006-4DD8-9ED2-B5A507F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E98-A404-481E-BAC2-B7E0225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D83-1EC9-4F1F-A644-0605C85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21E-EC8D-44BF-B07D-B6815D6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8097-78CA-4D15-B556-2ED49577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49E-BFAC-47A9-80AB-D9E48DB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AD1-3372-4A27-8202-A750C4A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0F1-B14A-4089-BC18-90D365B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091C-C93B-4691-8A26-A5A5473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1005-4038-4D11-826A-90ABB61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AC37-D83A-4355-8AAC-771CE730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AA79-0C25-45E7-ABB3-A9188757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E893-623C-4F28-B559-AE1223EC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C2E-B1F1-4EE8-90A4-FFA9EB1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2A4-1545-48F1-8763-FFFFBA1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EC6-5F2F-403C-8A4B-AACE498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190-5E8E-4F21-A98F-6B4CA2ED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8D2-4138-4932-9BA8-BF98E43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598-5531-44F3-8A20-142CC0E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FDE-C75A-4FD6-8FEF-9A7F31C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A04-F616-48C7-8035-C01BB4F6E9D9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2650-4209-4FD5-BD5C-A957CC4E9AD0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yundong/" TargetMode="External"/><Relationship Id="rId3" Type="http://schemas.openxmlformats.org/officeDocument/2006/relationships/hyperlink" Target="http://www.eeppt.com/moban/yundo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3623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24486c"/>
                </a:solidFill>
                <a:latin typeface="Impact"/>
                <a:ea typeface="宋体"/>
              </a:rPr>
              <a:t>高尔夫运动介绍</a:t>
            </a:r>
            <a:r>
              <a:rPr b="0" lang="zh-CN" sz="4500" spc="-1" strike="noStrike">
                <a:solidFill>
                  <a:srgbClr val="24486c"/>
                </a:solidFill>
                <a:latin typeface="Impact"/>
                <a:ea typeface="宋体"/>
              </a:rPr>
              <a:t>PPT</a:t>
            </a:r>
            <a:r>
              <a:rPr b="0" lang="zh-CN" sz="4500" spc="-1" strike="noStrike">
                <a:solidFill>
                  <a:srgbClr val="24486c"/>
                </a:solidFill>
                <a:latin typeface="Impact"/>
                <a:ea typeface="宋体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42900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86c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70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2819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86c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86c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60560" y="4626000"/>
            <a:ext cx="660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体育运动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0942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6944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2946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50Z</dcterms:created>
  <dc:creator>eclipse</dc:creator>
  <dc:description/>
  <dc:language>en-US</dc:language>
  <cp:lastModifiedBy>微软用户</cp:lastModifiedBy>
  <dcterms:modified xsi:type="dcterms:W3CDTF">2015-07-05T06:50:51Z</dcterms:modified>
  <cp:revision>25</cp:revision>
  <dc:subject/>
  <dc:title>Classy Engra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