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A29-547E-4156-B5CD-A58AD8B8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AD3-D713-4FFC-BA10-8185082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36B-AF50-468D-94E5-B303C62A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E47-03A0-44C4-B267-4E3EF111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C972-9D26-4B60-9A55-13BC7A38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AD4-38A2-4245-BC71-42067881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37D-BD15-4372-A897-7340A83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00D4-487A-425A-B1C4-173BFC04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DA7-08BD-431C-907A-31D17758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D472-E40A-4093-B7CE-D99B5C0F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6E71-A3C7-417B-A568-F0F75F0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5E5-9026-421D-A0EA-6DBB1A5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F796-C4ED-47B9-A2DB-CBB9D0F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C751-F30B-44FD-BCB5-6479DCCA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3678-85D0-4F85-8EE1-B084147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FFDF-0082-4034-B809-7537FC1A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426672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425840"/>
            <a:ext cx="28706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65ED-17C5-442C-A68C-661B7C3C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D95-0768-4E81-8819-3E2D96D0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E8C-339E-488E-A8B2-6CACA6F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DF0-2BDA-4F7A-899F-8364959E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875-4065-44F3-93F7-C0428119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A5F-5E18-4C43-8492-C3368B31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42584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527-0EE8-4CA0-AFB2-5D483DC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4266720"/>
            <a:ext cx="4350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425840"/>
            <a:ext cx="8915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FDE-2607-425B-89CC-0FA7B07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D63-FBB5-4846-A81C-A7DA6244CA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700B-284C-41B8-A51F-04DEA927E57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y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3733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Impact"/>
                <a:ea typeface="宋体"/>
              </a:rPr>
              <a:t>钢铁工业</a:t>
            </a:r>
            <a:r>
              <a:rPr b="1" lang="en-US" sz="45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5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426672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1480" y="5721480"/>
            <a:ext cx="68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工业制造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gongy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B10-36F6-4A55-A938-DEDAC4EDA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7620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eclipse</dc:creator>
  <dc:description/>
  <dc:language>en-US</dc:language>
  <cp:lastModifiedBy>微软用户</cp:lastModifiedBy>
  <dcterms:modified xsi:type="dcterms:W3CDTF">2015-07-11T15:07:53Z</dcterms:modified>
  <cp:revision>1</cp:revision>
  <dc:subject/>
  <dc:title>Extreme Mach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