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8358-DC3F-4617-AE8E-18B01CCB6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86000" y="408528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0A94B-3E5C-4540-8A15-1308159518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72904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3E1F2-E49F-4FA6-AE1F-C679C7996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5832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3028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28600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55832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83028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3120-B5CC-458B-83DB-34B7079BE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4F43B-9033-4CFA-A057-F084E776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CDE78-5C7D-4C7F-B457-53D0DCB0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51D47-9B0A-407D-9728-EC4356DD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42958-4414-4508-9173-3810A5A3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CF256-8C36-41D9-91A8-4E37F343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2285640" y="3047760"/>
            <a:ext cx="670572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BC35D-445A-42B2-BF90-D8454F13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98C27-1AF2-4055-9E7A-782A80D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4571-EB0D-49C7-9D25-D2C9A19DD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2904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442C1-619A-4A18-BA83-D36970EA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EE8A2-0D7A-4233-B490-CCC7B2C2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286000" y="408528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ADE23-8256-4A25-BB07-9A5F3574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72904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E41D2-249C-4359-B269-A1CEF3B3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5832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30280" y="388620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28600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55832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830280" y="4085280"/>
            <a:ext cx="2163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8E10-035E-42CC-AD46-4404C7C4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6719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7795D-62EB-41F9-8781-3A5491298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C90F-BB13-4B0F-80AB-169083F477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C14F5-9848-45B3-935D-318C45106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2285640" y="3047760"/>
            <a:ext cx="670572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CBC18-42CE-4664-B52A-67D453097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DE4FC-4F9B-4B5B-BA70-421CCE509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729040" y="408528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A18B-E860-4119-8331-D58EF8576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29040" y="3886200"/>
            <a:ext cx="32788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0" y="4085280"/>
            <a:ext cx="67197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7DB68-8BC5-402D-9B56-03AC22DB1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2200" y="0"/>
            <a:ext cx="2066760" cy="838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730600" y="0"/>
            <a:ext cx="2138400" cy="838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938840" y="0"/>
            <a:ext cx="2066760" cy="838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77240" y="0"/>
            <a:ext cx="2066760" cy="838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477120"/>
            <a:ext cx="86868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85800"/>
            <a:ext cx="9144000" cy="609480"/>
            <a:chOff x="0" y="685800"/>
            <a:chExt cx="9144000" cy="609480"/>
          </a:xfrm>
        </p:grpSpPr>
        <p:sp>
          <p:nvSpPr>
            <p:cNvPr id="6" name=""/>
            <p:cNvSpPr/>
            <p:nvPr/>
          </p:nvSpPr>
          <p:spPr>
            <a:xfrm>
              <a:off x="0" y="685800"/>
              <a:ext cx="9144000" cy="1522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60" y="685800"/>
              <a:ext cx="8569440" cy="609480"/>
            </a:xfrm>
            <a:prstGeom prst="rect">
              <a:avLst/>
            </a:prstGeom>
            <a:solidFill>
              <a:srgbClr val="1734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457200" y="1419120"/>
            <a:ext cx="8229600" cy="488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4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4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ftr" idx="1"/>
          </p:nvPr>
        </p:nvSpPr>
        <p:spPr>
          <a:xfrm>
            <a:off x="5867280" y="6477120"/>
            <a:ext cx="289584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2"/>
          </p:nvPr>
        </p:nvSpPr>
        <p:spPr>
          <a:xfrm>
            <a:off x="3123720" y="647712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CC90-CF7A-49CA-B881-3A60727CA50B}" type="slidenum">
              <a:rPr b="0" lang="en-US" sz="1200" spc="-1" strike="noStrike">
                <a:solidFill>
                  <a:srgbClr val="17347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"/>
          <p:cNvSpPr/>
          <p:nvPr/>
        </p:nvSpPr>
        <p:spPr>
          <a:xfrm>
            <a:off x="7391520" y="7632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0"/>
            <a:ext cx="2286000" cy="3124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09680" cy="31240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0"/>
            <a:ext cx="2209680" cy="3124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3124080"/>
            <a:ext cx="6858000" cy="6098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124080"/>
            <a:ext cx="9144000" cy="152640"/>
          </a:xfrm>
          <a:prstGeom prst="rect">
            <a:avLst/>
          </a:prstGeom>
          <a:solidFill>
            <a:srgbClr val="1734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3"/>
          </p:nvPr>
        </p:nvSpPr>
        <p:spPr>
          <a:xfrm>
            <a:off x="456840" y="6551640"/>
            <a:ext cx="213372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47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734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EBF4-8D7F-4A4F-AF52-A0A219BB6DD2}" type="slidenum">
              <a:rPr b="0" lang="en-US" sz="12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4600" y="2514600"/>
            <a:ext cx="17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L o g 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7347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7347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4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7347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734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5640" y="3047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owerPoint Templat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67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47d"/>
                </a:solidFill>
                <a:latin typeface="Verdana"/>
              </a:rPr>
              <a:t>幻灯片之家 </a:t>
            </a:r>
            <a:r>
              <a:rPr b="1" lang="zh-CN" sz="1800" spc="-1" strike="noStrike">
                <a:solidFill>
                  <a:srgbClr val="17347d"/>
                </a:solidFill>
                <a:latin typeface="Verdana"/>
              </a:rPr>
              <a:t>http://www.eeppt.com</a:t>
            </a:r>
            <a:endParaRPr b="0" lang="en-US" sz="18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927160" y="4572000"/>
            <a:ext cx="323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7347d"/>
                </a:solidFill>
                <a:latin typeface="Arial"/>
              </a:rPr>
              <a:t>国外</a:t>
            </a:r>
            <a:r>
              <a:rPr b="0" lang="zh-CN" sz="4000" spc="-1" strike="noStrike">
                <a:solidFill>
                  <a:srgbClr val="17347d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17347d"/>
                </a:solidFill>
                <a:latin typeface="Arial"/>
              </a:rPr>
              <a:t>模版</a:t>
            </a:r>
            <a:r>
              <a:rPr b="0" lang="zh-CN" sz="4000" spc="-1" strike="noStrike">
                <a:solidFill>
                  <a:srgbClr val="17347d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7347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073DE-AC4C-45B7-914B-C3D1E0F65B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47d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25289"/>
              </a:gs>
              <a:gs pos="50000">
                <a:srgbClr val="9999ff"/>
              </a:gs>
              <a:gs pos="100000">
                <a:srgbClr val="52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999ff">
                  <a:alpha val="0"/>
                </a:srgbClr>
              </a:gs>
              <a:gs pos="100000">
                <a:srgbClr val="6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969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969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05050"/>
              </a:gs>
              <a:gs pos="50000">
                <a:srgbClr val="969696"/>
              </a:gs>
              <a:gs pos="100000">
                <a:srgbClr val="50505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69696">
                  <a:alpha val="0"/>
                </a:srgbClr>
              </a:gs>
              <a:gs pos="100000">
                <a:srgbClr val="5e5e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266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7b7e7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6546a"/>
              </a:gs>
              <a:gs pos="100000">
                <a:srgbClr val="77b7e7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0627c"/>
              </a:gs>
              <a:gs pos="50000">
                <a:srgbClr val="77b7e7"/>
              </a:gs>
              <a:gs pos="100000">
                <a:srgbClr val="40627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77b7e7">
                  <a:alpha val="0"/>
                </a:srgbClr>
              </a:gs>
              <a:gs pos="100000">
                <a:srgbClr val="4b739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276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281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205740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77b7e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1500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95280" y="1676520"/>
            <a:ext cx="3657600" cy="4181400"/>
            <a:chOff x="1295280" y="1676520"/>
            <a:chExt cx="3657600" cy="4181400"/>
          </a:xfrm>
        </p:grpSpPr>
        <p:sp>
          <p:nvSpPr>
            <p:cNvPr id="292" name=""/>
            <p:cNvSpPr/>
            <p:nvPr/>
          </p:nvSpPr>
          <p:spPr>
            <a:xfrm rot="20876400">
              <a:off x="3316320" y="504828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47920" y="3829320"/>
              <a:ext cx="1704960" cy="17064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68440" y="383868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86080" y="3854520"/>
              <a:ext cx="1584360" cy="15559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78240" y="3899160"/>
              <a:ext cx="1409400" cy="12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665520" y="445608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20826600">
              <a:off x="1473120" y="443844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396800" y="3448080"/>
              <a:ext cx="1371240" cy="1441080"/>
              <a:chOff x="1396800" y="3448080"/>
              <a:chExt cx="1371240" cy="1441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396800" y="344808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414800" y="345636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427760" y="346968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99400" y="350640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677240" y="3954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1295280" y="268308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71600" y="2076480"/>
              <a:ext cx="1023840" cy="10242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84200" y="2081160"/>
              <a:ext cx="1000080" cy="10004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95360" y="209232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9360" y="211788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68520" y="24256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62120" y="22100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84520" y="16765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93880" y="16797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00360" y="16858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36720" y="17049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54720" y="19004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762120" y="1523880"/>
            <a:ext cx="7772040" cy="4343040"/>
            <a:chOff x="762120" y="1523880"/>
            <a:chExt cx="7772040" cy="4343040"/>
          </a:xfrm>
        </p:grpSpPr>
        <p:sp>
          <p:nvSpPr>
            <p:cNvPr id="319" name=""/>
            <p:cNvSpPr/>
            <p:nvPr/>
          </p:nvSpPr>
          <p:spPr>
            <a:xfrm>
              <a:off x="2740680" y="2213280"/>
              <a:ext cx="3744720" cy="365364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659040" y="3126600"/>
              <a:ext cx="1907640" cy="1967040"/>
              <a:chOff x="3659040" y="3126600"/>
              <a:chExt cx="1907640" cy="1967040"/>
            </a:xfrm>
          </p:grpSpPr>
          <p:sp>
            <p:nvSpPr>
              <p:cNvPr id="321" name=""/>
              <p:cNvSpPr/>
              <p:nvPr/>
            </p:nvSpPr>
            <p:spPr>
              <a:xfrm>
                <a:off x="3659040" y="3126600"/>
                <a:ext cx="1907640" cy="19670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76840" y="3159000"/>
                <a:ext cx="1471680" cy="74232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3951720" y="38995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4224240" y="1861920"/>
              <a:ext cx="635760" cy="607320"/>
              <a:chOff x="4224240" y="1861920"/>
              <a:chExt cx="635760" cy="60732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4224240" y="1861920"/>
                <a:ext cx="635760" cy="607320"/>
                <a:chOff x="4224240" y="1861920"/>
                <a:chExt cx="635760" cy="6073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4224240" y="1861920"/>
                  <a:ext cx="63576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1d48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296960" y="1872000"/>
                  <a:ext cx="490320" cy="229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4363920" y="19551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606840" y="4890960"/>
              <a:ext cx="340920" cy="308880"/>
              <a:chOff x="3606840" y="4890960"/>
              <a:chExt cx="340920" cy="308880"/>
            </a:xfrm>
          </p:grpSpPr>
          <p:sp>
            <p:nvSpPr>
              <p:cNvPr id="330" name=""/>
              <p:cNvSpPr/>
              <p:nvPr/>
            </p:nvSpPr>
            <p:spPr>
              <a:xfrm rot="18226800">
                <a:off x="3633480" y="5048640"/>
                <a:ext cx="120960" cy="1292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8226800">
                <a:off x="3799440" y="4912560"/>
                <a:ext cx="121320" cy="12924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63636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3022920" y="5159880"/>
              <a:ext cx="635760" cy="632160"/>
              <a:chOff x="3022920" y="5159880"/>
              <a:chExt cx="635760" cy="6321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3022920" y="5159880"/>
                <a:ext cx="635760" cy="632160"/>
                <a:chOff x="3022920" y="5159880"/>
                <a:chExt cx="635760" cy="6321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022920" y="515988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095640" y="5170320"/>
                  <a:ext cx="49032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3158640" y="52783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34760" y="3126600"/>
              <a:ext cx="633240" cy="639360"/>
              <a:chOff x="6134760" y="3126600"/>
              <a:chExt cx="633240" cy="63936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134760" y="3126600"/>
                <a:ext cx="633240" cy="639360"/>
                <a:chOff x="6134760" y="3126600"/>
                <a:chExt cx="633240" cy="6393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134760" y="3126600"/>
                  <a:ext cx="633240" cy="63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5f5f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207120" y="3137040"/>
                  <a:ext cx="488520" cy="2412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6256800" y="32144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566680" y="5164200"/>
              <a:ext cx="606240" cy="573840"/>
              <a:chOff x="5566680" y="5164200"/>
              <a:chExt cx="606240" cy="57384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566680" y="5164200"/>
                <a:ext cx="606240" cy="573840"/>
                <a:chOff x="5566680" y="5164200"/>
                <a:chExt cx="606240" cy="57384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5566680" y="5164200"/>
                  <a:ext cx="606240" cy="57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635800" y="5173560"/>
                  <a:ext cx="467640" cy="2163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5698800" y="51948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2528640" y="3126600"/>
              <a:ext cx="635760" cy="632160"/>
              <a:chOff x="2528640" y="3126600"/>
              <a:chExt cx="635760" cy="6321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528640" y="3126600"/>
                <a:ext cx="635760" cy="632160"/>
                <a:chOff x="2528640" y="3126600"/>
                <a:chExt cx="635760" cy="6321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528640" y="3126600"/>
                  <a:ext cx="635760" cy="632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3552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601360" y="3137040"/>
                  <a:ext cx="490320" cy="238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77b7e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662200" y="319680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rot="18226800">
              <a:off x="5497200" y="5016960"/>
              <a:ext cx="11952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8226800">
              <a:off x="5356080" y="4875840"/>
              <a:ext cx="119880" cy="127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211920" y="3522960"/>
              <a:ext cx="385560" cy="240480"/>
              <a:chOff x="3211920" y="3522960"/>
              <a:chExt cx="385560" cy="240480"/>
            </a:xfrm>
          </p:grpSpPr>
          <p:sp>
            <p:nvSpPr>
              <p:cNvPr id="355" name=""/>
              <p:cNvSpPr/>
              <p:nvPr/>
            </p:nvSpPr>
            <p:spPr>
              <a:xfrm rot="18226800">
                <a:off x="3238200" y="3544920"/>
                <a:ext cx="121680" cy="12888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44698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8226800">
                <a:off x="3449160" y="3612600"/>
                <a:ext cx="121320" cy="12888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9586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484160" y="2580120"/>
              <a:ext cx="173520" cy="430560"/>
              <a:chOff x="4484160" y="2580120"/>
              <a:chExt cx="173520" cy="430560"/>
            </a:xfrm>
          </p:grpSpPr>
          <p:sp>
            <p:nvSpPr>
              <p:cNvPr id="358" name=""/>
              <p:cNvSpPr/>
              <p:nvPr/>
            </p:nvSpPr>
            <p:spPr>
              <a:xfrm rot="18226800">
                <a:off x="4510440" y="2601360"/>
                <a:ext cx="12060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1f4d3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8226800">
                <a:off x="4510440" y="2860560"/>
                <a:ext cx="120600" cy="128160"/>
              </a:xfrm>
              <a:prstGeom prst="ellipse">
                <a:avLst/>
              </a:prstGeom>
              <a:gradFill rotWithShape="0">
                <a:gsLst>
                  <a:gs pos="0">
                    <a:srgbClr val="45ab7d"/>
                  </a:gs>
                  <a:gs pos="100000">
                    <a:srgbClr val="21523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 rot="18226800">
              <a:off x="5868360" y="356688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343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8226800">
              <a:off x="5638680" y="3681000"/>
              <a:ext cx="119880" cy="1281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343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2120" y="326700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9040" y="152388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68000" y="3280320"/>
              <a:ext cx="176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15280" y="53751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02440" y="5375160"/>
              <a:ext cx="17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219320" y="1908000"/>
            <a:ext cx="2170080" cy="4035600"/>
            <a:chOff x="1219320" y="1908000"/>
            <a:chExt cx="2170080" cy="4035600"/>
          </a:xfrm>
        </p:grpSpPr>
        <p:sp>
          <p:nvSpPr>
            <p:cNvPr id="369" name=""/>
            <p:cNvSpPr/>
            <p:nvPr/>
          </p:nvSpPr>
          <p:spPr>
            <a:xfrm>
              <a:off x="121932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5280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7008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7008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25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7008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1963800" y="1908000"/>
              <a:ext cx="642960" cy="642960"/>
              <a:chOff x="1963800" y="1908000"/>
              <a:chExt cx="642960" cy="642960"/>
            </a:xfrm>
          </p:grpSpPr>
          <p:sp>
            <p:nvSpPr>
              <p:cNvPr id="376" name=""/>
              <p:cNvSpPr/>
              <p:nvPr/>
            </p:nvSpPr>
            <p:spPr>
              <a:xfrm>
                <a:off x="196380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97028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78200" y="1916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8468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01852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10384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9564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581280" y="1908000"/>
            <a:ext cx="2166840" cy="4035600"/>
            <a:chOff x="3581280" y="1908000"/>
            <a:chExt cx="2166840" cy="4035600"/>
          </a:xfrm>
        </p:grpSpPr>
        <p:sp>
          <p:nvSpPr>
            <p:cNvPr id="384" name=""/>
            <p:cNvSpPr/>
            <p:nvPr/>
          </p:nvSpPr>
          <p:spPr>
            <a:xfrm>
              <a:off x="35812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1476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320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320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2576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32240" y="19126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340160" y="19159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46280" y="19224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81560" y="19382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658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5760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845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28800" y="50972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937120" y="1908000"/>
            <a:ext cx="2170080" cy="4035600"/>
            <a:chOff x="5937120" y="1908000"/>
            <a:chExt cx="2170080" cy="4035600"/>
          </a:xfrm>
        </p:grpSpPr>
        <p:sp>
          <p:nvSpPr>
            <p:cNvPr id="398" name=""/>
            <p:cNvSpPr/>
            <p:nvPr/>
          </p:nvSpPr>
          <p:spPr>
            <a:xfrm>
              <a:off x="594360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7672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9436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9436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6688080" y="1908000"/>
              <a:ext cx="642960" cy="642960"/>
              <a:chOff x="6688080" y="1908000"/>
              <a:chExt cx="642960" cy="642960"/>
            </a:xfrm>
          </p:grpSpPr>
          <p:sp>
            <p:nvSpPr>
              <p:cNvPr id="403" name=""/>
              <p:cNvSpPr/>
              <p:nvPr/>
            </p:nvSpPr>
            <p:spPr>
              <a:xfrm>
                <a:off x="668808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9456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702480" y="1916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70896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74280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6828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9560" y="26701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3712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81400" y="50972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17347d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15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18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19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22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2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31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36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37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40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48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53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54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457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46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466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70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471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472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475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47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484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734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497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47d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7" idx="3"/>
              <a:endCxn id="498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502" name=""/>
            <p:cNvCxnSpPr>
              <a:stCxn id="498" idx="3"/>
              <a:endCxn id="499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  <p:cxnSp>
          <p:nvCxnSpPr>
            <p:cNvPr id="503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3366cc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698920" y="1785600"/>
            <a:ext cx="4013640" cy="4252320"/>
            <a:chOff x="2698920" y="1785600"/>
            <a:chExt cx="4013640" cy="4252320"/>
          </a:xfrm>
        </p:grpSpPr>
        <p:sp>
          <p:nvSpPr>
            <p:cNvPr id="506" name=""/>
            <p:cNvSpPr/>
            <p:nvPr/>
          </p:nvSpPr>
          <p:spPr>
            <a:xfrm>
              <a:off x="2706840" y="3122640"/>
              <a:ext cx="1447920" cy="1954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464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200000">
              <a:off x="4395240" y="2039400"/>
              <a:ext cx="1365120" cy="207144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36546a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2734920" y="1785600"/>
              <a:ext cx="2482920" cy="2629800"/>
              <a:chOff x="2734920" y="1785600"/>
              <a:chExt cx="2482920" cy="2629800"/>
            </a:xfrm>
          </p:grpSpPr>
          <p:sp>
            <p:nvSpPr>
              <p:cNvPr id="509" name=""/>
              <p:cNvSpPr/>
              <p:nvPr/>
            </p:nvSpPr>
            <p:spPr>
              <a:xfrm rot="12600000">
                <a:off x="2788920" y="3492360"/>
                <a:ext cx="1441440" cy="603000"/>
              </a:xfrm>
              <a:prstGeom prst="triangle">
                <a:avLst>
                  <a:gd name="adj" fmla="val 50000"/>
                </a:avLst>
              </a:pr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7200000">
                <a:off x="3184200" y="2697120"/>
                <a:ext cx="1505160" cy="80640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0">
                <a:off x="4257360" y="1770120"/>
                <a:ext cx="62244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77b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 rot="14400000">
              <a:off x="4509000" y="3892680"/>
              <a:ext cx="1365480" cy="2071800"/>
            </a:xfrm>
            <a:custGeom>
              <a:avLst/>
              <a:gdLst/>
              <a:ahLst/>
              <a:rect l="l" t="t" r="r" b="b"/>
              <a:pathLst>
                <a:path w="1233" h="1764">
                  <a:moveTo>
                    <a:pt x="1233" y="343"/>
                  </a:moveTo>
                  <a:lnTo>
                    <a:pt x="413" y="1764"/>
                  </a:lnTo>
                  <a:lnTo>
                    <a:pt x="0" y="1226"/>
                  </a:lnTo>
                  <a:lnTo>
                    <a:pt x="6" y="1098"/>
                  </a:lnTo>
                  <a:lnTo>
                    <a:pt x="638" y="0"/>
                  </a:lnTo>
                  <a:lnTo>
                    <a:pt x="1233" y="343"/>
                  </a:lnTo>
                  <a:lnTo>
                    <a:pt x="1233" y="343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539960" y="2665800"/>
              <a:ext cx="2172600" cy="2758320"/>
              <a:chOff x="4539960" y="2665800"/>
              <a:chExt cx="2172600" cy="2758320"/>
            </a:xfrm>
          </p:grpSpPr>
          <p:sp>
            <p:nvSpPr>
              <p:cNvPr id="514" name=""/>
              <p:cNvSpPr/>
              <p:nvPr/>
            </p:nvSpPr>
            <p:spPr>
              <a:xfrm rot="19800000">
                <a:off x="4594320" y="2984760"/>
                <a:ext cx="1438200" cy="603000"/>
              </a:xfrm>
              <a:prstGeom prst="triangle">
                <a:avLst>
                  <a:gd name="adj" fmla="val 50000"/>
                </a:avLst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rot="14400000">
                <a:off x="4983840" y="3576600"/>
                <a:ext cx="1504440" cy="80496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14400000">
                <a:off x="5807160" y="4331520"/>
                <a:ext cx="549000" cy="113976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698920" y="4327560"/>
              <a:ext cx="2493360" cy="1395000"/>
              <a:chOff x="2698920" y="4327560"/>
              <a:chExt cx="2493360" cy="1395000"/>
            </a:xfrm>
          </p:grpSpPr>
          <p:sp>
            <p:nvSpPr>
              <p:cNvPr id="518" name=""/>
              <p:cNvSpPr/>
              <p:nvPr/>
            </p:nvSpPr>
            <p:spPr>
              <a:xfrm>
                <a:off x="2698920" y="4327560"/>
                <a:ext cx="581760" cy="1101240"/>
              </a:xfrm>
              <a:custGeom>
                <a:avLst/>
                <a:gdLst/>
                <a:ahLst/>
                <a:rect l="l" t="t" r="r" b="b"/>
                <a:pathLst>
                  <a:path w="495" h="971">
                    <a:moveTo>
                      <a:pt x="495" y="285"/>
                    </a:moveTo>
                    <a:lnTo>
                      <a:pt x="495" y="971"/>
                    </a:lnTo>
                    <a:lnTo>
                      <a:pt x="462" y="964"/>
                    </a:lnTo>
                    <a:lnTo>
                      <a:pt x="430" y="953"/>
                    </a:lnTo>
                    <a:lnTo>
                      <a:pt x="401" y="931"/>
                    </a:lnTo>
                    <a:lnTo>
                      <a:pt x="372" y="898"/>
                    </a:lnTo>
                    <a:lnTo>
                      <a:pt x="339" y="855"/>
                    </a:lnTo>
                    <a:lnTo>
                      <a:pt x="306" y="801"/>
                    </a:lnTo>
                    <a:lnTo>
                      <a:pt x="270" y="732"/>
                    </a:lnTo>
                    <a:lnTo>
                      <a:pt x="227" y="648"/>
                    </a:lnTo>
                    <a:lnTo>
                      <a:pt x="183" y="554"/>
                    </a:lnTo>
                    <a:lnTo>
                      <a:pt x="129" y="438"/>
                    </a:lnTo>
                    <a:lnTo>
                      <a:pt x="96" y="369"/>
                    </a:lnTo>
                    <a:lnTo>
                      <a:pt x="29" y="211"/>
                    </a:lnTo>
                    <a:lnTo>
                      <a:pt x="2" y="127"/>
                    </a:lnTo>
                    <a:lnTo>
                      <a:pt x="0" y="60"/>
                    </a:lnTo>
                    <a:lnTo>
                      <a:pt x="15" y="0"/>
                    </a:lnTo>
                    <a:lnTo>
                      <a:pt x="15" y="43"/>
                    </a:lnTo>
                    <a:lnTo>
                      <a:pt x="15" y="72"/>
                    </a:lnTo>
                    <a:lnTo>
                      <a:pt x="15" y="99"/>
                    </a:lnTo>
                    <a:lnTo>
                      <a:pt x="18" y="126"/>
                    </a:lnTo>
                    <a:lnTo>
                      <a:pt x="29" y="162"/>
                    </a:lnTo>
                    <a:lnTo>
                      <a:pt x="53" y="198"/>
                    </a:lnTo>
                    <a:lnTo>
                      <a:pt x="85" y="231"/>
                    </a:lnTo>
                    <a:lnTo>
                      <a:pt x="125" y="260"/>
                    </a:lnTo>
                    <a:lnTo>
                      <a:pt x="180" y="278"/>
                    </a:lnTo>
                    <a:lnTo>
                      <a:pt x="245" y="282"/>
                    </a:lnTo>
                    <a:lnTo>
                      <a:pt x="495" y="285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rot="5400000">
                <a:off x="4178520" y="4708800"/>
                <a:ext cx="1387080" cy="64044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223080" y="4650480"/>
                <a:ext cx="1597320" cy="778320"/>
              </a:xfrm>
              <a:custGeom>
                <a:avLst/>
                <a:gdLst/>
                <a:ahLst/>
                <a:rect l="l" t="t" r="r" b="b"/>
                <a:pathLst>
                  <a:path w="750" h="378">
                    <a:moveTo>
                      <a:pt x="750" y="0"/>
                    </a:moveTo>
                    <a:lnTo>
                      <a:pt x="0" y="0"/>
                    </a:lnTo>
                    <a:lnTo>
                      <a:pt x="2" y="194"/>
                    </a:lnTo>
                    <a:lnTo>
                      <a:pt x="28" y="378"/>
                    </a:lnTo>
                    <a:lnTo>
                      <a:pt x="750" y="378"/>
                    </a:lnTo>
                    <a:lnTo>
                      <a:pt x="750" y="0"/>
                    </a:lnTo>
                    <a:lnTo>
                      <a:pt x="750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521" name=""/>
          <p:cNvSpPr/>
          <p:nvPr/>
        </p:nvSpPr>
        <p:spPr>
          <a:xfrm>
            <a:off x="457200" y="48006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99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553080" y="472428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71800" y="160020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b7e7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 rot="3418800">
            <a:off x="7265520" y="1560240"/>
            <a:ext cx="923760" cy="10033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775560" y="2905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3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rot="3418800">
            <a:off x="1410840" y="2268360"/>
            <a:ext cx="923760" cy="1003320"/>
          </a:xfrm>
          <a:prstGeom prst="rect">
            <a:avLst/>
          </a:prstGeom>
          <a:gradFill rotWithShape="0">
            <a:gsLst>
              <a:gs pos="0">
                <a:srgbClr val="77b7e7"/>
              </a:gs>
              <a:gs pos="100000">
                <a:srgbClr val="36546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07680" y="262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3418800">
            <a:off x="2845800" y="4173480"/>
            <a:ext cx="924120" cy="1003320"/>
          </a:xfrm>
          <a:prstGeom prst="rect">
            <a:avLst/>
          </a:prstGeom>
          <a:gradFill rotWithShape="0">
            <a:gsLst>
              <a:gs pos="0">
                <a:srgbClr val="45ab7d"/>
              </a:gs>
              <a:gs pos="100000">
                <a:srgbClr val="1f4e3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42640" y="45324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rot="3418800">
            <a:off x="4916160" y="3020760"/>
            <a:ext cx="923760" cy="10033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013000" y="3379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362360" y="19191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09680" y="3222720"/>
            <a:ext cx="762120" cy="106668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809880" y="3755880"/>
            <a:ext cx="1067040" cy="60984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943600" y="2371680"/>
            <a:ext cx="1295280" cy="77472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14600" y="1806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ny History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432160" y="549576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1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718160" y="44290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2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98440" y="35910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Arial"/>
              </a:rPr>
              <a:t>2000.10   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838080" y="243216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7347d"/>
                      </a:solidFill>
                    </a:lnR>
                    <a:lnT>
                      <a:noFill/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7347d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99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77b7e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825120" y="755280"/>
            <a:ext cx="7378560" cy="5581080"/>
            <a:chOff x="825120" y="755280"/>
            <a:chExt cx="7378560" cy="5581080"/>
          </a:xfrm>
        </p:grpSpPr>
        <p:sp>
          <p:nvSpPr>
            <p:cNvPr id="544" name=""/>
            <p:cNvSpPr/>
            <p:nvPr/>
          </p:nvSpPr>
          <p:spPr>
            <a:xfrm>
              <a:off x="2361960" y="45417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1636560" y="242820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01600">
              <a:off x="1693080" y="22665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01600">
              <a:off x="1609560" y="2252160"/>
              <a:ext cx="569772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bdbdf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 rot="20602200">
              <a:off x="1658520" y="225252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77b7e7"/>
                </a:gs>
                <a:gs pos="100000">
                  <a:srgbClr val="527fa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616400" y="226332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6e6eb8"/>
                </a:gs>
                <a:gs pos="100000">
                  <a:srgbClr val="9999f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 rot="20602200">
              <a:off x="1626480" y="2261880"/>
              <a:ext cx="5701320" cy="293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1f4e39"/>
                </a:gs>
                <a:gs pos="100000">
                  <a:srgbClr val="45ab7d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687640" y="369864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6c6c6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539200">
              <a:off x="1243440" y="1659600"/>
              <a:ext cx="654192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698720" y="403848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75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3153960" y="29811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44520" y="366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049640" y="2441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78440" y="27460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7352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63840" y="4651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17720" y="4254480"/>
              <a:ext cx="86328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999ff">
                    <a:alpha val="19215"/>
                  </a:srgbClr>
                </a:gs>
                <a:gs pos="100000">
                  <a:srgbClr val="baba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01600">
              <a:off x="3255840" y="3233520"/>
              <a:ext cx="258552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62320" y="1905120"/>
            <a:ext cx="4724280" cy="685800"/>
            <a:chOff x="2362320" y="1905120"/>
            <a:chExt cx="4724280" cy="685800"/>
          </a:xfrm>
        </p:grpSpPr>
        <p:sp>
          <p:nvSpPr>
            <p:cNvPr id="102" name=""/>
            <p:cNvSpPr/>
            <p:nvPr/>
          </p:nvSpPr>
          <p:spPr>
            <a:xfrm>
              <a:off x="2743200" y="202428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45ab7d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2320" y="1905120"/>
              <a:ext cx="685800" cy="685800"/>
            </a:xfrm>
            <a:prstGeom prst="diamond">
              <a:avLst/>
            </a:prstGeom>
            <a:solidFill>
              <a:srgbClr val="45ab7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718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182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362320" y="2743200"/>
            <a:ext cx="4724280" cy="685800"/>
            <a:chOff x="2362320" y="2743200"/>
            <a:chExt cx="4724280" cy="685800"/>
          </a:xfrm>
        </p:grpSpPr>
        <p:sp>
          <p:nvSpPr>
            <p:cNvPr id="107" name=""/>
            <p:cNvSpPr/>
            <p:nvPr/>
          </p:nvSpPr>
          <p:spPr>
            <a:xfrm>
              <a:off x="2743200" y="286236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77b7e7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2320" y="2743200"/>
              <a:ext cx="685800" cy="685800"/>
            </a:xfrm>
            <a:prstGeom prst="diamond">
              <a:avLst/>
            </a:prstGeom>
            <a:solidFill>
              <a:srgbClr val="77b7e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718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182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362320" y="3581280"/>
            <a:ext cx="4724280" cy="685800"/>
            <a:chOff x="2362320" y="3581280"/>
            <a:chExt cx="4724280" cy="685800"/>
          </a:xfrm>
        </p:grpSpPr>
        <p:sp>
          <p:nvSpPr>
            <p:cNvPr id="112" name=""/>
            <p:cNvSpPr/>
            <p:nvPr/>
          </p:nvSpPr>
          <p:spPr>
            <a:xfrm>
              <a:off x="2743200" y="37004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99ff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62320" y="3581280"/>
              <a:ext cx="685800" cy="685800"/>
            </a:xfrm>
            <a:prstGeom prst="diamond">
              <a:avLst/>
            </a:prstGeom>
            <a:solidFill>
              <a:srgbClr val="9999ff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18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82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362320" y="4495680"/>
            <a:ext cx="4724280" cy="685800"/>
            <a:chOff x="2362320" y="4495680"/>
            <a:chExt cx="4724280" cy="685800"/>
          </a:xfrm>
        </p:grpSpPr>
        <p:sp>
          <p:nvSpPr>
            <p:cNvPr id="117" name=""/>
            <p:cNvSpPr/>
            <p:nvPr/>
          </p:nvSpPr>
          <p:spPr>
            <a:xfrm>
              <a:off x="2743200" y="4614840"/>
              <a:ext cx="4343400" cy="4572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2320" y="4495680"/>
              <a:ext cx="685800" cy="68580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82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2057400" y="238140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828800" y="1619280"/>
            <a:ext cx="579132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99ff">
                  <a:alpha val="99215"/>
                </a:srgbClr>
              </a:gs>
              <a:gs pos="50000">
                <a:srgbClr val="bcbcfe"/>
              </a:gs>
              <a:gs pos="100000">
                <a:srgbClr val="9999ff">
                  <a:alpha val="99215"/>
                </a:srgbClr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808440" y="299088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34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1066680" y="4254480"/>
            <a:ext cx="1579680" cy="2070000"/>
            <a:chOff x="1066680" y="4254480"/>
            <a:chExt cx="1579680" cy="2070000"/>
          </a:xfrm>
        </p:grpSpPr>
        <p:grpSp>
          <p:nvGrpSpPr>
            <p:cNvPr id="568" name=""/>
            <p:cNvGrpSpPr/>
            <p:nvPr/>
          </p:nvGrpSpPr>
          <p:grpSpPr>
            <a:xfrm>
              <a:off x="1066680" y="4254480"/>
              <a:ext cx="1486080" cy="1514520"/>
              <a:chOff x="1066680" y="4254480"/>
              <a:chExt cx="1486080" cy="151452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1066680" y="4254480"/>
                <a:ext cx="1486080" cy="1514520"/>
                <a:chOff x="1066680" y="4254480"/>
                <a:chExt cx="1486080" cy="15145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1066680" y="425448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ab7d"/>
                    </a:gs>
                    <a:gs pos="100000">
                      <a:srgbClr val="2b6c4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236600" y="427932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ab7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1224720" y="502560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066680" y="58863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2971800" y="4254480"/>
            <a:ext cx="1617840" cy="2070000"/>
            <a:chOff x="2971800" y="4254480"/>
            <a:chExt cx="1617840" cy="2070000"/>
          </a:xfrm>
        </p:grpSpPr>
        <p:grpSp>
          <p:nvGrpSpPr>
            <p:cNvPr id="575" name=""/>
            <p:cNvGrpSpPr/>
            <p:nvPr/>
          </p:nvGrpSpPr>
          <p:grpSpPr>
            <a:xfrm>
              <a:off x="2971800" y="4254480"/>
              <a:ext cx="1523880" cy="1521000"/>
              <a:chOff x="2971800" y="4254480"/>
              <a:chExt cx="1523880" cy="1521000"/>
            </a:xfrm>
          </p:grpSpPr>
          <p:sp>
            <p:nvSpPr>
              <p:cNvPr id="576" name=""/>
              <p:cNvSpPr/>
              <p:nvPr/>
            </p:nvSpPr>
            <p:spPr>
              <a:xfrm>
                <a:off x="2971800" y="42544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e4e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46040" y="42796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3048120" y="49845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09960" y="588636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029200" y="4210200"/>
            <a:ext cx="1631880" cy="2113920"/>
            <a:chOff x="5029200" y="4210200"/>
            <a:chExt cx="1631880" cy="2113920"/>
          </a:xfrm>
        </p:grpSpPr>
        <p:grpSp>
          <p:nvGrpSpPr>
            <p:cNvPr id="581" name=""/>
            <p:cNvGrpSpPr/>
            <p:nvPr/>
          </p:nvGrpSpPr>
          <p:grpSpPr>
            <a:xfrm>
              <a:off x="5029200" y="4210200"/>
              <a:ext cx="1523880" cy="1520640"/>
              <a:chOff x="5029200" y="4210200"/>
              <a:chExt cx="1523880" cy="1520640"/>
            </a:xfrm>
          </p:grpSpPr>
          <p:sp>
            <p:nvSpPr>
              <p:cNvPr id="582" name=""/>
              <p:cNvSpPr/>
              <p:nvPr/>
            </p:nvSpPr>
            <p:spPr>
              <a:xfrm>
                <a:off x="5029200" y="421020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77b7e7"/>
                  </a:gs>
                  <a:gs pos="100000">
                    <a:srgbClr val="3c5d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203440" y="42354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77b7e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5105520" y="493992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8176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934320" y="4210200"/>
            <a:ext cx="1579320" cy="2113920"/>
            <a:chOff x="6934320" y="4210200"/>
            <a:chExt cx="1579320" cy="2113920"/>
          </a:xfrm>
        </p:grpSpPr>
        <p:grpSp>
          <p:nvGrpSpPr>
            <p:cNvPr id="587" name=""/>
            <p:cNvGrpSpPr/>
            <p:nvPr/>
          </p:nvGrpSpPr>
          <p:grpSpPr>
            <a:xfrm>
              <a:off x="6934320" y="4210200"/>
              <a:ext cx="1523520" cy="1531440"/>
              <a:chOff x="6934320" y="4210200"/>
              <a:chExt cx="1523520" cy="1531440"/>
            </a:xfrm>
          </p:grpSpPr>
          <p:grpSp>
            <p:nvGrpSpPr>
              <p:cNvPr id="588" name=""/>
              <p:cNvGrpSpPr/>
              <p:nvPr/>
            </p:nvGrpSpPr>
            <p:grpSpPr>
              <a:xfrm>
                <a:off x="6934320" y="4210200"/>
                <a:ext cx="1523520" cy="1531440"/>
                <a:chOff x="6934320" y="4210200"/>
                <a:chExt cx="1523520" cy="153144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6934320" y="4210200"/>
                  <a:ext cx="152352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108200" y="423540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1" name=""/>
              <p:cNvSpPr/>
              <p:nvPr/>
            </p:nvSpPr>
            <p:spPr>
              <a:xfrm>
                <a:off x="7076880" y="492408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6934320" y="588636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2819160" y="4952520"/>
            <a:ext cx="516708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company slogan .</a:t>
            </a:r>
            <a:endParaRPr b="0" lang="en-US" sz="1800" spc="-1" strike="noStrike">
              <a:solidFill>
                <a:srgbClr val="17347d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2438280" y="3276720"/>
            <a:ext cx="4724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2286000" y="4191120"/>
            <a:ext cx="5029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17347d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17347d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9200" y="1712520"/>
            <a:ext cx="768672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47d"/>
                </a:solidFill>
                <a:latin typeface="Arial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77b7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On the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View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menu, point to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Master],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and then click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Slide Master]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77b7e7"/>
                </a:solidFill>
                <a:latin typeface="Arial"/>
              </a:rPr>
              <a:t>[Notes Master].</a:t>
            </a: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8c8ab"/>
              </a:gs>
              <a:gs pos="100000">
                <a:srgbClr val="45ab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ddfe"/>
              </a:gs>
              <a:gs pos="100000">
                <a:srgbClr val="99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8120" y="1628640"/>
            <a:ext cx="2998440" cy="1601280"/>
            <a:chOff x="3048120" y="1628640"/>
            <a:chExt cx="2998440" cy="1601280"/>
          </a:xfrm>
        </p:grpSpPr>
        <p:grpSp>
          <p:nvGrpSpPr>
            <p:cNvPr id="130" name=""/>
            <p:cNvGrpSpPr/>
            <p:nvPr/>
          </p:nvGrpSpPr>
          <p:grpSpPr>
            <a:xfrm>
              <a:off x="3048120" y="1771560"/>
              <a:ext cx="2998440" cy="1458360"/>
              <a:chOff x="3048120" y="1771560"/>
              <a:chExt cx="2998440" cy="1458360"/>
            </a:xfrm>
          </p:grpSpPr>
          <p:sp>
            <p:nvSpPr>
              <p:cNvPr id="131" name=""/>
              <p:cNvSpPr/>
              <p:nvPr/>
            </p:nvSpPr>
            <p:spPr>
              <a:xfrm>
                <a:off x="3080880" y="18180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a4a7b"/>
                  </a:gs>
                  <a:gs pos="100000">
                    <a:srgbClr val="99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8120" y="177156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999ff"/>
                  </a:gs>
                  <a:gs pos="100000">
                    <a:srgbClr val="d0d0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3189240" y="162864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3654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24160" y="163656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ee4f5"/>
                </a:gs>
                <a:gs pos="100000">
                  <a:srgbClr val="77b7e7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1160" y="164916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48235"/>
                  </a:srgbClr>
                </a:gs>
                <a:gs pos="100000">
                  <a:srgbClr val="5d90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82920" y="167616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77b7e7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62120" y="1607040"/>
            <a:ext cx="7528320" cy="4708440"/>
            <a:chOff x="762120" y="1607040"/>
            <a:chExt cx="7528320" cy="4708440"/>
          </a:xfrm>
        </p:grpSpPr>
        <p:sp>
          <p:nvSpPr>
            <p:cNvPr id="141" name=""/>
            <p:cNvSpPr/>
            <p:nvPr/>
          </p:nvSpPr>
          <p:spPr>
            <a:xfrm rot="20241600">
              <a:off x="1409400" y="2715840"/>
              <a:ext cx="6260760" cy="24904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efefef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20056200">
              <a:off x="4519080" y="257688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20056200">
              <a:off x="7180920" y="281160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20056200">
              <a:off x="3031560" y="5473800"/>
              <a:ext cx="1095840" cy="3132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056200">
              <a:off x="5614920" y="4899600"/>
              <a:ext cx="1095840" cy="31284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0056200">
              <a:off x="2170800" y="3985920"/>
              <a:ext cx="1095480" cy="31320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4920" y="1951200"/>
              <a:ext cx="1173960" cy="1131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434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8480" y="3304800"/>
              <a:ext cx="1172160" cy="1131480"/>
            </a:xfrm>
            <a:prstGeom prst="ellipse">
              <a:avLst/>
            </a:prstGeom>
            <a:gradFill rotWithShape="0">
              <a:gsLst>
                <a:gs pos="0">
                  <a:srgbClr val="77b7e7"/>
                </a:gs>
                <a:gs pos="100000">
                  <a:srgbClr val="2539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14160" y="481176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45ab7d"/>
                </a:gs>
                <a:gs pos="100000">
                  <a:srgbClr val="183c2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50000" y="4252320"/>
              <a:ext cx="1172520" cy="11314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0040" y="2153160"/>
              <a:ext cx="1108440" cy="1133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51480" y="3710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17400" y="2357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98320" y="26035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63200" y="46584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84880" y="5211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1720" y="3594960"/>
              <a:ext cx="236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34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52120" y="2357280"/>
              <a:ext cx="1671480" cy="1284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cxnSp>
          <p:nvCxnSpPr>
            <p:cNvPr id="159" name=""/>
            <p:cNvCxnSpPr/>
            <p:nvPr/>
          </p:nvCxnSpPr>
          <p:spPr>
            <a:xfrm flipH="1">
              <a:off x="890280" y="2356920"/>
              <a:ext cx="1773360" cy="1080"/>
            </a:xfrm>
            <a:prstGeom prst="straightConnector1">
              <a:avLst/>
            </a:prstGeom>
            <a:ln w="9360">
              <a:solidFill>
                <a:srgbClr val="17347d"/>
              </a:solidFill>
              <a:miter/>
            </a:ln>
          </p:spPr>
        </p:cxnSp>
        <p:sp>
          <p:nvSpPr>
            <p:cNvPr id="160" name=""/>
            <p:cNvSpPr/>
            <p:nvPr/>
          </p:nvSpPr>
          <p:spPr>
            <a:xfrm>
              <a:off x="762120" y="1951200"/>
              <a:ext cx="211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63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f4e39"/>
                </a:gs>
                <a:gs pos="50000">
                  <a:srgbClr val="45ab7d"/>
                </a:gs>
                <a:gs pos="100000">
                  <a:srgbClr val="1f4e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64675"/>
                </a:gs>
                <a:gs pos="50000">
                  <a:srgbClr val="9999ff"/>
                </a:gs>
                <a:gs pos="100000">
                  <a:srgbClr val="4646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3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4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c2ea"/>
                  </a:gs>
                  <a:gs pos="100000">
                    <a:srgbClr val="3366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9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525289"/>
                  </a:gs>
                  <a:gs pos="50000">
                    <a:srgbClr val="9999ff"/>
                  </a:gs>
                  <a:gs pos="100000">
                    <a:srgbClr val="52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6546a"/>
                </a:gs>
                <a:gs pos="50000">
                  <a:srgbClr val="77b7e7"/>
                </a:gs>
                <a:gs pos="100000">
                  <a:srgbClr val="3654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34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828800" y="1752480"/>
            <a:ext cx="5334120" cy="4117680"/>
            <a:chOff x="1828800" y="1752480"/>
            <a:chExt cx="5334120" cy="4117680"/>
          </a:xfrm>
        </p:grpSpPr>
        <p:grpSp>
          <p:nvGrpSpPr>
            <p:cNvPr id="209" name=""/>
            <p:cNvGrpSpPr/>
            <p:nvPr/>
          </p:nvGrpSpPr>
          <p:grpSpPr>
            <a:xfrm>
              <a:off x="1828800" y="1752480"/>
              <a:ext cx="5334120" cy="1226160"/>
              <a:chOff x="1828800" y="1752480"/>
              <a:chExt cx="5334120" cy="1226160"/>
            </a:xfrm>
          </p:grpSpPr>
          <p:sp>
            <p:nvSpPr>
              <p:cNvPr id="210" name=""/>
              <p:cNvSpPr/>
              <p:nvPr/>
            </p:nvSpPr>
            <p:spPr>
              <a:xfrm>
                <a:off x="1828800" y="175248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1f1f1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1945080" y="1865160"/>
                <a:ext cx="1027800" cy="1002960"/>
                <a:chOff x="1945080" y="1865160"/>
                <a:chExt cx="1027800" cy="100296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945080" y="1865160"/>
                  <a:ext cx="102780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7e7"/>
                    </a:gs>
                    <a:gs pos="100000">
                      <a:srgbClr val="527fa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009160" y="1929600"/>
                  <a:ext cx="51228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4d6f0"/>
                    </a:gs>
                    <a:gs pos="50000">
                      <a:srgbClr val="77b7e7">
                        <a:alpha val="0"/>
                      </a:srgbClr>
                    </a:gs>
                    <a:gs pos="100000">
                      <a:srgbClr val="b4d6f0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022840" y="21376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3114000" y="194184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828800" y="3193920"/>
              <a:ext cx="5334120" cy="1226160"/>
              <a:chOff x="1828800" y="3193920"/>
              <a:chExt cx="5334120" cy="1226160"/>
            </a:xfrm>
          </p:grpSpPr>
          <p:sp>
            <p:nvSpPr>
              <p:cNvPr id="217" name=""/>
              <p:cNvSpPr/>
              <p:nvPr/>
            </p:nvSpPr>
            <p:spPr>
              <a:xfrm>
                <a:off x="1828800" y="319392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0f0f0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1945080" y="3306600"/>
                <a:ext cx="1027800" cy="1002960"/>
                <a:chOff x="1945080" y="3306600"/>
                <a:chExt cx="1027800" cy="1002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1945080" y="3306600"/>
                  <a:ext cx="102780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4b4fe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009160" y="3371040"/>
                  <a:ext cx="51228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999ff">
                        <a:alpha val="0"/>
                      </a:srgbClr>
                    </a:gs>
                    <a:gs pos="100000">
                      <a:srgbClr val="d2d2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022840" y="3580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3114000" y="336168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17347d"/>
                    </a:solidFill>
                    <a:latin typeface="Arial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1828800" y="4644000"/>
              <a:ext cx="5334120" cy="1226160"/>
              <a:chOff x="1828800" y="4644000"/>
              <a:chExt cx="5334120" cy="1226160"/>
            </a:xfrm>
          </p:grpSpPr>
          <p:sp>
            <p:nvSpPr>
              <p:cNvPr id="224" name=""/>
              <p:cNvSpPr/>
              <p:nvPr/>
            </p:nvSpPr>
            <p:spPr>
              <a:xfrm>
                <a:off x="1828800" y="4644000"/>
                <a:ext cx="5334120" cy="12261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deded"/>
                  </a:gs>
                  <a:gs pos="100000">
                    <a:srgbClr val="dddddd"/>
                  </a:gs>
                </a:gsLst>
                <a:lin ang="135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1945080" y="4756680"/>
                <a:ext cx="1027800" cy="1002960"/>
                <a:chOff x="1945080" y="4756680"/>
                <a:chExt cx="1027800" cy="1002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945080" y="4756680"/>
                  <a:ext cx="1027800" cy="100296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88c8ab"/>
                    </a:gs>
                    <a:gs pos="100000">
                      <a:srgbClr val="45ab7d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009160" y="4821120"/>
                  <a:ext cx="512280" cy="50112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5ab7d">
                        <a:alpha val="0"/>
                      </a:srgbClr>
                    </a:gs>
                    <a:gs pos="100000">
                      <a:srgbClr val="a3d5b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022840" y="50310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17347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3114000" y="4811760"/>
                <a:ext cx="3920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6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3320" y="731520"/>
            <a:ext cx="7801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25040" y="989280"/>
            <a:ext cx="5481000" cy="5149080"/>
            <a:chOff x="1625040" y="989280"/>
            <a:chExt cx="5481000" cy="5149080"/>
          </a:xfrm>
        </p:grpSpPr>
        <p:sp>
          <p:nvSpPr>
            <p:cNvPr id="232" name=""/>
            <p:cNvSpPr/>
            <p:nvPr/>
          </p:nvSpPr>
          <p:spPr>
            <a:xfrm rot="20805000">
              <a:off x="4592520" y="272268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447ec4"/>
                </a:gs>
                <a:gs pos="100000">
                  <a:srgbClr val="fefefe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61200">
              <a:off x="2798640" y="2271600"/>
              <a:ext cx="1150920" cy="331632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2a684c"/>
                </a:gs>
                <a:gs pos="100000">
                  <a:srgbClr val="fefefe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4128200">
              <a:off x="4645800" y="744840"/>
              <a:ext cx="1150920" cy="3317760"/>
            </a:xfrm>
            <a:custGeom>
              <a:avLst/>
              <a:gdLst/>
              <a:ahLst/>
              <a:rect l="l" t="t" r="r" b="b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625040" y="1494360"/>
              <a:ext cx="5481000" cy="4644000"/>
              <a:chOff x="1625040" y="1494360"/>
              <a:chExt cx="5481000" cy="4644000"/>
            </a:xfrm>
          </p:grpSpPr>
          <p:sp>
            <p:nvSpPr>
              <p:cNvPr id="236" name=""/>
              <p:cNvSpPr/>
              <p:nvPr/>
            </p:nvSpPr>
            <p:spPr>
              <a:xfrm>
                <a:off x="4394880" y="2822400"/>
                <a:ext cx="1150560" cy="331596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fdb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6256200">
                <a:off x="2798640" y="212184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fdbdf"/>
                  </a:gs>
                  <a:gs pos="100000">
                    <a:srgbClr val="ffffff"/>
                  </a:gs>
                </a:gsLst>
                <a:lin ang="45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4922600">
                <a:off x="4776480" y="973800"/>
                <a:ext cx="1150560" cy="3316680"/>
              </a:xfrm>
              <a:custGeom>
                <a:avLst/>
                <a:gdLst/>
                <a:ahLst/>
                <a:rect l="l" t="t" r="r" b="b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cfdbdf"/>
                  </a:gs>
                  <a:gs pos="100000">
                    <a:srgbClr val="ffffff"/>
                  </a:gs>
                </a:gsLst>
                <a:lin ang="174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884760" y="2786040"/>
              <a:ext cx="1339560" cy="1338120"/>
              <a:chOff x="3884760" y="2786040"/>
              <a:chExt cx="1339560" cy="1338120"/>
            </a:xfrm>
          </p:grpSpPr>
          <p:sp>
            <p:nvSpPr>
              <p:cNvPr id="240" name=""/>
              <p:cNvSpPr/>
              <p:nvPr/>
            </p:nvSpPr>
            <p:spPr>
              <a:xfrm>
                <a:off x="3884760" y="2786040"/>
                <a:ext cx="1339560" cy="13381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912828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37760" y="2808000"/>
                <a:ext cx="1033200" cy="505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4080240" y="327672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65240" y="29764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60960" y="21477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95600" y="4699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Sung Ha, Park</dc:creator>
  <dc:description/>
  <dc:language>en-US</dc:language>
  <cp:lastModifiedBy>Sung Ha, Park</cp:lastModifiedBy>
  <dcterms:modified xsi:type="dcterms:W3CDTF">2015-07-11T15:08:55Z</dcterms:modified>
  <cp:revision>3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