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46F0A-B6FD-448E-BEFF-4A629C72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4D42A-5BB8-457E-83CA-B10C38D3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5AEB9-A9BE-45CF-8641-3B1ED295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7CE03-0C1C-40E2-8396-BA16C091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E5B95-9153-4071-95BE-A1C52E8C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BA07B-9192-4A75-883D-7A6DD6D6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AC079-D594-4CF7-93F5-0C413291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EA969-5FC9-42BA-986C-1ACE349C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E9E01-BAE6-4853-A91B-C7F2FFA2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4F46D-C8BA-4CDF-9B21-EF5C08E5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E6501-ACAC-4055-8F4C-620A2340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91867-696D-4C8A-9CDA-40B4AF8C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8A7BC-E389-4885-84F7-31C285CB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450B1-2FE1-4E02-848E-626C82AD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1D74D-E739-41E6-9B7B-E2C604A3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DF953-ADC2-43DB-A9B0-EBD5A08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98B07-D717-4CCB-B5FA-1D627DF1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B0565-EC9B-4740-A80B-C6F603BA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CF279-AB80-415E-BF73-72EE5126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9E7C2-C6AF-4DE7-8FB1-2BDD9A40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A08D6-0191-43B2-8735-7E49D7F6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34950-94BC-406C-BE27-5A5EC586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639B5-BC65-40E0-AE19-DC5FAF8C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A934D-736E-4AB3-826F-86BF73B7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46A36-64EB-4FF9-BA98-674F1ED4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10C91-03E0-4439-9E70-3E21C84F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EA2E9-6A16-4E66-8265-58165020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0C606-A7C5-441D-B17F-2C43A984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D727A-F161-44ED-93A9-7C3862EF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7B42B-B08F-4644-89EF-C3E3B7C1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21662-7E6C-4A1A-B3A2-FEB4208D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7CF32-6946-4E6C-AB2D-D11DB19F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8CB9B-234C-49BD-B9B7-424CA877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FD797-0092-4423-838A-3A31A559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05C3A-2EA7-4B27-BA4F-D517A5BD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B623A-513E-42E4-8A85-E19628A6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6E71E-C54E-4CEF-B555-B7659E88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06C1B9-4A20-4337-9115-B0417436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7FE69-39E7-4B2E-ABBA-EF229ED2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C5B04-701B-4296-92FB-F34ADCF2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460E9-2CE9-4955-B62E-A446B163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03A0F-2420-466B-8E92-F86C4C7B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C17E7-1E45-4C82-8462-42E33125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AF3C1-E27B-4D33-8300-6B68D838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CF89B-2460-439D-902B-AA674E65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46BA-FB02-4BB7-BB34-9536B525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828-E3A7-4C6D-B6AF-F6BC6893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63C-8C65-4EE8-AD01-A778752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EF5-AA6C-4203-AF6D-DEECB503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A3B-3023-4B89-AADD-4126F2FD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571-0FE1-4195-B7C0-8764EB4B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0075-5332-4A62-8773-858E6B70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B2F-E262-427E-AF83-EB0E51E8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6F0-0A39-42ED-8E8F-ED65F336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C87-1113-47B9-BB67-AC7FB0C6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F95-5F09-443F-AADA-D12232C0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93D2-EDE2-48ED-A769-7944A4AD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4277-0433-41A3-9E55-BDD62E4A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42FB-92D2-46CF-A255-3DE9B60A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27D4-4DE0-49D9-A4AE-3E92BCD0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2B75-6933-4C1B-ACBE-EB67246C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3DD5-99E3-46B5-8356-D893F68D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D8FB-9D66-4113-B658-DD66C42B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D7D4-4E0F-47BC-BF06-C852BE51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4FC9-E96B-45D0-8687-CBDFF2A9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0BC1-234C-4D5B-B657-8C54C1D8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06D7-6B9B-402E-9CBB-2BADCDAB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16D8-1390-4202-8A47-E5E1C3C6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519D-89B2-4275-AE84-6FC78423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8654-C861-4DA9-B30F-CECCACEF5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AFFE7-8D0F-4C47-95B0-FD68A8A4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5AA4E-118D-4BDC-8914-2E66BD0D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0FA50-4C87-4E62-A9EA-D29BA564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F28C8-202D-4AA8-8D98-76A7038F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A610-AA08-4FA7-8BDE-196C99C0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691D3-130C-4B08-BD9D-2321EA44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8233A-2E55-4661-9ED8-3A6618D4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85A6-E017-4386-8FA7-149B081B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8143F-85F6-4D1E-A8FA-F4CF907D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B96D-A82D-4128-8ED7-7A560A51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B402B-1C28-4BC1-AC5C-4A5D21AE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96809-FD22-4411-9D60-A4D777FD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95E90-9F8B-4A2F-ABD6-21314C2F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64581-77C5-4E96-8FB2-4BB4C290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95EB8-4966-47C3-B108-833E46F9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E5179-FE1D-4FAA-9AF6-3A3B3EE1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0BC7E-9742-4D27-85AF-3E38AF83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88874-AA0A-4BF7-8219-10CD6178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C211-369B-4982-932E-DBC0C9A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E507-6257-41CD-AE15-E191977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12034-7368-4896-88B1-5445DED9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54AC8-808B-4806-946A-40E44E35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1DB1B-262E-4DBB-B7B9-A6216A8F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1442-981C-439E-99A3-D4AE56E6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AB4DA-791E-4572-B001-07EACD84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04F2B-13E5-466F-841A-CB7D8A5D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45436-A9F9-40AB-AD5B-456FA000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51039-69DE-44A9-B5D6-955B837F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625A2-41D2-4E4D-B0E3-6BB37C95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559EC-479C-428D-8BFC-250176F2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94F27-E181-4379-AE33-8BE2EE4D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69BF1-5EF1-48F5-B866-CB26E25F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6C73A-BFDD-4282-9498-1A60121A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4F3C5-DF2D-4D4A-8D74-5B38872E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95485-DAB7-427E-A623-5C43F03A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94E48-3514-4F67-B905-A38D9140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A73EB-70D7-43D0-83F6-254D583C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6DFD6-B5D0-423D-BF93-EFAA5C55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6EF64-9718-43F2-889A-3FEFB815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DA4B8-D497-498B-92AF-2EE32CD5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993F4-27D6-42D1-A3DD-D7793173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DF9BD-C432-4F6B-AAFE-F03752E5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04D19-4424-4B56-8A68-C2B3D89E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BEABF-C6EA-4D76-AB1D-1B5C845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9D433-B78B-45F9-8E0C-217CC3BD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3A4E0-3C40-49CA-B439-C4EC213E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8BF68-D0C1-46CD-89AE-765AA969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942DA-EDA4-4409-A97F-39294608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8C28-5B3D-4E6F-9A17-2257A884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562F4-43FC-40DC-A7A8-0C4EDB50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2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3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402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536B-EF30-4F7C-94DD-AB806C44DA5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447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7BC7-FAD0-47D7-B1B6-D7F4CFDED28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492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6AFB-F4E8-4014-A36E-B2DAB05B6E3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43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9" descr="20080816153035.jpg"/>
          <p:cNvPicPr/>
          <p:nvPr/>
        </p:nvPicPr>
        <p:blipFill>
          <a:blip r:embed="rId3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47" name="TextBox 10"/>
          <p:cNvSpPr/>
          <p:nvPr/>
        </p:nvSpPr>
        <p:spPr>
          <a:xfrm>
            <a:off x="3795840" y="1143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87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7FEE-D0BE-4FD3-8B33-2AEB5FBE079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132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6D5A-141E-4C7E-88CD-E90B9B6480C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177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46BF-18B1-4191-951B-B4423EB5E61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222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7412-BBA6-4DDA-8734-09C25B67EFF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267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C6DA-360B-42E4-8580-D0AB2259487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312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A8F0-44E3-43E3-8164-15EE85629D3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357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4367520" y="571500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7D21-2A0D-4F3E-9499-6577E935F77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6832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</a:rPr>
              <a:t>我的工作展望</a:t>
            </a:r>
            <a:r>
              <a:rPr b="1" lang="en-US" sz="6600" spc="-1" strike="noStrike">
                <a:solidFill>
                  <a:srgbClr val="ffffff"/>
                </a:solidFill>
                <a:latin typeface="微软雅黑"/>
              </a:rPr>
              <a:t>PPT</a:t>
            </a: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692360" y="3141720"/>
            <a:ext cx="6400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幻灯片之家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4" descr="84.jpg"/>
          <p:cNvPicPr/>
          <p:nvPr/>
        </p:nvPicPr>
        <p:blipFill>
          <a:blip r:embed="rId1"/>
          <a:stretch/>
        </p:blipFill>
        <p:spPr>
          <a:xfrm>
            <a:off x="0" y="1143000"/>
            <a:ext cx="3484440" cy="43578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541" name="内容占位符 5" descr="22236981da6b72f39123d9b3.jpg"/>
          <p:cNvPicPr/>
          <p:nvPr/>
        </p:nvPicPr>
        <p:blipFill>
          <a:blip r:embed="rId1"/>
          <a:srcRect l="18540" t="0" r="17281" b="0"/>
          <a:stretch/>
        </p:blipFill>
        <p:spPr>
          <a:xfrm>
            <a:off x="5429160" y="1928880"/>
            <a:ext cx="3714840" cy="361476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900000" y="1844640"/>
            <a:ext cx="691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内容占位符 7" descr="83820aed0b471d0362d09fbc.jpg"/>
          <p:cNvPicPr/>
          <p:nvPr/>
        </p:nvPicPr>
        <p:blipFill>
          <a:blip r:embed="rId1"/>
          <a:srcRect l="16046" t="0" r="19775" b="0"/>
          <a:stretch/>
        </p:blipFill>
        <p:spPr>
          <a:xfrm>
            <a:off x="2571840" y="1857240"/>
            <a:ext cx="3714840" cy="3614760"/>
          </a:xfrm>
          <a:prstGeom prst="rect">
            <a:avLst/>
          </a:prstGeom>
          <a:ln w="0">
            <a:noFill/>
          </a:ln>
        </p:spPr>
      </p:pic>
      <p:grpSp>
        <p:nvGrpSpPr>
          <p:cNvPr id="544" name="椭圆 4"/>
          <p:cNvGrpSpPr/>
          <p:nvPr/>
        </p:nvGrpSpPr>
        <p:grpSpPr>
          <a:xfrm>
            <a:off x="1170000" y="1554120"/>
            <a:ext cx="2652840" cy="3560760"/>
            <a:chOff x="1170000" y="1554120"/>
            <a:chExt cx="2652840" cy="3560760"/>
          </a:xfrm>
        </p:grpSpPr>
        <p:pic>
          <p:nvPicPr>
            <p:cNvPr id="545" name="椭圆 4" descr=""/>
            <p:cNvPicPr/>
            <p:nvPr/>
          </p:nvPicPr>
          <p:blipFill>
            <a:blip r:embed="rId2"/>
            <a:stretch/>
          </p:blipFill>
          <p:spPr>
            <a:xfrm>
              <a:off x="1170000" y="1554120"/>
              <a:ext cx="265284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590840" y="1947960"/>
              <a:ext cx="181908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椭圆 8"/>
          <p:cNvGrpSpPr/>
          <p:nvPr/>
        </p:nvGrpSpPr>
        <p:grpSpPr>
          <a:xfrm>
            <a:off x="4956120" y="268200"/>
            <a:ext cx="2651040" cy="3560760"/>
            <a:chOff x="4956120" y="268200"/>
            <a:chExt cx="2651040" cy="3560760"/>
          </a:xfrm>
        </p:grpSpPr>
        <p:pic>
          <p:nvPicPr>
            <p:cNvPr id="548" name="椭圆 8" descr=""/>
            <p:cNvPicPr/>
            <p:nvPr/>
          </p:nvPicPr>
          <p:blipFill>
            <a:blip r:embed="rId3"/>
            <a:stretch/>
          </p:blipFill>
          <p:spPr>
            <a:xfrm>
              <a:off x="4956120" y="268200"/>
              <a:ext cx="265104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5376960" y="662040"/>
              <a:ext cx="181908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551" name="内容占位符 3" descr="4ba4742bc70d5b09d42af1bc.jpg"/>
          <p:cNvPicPr/>
          <p:nvPr/>
        </p:nvPicPr>
        <p:blipFill>
          <a:blip r:embed="rId1"/>
          <a:stretch/>
        </p:blipFill>
        <p:spPr>
          <a:xfrm>
            <a:off x="1714680" y="1919160"/>
            <a:ext cx="5787720" cy="36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553" name="内容占位符 3" descr="OOOPIC_haiyang_20090227a5b152f2d55c2736.jpg"/>
          <p:cNvPicPr/>
          <p:nvPr/>
        </p:nvPicPr>
        <p:blipFill>
          <a:blip r:embed="rId1"/>
          <a:srcRect l="15374" t="11066" r="12165" b="0"/>
          <a:stretch/>
        </p:blipFill>
        <p:spPr>
          <a:xfrm>
            <a:off x="0" y="2305080"/>
            <a:ext cx="2357280" cy="32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2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</a:rPr>
              <a:t>感  谢！</a:t>
            </a: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728720" y="3357720"/>
            <a:ext cx="6400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微软雅黑"/>
              </a:rPr>
              <a:t>Thanks for  your time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13:03:07Z</dcterms:created>
  <dc:creator>SKY</dc:creator>
  <dc:description/>
  <dc:language>en-US</dc:language>
  <cp:lastModifiedBy>符颖</cp:lastModifiedBy>
  <dcterms:modified xsi:type="dcterms:W3CDTF">2015-07-07T13:06:45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