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1A6-C6CA-4218-9606-DFD8A000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724-E71D-45B1-BF1A-0DF69F8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CC4-C1D9-48A0-AB85-D09C875C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4FB-BBA7-4CF5-88C2-C0C546C3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D94-5B75-4B8A-8169-FBE5F21E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505-E5C4-4286-A672-01D4903D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106-1611-48A5-91D8-7A435D4E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8EA-A5B6-4B23-9AF9-0D2783DC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99C-63BA-4C14-8FCC-41BCA419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04C-96D2-4FDF-9CD5-56ACBC9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56B-91F4-4198-9D97-8FE9F8AD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972-A53F-4587-8A9B-BA6073B3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A1DA-CE06-4DED-8832-14B3A74C0D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2BAD-1E76-4994-BBEE-5A1586D4A0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fengjing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83016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8800" y="1035000"/>
            <a:ext cx="37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湖泊风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7760" y="5845320"/>
            <a:ext cx="6188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977760" y="584532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自然风景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514-05BC-4AD0-90BF-6315FDCB32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4:43:00Z</dcterms:created>
  <dc:creator>for_yang@qq.com</dc:creator>
  <dc:description/>
  <dc:language>en-US</dc:language>
  <cp:lastModifiedBy>雨林木风</cp:lastModifiedBy>
  <dcterms:modified xsi:type="dcterms:W3CDTF">2015-07-11T15:06:27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