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yundong/" TargetMode="External"/><Relationship Id="rId4" Type="http://schemas.openxmlformats.org/officeDocument/2006/relationships/hyperlink" Target="http://www.eeppt.com/moban/yundong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09320" y="61722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55627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滑板运动介绍</a:t>
            </a:r>
            <a:r>
              <a:rPr b="1" lang="zh-CN" sz="4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765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tyle Bold Extended ATT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4876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TRAN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98640" y="1371600"/>
            <a:ext cx="3602160" cy="423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60560" y="4626000"/>
            <a:ext cx="660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体育运动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moban/yund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ero"/>
                <a:ea typeface="宋体"/>
              </a:rPr>
              <a:t>YOUR TITL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ero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ero"/>
                <a:ea typeface="宋体"/>
              </a:rPr>
              <a:t>YOUR SUBTOPIC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3124080"/>
            <a:ext cx="8229600" cy="3200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6705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43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909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1911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7913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73915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5410080" y="2895480"/>
            <a:ext cx="3108600" cy="3657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1165320" y="4010040"/>
            <a:ext cx="43974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21:07:48Z</dcterms:created>
  <dc:creator>eclipse</dc:creator>
  <dc:description/>
  <dc:language>en-US</dc:language>
  <cp:lastModifiedBy>微软用户</cp:lastModifiedBy>
  <dcterms:modified xsi:type="dcterms:W3CDTF">2015-07-05T06:51:5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