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1088-54D7-4BA3-98DE-AD58AC9A78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B024-091A-4924-9C5B-8DA4FD5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3A66-C375-4D5C-A3A6-0A5D453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C625-281D-4C3F-89CF-73DA4993C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16FB-51CF-4764-90B9-41E835F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5C0B-AD1A-4EAF-BA8A-7754B285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3E6A-EFBF-4304-8E11-89F2962E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7FD9-C7AC-411D-BFED-F06E882E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0D4E-63F4-49E9-B256-0ADD92D7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7081-F9DD-4B02-B5B4-BAF1699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E2FD-0127-4731-B390-A52B038B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609C-0C5E-4F78-8D64-2C6B886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01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51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Picture 150" descr="2_1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Text Box 126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12B-FD5B-42BE-B4B5-767351CBEB62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9" name="Oval 152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Oval 153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Oval 154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Oval 155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3" name="Picture 157" descr="3_2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4" descr="01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03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04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05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06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09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7" name="Picture 141" descr="07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02_1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3_2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6629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花朵</a:t>
            </a:r>
            <a:r>
              <a:rPr b="0" lang="en-US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PPT</a:t>
            </a:r>
            <a:r>
              <a:rPr b="0" lang="zh-CN" sz="3600" spc="-1" strike="noStrike">
                <a:solidFill>
                  <a:srgbClr val="ffc000"/>
                </a:solidFill>
                <a:latin typeface="华文细黑"/>
                <a:ea typeface="华文细黑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4680" y="357336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f21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cf21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AutoShape 42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7" name="AutoShape 43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9" name="AutoShape 45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ad67d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AutoShape 46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AutoShape 48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79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533520" y="2494080"/>
            <a:ext cx="4586040" cy="4173480"/>
          </a:xfrm>
          <a:custGeom>
            <a:avLst/>
            <a:gdLst>
              <a:gd name="textAreaLeft" fmla="*/ 0 w 4586040"/>
              <a:gd name="textAreaRight" fmla="*/ 4586400 w 458604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144440" y="313200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1528920" y="3613320"/>
            <a:ext cx="2503440" cy="227772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277720"/>
              <a:gd name="textAreaBottom" fmla="*/ 820080 h 227772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1851120" y="399888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ce5ab"/>
              </a:gs>
              <a:gs pos="100000">
                <a:srgbClr val="f7bc2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bd2f3"/>
              </a:gs>
              <a:gs pos="100000">
                <a:srgbClr val="a28be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1eaa9"/>
              </a:gs>
              <a:gs pos="100000">
                <a:srgbClr val="8ac92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bfeaf2"/>
              </a:gs>
              <a:gs pos="100000">
                <a:srgbClr val="5bc9d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3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keke</dc:creator>
  <dc:description/>
  <dc:language>en-US</dc:language>
  <cp:lastModifiedBy>jccook</cp:lastModifiedBy>
  <dcterms:modified xsi:type="dcterms:W3CDTF">2015-07-07T00:27:51Z</dcterms:modified>
  <cp:revision>4</cp:revision>
  <dc:subject/>
  <dc:title>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