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69944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69944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69944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313956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313956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69944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69944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69944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139560"/>
            <a:ext cx="8229600" cy="29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82296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40158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139560"/>
            <a:ext cx="40158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95280" y="1917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139560"/>
            <a:ext cx="40158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69944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3139560"/>
            <a:ext cx="8229600" cy="29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40158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69944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69944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69944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69944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69944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13956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13956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69944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69944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69944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68A0D-90DF-42E4-8723-26E9EDBC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3139560"/>
            <a:ext cx="8229600" cy="29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D81C4-25C4-4DF6-925C-0B889848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82296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7D70D-BA84-4A07-B1C1-21FBCA4B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40158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3139560"/>
            <a:ext cx="40158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49F54-83F1-427E-90D5-CDA89D9D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C2F8F-A582-414D-B7F3-479538E6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82296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95280" y="1917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E567D-3DAE-4F68-9FF5-0E7C67D5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3139560"/>
            <a:ext cx="40158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69944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2EEA0-283E-4C5A-8D8F-84489395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40158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69944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C285D-7808-49AF-BEED-294B309F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69944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042DE-E148-4F5B-81A4-3ADFF41E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69944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B99E1-F9AD-4ACD-98FA-8A774F0A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69944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69944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F0855-54EA-40B4-98E6-3F353A07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313956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313956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69944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69944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69944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5B018-E321-4491-ACA5-ECFE2AD9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40158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3139560"/>
            <a:ext cx="40158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95280" y="1917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3139560"/>
            <a:ext cx="40158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69944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40158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69944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69944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a5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963d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236000" y="6426360"/>
            <a:ext cx="14396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2F8D7A20-9C44-418C-927B-C805F130CAD2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5576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da58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963d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3139560"/>
            <a:ext cx="82296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 algn="r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 algn="r">
              <a:lnSpc>
                <a:spcPct val="120000"/>
              </a:lnSpc>
              <a:spcBef>
                <a:spcPts val="499"/>
              </a:spcBef>
              <a:buClr>
                <a:srgbClr val="da5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 algn="r">
              <a:lnSpc>
                <a:spcPct val="120000"/>
              </a:lnSpc>
              <a:spcBef>
                <a:spcPts val="499"/>
              </a:spcBef>
              <a:buClr>
                <a:srgbClr val="963d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 algn="r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 algn="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 algn="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2093-57C7-4F23-9F0F-CD13907F17C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C46B-4607-4D33-8CBA-FF1EF5AD40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68360" y="544500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68360" y="45576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5445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33600" y="43657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虎年大吉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60720" y="55897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i="1" lang="en-US" sz="1600" spc="-1" strike="noStrike" u="sng">
                <a:solidFill>
                  <a:srgbClr val="963d00"/>
                </a:solidFill>
                <a:uFillTx/>
                <a:latin typeface="Arial"/>
                <a:hlinkClick r:id="rId1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6431E-8DCE-4E5A-A784-1DE84B6729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B409A-8265-4B39-AFC0-8C4DEEDF49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/>
  <dcterms:modified xsi:type="dcterms:W3CDTF">2015-07-11T14:18:06Z</dcterms:modified>
  <cp:revision>28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1e04000000000001024140</vt:lpwstr>
  </property>
</Properties>
</file>