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B193-6910-4ACA-927B-35428343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CD7-7A80-406C-AA38-248A06D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583-C129-49E6-9E21-4BACD44A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E79-7978-405A-B529-B1B3E82B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BD94-E9B0-417E-9A39-22A7B705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B197-6D09-4C3F-9345-06435E84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975F-F82B-4487-A74F-F9530926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EEDB-356D-4CEF-8171-09ACA035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B04F-E3B0-4FDD-A235-6D33B621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1875-35C3-4407-9136-FA91D3F3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7EE6-25BD-46FE-9007-818CB1EF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E64-675C-425E-B9A4-C1D3C5ED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0ECC-D403-431A-B17C-A0FF5D8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57EF-BCE8-4EF3-B9FC-54965197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304A-4D06-4E43-8E85-3A2806DB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C1EB-036F-4392-B53E-82B5ACFA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BA3C-1B51-42E2-A8B1-EF0F9DCC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C93-00F2-41A2-9BAA-76A5396D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CFD8-1BC9-4D65-81B0-3425B00D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ACA-561B-42D4-9720-D0F5CE9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66D-0A15-4FF0-9287-65E68894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58B-4512-42F4-BA39-E33D59F1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0810-1F88-49FF-999F-40E0B08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C77B-A483-4A11-BBE0-5B17E0B2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52C-1FBD-42BA-89DF-188233E84B67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9CA4-A0A7-484B-B685-DC9903269E9F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5436000" y="1700280"/>
            <a:ext cx="1212120" cy="4536000"/>
            <a:chOff x="5436000" y="1700280"/>
            <a:chExt cx="1212120" cy="4536000"/>
          </a:xfrm>
        </p:grpSpPr>
        <p:sp>
          <p:nvSpPr>
            <p:cNvPr id="82" name=""/>
            <p:cNvSpPr/>
            <p:nvPr/>
          </p:nvSpPr>
          <p:spPr>
            <a:xfrm flipH="1">
              <a:off x="5458320" y="3693960"/>
              <a:ext cx="787680" cy="2501280"/>
            </a:xfrm>
            <a:custGeom>
              <a:avLst/>
              <a:gdLst/>
              <a:ahLst/>
              <a:rect l="l" t="t" r="r" b="b"/>
              <a:pathLst>
                <a:path w="4447" h="7557">
                  <a:moveTo>
                    <a:pt x="1499" y="7557"/>
                  </a:moveTo>
                  <a:lnTo>
                    <a:pt x="0" y="7557"/>
                  </a:lnTo>
                  <a:lnTo>
                    <a:pt x="1468" y="0"/>
                  </a:lnTo>
                  <a:lnTo>
                    <a:pt x="4447" y="7557"/>
                  </a:lnTo>
                  <a:lnTo>
                    <a:pt x="3546" y="7557"/>
                  </a:lnTo>
                  <a:lnTo>
                    <a:pt x="3500" y="7473"/>
                  </a:lnTo>
                  <a:lnTo>
                    <a:pt x="3448" y="7380"/>
                  </a:lnTo>
                  <a:lnTo>
                    <a:pt x="3391" y="7279"/>
                  </a:lnTo>
                  <a:lnTo>
                    <a:pt x="3329" y="7174"/>
                  </a:lnTo>
                  <a:lnTo>
                    <a:pt x="3262" y="7064"/>
                  </a:lnTo>
                  <a:lnTo>
                    <a:pt x="3192" y="6950"/>
                  </a:lnTo>
                  <a:lnTo>
                    <a:pt x="3119" y="6836"/>
                  </a:lnTo>
                  <a:lnTo>
                    <a:pt x="3042" y="6721"/>
                  </a:lnTo>
                  <a:lnTo>
                    <a:pt x="2962" y="6609"/>
                  </a:lnTo>
                  <a:lnTo>
                    <a:pt x="2882" y="6498"/>
                  </a:lnTo>
                  <a:lnTo>
                    <a:pt x="2799" y="6391"/>
                  </a:lnTo>
                  <a:lnTo>
                    <a:pt x="2714" y="6290"/>
                  </a:lnTo>
                  <a:lnTo>
                    <a:pt x="2630" y="6196"/>
                  </a:lnTo>
                  <a:lnTo>
                    <a:pt x="2544" y="6110"/>
                  </a:lnTo>
                  <a:lnTo>
                    <a:pt x="2461" y="6033"/>
                  </a:lnTo>
                  <a:lnTo>
                    <a:pt x="2376" y="5968"/>
                  </a:lnTo>
                  <a:lnTo>
                    <a:pt x="2293" y="5915"/>
                  </a:lnTo>
                  <a:lnTo>
                    <a:pt x="2212" y="5876"/>
                  </a:lnTo>
                  <a:lnTo>
                    <a:pt x="2133" y="5852"/>
                  </a:lnTo>
                  <a:lnTo>
                    <a:pt x="2056" y="5844"/>
                  </a:lnTo>
                  <a:lnTo>
                    <a:pt x="1983" y="5855"/>
                  </a:lnTo>
                  <a:lnTo>
                    <a:pt x="1912" y="5885"/>
                  </a:lnTo>
                  <a:lnTo>
                    <a:pt x="1845" y="5936"/>
                  </a:lnTo>
                  <a:lnTo>
                    <a:pt x="1784" y="6008"/>
                  </a:lnTo>
                  <a:lnTo>
                    <a:pt x="1726" y="6104"/>
                  </a:lnTo>
                  <a:lnTo>
                    <a:pt x="1674" y="6227"/>
                  </a:lnTo>
                  <a:lnTo>
                    <a:pt x="1628" y="6374"/>
                  </a:lnTo>
                  <a:lnTo>
                    <a:pt x="1589" y="6550"/>
                  </a:lnTo>
                  <a:lnTo>
                    <a:pt x="1554" y="6754"/>
                  </a:lnTo>
                  <a:lnTo>
                    <a:pt x="1529" y="6989"/>
                  </a:lnTo>
                  <a:lnTo>
                    <a:pt x="1510" y="7256"/>
                  </a:lnTo>
                  <a:lnTo>
                    <a:pt x="1499" y="7557"/>
                  </a:lnTo>
                  <a:close/>
                </a:path>
              </a:pathLst>
            </a:custGeom>
            <a:solidFill>
              <a:srgbClr val="5e5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435640" y="3693960"/>
              <a:ext cx="603000" cy="2501280"/>
            </a:xfrm>
            <a:custGeom>
              <a:avLst/>
              <a:gdLst/>
              <a:ahLst/>
              <a:rect l="l" t="t" r="r" b="b"/>
              <a:pathLst>
                <a:path w="3399" h="7557">
                  <a:moveTo>
                    <a:pt x="294" y="0"/>
                  </a:moveTo>
                  <a:lnTo>
                    <a:pt x="3399" y="7557"/>
                  </a:lnTo>
                  <a:lnTo>
                    <a:pt x="2938" y="7557"/>
                  </a:lnTo>
                  <a:lnTo>
                    <a:pt x="0" y="2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5726520" y="1700280"/>
              <a:ext cx="921600" cy="4536000"/>
            </a:xfrm>
            <a:custGeom>
              <a:avLst/>
              <a:gdLst/>
              <a:ahLst/>
              <a:rect l="l" t="t" r="r" b="b"/>
              <a:pathLst>
                <a:path w="5203" h="13686">
                  <a:moveTo>
                    <a:pt x="0" y="13686"/>
                  </a:moveTo>
                  <a:lnTo>
                    <a:pt x="3987" y="13686"/>
                  </a:lnTo>
                  <a:lnTo>
                    <a:pt x="5203" y="335"/>
                  </a:lnTo>
                  <a:lnTo>
                    <a:pt x="4993" y="0"/>
                  </a:lnTo>
                  <a:lnTo>
                    <a:pt x="1595" y="672"/>
                  </a:lnTo>
                  <a:lnTo>
                    <a:pt x="0" y="13686"/>
                  </a:lnTo>
                  <a:close/>
                </a:path>
              </a:pathLst>
            </a:custGeom>
            <a:solidFill>
              <a:srgbClr val="b4b3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5713560" y="1700280"/>
              <a:ext cx="321840" cy="4536000"/>
            </a:xfrm>
            <a:custGeom>
              <a:avLst/>
              <a:gdLst/>
              <a:ahLst/>
              <a:rect l="l" t="t" r="r" b="b"/>
              <a:pathLst>
                <a:path w="1812" h="13686">
                  <a:moveTo>
                    <a:pt x="1812" y="356"/>
                  </a:moveTo>
                  <a:lnTo>
                    <a:pt x="532" y="13686"/>
                  </a:lnTo>
                  <a:lnTo>
                    <a:pt x="0" y="13686"/>
                  </a:lnTo>
                  <a:lnTo>
                    <a:pt x="1538" y="0"/>
                  </a:lnTo>
                  <a:lnTo>
                    <a:pt x="1812" y="356"/>
                  </a:lnTo>
                  <a:close/>
                </a:path>
              </a:pathLst>
            </a:custGeom>
            <a:solidFill>
              <a:srgbClr val="82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822280" y="1813680"/>
              <a:ext cx="787680" cy="4339800"/>
            </a:xfrm>
            <a:custGeom>
              <a:avLst/>
              <a:gdLst/>
              <a:ahLst/>
              <a:rect l="l" t="t" r="r" b="b"/>
              <a:pathLst>
                <a:path w="4448" h="13099">
                  <a:moveTo>
                    <a:pt x="3022" y="13099"/>
                  </a:moveTo>
                  <a:lnTo>
                    <a:pt x="0" y="13099"/>
                  </a:lnTo>
                  <a:lnTo>
                    <a:pt x="1553" y="588"/>
                  </a:lnTo>
                  <a:lnTo>
                    <a:pt x="4448" y="0"/>
                  </a:lnTo>
                  <a:lnTo>
                    <a:pt x="3022" y="13099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30640" y="2016720"/>
              <a:ext cx="455760" cy="1813680"/>
            </a:xfrm>
            <a:custGeom>
              <a:avLst/>
              <a:gdLst/>
              <a:ahLst/>
              <a:rect l="l" t="t" r="r" b="b"/>
              <a:pathLst>
                <a:path w="2574" h="5472">
                  <a:moveTo>
                    <a:pt x="476" y="0"/>
                  </a:moveTo>
                  <a:lnTo>
                    <a:pt x="0" y="3331"/>
                  </a:lnTo>
                  <a:lnTo>
                    <a:pt x="2434" y="5472"/>
                  </a:lnTo>
                  <a:lnTo>
                    <a:pt x="2574" y="4030"/>
                  </a:lnTo>
                  <a:lnTo>
                    <a:pt x="47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971680" y="3198600"/>
              <a:ext cx="436680" cy="1641960"/>
            </a:xfrm>
            <a:custGeom>
              <a:avLst/>
              <a:gdLst/>
              <a:ahLst/>
              <a:rect l="l" t="t" r="r" b="b"/>
              <a:pathLst>
                <a:path w="2461" h="4953">
                  <a:moveTo>
                    <a:pt x="2461" y="2099"/>
                  </a:moveTo>
                  <a:lnTo>
                    <a:pt x="56" y="0"/>
                  </a:lnTo>
                  <a:lnTo>
                    <a:pt x="0" y="867"/>
                  </a:lnTo>
                  <a:lnTo>
                    <a:pt x="2182" y="4953"/>
                  </a:lnTo>
                  <a:lnTo>
                    <a:pt x="2461" y="20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9" name=""/>
          <p:cNvSpPr/>
          <p:nvPr/>
        </p:nvSpPr>
        <p:spPr>
          <a:xfrm rot="679800">
            <a:off x="237960" y="5428800"/>
            <a:ext cx="1081080" cy="1079640"/>
          </a:xfrm>
          <a:custGeom>
            <a:avLst/>
            <a:gdLst>
              <a:gd name="textAreaLeft" fmla="*/ 254160 w 1081080"/>
              <a:gd name="textAreaRight" fmla="*/ 826200 w 1081080"/>
              <a:gd name="textAreaTop" fmla="*/ 126720 h 1079640"/>
              <a:gd name="textAreaBottom" fmla="*/ 677160 h 10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47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"/>
          <p:cNvSpPr/>
          <p:nvPr/>
        </p:nvSpPr>
        <p:spPr>
          <a:xfrm rot="3244800">
            <a:off x="1258920" y="5877000"/>
            <a:ext cx="649440" cy="836640"/>
          </a:xfrm>
          <a:custGeom>
            <a:avLst/>
            <a:gdLst>
              <a:gd name="textAreaLeft" fmla="*/ 152640 w 649440"/>
              <a:gd name="textAreaRight" fmla="*/ 496440 w 649440"/>
              <a:gd name="textAreaTop" fmla="*/ 98280 h 836640"/>
              <a:gd name="textAreaBottom" fmla="*/ 524880 h 836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"/>
          <p:cNvSpPr/>
          <p:nvPr/>
        </p:nvSpPr>
        <p:spPr>
          <a:xfrm rot="19290000">
            <a:off x="324000" y="4797360"/>
            <a:ext cx="504720" cy="43200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7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"/>
          <p:cNvSpPr/>
          <p:nvPr/>
        </p:nvSpPr>
        <p:spPr>
          <a:xfrm rot="1825800">
            <a:off x="899640" y="4869000"/>
            <a:ext cx="360360" cy="3603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"/>
          <p:cNvSpPr/>
          <p:nvPr/>
        </p:nvSpPr>
        <p:spPr>
          <a:xfrm rot="19275000">
            <a:off x="125280" y="6159240"/>
            <a:ext cx="432000" cy="503280"/>
          </a:xfrm>
          <a:custGeom>
            <a:avLst/>
            <a:gdLst>
              <a:gd name="textAreaLeft" fmla="*/ 101520 w 432000"/>
              <a:gd name="textAreaRight" fmla="*/ 330120 w 43200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71364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"/>
          <p:cNvSpPr/>
          <p:nvPr/>
        </p:nvSpPr>
        <p:spPr>
          <a:xfrm rot="3244800">
            <a:off x="215640" y="3679560"/>
            <a:ext cx="144360" cy="217440"/>
          </a:xfrm>
          <a:custGeom>
            <a:avLst/>
            <a:gdLst>
              <a:gd name="textAreaLeft" fmla="*/ 33840 w 144360"/>
              <a:gd name="textAreaRight" fmla="*/ 110520 w 14436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"/>
          <p:cNvSpPr/>
          <p:nvPr/>
        </p:nvSpPr>
        <p:spPr>
          <a:xfrm rot="19641000">
            <a:off x="108000" y="422064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"/>
          <p:cNvSpPr/>
          <p:nvPr/>
        </p:nvSpPr>
        <p:spPr>
          <a:xfrm rot="19369200">
            <a:off x="171000" y="3370320"/>
            <a:ext cx="181080" cy="109440"/>
          </a:xfrm>
          <a:custGeom>
            <a:avLst/>
            <a:gdLst>
              <a:gd name="textAreaLeft" fmla="*/ 42480 w 181080"/>
              <a:gd name="textAreaRight" fmla="*/ 138600 w 18108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67640" y="2205000"/>
            <a:ext cx="71748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"/>
          <p:cNvSpPr/>
          <p:nvPr/>
        </p:nvSpPr>
        <p:spPr>
          <a:xfrm>
            <a:off x="71280" y="692280"/>
            <a:ext cx="938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00ff">
                  <a:alpha val="41176"/>
                </a:srgbClr>
              </a:gs>
              <a:gs pos="100000">
                <a:srgbClr val="750075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"/>
          <p:cNvSpPr/>
          <p:nvPr/>
        </p:nvSpPr>
        <p:spPr>
          <a:xfrm flipH="1" rot="14233200">
            <a:off x="-239040" y="3125520"/>
            <a:ext cx="1622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9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423280" y="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783640" y="549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76720" y="6308640"/>
            <a:ext cx="3814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flipH="1">
            <a:off x="6084720" y="2276640"/>
            <a:ext cx="2740320" cy="3987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rcRect l="63606" t="0" r="9364" b="6793"/>
          <a:stretch/>
        </p:blipFill>
        <p:spPr>
          <a:xfrm>
            <a:off x="6083280" y="2276640"/>
            <a:ext cx="289080" cy="3816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rot="679800">
            <a:off x="1611360" y="-864720"/>
            <a:ext cx="468360" cy="649080"/>
          </a:xfrm>
          <a:custGeom>
            <a:avLst/>
            <a:gdLst>
              <a:gd name="textAreaLeft" fmla="*/ 109800 w 468360"/>
              <a:gd name="textAreaRight" fmla="*/ 358200 w 468360"/>
              <a:gd name="textAreaTop" fmla="*/ 76320 h 649080"/>
              <a:gd name="textAreaBottom" fmla="*/ 407160 h 649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47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"/>
          <p:cNvSpPr/>
          <p:nvPr/>
        </p:nvSpPr>
        <p:spPr>
          <a:xfrm rot="3244800">
            <a:off x="1585800" y="-2183760"/>
            <a:ext cx="409680" cy="561960"/>
          </a:xfrm>
          <a:custGeom>
            <a:avLst/>
            <a:gdLst>
              <a:gd name="textAreaLeft" fmla="*/ 96120 w 409680"/>
              <a:gd name="textAreaRight" fmla="*/ 313200 w 409680"/>
              <a:gd name="textAreaTop" fmla="*/ 65880 h 561960"/>
              <a:gd name="textAreaBottom" fmla="*/ 352440 h 561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"/>
          <p:cNvSpPr/>
          <p:nvPr/>
        </p:nvSpPr>
        <p:spPr>
          <a:xfrm rot="19290000">
            <a:off x="712800" y="-3384360"/>
            <a:ext cx="504720" cy="43200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7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"/>
          <p:cNvSpPr/>
          <p:nvPr/>
        </p:nvSpPr>
        <p:spPr>
          <a:xfrm rot="3244800">
            <a:off x="3744720" y="-3232080"/>
            <a:ext cx="144720" cy="217440"/>
          </a:xfrm>
          <a:custGeom>
            <a:avLst/>
            <a:gdLst>
              <a:gd name="textAreaLeft" fmla="*/ 33840 w 144720"/>
              <a:gd name="textAreaRight" fmla="*/ 110880 w 14472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"/>
          <p:cNvSpPr/>
          <p:nvPr/>
        </p:nvSpPr>
        <p:spPr>
          <a:xfrm rot="19641000">
            <a:off x="2626920" y="-2763720"/>
            <a:ext cx="266760" cy="23796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7960"/>
              <a:gd name="textAreaBottom" fmla="*/ 149400 h 237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"/>
          <p:cNvSpPr/>
          <p:nvPr/>
        </p:nvSpPr>
        <p:spPr>
          <a:xfrm rot="19369200">
            <a:off x="667800" y="-4811400"/>
            <a:ext cx="181080" cy="109440"/>
          </a:xfrm>
          <a:custGeom>
            <a:avLst/>
            <a:gdLst>
              <a:gd name="textAreaLeft" fmla="*/ 42480 w 181080"/>
              <a:gd name="textAreaRight" fmla="*/ 138600 w 18108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 rot="19641000">
            <a:off x="1108080" y="-482616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"/>
          <p:cNvSpPr/>
          <p:nvPr/>
        </p:nvSpPr>
        <p:spPr>
          <a:xfrm rot="3474000">
            <a:off x="2959200" y="-2417400"/>
            <a:ext cx="360360" cy="3603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19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"/>
          <p:cNvSpPr/>
          <p:nvPr/>
        </p:nvSpPr>
        <p:spPr>
          <a:xfrm rot="3244800">
            <a:off x="2703240" y="-1686960"/>
            <a:ext cx="409680" cy="561960"/>
          </a:xfrm>
          <a:custGeom>
            <a:avLst/>
            <a:gdLst>
              <a:gd name="textAreaLeft" fmla="*/ 96120 w 409680"/>
              <a:gd name="textAreaRight" fmla="*/ 313200 w 409680"/>
              <a:gd name="textAreaTop" fmla="*/ 65880 h 561960"/>
              <a:gd name="textAreaBottom" fmla="*/ 352440 h 561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"/>
          <p:cNvSpPr/>
          <p:nvPr/>
        </p:nvSpPr>
        <p:spPr>
          <a:xfrm rot="3244800">
            <a:off x="674640" y="-3351240"/>
            <a:ext cx="144720" cy="217440"/>
          </a:xfrm>
          <a:custGeom>
            <a:avLst/>
            <a:gdLst>
              <a:gd name="textAreaLeft" fmla="*/ 33840 w 144720"/>
              <a:gd name="textAreaRight" fmla="*/ 110880 w 14472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"/>
          <p:cNvSpPr/>
          <p:nvPr/>
        </p:nvSpPr>
        <p:spPr>
          <a:xfrm rot="19641000">
            <a:off x="2187360" y="-3673080"/>
            <a:ext cx="266400" cy="237960"/>
          </a:xfrm>
          <a:custGeom>
            <a:avLst/>
            <a:gdLst>
              <a:gd name="textAreaLeft" fmla="*/ 62640 w 266400"/>
              <a:gd name="textAreaRight" fmla="*/ 203760 w 266400"/>
              <a:gd name="textAreaTop" fmla="*/ 27720 h 237960"/>
              <a:gd name="textAreaBottom" fmla="*/ 149400 h 237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"/>
          <p:cNvSpPr/>
          <p:nvPr/>
        </p:nvSpPr>
        <p:spPr>
          <a:xfrm rot="19369200">
            <a:off x="3058920" y="-4274640"/>
            <a:ext cx="180720" cy="109440"/>
          </a:xfrm>
          <a:custGeom>
            <a:avLst/>
            <a:gdLst>
              <a:gd name="textAreaLeft" fmla="*/ 42480 w 180720"/>
              <a:gd name="textAreaRight" fmla="*/ 138240 w 18072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"/>
          <p:cNvSpPr/>
          <p:nvPr/>
        </p:nvSpPr>
        <p:spPr>
          <a:xfrm rot="19641000">
            <a:off x="2627280" y="-449280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508720" y="5877000"/>
            <a:ext cx="647280" cy="503280"/>
            <a:chOff x="5508720" y="5877000"/>
            <a:chExt cx="647280" cy="503280"/>
          </a:xfrm>
        </p:grpSpPr>
        <p:sp>
          <p:nvSpPr>
            <p:cNvPr id="121" name=""/>
            <p:cNvSpPr/>
            <p:nvPr/>
          </p:nvSpPr>
          <p:spPr>
            <a:xfrm>
              <a:off x="5952240" y="5879520"/>
              <a:ext cx="42480" cy="10368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55560" y="6157440"/>
              <a:ext cx="70920" cy="8388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77800" y="6192000"/>
              <a:ext cx="74520" cy="8028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19480" y="5978160"/>
              <a:ext cx="236520" cy="22608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03720" y="6058440"/>
              <a:ext cx="68400" cy="6444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16000" y="6339240"/>
              <a:ext cx="112320" cy="3456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30840" y="6272640"/>
              <a:ext cx="37440" cy="10764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08720" y="6130440"/>
              <a:ext cx="236520" cy="22716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92600" y="6211800"/>
              <a:ext cx="66960" cy="6408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18680" y="5898960"/>
              <a:ext cx="174600" cy="16704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80960" y="5958360"/>
              <a:ext cx="48960" cy="4788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60200" y="5996880"/>
              <a:ext cx="143640" cy="1368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10600" y="6046200"/>
              <a:ext cx="41040" cy="381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57040" y="5877000"/>
              <a:ext cx="174240" cy="166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19320" y="5936400"/>
              <a:ext cx="48960" cy="4788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84400" y="6027840"/>
              <a:ext cx="184680" cy="17784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750280" y="6091920"/>
              <a:ext cx="52560" cy="493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20240" y="6090840"/>
              <a:ext cx="111960" cy="3564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59280" y="6166080"/>
              <a:ext cx="205560" cy="1965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31640" y="6236640"/>
              <a:ext cx="58320" cy="5580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32440" y="6238080"/>
              <a:ext cx="41400" cy="10368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148360" y="5877000"/>
            <a:ext cx="507600" cy="503280"/>
            <a:chOff x="5148360" y="5877000"/>
            <a:chExt cx="507600" cy="503280"/>
          </a:xfrm>
        </p:grpSpPr>
        <p:sp>
          <p:nvSpPr>
            <p:cNvPr id="143" name=""/>
            <p:cNvSpPr/>
            <p:nvPr/>
          </p:nvSpPr>
          <p:spPr>
            <a:xfrm>
              <a:off x="5496120" y="5879520"/>
              <a:ext cx="33120" cy="10368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77120" y="6157440"/>
              <a:ext cx="55800" cy="8388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6280" y="6192000"/>
              <a:ext cx="58320" cy="8028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70560" y="5978160"/>
              <a:ext cx="185400" cy="22608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36800" y="6058440"/>
              <a:ext cx="53640" cy="6444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32240" y="6339240"/>
              <a:ext cx="88200" cy="3456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22600" y="6272640"/>
              <a:ext cx="29160" cy="10764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48360" y="6130440"/>
              <a:ext cx="185400" cy="22716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4240" y="6211800"/>
              <a:ext cx="52560" cy="6408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91360" y="5898960"/>
              <a:ext cx="136800" cy="16704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40320" y="5958360"/>
              <a:ext cx="38520" cy="4788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8680" y="5996880"/>
              <a:ext cx="112680" cy="1368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28280" y="6046200"/>
              <a:ext cx="32400" cy="381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4640" y="5877000"/>
              <a:ext cx="136800" cy="166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3600" y="5936400"/>
              <a:ext cx="38160" cy="4788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6240" y="6027840"/>
              <a:ext cx="144720" cy="17784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8080" y="6091920"/>
              <a:ext cx="41400" cy="493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57360" y="6090840"/>
              <a:ext cx="87840" cy="3564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4920" y="6166080"/>
              <a:ext cx="161280" cy="1965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01800" y="6236640"/>
              <a:ext cx="45720" cy="5580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0640" y="6238080"/>
              <a:ext cx="32400" cy="10368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290760" y="1020600"/>
            <a:ext cx="238320" cy="160560"/>
          </a:xfrm>
          <a:custGeom>
            <a:avLst/>
            <a:gdLst/>
            <a:ahLst/>
            <a:rect l="l" t="t" r="r" b="b"/>
            <a:pathLst>
              <a:path w="1194" h="808">
                <a:moveTo>
                  <a:pt x="593" y="440"/>
                </a:moveTo>
                <a:lnTo>
                  <a:pt x="572" y="426"/>
                </a:lnTo>
                <a:lnTo>
                  <a:pt x="551" y="410"/>
                </a:lnTo>
                <a:lnTo>
                  <a:pt x="532" y="395"/>
                </a:lnTo>
                <a:lnTo>
                  <a:pt x="512" y="379"/>
                </a:lnTo>
                <a:lnTo>
                  <a:pt x="473" y="346"/>
                </a:lnTo>
                <a:lnTo>
                  <a:pt x="436" y="312"/>
                </a:lnTo>
                <a:lnTo>
                  <a:pt x="399" y="277"/>
                </a:lnTo>
                <a:lnTo>
                  <a:pt x="361" y="242"/>
                </a:lnTo>
                <a:lnTo>
                  <a:pt x="323" y="208"/>
                </a:lnTo>
                <a:lnTo>
                  <a:pt x="284" y="177"/>
                </a:lnTo>
                <a:lnTo>
                  <a:pt x="267" y="164"/>
                </a:lnTo>
                <a:lnTo>
                  <a:pt x="250" y="153"/>
                </a:lnTo>
                <a:lnTo>
                  <a:pt x="232" y="142"/>
                </a:lnTo>
                <a:lnTo>
                  <a:pt x="214" y="131"/>
                </a:lnTo>
                <a:lnTo>
                  <a:pt x="177" y="109"/>
                </a:lnTo>
                <a:lnTo>
                  <a:pt x="139" y="90"/>
                </a:lnTo>
                <a:lnTo>
                  <a:pt x="101" y="69"/>
                </a:lnTo>
                <a:lnTo>
                  <a:pt x="65" y="47"/>
                </a:lnTo>
                <a:lnTo>
                  <a:pt x="47" y="37"/>
                </a:lnTo>
                <a:lnTo>
                  <a:pt x="30" y="25"/>
                </a:lnTo>
                <a:lnTo>
                  <a:pt x="15" y="13"/>
                </a:lnTo>
                <a:lnTo>
                  <a:pt x="0" y="0"/>
                </a:lnTo>
                <a:lnTo>
                  <a:pt x="36" y="33"/>
                </a:lnTo>
                <a:lnTo>
                  <a:pt x="70" y="68"/>
                </a:lnTo>
                <a:lnTo>
                  <a:pt x="103" y="103"/>
                </a:lnTo>
                <a:lnTo>
                  <a:pt x="133" y="137"/>
                </a:lnTo>
                <a:lnTo>
                  <a:pt x="193" y="205"/>
                </a:lnTo>
                <a:lnTo>
                  <a:pt x="252" y="271"/>
                </a:lnTo>
                <a:lnTo>
                  <a:pt x="282" y="304"/>
                </a:lnTo>
                <a:lnTo>
                  <a:pt x="313" y="335"/>
                </a:lnTo>
                <a:lnTo>
                  <a:pt x="346" y="366"/>
                </a:lnTo>
                <a:lnTo>
                  <a:pt x="381" y="395"/>
                </a:lnTo>
                <a:lnTo>
                  <a:pt x="398" y="409"/>
                </a:lnTo>
                <a:lnTo>
                  <a:pt x="416" y="423"/>
                </a:lnTo>
                <a:lnTo>
                  <a:pt x="436" y="438"/>
                </a:lnTo>
                <a:lnTo>
                  <a:pt x="457" y="451"/>
                </a:lnTo>
                <a:lnTo>
                  <a:pt x="477" y="464"/>
                </a:lnTo>
                <a:lnTo>
                  <a:pt x="499" y="477"/>
                </a:lnTo>
                <a:lnTo>
                  <a:pt x="521" y="490"/>
                </a:lnTo>
                <a:lnTo>
                  <a:pt x="545" y="502"/>
                </a:lnTo>
                <a:lnTo>
                  <a:pt x="585" y="520"/>
                </a:lnTo>
                <a:lnTo>
                  <a:pt x="625" y="539"/>
                </a:lnTo>
                <a:lnTo>
                  <a:pt x="666" y="557"/>
                </a:lnTo>
                <a:lnTo>
                  <a:pt x="708" y="573"/>
                </a:lnTo>
                <a:lnTo>
                  <a:pt x="792" y="607"/>
                </a:lnTo>
                <a:lnTo>
                  <a:pt x="876" y="641"/>
                </a:lnTo>
                <a:lnTo>
                  <a:pt x="917" y="658"/>
                </a:lnTo>
                <a:lnTo>
                  <a:pt x="958" y="675"/>
                </a:lnTo>
                <a:lnTo>
                  <a:pt x="999" y="695"/>
                </a:lnTo>
                <a:lnTo>
                  <a:pt x="1039" y="715"/>
                </a:lnTo>
                <a:lnTo>
                  <a:pt x="1080" y="735"/>
                </a:lnTo>
                <a:lnTo>
                  <a:pt x="1119" y="758"/>
                </a:lnTo>
                <a:lnTo>
                  <a:pt x="1157" y="782"/>
                </a:lnTo>
                <a:lnTo>
                  <a:pt x="1194" y="808"/>
                </a:lnTo>
                <a:lnTo>
                  <a:pt x="1158" y="782"/>
                </a:lnTo>
                <a:lnTo>
                  <a:pt x="1122" y="758"/>
                </a:lnTo>
                <a:lnTo>
                  <a:pt x="1085" y="734"/>
                </a:lnTo>
                <a:lnTo>
                  <a:pt x="1048" y="710"/>
                </a:lnTo>
                <a:lnTo>
                  <a:pt x="972" y="665"/>
                </a:lnTo>
                <a:lnTo>
                  <a:pt x="896" y="619"/>
                </a:lnTo>
                <a:lnTo>
                  <a:pt x="819" y="576"/>
                </a:lnTo>
                <a:lnTo>
                  <a:pt x="743" y="531"/>
                </a:lnTo>
                <a:lnTo>
                  <a:pt x="667" y="486"/>
                </a:lnTo>
                <a:lnTo>
                  <a:pt x="593" y="440"/>
                </a:lnTo>
                <a:close/>
              </a:path>
            </a:pathLst>
          </a:custGeom>
          <a:solidFill>
            <a:srgbClr val="ec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8348760" y="6021360"/>
            <a:ext cx="543960" cy="285480"/>
            <a:chOff x="8348760" y="6021360"/>
            <a:chExt cx="543960" cy="285480"/>
          </a:xfrm>
        </p:grpSpPr>
        <p:sp>
          <p:nvSpPr>
            <p:cNvPr id="166" name=""/>
            <p:cNvSpPr/>
            <p:nvPr/>
          </p:nvSpPr>
          <p:spPr>
            <a:xfrm>
              <a:off x="8721360" y="6022440"/>
              <a:ext cx="35640" cy="5868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08120" y="6180840"/>
              <a:ext cx="59760" cy="4752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43320" y="6200280"/>
              <a:ext cx="62640" cy="4572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94000" y="6078960"/>
              <a:ext cx="198720" cy="12852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64920" y="6124320"/>
              <a:ext cx="57600" cy="3636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38760" y="6283800"/>
              <a:ext cx="94320" cy="1944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5240" y="6246000"/>
              <a:ext cx="31320" cy="6084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8760" y="6165360"/>
              <a:ext cx="198720" cy="12888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19320" y="6211440"/>
              <a:ext cx="56160" cy="3636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09400" y="6033600"/>
              <a:ext cx="146880" cy="94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61600" y="6067440"/>
              <a:ext cx="41400" cy="2736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91960" y="6089400"/>
              <a:ext cx="120600" cy="7776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34440" y="6117480"/>
              <a:ext cx="34560" cy="2160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73680" y="6021360"/>
              <a:ext cx="146520" cy="9468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25880" y="6054840"/>
              <a:ext cx="41040" cy="2736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96360" y="6107040"/>
              <a:ext cx="155160" cy="10116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51800" y="6143400"/>
              <a:ext cx="44280" cy="2808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58480" y="6142680"/>
              <a:ext cx="94320" cy="2016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59360" y="6185520"/>
              <a:ext cx="172800" cy="11160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20200" y="6225480"/>
              <a:ext cx="48960" cy="3168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704800" y="6226560"/>
              <a:ext cx="34920" cy="5868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639280" y="5950080"/>
            <a:ext cx="504720" cy="429840"/>
            <a:chOff x="8639280" y="5950080"/>
            <a:chExt cx="504720" cy="429840"/>
          </a:xfrm>
        </p:grpSpPr>
        <p:sp>
          <p:nvSpPr>
            <p:cNvPr id="188" name=""/>
            <p:cNvSpPr/>
            <p:nvPr/>
          </p:nvSpPr>
          <p:spPr>
            <a:xfrm>
              <a:off x="8984880" y="5951880"/>
              <a:ext cx="33120" cy="8856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65160" y="6189840"/>
              <a:ext cx="55440" cy="7164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05040" y="6219360"/>
              <a:ext cx="57960" cy="6876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59680" y="6036840"/>
              <a:ext cx="184320" cy="19332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025200" y="6105240"/>
              <a:ext cx="53280" cy="5508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22800" y="6345360"/>
              <a:ext cx="87480" cy="2952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812440" y="6288120"/>
              <a:ext cx="29160" cy="9180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639280" y="6166440"/>
              <a:ext cx="184320" cy="19440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704800" y="6236280"/>
              <a:ext cx="52200" cy="5472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880840" y="5968800"/>
              <a:ext cx="13608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29440" y="6019560"/>
              <a:ext cx="38160" cy="4104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679240" y="6052680"/>
              <a:ext cx="111960" cy="1170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718480" y="6094800"/>
              <a:ext cx="32040" cy="327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754840" y="5950080"/>
              <a:ext cx="13572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803440" y="6000840"/>
              <a:ext cx="38160" cy="4104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76080" y="6078960"/>
              <a:ext cx="143640" cy="15192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827560" y="6133680"/>
              <a:ext cx="41040" cy="421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48280" y="6132960"/>
              <a:ext cx="87480" cy="3060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834400" y="6197400"/>
              <a:ext cx="160200" cy="1677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890920" y="6257520"/>
              <a:ext cx="45360" cy="4752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969400" y="6258600"/>
              <a:ext cx="32400" cy="8856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00720" y="5950080"/>
            <a:ext cx="795240" cy="429840"/>
            <a:chOff x="4500720" y="5950080"/>
            <a:chExt cx="795240" cy="429840"/>
          </a:xfrm>
        </p:grpSpPr>
        <p:sp>
          <p:nvSpPr>
            <p:cNvPr id="210" name=""/>
            <p:cNvSpPr/>
            <p:nvPr/>
          </p:nvSpPr>
          <p:spPr>
            <a:xfrm>
              <a:off x="5045400" y="5951880"/>
              <a:ext cx="52200" cy="88560"/>
            </a:xfrm>
            <a:custGeom>
              <a:avLst/>
              <a:gdLst/>
              <a:ahLst/>
              <a:rect l="l" t="t" r="r" b="b"/>
              <a:pathLst>
                <a:path w="523" h="1336">
                  <a:moveTo>
                    <a:pt x="51" y="1336"/>
                  </a:moveTo>
                  <a:lnTo>
                    <a:pt x="50" y="1328"/>
                  </a:lnTo>
                  <a:lnTo>
                    <a:pt x="45" y="1309"/>
                  </a:lnTo>
                  <a:lnTo>
                    <a:pt x="39" y="1278"/>
                  </a:lnTo>
                  <a:lnTo>
                    <a:pt x="32" y="1238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1"/>
                  </a:lnTo>
                  <a:lnTo>
                    <a:pt x="4" y="1004"/>
                  </a:lnTo>
                  <a:lnTo>
                    <a:pt x="2" y="969"/>
                  </a:lnTo>
                  <a:lnTo>
                    <a:pt x="1" y="935"/>
                  </a:lnTo>
                  <a:lnTo>
                    <a:pt x="0" y="898"/>
                  </a:lnTo>
                  <a:lnTo>
                    <a:pt x="0" y="863"/>
                  </a:lnTo>
                  <a:lnTo>
                    <a:pt x="2" y="827"/>
                  </a:lnTo>
                  <a:lnTo>
                    <a:pt x="4" y="792"/>
                  </a:lnTo>
                  <a:lnTo>
                    <a:pt x="7" y="757"/>
                  </a:lnTo>
                  <a:lnTo>
                    <a:pt x="12" y="721"/>
                  </a:lnTo>
                  <a:lnTo>
                    <a:pt x="17" y="687"/>
                  </a:lnTo>
                  <a:lnTo>
                    <a:pt x="25" y="653"/>
                  </a:lnTo>
                  <a:lnTo>
                    <a:pt x="33" y="621"/>
                  </a:lnTo>
                  <a:lnTo>
                    <a:pt x="43" y="588"/>
                  </a:lnTo>
                  <a:lnTo>
                    <a:pt x="55" y="558"/>
                  </a:lnTo>
                  <a:lnTo>
                    <a:pt x="68" y="530"/>
                  </a:lnTo>
                  <a:lnTo>
                    <a:pt x="84" y="503"/>
                  </a:lnTo>
                  <a:lnTo>
                    <a:pt x="101" y="477"/>
                  </a:lnTo>
                  <a:lnTo>
                    <a:pt x="116" y="462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8"/>
                  </a:lnTo>
                  <a:lnTo>
                    <a:pt x="246" y="334"/>
                  </a:lnTo>
                  <a:lnTo>
                    <a:pt x="279" y="297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1"/>
                  </a:lnTo>
                  <a:lnTo>
                    <a:pt x="392" y="160"/>
                  </a:lnTo>
                  <a:lnTo>
                    <a:pt x="406" y="140"/>
                  </a:lnTo>
                  <a:lnTo>
                    <a:pt x="419" y="121"/>
                  </a:lnTo>
                  <a:lnTo>
                    <a:pt x="430" y="102"/>
                  </a:lnTo>
                  <a:lnTo>
                    <a:pt x="442" y="84"/>
                  </a:lnTo>
                  <a:lnTo>
                    <a:pt x="451" y="66"/>
                  </a:lnTo>
                  <a:lnTo>
                    <a:pt x="458" y="49"/>
                  </a:lnTo>
                  <a:lnTo>
                    <a:pt x="464" y="31"/>
                  </a:lnTo>
                  <a:lnTo>
                    <a:pt x="468" y="15"/>
                  </a:lnTo>
                  <a:lnTo>
                    <a:pt x="471" y="0"/>
                  </a:lnTo>
                  <a:lnTo>
                    <a:pt x="472" y="5"/>
                  </a:lnTo>
                  <a:lnTo>
                    <a:pt x="476" y="20"/>
                  </a:lnTo>
                  <a:lnTo>
                    <a:pt x="481" y="46"/>
                  </a:lnTo>
                  <a:lnTo>
                    <a:pt x="487" y="78"/>
                  </a:lnTo>
                  <a:lnTo>
                    <a:pt x="494" y="118"/>
                  </a:lnTo>
                  <a:lnTo>
                    <a:pt x="501" y="164"/>
                  </a:lnTo>
                  <a:lnTo>
                    <a:pt x="508" y="216"/>
                  </a:lnTo>
                  <a:lnTo>
                    <a:pt x="514" y="272"/>
                  </a:lnTo>
                  <a:lnTo>
                    <a:pt x="519" y="332"/>
                  </a:lnTo>
                  <a:lnTo>
                    <a:pt x="522" y="394"/>
                  </a:lnTo>
                  <a:lnTo>
                    <a:pt x="523" y="425"/>
                  </a:lnTo>
                  <a:lnTo>
                    <a:pt x="523" y="457"/>
                  </a:lnTo>
                  <a:lnTo>
                    <a:pt x="522" y="490"/>
                  </a:lnTo>
                  <a:lnTo>
                    <a:pt x="520" y="522"/>
                  </a:lnTo>
                  <a:lnTo>
                    <a:pt x="518" y="554"/>
                  </a:lnTo>
                  <a:lnTo>
                    <a:pt x="515" y="586"/>
                  </a:lnTo>
                  <a:lnTo>
                    <a:pt x="511" y="619"/>
                  </a:lnTo>
                  <a:lnTo>
                    <a:pt x="505" y="650"/>
                  </a:lnTo>
                  <a:lnTo>
                    <a:pt x="499" y="681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5"/>
                  </a:lnTo>
                  <a:lnTo>
                    <a:pt x="445" y="828"/>
                  </a:lnTo>
                  <a:lnTo>
                    <a:pt x="429" y="858"/>
                  </a:lnTo>
                  <a:lnTo>
                    <a:pt x="410" y="893"/>
                  </a:lnTo>
                  <a:lnTo>
                    <a:pt x="388" y="932"/>
                  </a:lnTo>
                  <a:lnTo>
                    <a:pt x="363" y="974"/>
                  </a:lnTo>
                  <a:lnTo>
                    <a:pt x="335" y="1018"/>
                  </a:lnTo>
                  <a:lnTo>
                    <a:pt x="303" y="1065"/>
                  </a:lnTo>
                  <a:lnTo>
                    <a:pt x="286" y="1088"/>
                  </a:lnTo>
                  <a:lnTo>
                    <a:pt x="268" y="1112"/>
                  </a:lnTo>
                  <a:lnTo>
                    <a:pt x="250" y="1135"/>
                  </a:lnTo>
                  <a:lnTo>
                    <a:pt x="231" y="1159"/>
                  </a:lnTo>
                  <a:lnTo>
                    <a:pt x="211" y="1182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3" y="1273"/>
                  </a:lnTo>
                  <a:lnTo>
                    <a:pt x="100" y="1294"/>
                  </a:lnTo>
                  <a:lnTo>
                    <a:pt x="76" y="1315"/>
                  </a:lnTo>
                  <a:lnTo>
                    <a:pt x="51" y="1336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72120" y="6189840"/>
              <a:ext cx="87480" cy="71640"/>
            </a:xfrm>
            <a:custGeom>
              <a:avLst/>
              <a:gdLst/>
              <a:ahLst/>
              <a:rect l="l" t="t" r="r" b="b"/>
              <a:pathLst>
                <a:path w="879" h="1090">
                  <a:moveTo>
                    <a:pt x="0" y="1090"/>
                  </a:moveTo>
                  <a:lnTo>
                    <a:pt x="5" y="1089"/>
                  </a:lnTo>
                  <a:lnTo>
                    <a:pt x="20" y="1088"/>
                  </a:lnTo>
                  <a:lnTo>
                    <a:pt x="45" y="1085"/>
                  </a:lnTo>
                  <a:lnTo>
                    <a:pt x="77" y="1079"/>
                  </a:lnTo>
                  <a:lnTo>
                    <a:pt x="96" y="1075"/>
                  </a:lnTo>
                  <a:lnTo>
                    <a:pt x="116" y="1070"/>
                  </a:lnTo>
                  <a:lnTo>
                    <a:pt x="137" y="1063"/>
                  </a:lnTo>
                  <a:lnTo>
                    <a:pt x="160" y="1056"/>
                  </a:lnTo>
                  <a:lnTo>
                    <a:pt x="185" y="1047"/>
                  </a:lnTo>
                  <a:lnTo>
                    <a:pt x="211" y="1035"/>
                  </a:lnTo>
                  <a:lnTo>
                    <a:pt x="237" y="1023"/>
                  </a:lnTo>
                  <a:lnTo>
                    <a:pt x="264" y="1009"/>
                  </a:lnTo>
                  <a:lnTo>
                    <a:pt x="291" y="993"/>
                  </a:lnTo>
                  <a:lnTo>
                    <a:pt x="320" y="975"/>
                  </a:lnTo>
                  <a:lnTo>
                    <a:pt x="349" y="955"/>
                  </a:lnTo>
                  <a:lnTo>
                    <a:pt x="379" y="933"/>
                  </a:lnTo>
                  <a:lnTo>
                    <a:pt x="408" y="908"/>
                  </a:lnTo>
                  <a:lnTo>
                    <a:pt x="437" y="880"/>
                  </a:lnTo>
                  <a:lnTo>
                    <a:pt x="466" y="851"/>
                  </a:lnTo>
                  <a:lnTo>
                    <a:pt x="497" y="819"/>
                  </a:lnTo>
                  <a:lnTo>
                    <a:pt x="525" y="784"/>
                  </a:lnTo>
                  <a:lnTo>
                    <a:pt x="554" y="745"/>
                  </a:lnTo>
                  <a:lnTo>
                    <a:pt x="582" y="704"/>
                  </a:lnTo>
                  <a:lnTo>
                    <a:pt x="609" y="660"/>
                  </a:lnTo>
                  <a:lnTo>
                    <a:pt x="636" y="613"/>
                  </a:lnTo>
                  <a:lnTo>
                    <a:pt x="662" y="562"/>
                  </a:lnTo>
                  <a:lnTo>
                    <a:pt x="686" y="508"/>
                  </a:lnTo>
                  <a:lnTo>
                    <a:pt x="709" y="449"/>
                  </a:lnTo>
                  <a:lnTo>
                    <a:pt x="710" y="437"/>
                  </a:lnTo>
                  <a:lnTo>
                    <a:pt x="711" y="403"/>
                  </a:lnTo>
                  <a:lnTo>
                    <a:pt x="714" y="379"/>
                  </a:lnTo>
                  <a:lnTo>
                    <a:pt x="717" y="351"/>
                  </a:lnTo>
                  <a:lnTo>
                    <a:pt x="722" y="321"/>
                  </a:lnTo>
                  <a:lnTo>
                    <a:pt x="729" y="287"/>
                  </a:lnTo>
                  <a:lnTo>
                    <a:pt x="738" y="252"/>
                  </a:lnTo>
                  <a:lnTo>
                    <a:pt x="749" y="216"/>
                  </a:lnTo>
                  <a:lnTo>
                    <a:pt x="755" y="197"/>
                  </a:lnTo>
                  <a:lnTo>
                    <a:pt x="763" y="179"/>
                  </a:lnTo>
                  <a:lnTo>
                    <a:pt x="771" y="159"/>
                  </a:lnTo>
                  <a:lnTo>
                    <a:pt x="780" y="140"/>
                  </a:lnTo>
                  <a:lnTo>
                    <a:pt x="789" y="122"/>
                  </a:lnTo>
                  <a:lnTo>
                    <a:pt x="799" y="103"/>
                  </a:lnTo>
                  <a:lnTo>
                    <a:pt x="810" y="85"/>
                  </a:lnTo>
                  <a:lnTo>
                    <a:pt x="822" y="67"/>
                  </a:lnTo>
                  <a:lnTo>
                    <a:pt x="835" y="50"/>
                  </a:lnTo>
                  <a:lnTo>
                    <a:pt x="849" y="33"/>
                  </a:lnTo>
                  <a:lnTo>
                    <a:pt x="863" y="15"/>
                  </a:lnTo>
                  <a:lnTo>
                    <a:pt x="879" y="0"/>
                  </a:lnTo>
                  <a:lnTo>
                    <a:pt x="858" y="5"/>
                  </a:lnTo>
                  <a:lnTo>
                    <a:pt x="801" y="21"/>
                  </a:lnTo>
                  <a:lnTo>
                    <a:pt x="761" y="36"/>
                  </a:lnTo>
                  <a:lnTo>
                    <a:pt x="717" y="53"/>
                  </a:lnTo>
                  <a:lnTo>
                    <a:pt x="694" y="63"/>
                  </a:lnTo>
                  <a:lnTo>
                    <a:pt x="669" y="74"/>
                  </a:lnTo>
                  <a:lnTo>
                    <a:pt x="644" y="86"/>
                  </a:lnTo>
                  <a:lnTo>
                    <a:pt x="619" y="99"/>
                  </a:lnTo>
                  <a:lnTo>
                    <a:pt x="592" y="114"/>
                  </a:lnTo>
                  <a:lnTo>
                    <a:pt x="566" y="130"/>
                  </a:lnTo>
                  <a:lnTo>
                    <a:pt x="539" y="146"/>
                  </a:lnTo>
                  <a:lnTo>
                    <a:pt x="513" y="164"/>
                  </a:lnTo>
                  <a:lnTo>
                    <a:pt x="487" y="185"/>
                  </a:lnTo>
                  <a:lnTo>
                    <a:pt x="460" y="205"/>
                  </a:lnTo>
                  <a:lnTo>
                    <a:pt x="435" y="227"/>
                  </a:lnTo>
                  <a:lnTo>
                    <a:pt x="411" y="250"/>
                  </a:lnTo>
                  <a:lnTo>
                    <a:pt x="388" y="275"/>
                  </a:lnTo>
                  <a:lnTo>
                    <a:pt x="365" y="301"/>
                  </a:lnTo>
                  <a:lnTo>
                    <a:pt x="344" y="330"/>
                  </a:lnTo>
                  <a:lnTo>
                    <a:pt x="324" y="359"/>
                  </a:lnTo>
                  <a:lnTo>
                    <a:pt x="304" y="390"/>
                  </a:lnTo>
                  <a:lnTo>
                    <a:pt x="287" y="422"/>
                  </a:lnTo>
                  <a:lnTo>
                    <a:pt x="272" y="456"/>
                  </a:lnTo>
                  <a:lnTo>
                    <a:pt x="259" y="493"/>
                  </a:lnTo>
                  <a:lnTo>
                    <a:pt x="251" y="516"/>
                  </a:lnTo>
                  <a:lnTo>
                    <a:pt x="228" y="577"/>
                  </a:lnTo>
                  <a:lnTo>
                    <a:pt x="195" y="666"/>
                  </a:lnTo>
                  <a:lnTo>
                    <a:pt x="154" y="769"/>
                  </a:lnTo>
                  <a:lnTo>
                    <a:pt x="133" y="822"/>
                  </a:lnTo>
                  <a:lnTo>
                    <a:pt x="111" y="874"/>
                  </a:lnTo>
                  <a:lnTo>
                    <a:pt x="90" y="925"/>
                  </a:lnTo>
                  <a:lnTo>
                    <a:pt x="69" y="971"/>
                  </a:lnTo>
                  <a:lnTo>
                    <a:pt x="49" y="1012"/>
                  </a:lnTo>
                  <a:lnTo>
                    <a:pt x="30" y="1047"/>
                  </a:lnTo>
                  <a:lnTo>
                    <a:pt x="21" y="1061"/>
                  </a:lnTo>
                  <a:lnTo>
                    <a:pt x="14" y="1073"/>
                  </a:lnTo>
                  <a:lnTo>
                    <a:pt x="6" y="1083"/>
                  </a:lnTo>
                  <a:lnTo>
                    <a:pt x="0" y="1090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7080" y="6219360"/>
              <a:ext cx="91800" cy="68760"/>
            </a:xfrm>
            <a:custGeom>
              <a:avLst/>
              <a:gdLst/>
              <a:ahLst/>
              <a:rect l="l" t="t" r="r" b="b"/>
              <a:pathLst>
                <a:path w="930" h="1047">
                  <a:moveTo>
                    <a:pt x="930" y="1047"/>
                  </a:moveTo>
                  <a:lnTo>
                    <a:pt x="928" y="1040"/>
                  </a:lnTo>
                  <a:lnTo>
                    <a:pt x="924" y="1020"/>
                  </a:lnTo>
                  <a:lnTo>
                    <a:pt x="917" y="989"/>
                  </a:lnTo>
                  <a:lnTo>
                    <a:pt x="908" y="950"/>
                  </a:lnTo>
                  <a:lnTo>
                    <a:pt x="895" y="902"/>
                  </a:lnTo>
                  <a:lnTo>
                    <a:pt x="879" y="847"/>
                  </a:lnTo>
                  <a:lnTo>
                    <a:pt x="860" y="788"/>
                  </a:lnTo>
                  <a:lnTo>
                    <a:pt x="837" y="724"/>
                  </a:lnTo>
                  <a:lnTo>
                    <a:pt x="825" y="692"/>
                  </a:lnTo>
                  <a:lnTo>
                    <a:pt x="812" y="660"/>
                  </a:lnTo>
                  <a:lnTo>
                    <a:pt x="797" y="628"/>
                  </a:lnTo>
                  <a:lnTo>
                    <a:pt x="783" y="594"/>
                  </a:lnTo>
                  <a:lnTo>
                    <a:pt x="767" y="562"/>
                  </a:lnTo>
                  <a:lnTo>
                    <a:pt x="750" y="531"/>
                  </a:lnTo>
                  <a:lnTo>
                    <a:pt x="733" y="500"/>
                  </a:lnTo>
                  <a:lnTo>
                    <a:pt x="715" y="470"/>
                  </a:lnTo>
                  <a:lnTo>
                    <a:pt x="694" y="441"/>
                  </a:lnTo>
                  <a:lnTo>
                    <a:pt x="674" y="413"/>
                  </a:lnTo>
                  <a:lnTo>
                    <a:pt x="653" y="387"/>
                  </a:lnTo>
                  <a:lnTo>
                    <a:pt x="631" y="362"/>
                  </a:lnTo>
                  <a:lnTo>
                    <a:pt x="608" y="340"/>
                  </a:lnTo>
                  <a:lnTo>
                    <a:pt x="584" y="319"/>
                  </a:lnTo>
                  <a:lnTo>
                    <a:pt x="559" y="300"/>
                  </a:lnTo>
                  <a:lnTo>
                    <a:pt x="532" y="284"/>
                  </a:lnTo>
                  <a:lnTo>
                    <a:pt x="512" y="277"/>
                  </a:lnTo>
                  <a:lnTo>
                    <a:pt x="460" y="259"/>
                  </a:lnTo>
                  <a:lnTo>
                    <a:pt x="425" y="246"/>
                  </a:lnTo>
                  <a:lnTo>
                    <a:pt x="384" y="230"/>
                  </a:lnTo>
                  <a:lnTo>
                    <a:pt x="341" y="213"/>
                  </a:lnTo>
                  <a:lnTo>
                    <a:pt x="296" y="194"/>
                  </a:lnTo>
                  <a:lnTo>
                    <a:pt x="249" y="173"/>
                  </a:lnTo>
                  <a:lnTo>
                    <a:pt x="203" y="150"/>
                  </a:lnTo>
                  <a:lnTo>
                    <a:pt x="180" y="139"/>
                  </a:lnTo>
                  <a:lnTo>
                    <a:pt x="158" y="127"/>
                  </a:lnTo>
                  <a:lnTo>
                    <a:pt x="137" y="115"/>
                  </a:lnTo>
                  <a:lnTo>
                    <a:pt x="116" y="103"/>
                  </a:lnTo>
                  <a:lnTo>
                    <a:pt x="96" y="90"/>
                  </a:lnTo>
                  <a:lnTo>
                    <a:pt x="78" y="78"/>
                  </a:lnTo>
                  <a:lnTo>
                    <a:pt x="61" y="65"/>
                  </a:lnTo>
                  <a:lnTo>
                    <a:pt x="45" y="52"/>
                  </a:lnTo>
                  <a:lnTo>
                    <a:pt x="31" y="40"/>
                  </a:lnTo>
                  <a:lnTo>
                    <a:pt x="19" y="27"/>
                  </a:lnTo>
                  <a:lnTo>
                    <a:pt x="8" y="13"/>
                  </a:lnTo>
                  <a:lnTo>
                    <a:pt x="0" y="0"/>
                  </a:lnTo>
                  <a:lnTo>
                    <a:pt x="4" y="22"/>
                  </a:lnTo>
                  <a:lnTo>
                    <a:pt x="17" y="79"/>
                  </a:lnTo>
                  <a:lnTo>
                    <a:pt x="27" y="118"/>
                  </a:lnTo>
                  <a:lnTo>
                    <a:pt x="39" y="163"/>
                  </a:lnTo>
                  <a:lnTo>
                    <a:pt x="54" y="213"/>
                  </a:lnTo>
                  <a:lnTo>
                    <a:pt x="71" y="267"/>
                  </a:lnTo>
                  <a:lnTo>
                    <a:pt x="81" y="294"/>
                  </a:lnTo>
                  <a:lnTo>
                    <a:pt x="91" y="324"/>
                  </a:lnTo>
                  <a:lnTo>
                    <a:pt x="102" y="352"/>
                  </a:lnTo>
                  <a:lnTo>
                    <a:pt x="114" y="381"/>
                  </a:lnTo>
                  <a:lnTo>
                    <a:pt x="127" y="410"/>
                  </a:lnTo>
                  <a:lnTo>
                    <a:pt x="140" y="439"/>
                  </a:lnTo>
                  <a:lnTo>
                    <a:pt x="154" y="469"/>
                  </a:lnTo>
                  <a:lnTo>
                    <a:pt x="168" y="498"/>
                  </a:lnTo>
                  <a:lnTo>
                    <a:pt x="184" y="526"/>
                  </a:lnTo>
                  <a:lnTo>
                    <a:pt x="200" y="554"/>
                  </a:lnTo>
                  <a:lnTo>
                    <a:pt x="216" y="581"/>
                  </a:lnTo>
                  <a:lnTo>
                    <a:pt x="234" y="608"/>
                  </a:lnTo>
                  <a:lnTo>
                    <a:pt x="252" y="633"/>
                  </a:lnTo>
                  <a:lnTo>
                    <a:pt x="272" y="658"/>
                  </a:lnTo>
                  <a:lnTo>
                    <a:pt x="292" y="681"/>
                  </a:lnTo>
                  <a:lnTo>
                    <a:pt x="313" y="702"/>
                  </a:lnTo>
                  <a:lnTo>
                    <a:pt x="326" y="714"/>
                  </a:lnTo>
                  <a:lnTo>
                    <a:pt x="363" y="746"/>
                  </a:lnTo>
                  <a:lnTo>
                    <a:pt x="389" y="767"/>
                  </a:lnTo>
                  <a:lnTo>
                    <a:pt x="421" y="791"/>
                  </a:lnTo>
                  <a:lnTo>
                    <a:pt x="457" y="817"/>
                  </a:lnTo>
                  <a:lnTo>
                    <a:pt x="497" y="845"/>
                  </a:lnTo>
                  <a:lnTo>
                    <a:pt x="541" y="873"/>
                  </a:lnTo>
                  <a:lnTo>
                    <a:pt x="589" y="903"/>
                  </a:lnTo>
                  <a:lnTo>
                    <a:pt x="614" y="918"/>
                  </a:lnTo>
                  <a:lnTo>
                    <a:pt x="640" y="932"/>
                  </a:lnTo>
                  <a:lnTo>
                    <a:pt x="666" y="946"/>
                  </a:lnTo>
                  <a:lnTo>
                    <a:pt x="693" y="959"/>
                  </a:lnTo>
                  <a:lnTo>
                    <a:pt x="722" y="973"/>
                  </a:lnTo>
                  <a:lnTo>
                    <a:pt x="750" y="985"/>
                  </a:lnTo>
                  <a:lnTo>
                    <a:pt x="779" y="997"/>
                  </a:lnTo>
                  <a:lnTo>
                    <a:pt x="808" y="1009"/>
                  </a:lnTo>
                  <a:lnTo>
                    <a:pt x="838" y="1019"/>
                  </a:lnTo>
                  <a:lnTo>
                    <a:pt x="869" y="1030"/>
                  </a:lnTo>
                  <a:lnTo>
                    <a:pt x="899" y="1039"/>
                  </a:lnTo>
                  <a:lnTo>
                    <a:pt x="930" y="1047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05440" y="6036840"/>
              <a:ext cx="290520" cy="193320"/>
            </a:xfrm>
            <a:custGeom>
              <a:avLst/>
              <a:gdLst/>
              <a:ahLst/>
              <a:rect l="l" t="t" r="r" b="b"/>
              <a:pathLst>
                <a:path w="2932" h="2932">
                  <a:moveTo>
                    <a:pt x="2349" y="1739"/>
                  </a:moveTo>
                  <a:lnTo>
                    <a:pt x="2397" y="1745"/>
                  </a:lnTo>
                  <a:lnTo>
                    <a:pt x="2442" y="1748"/>
                  </a:lnTo>
                  <a:lnTo>
                    <a:pt x="2486" y="1749"/>
                  </a:lnTo>
                  <a:lnTo>
                    <a:pt x="2526" y="1747"/>
                  </a:lnTo>
                  <a:lnTo>
                    <a:pt x="2563" y="1743"/>
                  </a:lnTo>
                  <a:lnTo>
                    <a:pt x="2599" y="1737"/>
                  </a:lnTo>
                  <a:lnTo>
                    <a:pt x="2632" y="1729"/>
                  </a:lnTo>
                  <a:lnTo>
                    <a:pt x="2663" y="1720"/>
                  </a:lnTo>
                  <a:lnTo>
                    <a:pt x="2691" y="1708"/>
                  </a:lnTo>
                  <a:lnTo>
                    <a:pt x="2718" y="1696"/>
                  </a:lnTo>
                  <a:lnTo>
                    <a:pt x="2743" y="1682"/>
                  </a:lnTo>
                  <a:lnTo>
                    <a:pt x="2766" y="1667"/>
                  </a:lnTo>
                  <a:lnTo>
                    <a:pt x="2787" y="1651"/>
                  </a:lnTo>
                  <a:lnTo>
                    <a:pt x="2805" y="1633"/>
                  </a:lnTo>
                  <a:lnTo>
                    <a:pt x="2823" y="1616"/>
                  </a:lnTo>
                  <a:lnTo>
                    <a:pt x="2838" y="1598"/>
                  </a:lnTo>
                  <a:lnTo>
                    <a:pt x="2852" y="1581"/>
                  </a:lnTo>
                  <a:lnTo>
                    <a:pt x="2865" y="1563"/>
                  </a:lnTo>
                  <a:lnTo>
                    <a:pt x="2876" y="1545"/>
                  </a:lnTo>
                  <a:lnTo>
                    <a:pt x="2886" y="1527"/>
                  </a:lnTo>
                  <a:lnTo>
                    <a:pt x="2896" y="1510"/>
                  </a:lnTo>
                  <a:lnTo>
                    <a:pt x="2903" y="1493"/>
                  </a:lnTo>
                  <a:lnTo>
                    <a:pt x="2910" y="1477"/>
                  </a:lnTo>
                  <a:lnTo>
                    <a:pt x="2915" y="1462"/>
                  </a:lnTo>
                  <a:lnTo>
                    <a:pt x="2924" y="1436"/>
                  </a:lnTo>
                  <a:lnTo>
                    <a:pt x="2929" y="1416"/>
                  </a:lnTo>
                  <a:lnTo>
                    <a:pt x="2931" y="1403"/>
                  </a:lnTo>
                  <a:lnTo>
                    <a:pt x="2932" y="1398"/>
                  </a:lnTo>
                  <a:lnTo>
                    <a:pt x="2929" y="1366"/>
                  </a:lnTo>
                  <a:lnTo>
                    <a:pt x="2924" y="1335"/>
                  </a:lnTo>
                  <a:lnTo>
                    <a:pt x="2916" y="1307"/>
                  </a:lnTo>
                  <a:lnTo>
                    <a:pt x="2907" y="1281"/>
                  </a:lnTo>
                  <a:lnTo>
                    <a:pt x="2895" y="1256"/>
                  </a:lnTo>
                  <a:lnTo>
                    <a:pt x="2880" y="1234"/>
                  </a:lnTo>
                  <a:lnTo>
                    <a:pt x="2865" y="1213"/>
                  </a:lnTo>
                  <a:lnTo>
                    <a:pt x="2849" y="1192"/>
                  </a:lnTo>
                  <a:lnTo>
                    <a:pt x="2831" y="1174"/>
                  </a:lnTo>
                  <a:lnTo>
                    <a:pt x="2812" y="1158"/>
                  </a:lnTo>
                  <a:lnTo>
                    <a:pt x="2792" y="1143"/>
                  </a:lnTo>
                  <a:lnTo>
                    <a:pt x="2772" y="1129"/>
                  </a:lnTo>
                  <a:lnTo>
                    <a:pt x="2750" y="1117"/>
                  </a:lnTo>
                  <a:lnTo>
                    <a:pt x="2728" y="1106"/>
                  </a:lnTo>
                  <a:lnTo>
                    <a:pt x="2706" y="1096"/>
                  </a:lnTo>
                  <a:lnTo>
                    <a:pt x="2684" y="1087"/>
                  </a:lnTo>
                  <a:lnTo>
                    <a:pt x="2661" y="1079"/>
                  </a:lnTo>
                  <a:lnTo>
                    <a:pt x="2640" y="1072"/>
                  </a:lnTo>
                  <a:lnTo>
                    <a:pt x="2618" y="1065"/>
                  </a:lnTo>
                  <a:lnTo>
                    <a:pt x="2597" y="1060"/>
                  </a:lnTo>
                  <a:lnTo>
                    <a:pt x="2557" y="1052"/>
                  </a:lnTo>
                  <a:lnTo>
                    <a:pt x="2521" y="1047"/>
                  </a:lnTo>
                  <a:lnTo>
                    <a:pt x="2469" y="1042"/>
                  </a:lnTo>
                  <a:lnTo>
                    <a:pt x="2449" y="1041"/>
                  </a:lnTo>
                  <a:lnTo>
                    <a:pt x="2412" y="1048"/>
                  </a:lnTo>
                  <a:lnTo>
                    <a:pt x="2375" y="1057"/>
                  </a:lnTo>
                  <a:lnTo>
                    <a:pt x="2337" y="1070"/>
                  </a:lnTo>
                  <a:lnTo>
                    <a:pt x="2298" y="1083"/>
                  </a:lnTo>
                  <a:lnTo>
                    <a:pt x="2259" y="1098"/>
                  </a:lnTo>
                  <a:lnTo>
                    <a:pt x="2220" y="1114"/>
                  </a:lnTo>
                  <a:lnTo>
                    <a:pt x="2181" y="1131"/>
                  </a:lnTo>
                  <a:lnTo>
                    <a:pt x="2141" y="1150"/>
                  </a:lnTo>
                  <a:lnTo>
                    <a:pt x="2103" y="1168"/>
                  </a:lnTo>
                  <a:lnTo>
                    <a:pt x="2066" y="1187"/>
                  </a:lnTo>
                  <a:lnTo>
                    <a:pt x="2030" y="1206"/>
                  </a:lnTo>
                  <a:lnTo>
                    <a:pt x="1995" y="1226"/>
                  </a:lnTo>
                  <a:lnTo>
                    <a:pt x="1931" y="1263"/>
                  </a:lnTo>
                  <a:lnTo>
                    <a:pt x="1877" y="1295"/>
                  </a:lnTo>
                  <a:lnTo>
                    <a:pt x="1872" y="1284"/>
                  </a:lnTo>
                  <a:lnTo>
                    <a:pt x="1866" y="1272"/>
                  </a:lnTo>
                  <a:lnTo>
                    <a:pt x="1859" y="1261"/>
                  </a:lnTo>
                  <a:lnTo>
                    <a:pt x="1853" y="1250"/>
                  </a:lnTo>
                  <a:lnTo>
                    <a:pt x="1905" y="1229"/>
                  </a:lnTo>
                  <a:lnTo>
                    <a:pt x="1953" y="1208"/>
                  </a:lnTo>
                  <a:lnTo>
                    <a:pt x="1998" y="1188"/>
                  </a:lnTo>
                  <a:lnTo>
                    <a:pt x="2040" y="1169"/>
                  </a:lnTo>
                  <a:lnTo>
                    <a:pt x="2079" y="1150"/>
                  </a:lnTo>
                  <a:lnTo>
                    <a:pt x="2114" y="1133"/>
                  </a:lnTo>
                  <a:lnTo>
                    <a:pt x="2146" y="1116"/>
                  </a:lnTo>
                  <a:lnTo>
                    <a:pt x="2175" y="1100"/>
                  </a:lnTo>
                  <a:lnTo>
                    <a:pt x="2222" y="1074"/>
                  </a:lnTo>
                  <a:lnTo>
                    <a:pt x="2256" y="1052"/>
                  </a:lnTo>
                  <a:lnTo>
                    <a:pt x="2277" y="1039"/>
                  </a:lnTo>
                  <a:lnTo>
                    <a:pt x="2284" y="1034"/>
                  </a:lnTo>
                  <a:lnTo>
                    <a:pt x="2323" y="1005"/>
                  </a:lnTo>
                  <a:lnTo>
                    <a:pt x="2357" y="975"/>
                  </a:lnTo>
                  <a:lnTo>
                    <a:pt x="2387" y="945"/>
                  </a:lnTo>
                  <a:lnTo>
                    <a:pt x="2414" y="915"/>
                  </a:lnTo>
                  <a:lnTo>
                    <a:pt x="2438" y="885"/>
                  </a:lnTo>
                  <a:lnTo>
                    <a:pt x="2459" y="856"/>
                  </a:lnTo>
                  <a:lnTo>
                    <a:pt x="2477" y="827"/>
                  </a:lnTo>
                  <a:lnTo>
                    <a:pt x="2492" y="799"/>
                  </a:lnTo>
                  <a:lnTo>
                    <a:pt x="2504" y="769"/>
                  </a:lnTo>
                  <a:lnTo>
                    <a:pt x="2514" y="742"/>
                  </a:lnTo>
                  <a:lnTo>
                    <a:pt x="2521" y="715"/>
                  </a:lnTo>
                  <a:lnTo>
                    <a:pt x="2526" y="688"/>
                  </a:lnTo>
                  <a:lnTo>
                    <a:pt x="2530" y="662"/>
                  </a:lnTo>
                  <a:lnTo>
                    <a:pt x="2531" y="636"/>
                  </a:lnTo>
                  <a:lnTo>
                    <a:pt x="2531" y="612"/>
                  </a:lnTo>
                  <a:lnTo>
                    <a:pt x="2530" y="588"/>
                  </a:lnTo>
                  <a:lnTo>
                    <a:pt x="2527" y="566"/>
                  </a:lnTo>
                  <a:lnTo>
                    <a:pt x="2524" y="544"/>
                  </a:lnTo>
                  <a:lnTo>
                    <a:pt x="2519" y="523"/>
                  </a:lnTo>
                  <a:lnTo>
                    <a:pt x="2514" y="504"/>
                  </a:lnTo>
                  <a:lnTo>
                    <a:pt x="2508" y="485"/>
                  </a:lnTo>
                  <a:lnTo>
                    <a:pt x="2501" y="468"/>
                  </a:lnTo>
                  <a:lnTo>
                    <a:pt x="2495" y="452"/>
                  </a:lnTo>
                  <a:lnTo>
                    <a:pt x="2488" y="438"/>
                  </a:lnTo>
                  <a:lnTo>
                    <a:pt x="2476" y="413"/>
                  </a:lnTo>
                  <a:lnTo>
                    <a:pt x="2465" y="395"/>
                  </a:lnTo>
                  <a:lnTo>
                    <a:pt x="2458" y="384"/>
                  </a:lnTo>
                  <a:lnTo>
                    <a:pt x="2455" y="381"/>
                  </a:lnTo>
                  <a:lnTo>
                    <a:pt x="2429" y="360"/>
                  </a:lnTo>
                  <a:lnTo>
                    <a:pt x="2404" y="342"/>
                  </a:lnTo>
                  <a:lnTo>
                    <a:pt x="2379" y="327"/>
                  </a:lnTo>
                  <a:lnTo>
                    <a:pt x="2354" y="316"/>
                  </a:lnTo>
                  <a:lnTo>
                    <a:pt x="2328" y="307"/>
                  </a:lnTo>
                  <a:lnTo>
                    <a:pt x="2303" y="300"/>
                  </a:lnTo>
                  <a:lnTo>
                    <a:pt x="2276" y="296"/>
                  </a:lnTo>
                  <a:lnTo>
                    <a:pt x="2251" y="294"/>
                  </a:lnTo>
                  <a:lnTo>
                    <a:pt x="2225" y="294"/>
                  </a:lnTo>
                  <a:lnTo>
                    <a:pt x="2200" y="296"/>
                  </a:lnTo>
                  <a:lnTo>
                    <a:pt x="2176" y="299"/>
                  </a:lnTo>
                  <a:lnTo>
                    <a:pt x="2151" y="304"/>
                  </a:lnTo>
                  <a:lnTo>
                    <a:pt x="2127" y="311"/>
                  </a:lnTo>
                  <a:lnTo>
                    <a:pt x="2103" y="318"/>
                  </a:lnTo>
                  <a:lnTo>
                    <a:pt x="2081" y="327"/>
                  </a:lnTo>
                  <a:lnTo>
                    <a:pt x="2059" y="336"/>
                  </a:lnTo>
                  <a:lnTo>
                    <a:pt x="2038" y="346"/>
                  </a:lnTo>
                  <a:lnTo>
                    <a:pt x="2017" y="358"/>
                  </a:lnTo>
                  <a:lnTo>
                    <a:pt x="1997" y="369"/>
                  </a:lnTo>
                  <a:lnTo>
                    <a:pt x="1979" y="380"/>
                  </a:lnTo>
                  <a:lnTo>
                    <a:pt x="1945" y="402"/>
                  </a:lnTo>
                  <a:lnTo>
                    <a:pt x="1916" y="423"/>
                  </a:lnTo>
                  <a:lnTo>
                    <a:pt x="1875" y="457"/>
                  </a:lnTo>
                  <a:lnTo>
                    <a:pt x="1859" y="471"/>
                  </a:lnTo>
                  <a:lnTo>
                    <a:pt x="1849" y="486"/>
                  </a:lnTo>
                  <a:lnTo>
                    <a:pt x="1839" y="502"/>
                  </a:lnTo>
                  <a:lnTo>
                    <a:pt x="1829" y="519"/>
                  </a:lnTo>
                  <a:lnTo>
                    <a:pt x="1819" y="536"/>
                  </a:lnTo>
                  <a:lnTo>
                    <a:pt x="1800" y="571"/>
                  </a:lnTo>
                  <a:lnTo>
                    <a:pt x="1782" y="608"/>
                  </a:lnTo>
                  <a:lnTo>
                    <a:pt x="1765" y="648"/>
                  </a:lnTo>
                  <a:lnTo>
                    <a:pt x="1748" y="688"/>
                  </a:lnTo>
                  <a:lnTo>
                    <a:pt x="1733" y="728"/>
                  </a:lnTo>
                  <a:lnTo>
                    <a:pt x="1718" y="769"/>
                  </a:lnTo>
                  <a:lnTo>
                    <a:pt x="1704" y="811"/>
                  </a:lnTo>
                  <a:lnTo>
                    <a:pt x="1691" y="851"/>
                  </a:lnTo>
                  <a:lnTo>
                    <a:pt x="1679" y="890"/>
                  </a:lnTo>
                  <a:lnTo>
                    <a:pt x="1668" y="929"/>
                  </a:lnTo>
                  <a:lnTo>
                    <a:pt x="1649" y="1000"/>
                  </a:lnTo>
                  <a:lnTo>
                    <a:pt x="1634" y="1061"/>
                  </a:lnTo>
                  <a:lnTo>
                    <a:pt x="1622" y="1056"/>
                  </a:lnTo>
                  <a:lnTo>
                    <a:pt x="1610" y="1052"/>
                  </a:lnTo>
                  <a:lnTo>
                    <a:pt x="1598" y="1048"/>
                  </a:lnTo>
                  <a:lnTo>
                    <a:pt x="1585" y="1045"/>
                  </a:lnTo>
                  <a:lnTo>
                    <a:pt x="1607" y="993"/>
                  </a:lnTo>
                  <a:lnTo>
                    <a:pt x="1627" y="944"/>
                  </a:lnTo>
                  <a:lnTo>
                    <a:pt x="1645" y="897"/>
                  </a:lnTo>
                  <a:lnTo>
                    <a:pt x="1661" y="853"/>
                  </a:lnTo>
                  <a:lnTo>
                    <a:pt x="1675" y="812"/>
                  </a:lnTo>
                  <a:lnTo>
                    <a:pt x="1688" y="774"/>
                  </a:lnTo>
                  <a:lnTo>
                    <a:pt x="1698" y="739"/>
                  </a:lnTo>
                  <a:lnTo>
                    <a:pt x="1708" y="707"/>
                  </a:lnTo>
                  <a:lnTo>
                    <a:pt x="1724" y="654"/>
                  </a:lnTo>
                  <a:lnTo>
                    <a:pt x="1733" y="614"/>
                  </a:lnTo>
                  <a:lnTo>
                    <a:pt x="1738" y="590"/>
                  </a:lnTo>
                  <a:lnTo>
                    <a:pt x="1740" y="582"/>
                  </a:lnTo>
                  <a:lnTo>
                    <a:pt x="1746" y="534"/>
                  </a:lnTo>
                  <a:lnTo>
                    <a:pt x="1749" y="488"/>
                  </a:lnTo>
                  <a:lnTo>
                    <a:pt x="1750" y="445"/>
                  </a:lnTo>
                  <a:lnTo>
                    <a:pt x="1748" y="405"/>
                  </a:lnTo>
                  <a:lnTo>
                    <a:pt x="1744" y="368"/>
                  </a:lnTo>
                  <a:lnTo>
                    <a:pt x="1738" y="332"/>
                  </a:lnTo>
                  <a:lnTo>
                    <a:pt x="1730" y="299"/>
                  </a:lnTo>
                  <a:lnTo>
                    <a:pt x="1720" y="268"/>
                  </a:lnTo>
                  <a:lnTo>
                    <a:pt x="1708" y="240"/>
                  </a:lnTo>
                  <a:lnTo>
                    <a:pt x="1695" y="213"/>
                  </a:lnTo>
                  <a:lnTo>
                    <a:pt x="1681" y="188"/>
                  </a:lnTo>
                  <a:lnTo>
                    <a:pt x="1666" y="165"/>
                  </a:lnTo>
                  <a:lnTo>
                    <a:pt x="1650" y="145"/>
                  </a:lnTo>
                  <a:lnTo>
                    <a:pt x="1633" y="126"/>
                  </a:lnTo>
                  <a:lnTo>
                    <a:pt x="1616" y="109"/>
                  </a:lnTo>
                  <a:lnTo>
                    <a:pt x="1599" y="93"/>
                  </a:lnTo>
                  <a:lnTo>
                    <a:pt x="1581" y="79"/>
                  </a:lnTo>
                  <a:lnTo>
                    <a:pt x="1562" y="67"/>
                  </a:lnTo>
                  <a:lnTo>
                    <a:pt x="1544" y="54"/>
                  </a:lnTo>
                  <a:lnTo>
                    <a:pt x="1527" y="44"/>
                  </a:lnTo>
                  <a:lnTo>
                    <a:pt x="1509" y="36"/>
                  </a:lnTo>
                  <a:lnTo>
                    <a:pt x="1493" y="28"/>
                  </a:lnTo>
                  <a:lnTo>
                    <a:pt x="1477" y="22"/>
                  </a:lnTo>
                  <a:lnTo>
                    <a:pt x="1463" y="16"/>
                  </a:lnTo>
                  <a:lnTo>
                    <a:pt x="1437" y="8"/>
                  </a:lnTo>
                  <a:lnTo>
                    <a:pt x="1415" y="3"/>
                  </a:lnTo>
                  <a:lnTo>
                    <a:pt x="1402" y="1"/>
                  </a:lnTo>
                  <a:lnTo>
                    <a:pt x="1398" y="0"/>
                  </a:lnTo>
                  <a:lnTo>
                    <a:pt x="1366" y="3"/>
                  </a:lnTo>
                  <a:lnTo>
                    <a:pt x="1335" y="8"/>
                  </a:lnTo>
                  <a:lnTo>
                    <a:pt x="1307" y="16"/>
                  </a:lnTo>
                  <a:lnTo>
                    <a:pt x="1281" y="25"/>
                  </a:lnTo>
                  <a:lnTo>
                    <a:pt x="1256" y="37"/>
                  </a:lnTo>
                  <a:lnTo>
                    <a:pt x="1233" y="50"/>
                  </a:lnTo>
                  <a:lnTo>
                    <a:pt x="1212" y="66"/>
                  </a:lnTo>
                  <a:lnTo>
                    <a:pt x="1193" y="83"/>
                  </a:lnTo>
                  <a:lnTo>
                    <a:pt x="1175" y="100"/>
                  </a:lnTo>
                  <a:lnTo>
                    <a:pt x="1158" y="119"/>
                  </a:lnTo>
                  <a:lnTo>
                    <a:pt x="1143" y="139"/>
                  </a:lnTo>
                  <a:lnTo>
                    <a:pt x="1129" y="160"/>
                  </a:lnTo>
                  <a:lnTo>
                    <a:pt x="1116" y="181"/>
                  </a:lnTo>
                  <a:lnTo>
                    <a:pt x="1105" y="203"/>
                  </a:lnTo>
                  <a:lnTo>
                    <a:pt x="1095" y="226"/>
                  </a:lnTo>
                  <a:lnTo>
                    <a:pt x="1087" y="248"/>
                  </a:lnTo>
                  <a:lnTo>
                    <a:pt x="1079" y="270"/>
                  </a:lnTo>
                  <a:lnTo>
                    <a:pt x="1072" y="291"/>
                  </a:lnTo>
                  <a:lnTo>
                    <a:pt x="1066" y="313"/>
                  </a:lnTo>
                  <a:lnTo>
                    <a:pt x="1061" y="334"/>
                  </a:lnTo>
                  <a:lnTo>
                    <a:pt x="1053" y="374"/>
                  </a:lnTo>
                  <a:lnTo>
                    <a:pt x="1047" y="410"/>
                  </a:lnTo>
                  <a:lnTo>
                    <a:pt x="1042" y="462"/>
                  </a:lnTo>
                  <a:lnTo>
                    <a:pt x="1042" y="482"/>
                  </a:lnTo>
                  <a:lnTo>
                    <a:pt x="1045" y="501"/>
                  </a:lnTo>
                  <a:lnTo>
                    <a:pt x="1049" y="520"/>
                  </a:lnTo>
                  <a:lnTo>
                    <a:pt x="1053" y="539"/>
                  </a:lnTo>
                  <a:lnTo>
                    <a:pt x="1058" y="558"/>
                  </a:lnTo>
                  <a:lnTo>
                    <a:pt x="1070" y="597"/>
                  </a:lnTo>
                  <a:lnTo>
                    <a:pt x="1084" y="638"/>
                  </a:lnTo>
                  <a:lnTo>
                    <a:pt x="1099" y="678"/>
                  </a:lnTo>
                  <a:lnTo>
                    <a:pt x="1116" y="718"/>
                  </a:lnTo>
                  <a:lnTo>
                    <a:pt x="1135" y="758"/>
                  </a:lnTo>
                  <a:lnTo>
                    <a:pt x="1153" y="799"/>
                  </a:lnTo>
                  <a:lnTo>
                    <a:pt x="1173" y="837"/>
                  </a:lnTo>
                  <a:lnTo>
                    <a:pt x="1192" y="875"/>
                  </a:lnTo>
                  <a:lnTo>
                    <a:pt x="1212" y="912"/>
                  </a:lnTo>
                  <a:lnTo>
                    <a:pt x="1231" y="947"/>
                  </a:lnTo>
                  <a:lnTo>
                    <a:pt x="1268" y="1011"/>
                  </a:lnTo>
                  <a:lnTo>
                    <a:pt x="1302" y="1064"/>
                  </a:lnTo>
                  <a:lnTo>
                    <a:pt x="1290" y="1070"/>
                  </a:lnTo>
                  <a:lnTo>
                    <a:pt x="1277" y="1076"/>
                  </a:lnTo>
                  <a:lnTo>
                    <a:pt x="1265" y="1082"/>
                  </a:lnTo>
                  <a:lnTo>
                    <a:pt x="1254" y="1088"/>
                  </a:lnTo>
                  <a:lnTo>
                    <a:pt x="1233" y="1035"/>
                  </a:lnTo>
                  <a:lnTo>
                    <a:pt x="1212" y="986"/>
                  </a:lnTo>
                  <a:lnTo>
                    <a:pt x="1192" y="940"/>
                  </a:lnTo>
                  <a:lnTo>
                    <a:pt x="1172" y="897"/>
                  </a:lnTo>
                  <a:lnTo>
                    <a:pt x="1153" y="858"/>
                  </a:lnTo>
                  <a:lnTo>
                    <a:pt x="1135" y="822"/>
                  </a:lnTo>
                  <a:lnTo>
                    <a:pt x="1117" y="789"/>
                  </a:lnTo>
                  <a:lnTo>
                    <a:pt x="1101" y="759"/>
                  </a:lnTo>
                  <a:lnTo>
                    <a:pt x="1074" y="710"/>
                  </a:lnTo>
                  <a:lnTo>
                    <a:pt x="1053" y="676"/>
                  </a:lnTo>
                  <a:lnTo>
                    <a:pt x="1040" y="655"/>
                  </a:lnTo>
                  <a:lnTo>
                    <a:pt x="1035" y="648"/>
                  </a:lnTo>
                  <a:lnTo>
                    <a:pt x="1005" y="609"/>
                  </a:lnTo>
                  <a:lnTo>
                    <a:pt x="975" y="574"/>
                  </a:lnTo>
                  <a:lnTo>
                    <a:pt x="945" y="544"/>
                  </a:lnTo>
                  <a:lnTo>
                    <a:pt x="915" y="517"/>
                  </a:lnTo>
                  <a:lnTo>
                    <a:pt x="886" y="492"/>
                  </a:lnTo>
                  <a:lnTo>
                    <a:pt x="857" y="472"/>
                  </a:lnTo>
                  <a:lnTo>
                    <a:pt x="827" y="454"/>
                  </a:lnTo>
                  <a:lnTo>
                    <a:pt x="798" y="439"/>
                  </a:lnTo>
                  <a:lnTo>
                    <a:pt x="770" y="427"/>
                  </a:lnTo>
                  <a:lnTo>
                    <a:pt x="742" y="417"/>
                  </a:lnTo>
                  <a:lnTo>
                    <a:pt x="715" y="410"/>
                  </a:lnTo>
                  <a:lnTo>
                    <a:pt x="687" y="405"/>
                  </a:lnTo>
                  <a:lnTo>
                    <a:pt x="662" y="401"/>
                  </a:lnTo>
                  <a:lnTo>
                    <a:pt x="636" y="400"/>
                  </a:lnTo>
                  <a:lnTo>
                    <a:pt x="612" y="400"/>
                  </a:lnTo>
                  <a:lnTo>
                    <a:pt x="589" y="401"/>
                  </a:lnTo>
                  <a:lnTo>
                    <a:pt x="566" y="404"/>
                  </a:lnTo>
                  <a:lnTo>
                    <a:pt x="543" y="407"/>
                  </a:lnTo>
                  <a:lnTo>
                    <a:pt x="523" y="412"/>
                  </a:lnTo>
                  <a:lnTo>
                    <a:pt x="503" y="417"/>
                  </a:lnTo>
                  <a:lnTo>
                    <a:pt x="485" y="423"/>
                  </a:lnTo>
                  <a:lnTo>
                    <a:pt x="468" y="430"/>
                  </a:lnTo>
                  <a:lnTo>
                    <a:pt x="453" y="436"/>
                  </a:lnTo>
                  <a:lnTo>
                    <a:pt x="438" y="443"/>
                  </a:lnTo>
                  <a:lnTo>
                    <a:pt x="414" y="455"/>
                  </a:lnTo>
                  <a:lnTo>
                    <a:pt x="395" y="466"/>
                  </a:lnTo>
                  <a:lnTo>
                    <a:pt x="384" y="474"/>
                  </a:lnTo>
                  <a:lnTo>
                    <a:pt x="380" y="476"/>
                  </a:lnTo>
                  <a:lnTo>
                    <a:pt x="360" y="502"/>
                  </a:lnTo>
                  <a:lnTo>
                    <a:pt x="342" y="527"/>
                  </a:lnTo>
                  <a:lnTo>
                    <a:pt x="328" y="552"/>
                  </a:lnTo>
                  <a:lnTo>
                    <a:pt x="316" y="577"/>
                  </a:lnTo>
                  <a:lnTo>
                    <a:pt x="307" y="603"/>
                  </a:lnTo>
                  <a:lnTo>
                    <a:pt x="301" y="629"/>
                  </a:lnTo>
                  <a:lnTo>
                    <a:pt x="296" y="655"/>
                  </a:lnTo>
                  <a:lnTo>
                    <a:pt x="295" y="680"/>
                  </a:lnTo>
                  <a:lnTo>
                    <a:pt x="294" y="706"/>
                  </a:lnTo>
                  <a:lnTo>
                    <a:pt x="296" y="731"/>
                  </a:lnTo>
                  <a:lnTo>
                    <a:pt x="300" y="755"/>
                  </a:lnTo>
                  <a:lnTo>
                    <a:pt x="305" y="780"/>
                  </a:lnTo>
                  <a:lnTo>
                    <a:pt x="311" y="804"/>
                  </a:lnTo>
                  <a:lnTo>
                    <a:pt x="319" y="828"/>
                  </a:lnTo>
                  <a:lnTo>
                    <a:pt x="327" y="850"/>
                  </a:lnTo>
                  <a:lnTo>
                    <a:pt x="337" y="872"/>
                  </a:lnTo>
                  <a:lnTo>
                    <a:pt x="347" y="893"/>
                  </a:lnTo>
                  <a:lnTo>
                    <a:pt x="357" y="914"/>
                  </a:lnTo>
                  <a:lnTo>
                    <a:pt x="368" y="934"/>
                  </a:lnTo>
                  <a:lnTo>
                    <a:pt x="380" y="952"/>
                  </a:lnTo>
                  <a:lnTo>
                    <a:pt x="403" y="986"/>
                  </a:lnTo>
                  <a:lnTo>
                    <a:pt x="424" y="1015"/>
                  </a:lnTo>
                  <a:lnTo>
                    <a:pt x="458" y="1056"/>
                  </a:lnTo>
                  <a:lnTo>
                    <a:pt x="472" y="1071"/>
                  </a:lnTo>
                  <a:lnTo>
                    <a:pt x="487" y="1082"/>
                  </a:lnTo>
                  <a:lnTo>
                    <a:pt x="502" y="1092"/>
                  </a:lnTo>
                  <a:lnTo>
                    <a:pt x="519" y="1102"/>
                  </a:lnTo>
                  <a:lnTo>
                    <a:pt x="536" y="1112"/>
                  </a:lnTo>
                  <a:lnTo>
                    <a:pt x="573" y="1132"/>
                  </a:lnTo>
                  <a:lnTo>
                    <a:pt x="611" y="1150"/>
                  </a:lnTo>
                  <a:lnTo>
                    <a:pt x="650" y="1168"/>
                  </a:lnTo>
                  <a:lnTo>
                    <a:pt x="690" y="1184"/>
                  </a:lnTo>
                  <a:lnTo>
                    <a:pt x="732" y="1200"/>
                  </a:lnTo>
                  <a:lnTo>
                    <a:pt x="773" y="1215"/>
                  </a:lnTo>
                  <a:lnTo>
                    <a:pt x="814" y="1229"/>
                  </a:lnTo>
                  <a:lnTo>
                    <a:pt x="856" y="1242"/>
                  </a:lnTo>
                  <a:lnTo>
                    <a:pt x="895" y="1254"/>
                  </a:lnTo>
                  <a:lnTo>
                    <a:pt x="934" y="1265"/>
                  </a:lnTo>
                  <a:lnTo>
                    <a:pt x="1006" y="1283"/>
                  </a:lnTo>
                  <a:lnTo>
                    <a:pt x="1067" y="1298"/>
                  </a:lnTo>
                  <a:lnTo>
                    <a:pt x="1061" y="1310"/>
                  </a:lnTo>
                  <a:lnTo>
                    <a:pt x="1057" y="1323"/>
                  </a:lnTo>
                  <a:lnTo>
                    <a:pt x="1053" y="1335"/>
                  </a:lnTo>
                  <a:lnTo>
                    <a:pt x="1049" y="1347"/>
                  </a:lnTo>
                  <a:lnTo>
                    <a:pt x="997" y="1326"/>
                  </a:lnTo>
                  <a:lnTo>
                    <a:pt x="947" y="1306"/>
                  </a:lnTo>
                  <a:lnTo>
                    <a:pt x="900" y="1288"/>
                  </a:lnTo>
                  <a:lnTo>
                    <a:pt x="856" y="1271"/>
                  </a:lnTo>
                  <a:lnTo>
                    <a:pt x="814" y="1257"/>
                  </a:lnTo>
                  <a:lnTo>
                    <a:pt x="776" y="1244"/>
                  </a:lnTo>
                  <a:lnTo>
                    <a:pt x="741" y="1233"/>
                  </a:lnTo>
                  <a:lnTo>
                    <a:pt x="709" y="1224"/>
                  </a:lnTo>
                  <a:lnTo>
                    <a:pt x="654" y="1208"/>
                  </a:lnTo>
                  <a:lnTo>
                    <a:pt x="615" y="1198"/>
                  </a:lnTo>
                  <a:lnTo>
                    <a:pt x="591" y="1193"/>
                  </a:lnTo>
                  <a:lnTo>
                    <a:pt x="583" y="1191"/>
                  </a:lnTo>
                  <a:lnTo>
                    <a:pt x="534" y="1185"/>
                  </a:lnTo>
                  <a:lnTo>
                    <a:pt x="489" y="1182"/>
                  </a:lnTo>
                  <a:lnTo>
                    <a:pt x="446" y="1182"/>
                  </a:lnTo>
                  <a:lnTo>
                    <a:pt x="406" y="1184"/>
                  </a:lnTo>
                  <a:lnTo>
                    <a:pt x="367" y="1188"/>
                  </a:lnTo>
                  <a:lnTo>
                    <a:pt x="332" y="1194"/>
                  </a:lnTo>
                  <a:lnTo>
                    <a:pt x="299" y="1202"/>
                  </a:lnTo>
                  <a:lnTo>
                    <a:pt x="269" y="1213"/>
                  </a:lnTo>
                  <a:lnTo>
                    <a:pt x="239" y="1224"/>
                  </a:lnTo>
                  <a:lnTo>
                    <a:pt x="213" y="1237"/>
                  </a:lnTo>
                  <a:lnTo>
                    <a:pt x="188" y="1251"/>
                  </a:lnTo>
                  <a:lnTo>
                    <a:pt x="166" y="1266"/>
                  </a:lnTo>
                  <a:lnTo>
                    <a:pt x="145" y="1282"/>
                  </a:lnTo>
                  <a:lnTo>
                    <a:pt x="126" y="1298"/>
                  </a:lnTo>
                  <a:lnTo>
                    <a:pt x="108" y="1316"/>
                  </a:lnTo>
                  <a:lnTo>
                    <a:pt x="92" y="1333"/>
                  </a:lnTo>
                  <a:lnTo>
                    <a:pt x="78" y="1351"/>
                  </a:lnTo>
                  <a:lnTo>
                    <a:pt x="66" y="1370"/>
                  </a:lnTo>
                  <a:lnTo>
                    <a:pt x="54" y="1388"/>
                  </a:lnTo>
                  <a:lnTo>
                    <a:pt x="45" y="1405"/>
                  </a:lnTo>
                  <a:lnTo>
                    <a:pt x="36" y="1423"/>
                  </a:lnTo>
                  <a:lnTo>
                    <a:pt x="28" y="1439"/>
                  </a:lnTo>
                  <a:lnTo>
                    <a:pt x="22" y="1455"/>
                  </a:lnTo>
                  <a:lnTo>
                    <a:pt x="17" y="1469"/>
                  </a:lnTo>
                  <a:lnTo>
                    <a:pt x="8" y="1496"/>
                  </a:lnTo>
                  <a:lnTo>
                    <a:pt x="3" y="1517"/>
                  </a:lnTo>
                  <a:lnTo>
                    <a:pt x="1" y="1530"/>
                  </a:lnTo>
                  <a:lnTo>
                    <a:pt x="0" y="1535"/>
                  </a:lnTo>
                  <a:lnTo>
                    <a:pt x="3" y="1567"/>
                  </a:lnTo>
                  <a:lnTo>
                    <a:pt x="8" y="1597"/>
                  </a:lnTo>
                  <a:lnTo>
                    <a:pt x="15" y="1625"/>
                  </a:lnTo>
                  <a:lnTo>
                    <a:pt x="25" y="1652"/>
                  </a:lnTo>
                  <a:lnTo>
                    <a:pt x="37" y="1676"/>
                  </a:lnTo>
                  <a:lnTo>
                    <a:pt x="50" y="1699"/>
                  </a:lnTo>
                  <a:lnTo>
                    <a:pt x="65" y="1720"/>
                  </a:lnTo>
                  <a:lnTo>
                    <a:pt x="82" y="1739"/>
                  </a:lnTo>
                  <a:lnTo>
                    <a:pt x="99" y="1757"/>
                  </a:lnTo>
                  <a:lnTo>
                    <a:pt x="119" y="1773"/>
                  </a:lnTo>
                  <a:lnTo>
                    <a:pt x="139" y="1789"/>
                  </a:lnTo>
                  <a:lnTo>
                    <a:pt x="160" y="1803"/>
                  </a:lnTo>
                  <a:lnTo>
                    <a:pt x="181" y="1815"/>
                  </a:lnTo>
                  <a:lnTo>
                    <a:pt x="203" y="1826"/>
                  </a:lnTo>
                  <a:lnTo>
                    <a:pt x="225" y="1836"/>
                  </a:lnTo>
                  <a:lnTo>
                    <a:pt x="247" y="1845"/>
                  </a:lnTo>
                  <a:lnTo>
                    <a:pt x="270" y="1853"/>
                  </a:lnTo>
                  <a:lnTo>
                    <a:pt x="292" y="1859"/>
                  </a:lnTo>
                  <a:lnTo>
                    <a:pt x="313" y="1865"/>
                  </a:lnTo>
                  <a:lnTo>
                    <a:pt x="334" y="1870"/>
                  </a:lnTo>
                  <a:lnTo>
                    <a:pt x="374" y="1878"/>
                  </a:lnTo>
                  <a:lnTo>
                    <a:pt x="410" y="1884"/>
                  </a:lnTo>
                  <a:lnTo>
                    <a:pt x="463" y="1889"/>
                  </a:lnTo>
                  <a:lnTo>
                    <a:pt x="483" y="1889"/>
                  </a:lnTo>
                  <a:lnTo>
                    <a:pt x="501" y="1886"/>
                  </a:lnTo>
                  <a:lnTo>
                    <a:pt x="519" y="1883"/>
                  </a:lnTo>
                  <a:lnTo>
                    <a:pt x="538" y="1878"/>
                  </a:lnTo>
                  <a:lnTo>
                    <a:pt x="558" y="1873"/>
                  </a:lnTo>
                  <a:lnTo>
                    <a:pt x="596" y="1862"/>
                  </a:lnTo>
                  <a:lnTo>
                    <a:pt x="635" y="1848"/>
                  </a:lnTo>
                  <a:lnTo>
                    <a:pt x="675" y="1833"/>
                  </a:lnTo>
                  <a:lnTo>
                    <a:pt x="716" y="1817"/>
                  </a:lnTo>
                  <a:lnTo>
                    <a:pt x="756" y="1799"/>
                  </a:lnTo>
                  <a:lnTo>
                    <a:pt x="795" y="1779"/>
                  </a:lnTo>
                  <a:lnTo>
                    <a:pt x="833" y="1760"/>
                  </a:lnTo>
                  <a:lnTo>
                    <a:pt x="872" y="1741"/>
                  </a:lnTo>
                  <a:lnTo>
                    <a:pt x="908" y="1721"/>
                  </a:lnTo>
                  <a:lnTo>
                    <a:pt x="942" y="1702"/>
                  </a:lnTo>
                  <a:lnTo>
                    <a:pt x="1007" y="1665"/>
                  </a:lnTo>
                  <a:lnTo>
                    <a:pt x="1060" y="1631"/>
                  </a:lnTo>
                  <a:lnTo>
                    <a:pt x="1066" y="1645"/>
                  </a:lnTo>
                  <a:lnTo>
                    <a:pt x="1071" y="1657"/>
                  </a:lnTo>
                  <a:lnTo>
                    <a:pt x="1076" y="1668"/>
                  </a:lnTo>
                  <a:lnTo>
                    <a:pt x="1082" y="1680"/>
                  </a:lnTo>
                  <a:lnTo>
                    <a:pt x="1031" y="1701"/>
                  </a:lnTo>
                  <a:lnTo>
                    <a:pt x="981" y="1721"/>
                  </a:lnTo>
                  <a:lnTo>
                    <a:pt x="936" y="1741"/>
                  </a:lnTo>
                  <a:lnTo>
                    <a:pt x="894" y="1760"/>
                  </a:lnTo>
                  <a:lnTo>
                    <a:pt x="855" y="1779"/>
                  </a:lnTo>
                  <a:lnTo>
                    <a:pt x="819" y="1798"/>
                  </a:lnTo>
                  <a:lnTo>
                    <a:pt x="787" y="1815"/>
                  </a:lnTo>
                  <a:lnTo>
                    <a:pt x="758" y="1830"/>
                  </a:lnTo>
                  <a:lnTo>
                    <a:pt x="710" y="1857"/>
                  </a:lnTo>
                  <a:lnTo>
                    <a:pt x="675" y="1878"/>
                  </a:lnTo>
                  <a:lnTo>
                    <a:pt x="655" y="1891"/>
                  </a:lnTo>
                  <a:lnTo>
                    <a:pt x="648" y="1896"/>
                  </a:lnTo>
                  <a:lnTo>
                    <a:pt x="610" y="1926"/>
                  </a:lnTo>
                  <a:lnTo>
                    <a:pt x="575" y="1956"/>
                  </a:lnTo>
                  <a:lnTo>
                    <a:pt x="544" y="1986"/>
                  </a:lnTo>
                  <a:lnTo>
                    <a:pt x="517" y="2016"/>
                  </a:lnTo>
                  <a:lnTo>
                    <a:pt x="493" y="2045"/>
                  </a:lnTo>
                  <a:lnTo>
                    <a:pt x="473" y="2074"/>
                  </a:lnTo>
                  <a:lnTo>
                    <a:pt x="455" y="2104"/>
                  </a:lnTo>
                  <a:lnTo>
                    <a:pt x="440" y="2133"/>
                  </a:lnTo>
                  <a:lnTo>
                    <a:pt x="428" y="2161"/>
                  </a:lnTo>
                  <a:lnTo>
                    <a:pt x="418" y="2189"/>
                  </a:lnTo>
                  <a:lnTo>
                    <a:pt x="411" y="2216"/>
                  </a:lnTo>
                  <a:lnTo>
                    <a:pt x="406" y="2244"/>
                  </a:lnTo>
                  <a:lnTo>
                    <a:pt x="402" y="2270"/>
                  </a:lnTo>
                  <a:lnTo>
                    <a:pt x="400" y="2295"/>
                  </a:lnTo>
                  <a:lnTo>
                    <a:pt x="400" y="2319"/>
                  </a:lnTo>
                  <a:lnTo>
                    <a:pt x="402" y="2343"/>
                  </a:lnTo>
                  <a:lnTo>
                    <a:pt x="405" y="2366"/>
                  </a:lnTo>
                  <a:lnTo>
                    <a:pt x="408" y="2388"/>
                  </a:lnTo>
                  <a:lnTo>
                    <a:pt x="413" y="2408"/>
                  </a:lnTo>
                  <a:lnTo>
                    <a:pt x="418" y="2428"/>
                  </a:lnTo>
                  <a:lnTo>
                    <a:pt x="424" y="2446"/>
                  </a:lnTo>
                  <a:lnTo>
                    <a:pt x="431" y="2463"/>
                  </a:lnTo>
                  <a:lnTo>
                    <a:pt x="437" y="2479"/>
                  </a:lnTo>
                  <a:lnTo>
                    <a:pt x="444" y="2493"/>
                  </a:lnTo>
                  <a:lnTo>
                    <a:pt x="456" y="2518"/>
                  </a:lnTo>
                  <a:lnTo>
                    <a:pt x="467" y="2536"/>
                  </a:lnTo>
                  <a:lnTo>
                    <a:pt x="475" y="2547"/>
                  </a:lnTo>
                  <a:lnTo>
                    <a:pt x="477" y="2551"/>
                  </a:lnTo>
                  <a:lnTo>
                    <a:pt x="502" y="2572"/>
                  </a:lnTo>
                  <a:lnTo>
                    <a:pt x="527" y="2589"/>
                  </a:lnTo>
                  <a:lnTo>
                    <a:pt x="553" y="2604"/>
                  </a:lnTo>
                  <a:lnTo>
                    <a:pt x="578" y="2615"/>
                  </a:lnTo>
                  <a:lnTo>
                    <a:pt x="604" y="2624"/>
                  </a:lnTo>
                  <a:lnTo>
                    <a:pt x="629" y="2631"/>
                  </a:lnTo>
                  <a:lnTo>
                    <a:pt x="655" y="2635"/>
                  </a:lnTo>
                  <a:lnTo>
                    <a:pt x="680" y="2637"/>
                  </a:lnTo>
                  <a:lnTo>
                    <a:pt x="706" y="2637"/>
                  </a:lnTo>
                  <a:lnTo>
                    <a:pt x="731" y="2635"/>
                  </a:lnTo>
                  <a:lnTo>
                    <a:pt x="756" y="2632"/>
                  </a:lnTo>
                  <a:lnTo>
                    <a:pt x="780" y="2627"/>
                  </a:lnTo>
                  <a:lnTo>
                    <a:pt x="804" y="2620"/>
                  </a:lnTo>
                  <a:lnTo>
                    <a:pt x="827" y="2613"/>
                  </a:lnTo>
                  <a:lnTo>
                    <a:pt x="850" y="2604"/>
                  </a:lnTo>
                  <a:lnTo>
                    <a:pt x="872" y="2595"/>
                  </a:lnTo>
                  <a:lnTo>
                    <a:pt x="893" y="2585"/>
                  </a:lnTo>
                  <a:lnTo>
                    <a:pt x="914" y="2574"/>
                  </a:lnTo>
                  <a:lnTo>
                    <a:pt x="933" y="2563"/>
                  </a:lnTo>
                  <a:lnTo>
                    <a:pt x="952" y="2552"/>
                  </a:lnTo>
                  <a:lnTo>
                    <a:pt x="985" y="2529"/>
                  </a:lnTo>
                  <a:lnTo>
                    <a:pt x="1015" y="2508"/>
                  </a:lnTo>
                  <a:lnTo>
                    <a:pt x="1056" y="2473"/>
                  </a:lnTo>
                  <a:lnTo>
                    <a:pt x="1070" y="2460"/>
                  </a:lnTo>
                  <a:lnTo>
                    <a:pt x="1081" y="2445"/>
                  </a:lnTo>
                  <a:lnTo>
                    <a:pt x="1091" y="2430"/>
                  </a:lnTo>
                  <a:lnTo>
                    <a:pt x="1101" y="2414"/>
                  </a:lnTo>
                  <a:lnTo>
                    <a:pt x="1111" y="2397"/>
                  </a:lnTo>
                  <a:lnTo>
                    <a:pt x="1129" y="2361"/>
                  </a:lnTo>
                  <a:lnTo>
                    <a:pt x="1148" y="2325"/>
                  </a:lnTo>
                  <a:lnTo>
                    <a:pt x="1165" y="2287"/>
                  </a:lnTo>
                  <a:lnTo>
                    <a:pt x="1182" y="2247"/>
                  </a:lnTo>
                  <a:lnTo>
                    <a:pt x="1197" y="2207"/>
                  </a:lnTo>
                  <a:lnTo>
                    <a:pt x="1212" y="2166"/>
                  </a:lnTo>
                  <a:lnTo>
                    <a:pt x="1225" y="2126"/>
                  </a:lnTo>
                  <a:lnTo>
                    <a:pt x="1238" y="2086"/>
                  </a:lnTo>
                  <a:lnTo>
                    <a:pt x="1250" y="2047"/>
                  </a:lnTo>
                  <a:lnTo>
                    <a:pt x="1261" y="2009"/>
                  </a:lnTo>
                  <a:lnTo>
                    <a:pt x="1281" y="1938"/>
                  </a:lnTo>
                  <a:lnTo>
                    <a:pt x="1296" y="1875"/>
                  </a:lnTo>
                  <a:lnTo>
                    <a:pt x="1308" y="1880"/>
                  </a:lnTo>
                  <a:lnTo>
                    <a:pt x="1319" y="1885"/>
                  </a:lnTo>
                  <a:lnTo>
                    <a:pt x="1331" y="1889"/>
                  </a:lnTo>
                  <a:lnTo>
                    <a:pt x="1343" y="1893"/>
                  </a:lnTo>
                  <a:lnTo>
                    <a:pt x="1322" y="1945"/>
                  </a:lnTo>
                  <a:lnTo>
                    <a:pt x="1302" y="1994"/>
                  </a:lnTo>
                  <a:lnTo>
                    <a:pt x="1285" y="2039"/>
                  </a:lnTo>
                  <a:lnTo>
                    <a:pt x="1268" y="2083"/>
                  </a:lnTo>
                  <a:lnTo>
                    <a:pt x="1254" y="2123"/>
                  </a:lnTo>
                  <a:lnTo>
                    <a:pt x="1242" y="2161"/>
                  </a:lnTo>
                  <a:lnTo>
                    <a:pt x="1231" y="2195"/>
                  </a:lnTo>
                  <a:lnTo>
                    <a:pt x="1222" y="2227"/>
                  </a:lnTo>
                  <a:lnTo>
                    <a:pt x="1207" y="2279"/>
                  </a:lnTo>
                  <a:lnTo>
                    <a:pt x="1198" y="2317"/>
                  </a:lnTo>
                  <a:lnTo>
                    <a:pt x="1193" y="2341"/>
                  </a:lnTo>
                  <a:lnTo>
                    <a:pt x="1192" y="2349"/>
                  </a:lnTo>
                  <a:lnTo>
                    <a:pt x="1186" y="2398"/>
                  </a:lnTo>
                  <a:lnTo>
                    <a:pt x="1182" y="2443"/>
                  </a:lnTo>
                  <a:lnTo>
                    <a:pt x="1182" y="2486"/>
                  </a:lnTo>
                  <a:lnTo>
                    <a:pt x="1184" y="2527"/>
                  </a:lnTo>
                  <a:lnTo>
                    <a:pt x="1188" y="2564"/>
                  </a:lnTo>
                  <a:lnTo>
                    <a:pt x="1194" y="2599"/>
                  </a:lnTo>
                  <a:lnTo>
                    <a:pt x="1202" y="2632"/>
                  </a:lnTo>
                  <a:lnTo>
                    <a:pt x="1212" y="2664"/>
                  </a:lnTo>
                  <a:lnTo>
                    <a:pt x="1223" y="2692"/>
                  </a:lnTo>
                  <a:lnTo>
                    <a:pt x="1236" y="2719"/>
                  </a:lnTo>
                  <a:lnTo>
                    <a:pt x="1250" y="2743"/>
                  </a:lnTo>
                  <a:lnTo>
                    <a:pt x="1265" y="2766"/>
                  </a:lnTo>
                  <a:lnTo>
                    <a:pt x="1282" y="2786"/>
                  </a:lnTo>
                  <a:lnTo>
                    <a:pt x="1298" y="2806"/>
                  </a:lnTo>
                  <a:lnTo>
                    <a:pt x="1316" y="2824"/>
                  </a:lnTo>
                  <a:lnTo>
                    <a:pt x="1333" y="2839"/>
                  </a:lnTo>
                  <a:lnTo>
                    <a:pt x="1351" y="2853"/>
                  </a:lnTo>
                  <a:lnTo>
                    <a:pt x="1369" y="2866"/>
                  </a:lnTo>
                  <a:lnTo>
                    <a:pt x="1387" y="2877"/>
                  </a:lnTo>
                  <a:lnTo>
                    <a:pt x="1404" y="2887"/>
                  </a:lnTo>
                  <a:lnTo>
                    <a:pt x="1421" y="2896"/>
                  </a:lnTo>
                  <a:lnTo>
                    <a:pt x="1439" y="2903"/>
                  </a:lnTo>
                  <a:lnTo>
                    <a:pt x="1455" y="2910"/>
                  </a:lnTo>
                  <a:lnTo>
                    <a:pt x="1470" y="2915"/>
                  </a:lnTo>
                  <a:lnTo>
                    <a:pt x="1496" y="2923"/>
                  </a:lnTo>
                  <a:lnTo>
                    <a:pt x="1516" y="2928"/>
                  </a:lnTo>
                  <a:lnTo>
                    <a:pt x="1529" y="2931"/>
                  </a:lnTo>
                  <a:lnTo>
                    <a:pt x="1534" y="2932"/>
                  </a:lnTo>
                  <a:lnTo>
                    <a:pt x="1566" y="2929"/>
                  </a:lnTo>
                  <a:lnTo>
                    <a:pt x="1597" y="2924"/>
                  </a:lnTo>
                  <a:lnTo>
                    <a:pt x="1625" y="2916"/>
                  </a:lnTo>
                  <a:lnTo>
                    <a:pt x="1651" y="2906"/>
                  </a:lnTo>
                  <a:lnTo>
                    <a:pt x="1675" y="2895"/>
                  </a:lnTo>
                  <a:lnTo>
                    <a:pt x="1698" y="2881"/>
                  </a:lnTo>
                  <a:lnTo>
                    <a:pt x="1720" y="2866"/>
                  </a:lnTo>
                  <a:lnTo>
                    <a:pt x="1739" y="2850"/>
                  </a:lnTo>
                  <a:lnTo>
                    <a:pt x="1757" y="2832"/>
                  </a:lnTo>
                  <a:lnTo>
                    <a:pt x="1773" y="2813"/>
                  </a:lnTo>
                  <a:lnTo>
                    <a:pt x="1788" y="2792"/>
                  </a:lnTo>
                  <a:lnTo>
                    <a:pt x="1802" y="2772"/>
                  </a:lnTo>
                  <a:lnTo>
                    <a:pt x="1814" y="2750"/>
                  </a:lnTo>
                  <a:lnTo>
                    <a:pt x="1825" y="2729"/>
                  </a:lnTo>
                  <a:lnTo>
                    <a:pt x="1835" y="2707"/>
                  </a:lnTo>
                  <a:lnTo>
                    <a:pt x="1844" y="2684"/>
                  </a:lnTo>
                  <a:lnTo>
                    <a:pt x="1852" y="2662"/>
                  </a:lnTo>
                  <a:lnTo>
                    <a:pt x="1859" y="2640"/>
                  </a:lnTo>
                  <a:lnTo>
                    <a:pt x="1866" y="2618"/>
                  </a:lnTo>
                  <a:lnTo>
                    <a:pt x="1871" y="2597"/>
                  </a:lnTo>
                  <a:lnTo>
                    <a:pt x="1879" y="2558"/>
                  </a:lnTo>
                  <a:lnTo>
                    <a:pt x="1884" y="2522"/>
                  </a:lnTo>
                  <a:lnTo>
                    <a:pt x="1889" y="2468"/>
                  </a:lnTo>
                  <a:lnTo>
                    <a:pt x="1890" y="2448"/>
                  </a:lnTo>
                  <a:lnTo>
                    <a:pt x="1883" y="2413"/>
                  </a:lnTo>
                  <a:lnTo>
                    <a:pt x="1874" y="2377"/>
                  </a:lnTo>
                  <a:lnTo>
                    <a:pt x="1862" y="2338"/>
                  </a:lnTo>
                  <a:lnTo>
                    <a:pt x="1849" y="2300"/>
                  </a:lnTo>
                  <a:lnTo>
                    <a:pt x="1834" y="2261"/>
                  </a:lnTo>
                  <a:lnTo>
                    <a:pt x="1818" y="2222"/>
                  </a:lnTo>
                  <a:lnTo>
                    <a:pt x="1801" y="2183"/>
                  </a:lnTo>
                  <a:lnTo>
                    <a:pt x="1783" y="2144"/>
                  </a:lnTo>
                  <a:lnTo>
                    <a:pt x="1765" y="2107"/>
                  </a:lnTo>
                  <a:lnTo>
                    <a:pt x="1746" y="2069"/>
                  </a:lnTo>
                  <a:lnTo>
                    <a:pt x="1727" y="2033"/>
                  </a:lnTo>
                  <a:lnTo>
                    <a:pt x="1707" y="1999"/>
                  </a:lnTo>
                  <a:lnTo>
                    <a:pt x="1671" y="1936"/>
                  </a:lnTo>
                  <a:lnTo>
                    <a:pt x="1638" y="1880"/>
                  </a:lnTo>
                  <a:lnTo>
                    <a:pt x="1650" y="1875"/>
                  </a:lnTo>
                  <a:lnTo>
                    <a:pt x="1661" y="1870"/>
                  </a:lnTo>
                  <a:lnTo>
                    <a:pt x="1672" y="1864"/>
                  </a:lnTo>
                  <a:lnTo>
                    <a:pt x="1683" y="1859"/>
                  </a:lnTo>
                  <a:lnTo>
                    <a:pt x="1704" y="1909"/>
                  </a:lnTo>
                  <a:lnTo>
                    <a:pt x="1725" y="1957"/>
                  </a:lnTo>
                  <a:lnTo>
                    <a:pt x="1745" y="2002"/>
                  </a:lnTo>
                  <a:lnTo>
                    <a:pt x="1764" y="2043"/>
                  </a:lnTo>
                  <a:lnTo>
                    <a:pt x="1782" y="2082"/>
                  </a:lnTo>
                  <a:lnTo>
                    <a:pt x="1800" y="2116"/>
                  </a:lnTo>
                  <a:lnTo>
                    <a:pt x="1816" y="2148"/>
                  </a:lnTo>
                  <a:lnTo>
                    <a:pt x="1832" y="2176"/>
                  </a:lnTo>
                  <a:lnTo>
                    <a:pt x="1858" y="2224"/>
                  </a:lnTo>
                  <a:lnTo>
                    <a:pt x="1880" y="2257"/>
                  </a:lnTo>
                  <a:lnTo>
                    <a:pt x="1893" y="2278"/>
                  </a:lnTo>
                  <a:lnTo>
                    <a:pt x="1897" y="2284"/>
                  </a:lnTo>
                  <a:lnTo>
                    <a:pt x="1927" y="2322"/>
                  </a:lnTo>
                  <a:lnTo>
                    <a:pt x="1957" y="2356"/>
                  </a:lnTo>
                  <a:lnTo>
                    <a:pt x="1986" y="2388"/>
                  </a:lnTo>
                  <a:lnTo>
                    <a:pt x="2017" y="2415"/>
                  </a:lnTo>
                  <a:lnTo>
                    <a:pt x="2046" y="2439"/>
                  </a:lnTo>
                  <a:lnTo>
                    <a:pt x="2075" y="2459"/>
                  </a:lnTo>
                  <a:lnTo>
                    <a:pt x="2104" y="2477"/>
                  </a:lnTo>
                  <a:lnTo>
                    <a:pt x="2133" y="2491"/>
                  </a:lnTo>
                  <a:lnTo>
                    <a:pt x="2162" y="2504"/>
                  </a:lnTo>
                  <a:lnTo>
                    <a:pt x="2190" y="2514"/>
                  </a:lnTo>
                  <a:lnTo>
                    <a:pt x="2217" y="2522"/>
                  </a:lnTo>
                  <a:lnTo>
                    <a:pt x="2243" y="2527"/>
                  </a:lnTo>
                  <a:lnTo>
                    <a:pt x="2269" y="2530"/>
                  </a:lnTo>
                  <a:lnTo>
                    <a:pt x="2294" y="2532"/>
                  </a:lnTo>
                  <a:lnTo>
                    <a:pt x="2320" y="2532"/>
                  </a:lnTo>
                  <a:lnTo>
                    <a:pt x="2343" y="2530"/>
                  </a:lnTo>
                  <a:lnTo>
                    <a:pt x="2366" y="2528"/>
                  </a:lnTo>
                  <a:lnTo>
                    <a:pt x="2387" y="2524"/>
                  </a:lnTo>
                  <a:lnTo>
                    <a:pt x="2408" y="2519"/>
                  </a:lnTo>
                  <a:lnTo>
                    <a:pt x="2427" y="2514"/>
                  </a:lnTo>
                  <a:lnTo>
                    <a:pt x="2446" y="2508"/>
                  </a:lnTo>
                  <a:lnTo>
                    <a:pt x="2463" y="2501"/>
                  </a:lnTo>
                  <a:lnTo>
                    <a:pt x="2479" y="2494"/>
                  </a:lnTo>
                  <a:lnTo>
                    <a:pt x="2493" y="2488"/>
                  </a:lnTo>
                  <a:lnTo>
                    <a:pt x="2518" y="2475"/>
                  </a:lnTo>
                  <a:lnTo>
                    <a:pt x="2536" y="2464"/>
                  </a:lnTo>
                  <a:lnTo>
                    <a:pt x="2547" y="2457"/>
                  </a:lnTo>
                  <a:lnTo>
                    <a:pt x="2551" y="2454"/>
                  </a:lnTo>
                  <a:lnTo>
                    <a:pt x="2571" y="2430"/>
                  </a:lnTo>
                  <a:lnTo>
                    <a:pt x="2589" y="2405"/>
                  </a:lnTo>
                  <a:lnTo>
                    <a:pt x="2604" y="2380"/>
                  </a:lnTo>
                  <a:lnTo>
                    <a:pt x="2616" y="2353"/>
                  </a:lnTo>
                  <a:lnTo>
                    <a:pt x="2625" y="2328"/>
                  </a:lnTo>
                  <a:lnTo>
                    <a:pt x="2631" y="2302"/>
                  </a:lnTo>
                  <a:lnTo>
                    <a:pt x="2635" y="2277"/>
                  </a:lnTo>
                  <a:lnTo>
                    <a:pt x="2637" y="2251"/>
                  </a:lnTo>
                  <a:lnTo>
                    <a:pt x="2637" y="2226"/>
                  </a:lnTo>
                  <a:lnTo>
                    <a:pt x="2635" y="2200"/>
                  </a:lnTo>
                  <a:lnTo>
                    <a:pt x="2632" y="2176"/>
                  </a:lnTo>
                  <a:lnTo>
                    <a:pt x="2627" y="2151"/>
                  </a:lnTo>
                  <a:lnTo>
                    <a:pt x="2620" y="2128"/>
                  </a:lnTo>
                  <a:lnTo>
                    <a:pt x="2613" y="2105"/>
                  </a:lnTo>
                  <a:lnTo>
                    <a:pt x="2604" y="2082"/>
                  </a:lnTo>
                  <a:lnTo>
                    <a:pt x="2595" y="2059"/>
                  </a:lnTo>
                  <a:lnTo>
                    <a:pt x="2584" y="2038"/>
                  </a:lnTo>
                  <a:lnTo>
                    <a:pt x="2573" y="2018"/>
                  </a:lnTo>
                  <a:lnTo>
                    <a:pt x="2562" y="1998"/>
                  </a:lnTo>
                  <a:lnTo>
                    <a:pt x="2551" y="1980"/>
                  </a:lnTo>
                  <a:lnTo>
                    <a:pt x="2529" y="1946"/>
                  </a:lnTo>
                  <a:lnTo>
                    <a:pt x="2507" y="1916"/>
                  </a:lnTo>
                  <a:lnTo>
                    <a:pt x="2474" y="1875"/>
                  </a:lnTo>
                  <a:lnTo>
                    <a:pt x="2460" y="1861"/>
                  </a:lnTo>
                  <a:lnTo>
                    <a:pt x="2429" y="1840"/>
                  </a:lnTo>
                  <a:lnTo>
                    <a:pt x="2397" y="1821"/>
                  </a:lnTo>
                  <a:lnTo>
                    <a:pt x="2363" y="1802"/>
                  </a:lnTo>
                  <a:lnTo>
                    <a:pt x="2327" y="1784"/>
                  </a:lnTo>
                  <a:lnTo>
                    <a:pt x="2288" y="1767"/>
                  </a:lnTo>
                  <a:lnTo>
                    <a:pt x="2249" y="1750"/>
                  </a:lnTo>
                  <a:lnTo>
                    <a:pt x="2210" y="1735"/>
                  </a:lnTo>
                  <a:lnTo>
                    <a:pt x="2170" y="1721"/>
                  </a:lnTo>
                  <a:lnTo>
                    <a:pt x="2130" y="1707"/>
                  </a:lnTo>
                  <a:lnTo>
                    <a:pt x="2090" y="1694"/>
                  </a:lnTo>
                  <a:lnTo>
                    <a:pt x="2052" y="1683"/>
                  </a:lnTo>
                  <a:lnTo>
                    <a:pt x="2014" y="1672"/>
                  </a:lnTo>
                  <a:lnTo>
                    <a:pt x="1943" y="1653"/>
                  </a:lnTo>
                  <a:lnTo>
                    <a:pt x="1881" y="1636"/>
                  </a:lnTo>
                  <a:lnTo>
                    <a:pt x="1886" y="1625"/>
                  </a:lnTo>
                  <a:lnTo>
                    <a:pt x="1890" y="1613"/>
                  </a:lnTo>
                  <a:lnTo>
                    <a:pt x="1894" y="1601"/>
                  </a:lnTo>
                  <a:lnTo>
                    <a:pt x="1897" y="1589"/>
                  </a:lnTo>
                  <a:lnTo>
                    <a:pt x="1948" y="1611"/>
                  </a:lnTo>
                  <a:lnTo>
                    <a:pt x="1995" y="1630"/>
                  </a:lnTo>
                  <a:lnTo>
                    <a:pt x="2042" y="1648"/>
                  </a:lnTo>
                  <a:lnTo>
                    <a:pt x="2084" y="1664"/>
                  </a:lnTo>
                  <a:lnTo>
                    <a:pt x="2124" y="1677"/>
                  </a:lnTo>
                  <a:lnTo>
                    <a:pt x="2162" y="1690"/>
                  </a:lnTo>
                  <a:lnTo>
                    <a:pt x="2196" y="1700"/>
                  </a:lnTo>
                  <a:lnTo>
                    <a:pt x="2227" y="1709"/>
                  </a:lnTo>
                  <a:lnTo>
                    <a:pt x="2279" y="1723"/>
                  </a:lnTo>
                  <a:lnTo>
                    <a:pt x="2318" y="1733"/>
                  </a:lnTo>
                  <a:lnTo>
                    <a:pt x="2341" y="1738"/>
                  </a:lnTo>
                  <a:lnTo>
                    <a:pt x="2349" y="1739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08760" y="6105240"/>
              <a:ext cx="84240" cy="55080"/>
            </a:xfrm>
            <a:custGeom>
              <a:avLst/>
              <a:gdLst/>
              <a:ahLst/>
              <a:rect l="l" t="t" r="r" b="b"/>
              <a:pathLst>
                <a:path w="833" h="832">
                  <a:moveTo>
                    <a:pt x="1" y="443"/>
                  </a:moveTo>
                  <a:lnTo>
                    <a:pt x="0" y="422"/>
                  </a:lnTo>
                  <a:lnTo>
                    <a:pt x="0" y="401"/>
                  </a:lnTo>
                  <a:lnTo>
                    <a:pt x="2" y="380"/>
                  </a:lnTo>
                  <a:lnTo>
                    <a:pt x="4" y="359"/>
                  </a:lnTo>
                  <a:lnTo>
                    <a:pt x="7" y="339"/>
                  </a:lnTo>
                  <a:lnTo>
                    <a:pt x="12" y="319"/>
                  </a:lnTo>
                  <a:lnTo>
                    <a:pt x="17" y="298"/>
                  </a:lnTo>
                  <a:lnTo>
                    <a:pt x="23" y="279"/>
                  </a:lnTo>
                  <a:lnTo>
                    <a:pt x="30" y="260"/>
                  </a:lnTo>
                  <a:lnTo>
                    <a:pt x="38" y="242"/>
                  </a:lnTo>
                  <a:lnTo>
                    <a:pt x="47" y="224"/>
                  </a:lnTo>
                  <a:lnTo>
                    <a:pt x="57" y="207"/>
                  </a:lnTo>
                  <a:lnTo>
                    <a:pt x="67" y="190"/>
                  </a:lnTo>
                  <a:lnTo>
                    <a:pt x="79" y="174"/>
                  </a:lnTo>
                  <a:lnTo>
                    <a:pt x="92" y="157"/>
                  </a:lnTo>
                  <a:lnTo>
                    <a:pt x="104" y="141"/>
                  </a:lnTo>
                  <a:lnTo>
                    <a:pt x="118" y="127"/>
                  </a:lnTo>
                  <a:lnTo>
                    <a:pt x="132" y="113"/>
                  </a:lnTo>
                  <a:lnTo>
                    <a:pt x="147" y="100"/>
                  </a:lnTo>
                  <a:lnTo>
                    <a:pt x="162" y="87"/>
                  </a:lnTo>
                  <a:lnTo>
                    <a:pt x="178" y="75"/>
                  </a:lnTo>
                  <a:lnTo>
                    <a:pt x="195" y="64"/>
                  </a:lnTo>
                  <a:lnTo>
                    <a:pt x="212" y="54"/>
                  </a:lnTo>
                  <a:lnTo>
                    <a:pt x="231" y="45"/>
                  </a:lnTo>
                  <a:lnTo>
                    <a:pt x="249" y="36"/>
                  </a:lnTo>
                  <a:lnTo>
                    <a:pt x="268" y="27"/>
                  </a:lnTo>
                  <a:lnTo>
                    <a:pt x="287" y="21"/>
                  </a:lnTo>
                  <a:lnTo>
                    <a:pt x="307" y="15"/>
                  </a:lnTo>
                  <a:lnTo>
                    <a:pt x="327" y="10"/>
                  </a:lnTo>
                  <a:lnTo>
                    <a:pt x="347" y="6"/>
                  </a:lnTo>
                  <a:lnTo>
                    <a:pt x="368" y="3"/>
                  </a:lnTo>
                  <a:lnTo>
                    <a:pt x="391" y="1"/>
                  </a:lnTo>
                  <a:lnTo>
                    <a:pt x="412" y="0"/>
                  </a:lnTo>
                  <a:lnTo>
                    <a:pt x="433" y="1"/>
                  </a:lnTo>
                  <a:lnTo>
                    <a:pt x="454" y="2"/>
                  </a:lnTo>
                  <a:lnTo>
                    <a:pt x="474" y="4"/>
                  </a:lnTo>
                  <a:lnTo>
                    <a:pt x="494" y="8"/>
                  </a:lnTo>
                  <a:lnTo>
                    <a:pt x="514" y="12"/>
                  </a:lnTo>
                  <a:lnTo>
                    <a:pt x="535" y="17"/>
                  </a:lnTo>
                  <a:lnTo>
                    <a:pt x="554" y="23"/>
                  </a:lnTo>
                  <a:lnTo>
                    <a:pt x="573" y="32"/>
                  </a:lnTo>
                  <a:lnTo>
                    <a:pt x="591" y="39"/>
                  </a:lnTo>
                  <a:lnTo>
                    <a:pt x="609" y="48"/>
                  </a:lnTo>
                  <a:lnTo>
                    <a:pt x="627" y="58"/>
                  </a:lnTo>
                  <a:lnTo>
                    <a:pt x="643" y="68"/>
                  </a:lnTo>
                  <a:lnTo>
                    <a:pt x="660" y="80"/>
                  </a:lnTo>
                  <a:lnTo>
                    <a:pt x="677" y="92"/>
                  </a:lnTo>
                  <a:lnTo>
                    <a:pt x="692" y="104"/>
                  </a:lnTo>
                  <a:lnTo>
                    <a:pt x="706" y="118"/>
                  </a:lnTo>
                  <a:lnTo>
                    <a:pt x="720" y="132"/>
                  </a:lnTo>
                  <a:lnTo>
                    <a:pt x="733" y="147"/>
                  </a:lnTo>
                  <a:lnTo>
                    <a:pt x="746" y="162"/>
                  </a:lnTo>
                  <a:lnTo>
                    <a:pt x="758" y="179"/>
                  </a:lnTo>
                  <a:lnTo>
                    <a:pt x="769" y="196"/>
                  </a:lnTo>
                  <a:lnTo>
                    <a:pt x="779" y="213"/>
                  </a:lnTo>
                  <a:lnTo>
                    <a:pt x="788" y="231"/>
                  </a:lnTo>
                  <a:lnTo>
                    <a:pt x="797" y="249"/>
                  </a:lnTo>
                  <a:lnTo>
                    <a:pt x="805" y="268"/>
                  </a:lnTo>
                  <a:lnTo>
                    <a:pt x="813" y="287"/>
                  </a:lnTo>
                  <a:lnTo>
                    <a:pt x="818" y="307"/>
                  </a:lnTo>
                  <a:lnTo>
                    <a:pt x="823" y="328"/>
                  </a:lnTo>
                  <a:lnTo>
                    <a:pt x="827" y="348"/>
                  </a:lnTo>
                  <a:lnTo>
                    <a:pt x="830" y="369"/>
                  </a:lnTo>
                  <a:lnTo>
                    <a:pt x="832" y="390"/>
                  </a:lnTo>
                  <a:lnTo>
                    <a:pt x="833" y="412"/>
                  </a:lnTo>
                  <a:lnTo>
                    <a:pt x="833" y="433"/>
                  </a:lnTo>
                  <a:lnTo>
                    <a:pt x="831" y="454"/>
                  </a:lnTo>
                  <a:lnTo>
                    <a:pt x="829" y="475"/>
                  </a:lnTo>
                  <a:lnTo>
                    <a:pt x="826" y="495"/>
                  </a:lnTo>
                  <a:lnTo>
                    <a:pt x="821" y="515"/>
                  </a:lnTo>
                  <a:lnTo>
                    <a:pt x="816" y="535"/>
                  </a:lnTo>
                  <a:lnTo>
                    <a:pt x="810" y="554"/>
                  </a:lnTo>
                  <a:lnTo>
                    <a:pt x="802" y="573"/>
                  </a:lnTo>
                  <a:lnTo>
                    <a:pt x="794" y="591"/>
                  </a:lnTo>
                  <a:lnTo>
                    <a:pt x="785" y="610"/>
                  </a:lnTo>
                  <a:lnTo>
                    <a:pt x="775" y="628"/>
                  </a:lnTo>
                  <a:lnTo>
                    <a:pt x="765" y="644"/>
                  </a:lnTo>
                  <a:lnTo>
                    <a:pt x="754" y="661"/>
                  </a:lnTo>
                  <a:lnTo>
                    <a:pt x="742" y="676"/>
                  </a:lnTo>
                  <a:lnTo>
                    <a:pt x="729" y="692"/>
                  </a:lnTo>
                  <a:lnTo>
                    <a:pt x="715" y="706"/>
                  </a:lnTo>
                  <a:lnTo>
                    <a:pt x="701" y="720"/>
                  </a:lnTo>
                  <a:lnTo>
                    <a:pt x="686" y="733"/>
                  </a:lnTo>
                  <a:lnTo>
                    <a:pt x="671" y="746"/>
                  </a:lnTo>
                  <a:lnTo>
                    <a:pt x="654" y="759"/>
                  </a:lnTo>
                  <a:lnTo>
                    <a:pt x="637" y="770"/>
                  </a:lnTo>
                  <a:lnTo>
                    <a:pt x="620" y="780"/>
                  </a:lnTo>
                  <a:lnTo>
                    <a:pt x="602" y="789"/>
                  </a:lnTo>
                  <a:lnTo>
                    <a:pt x="584" y="798"/>
                  </a:lnTo>
                  <a:lnTo>
                    <a:pt x="565" y="805"/>
                  </a:lnTo>
                  <a:lnTo>
                    <a:pt x="546" y="812"/>
                  </a:lnTo>
                  <a:lnTo>
                    <a:pt x="526" y="818"/>
                  </a:lnTo>
                  <a:lnTo>
                    <a:pt x="505" y="823"/>
                  </a:lnTo>
                  <a:lnTo>
                    <a:pt x="485" y="827"/>
                  </a:lnTo>
                  <a:lnTo>
                    <a:pt x="464" y="830"/>
                  </a:lnTo>
                  <a:lnTo>
                    <a:pt x="442" y="832"/>
                  </a:lnTo>
                  <a:lnTo>
                    <a:pt x="421" y="832"/>
                  </a:lnTo>
                  <a:lnTo>
                    <a:pt x="400" y="832"/>
                  </a:lnTo>
                  <a:lnTo>
                    <a:pt x="379" y="831"/>
                  </a:lnTo>
                  <a:lnTo>
                    <a:pt x="358" y="829"/>
                  </a:lnTo>
                  <a:lnTo>
                    <a:pt x="338" y="825"/>
                  </a:lnTo>
                  <a:lnTo>
                    <a:pt x="318" y="821"/>
                  </a:lnTo>
                  <a:lnTo>
                    <a:pt x="298" y="816"/>
                  </a:lnTo>
                  <a:lnTo>
                    <a:pt x="279" y="809"/>
                  </a:lnTo>
                  <a:lnTo>
                    <a:pt x="260" y="802"/>
                  </a:lnTo>
                  <a:lnTo>
                    <a:pt x="242" y="794"/>
                  </a:lnTo>
                  <a:lnTo>
                    <a:pt x="223" y="786"/>
                  </a:lnTo>
                  <a:lnTo>
                    <a:pt x="206" y="776"/>
                  </a:lnTo>
                  <a:lnTo>
                    <a:pt x="189" y="765"/>
                  </a:lnTo>
                  <a:lnTo>
                    <a:pt x="172" y="754"/>
                  </a:lnTo>
                  <a:lnTo>
                    <a:pt x="156" y="741"/>
                  </a:lnTo>
                  <a:lnTo>
                    <a:pt x="141" y="728"/>
                  </a:lnTo>
                  <a:lnTo>
                    <a:pt x="127" y="715"/>
                  </a:lnTo>
                  <a:lnTo>
                    <a:pt x="113" y="701"/>
                  </a:lnTo>
                  <a:lnTo>
                    <a:pt x="100" y="686"/>
                  </a:lnTo>
                  <a:lnTo>
                    <a:pt x="87" y="671"/>
                  </a:lnTo>
                  <a:lnTo>
                    <a:pt x="74" y="655"/>
                  </a:lnTo>
                  <a:lnTo>
                    <a:pt x="63" y="638"/>
                  </a:lnTo>
                  <a:lnTo>
                    <a:pt x="53" y="621"/>
                  </a:lnTo>
                  <a:lnTo>
                    <a:pt x="44" y="602"/>
                  </a:lnTo>
                  <a:lnTo>
                    <a:pt x="35" y="584"/>
                  </a:lnTo>
                  <a:lnTo>
                    <a:pt x="27" y="565"/>
                  </a:lnTo>
                  <a:lnTo>
                    <a:pt x="21" y="546"/>
                  </a:lnTo>
                  <a:lnTo>
                    <a:pt x="15" y="526"/>
                  </a:lnTo>
                  <a:lnTo>
                    <a:pt x="10" y="506"/>
                  </a:lnTo>
                  <a:lnTo>
                    <a:pt x="6" y="486"/>
                  </a:lnTo>
                  <a:lnTo>
                    <a:pt x="3" y="465"/>
                  </a:lnTo>
                  <a:lnTo>
                    <a:pt x="1" y="443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32480" y="6345360"/>
              <a:ext cx="138240" cy="29520"/>
            </a:xfrm>
            <a:custGeom>
              <a:avLst/>
              <a:gdLst/>
              <a:ahLst/>
              <a:rect l="l" t="t" r="r" b="b"/>
              <a:pathLst>
                <a:path w="1395" h="456">
                  <a:moveTo>
                    <a:pt x="1395" y="284"/>
                  </a:moveTo>
                  <a:lnTo>
                    <a:pt x="1391" y="288"/>
                  </a:lnTo>
                  <a:lnTo>
                    <a:pt x="1380" y="298"/>
                  </a:lnTo>
                  <a:lnTo>
                    <a:pt x="1360" y="313"/>
                  </a:lnTo>
                  <a:lnTo>
                    <a:pt x="1334" y="332"/>
                  </a:lnTo>
                  <a:lnTo>
                    <a:pt x="1318" y="343"/>
                  </a:lnTo>
                  <a:lnTo>
                    <a:pt x="1300" y="354"/>
                  </a:lnTo>
                  <a:lnTo>
                    <a:pt x="1281" y="365"/>
                  </a:lnTo>
                  <a:lnTo>
                    <a:pt x="1259" y="376"/>
                  </a:lnTo>
                  <a:lnTo>
                    <a:pt x="1236" y="387"/>
                  </a:lnTo>
                  <a:lnTo>
                    <a:pt x="1210" y="398"/>
                  </a:lnTo>
                  <a:lnTo>
                    <a:pt x="1183" y="408"/>
                  </a:lnTo>
                  <a:lnTo>
                    <a:pt x="1154" y="418"/>
                  </a:lnTo>
                  <a:lnTo>
                    <a:pt x="1123" y="428"/>
                  </a:lnTo>
                  <a:lnTo>
                    <a:pt x="1091" y="436"/>
                  </a:lnTo>
                  <a:lnTo>
                    <a:pt x="1056" y="443"/>
                  </a:lnTo>
                  <a:lnTo>
                    <a:pt x="1020" y="449"/>
                  </a:lnTo>
                  <a:lnTo>
                    <a:pt x="982" y="453"/>
                  </a:lnTo>
                  <a:lnTo>
                    <a:pt x="942" y="455"/>
                  </a:lnTo>
                  <a:lnTo>
                    <a:pt x="899" y="456"/>
                  </a:lnTo>
                  <a:lnTo>
                    <a:pt x="856" y="455"/>
                  </a:lnTo>
                  <a:lnTo>
                    <a:pt x="811" y="451"/>
                  </a:lnTo>
                  <a:lnTo>
                    <a:pt x="763" y="446"/>
                  </a:lnTo>
                  <a:lnTo>
                    <a:pt x="714" y="437"/>
                  </a:lnTo>
                  <a:lnTo>
                    <a:pt x="664" y="427"/>
                  </a:lnTo>
                  <a:lnTo>
                    <a:pt x="610" y="412"/>
                  </a:lnTo>
                  <a:lnTo>
                    <a:pt x="556" y="395"/>
                  </a:lnTo>
                  <a:lnTo>
                    <a:pt x="500" y="375"/>
                  </a:lnTo>
                  <a:lnTo>
                    <a:pt x="442" y="352"/>
                  </a:lnTo>
                  <a:lnTo>
                    <a:pt x="433" y="344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6" y="290"/>
                  </a:lnTo>
                  <a:lnTo>
                    <a:pt x="340" y="272"/>
                  </a:lnTo>
                  <a:lnTo>
                    <a:pt x="311" y="254"/>
                  </a:lnTo>
                  <a:lnTo>
                    <a:pt x="280" y="236"/>
                  </a:lnTo>
                  <a:lnTo>
                    <a:pt x="246" y="219"/>
                  </a:lnTo>
                  <a:lnTo>
                    <a:pt x="228" y="211"/>
                  </a:lnTo>
                  <a:lnTo>
                    <a:pt x="210" y="203"/>
                  </a:lnTo>
                  <a:lnTo>
                    <a:pt x="190" y="196"/>
                  </a:lnTo>
                  <a:lnTo>
                    <a:pt x="170" y="189"/>
                  </a:lnTo>
                  <a:lnTo>
                    <a:pt x="151" y="183"/>
                  </a:lnTo>
                  <a:lnTo>
                    <a:pt x="130" y="177"/>
                  </a:lnTo>
                  <a:lnTo>
                    <a:pt x="110" y="173"/>
                  </a:lnTo>
                  <a:lnTo>
                    <a:pt x="88" y="169"/>
                  </a:lnTo>
                  <a:lnTo>
                    <a:pt x="67" y="166"/>
                  </a:lnTo>
                  <a:lnTo>
                    <a:pt x="44" y="164"/>
                  </a:lnTo>
                  <a:lnTo>
                    <a:pt x="22" y="163"/>
                  </a:lnTo>
                  <a:lnTo>
                    <a:pt x="0" y="164"/>
                  </a:lnTo>
                  <a:lnTo>
                    <a:pt x="5" y="161"/>
                  </a:lnTo>
                  <a:lnTo>
                    <a:pt x="18" y="152"/>
                  </a:lnTo>
                  <a:lnTo>
                    <a:pt x="40" y="139"/>
                  </a:lnTo>
                  <a:lnTo>
                    <a:pt x="71" y="122"/>
                  </a:lnTo>
                  <a:lnTo>
                    <a:pt x="107" y="103"/>
                  </a:lnTo>
                  <a:lnTo>
                    <a:pt x="150" y="83"/>
                  </a:lnTo>
                  <a:lnTo>
                    <a:pt x="173" y="73"/>
                  </a:lnTo>
                  <a:lnTo>
                    <a:pt x="198" y="63"/>
                  </a:lnTo>
                  <a:lnTo>
                    <a:pt x="226" y="54"/>
                  </a:lnTo>
                  <a:lnTo>
                    <a:pt x="253" y="44"/>
                  </a:lnTo>
                  <a:lnTo>
                    <a:pt x="281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4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6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5" y="11"/>
                  </a:lnTo>
                  <a:lnTo>
                    <a:pt x="680" y="19"/>
                  </a:lnTo>
                  <a:lnTo>
                    <a:pt x="715" y="30"/>
                  </a:lnTo>
                  <a:lnTo>
                    <a:pt x="750" y="42"/>
                  </a:lnTo>
                  <a:lnTo>
                    <a:pt x="785" y="57"/>
                  </a:lnTo>
                  <a:lnTo>
                    <a:pt x="808" y="67"/>
                  </a:lnTo>
                  <a:lnTo>
                    <a:pt x="868" y="93"/>
                  </a:lnTo>
                  <a:lnTo>
                    <a:pt x="955" y="130"/>
                  </a:lnTo>
                  <a:lnTo>
                    <a:pt x="1056" y="173"/>
                  </a:lnTo>
                  <a:lnTo>
                    <a:pt x="1110" y="194"/>
                  </a:lnTo>
                  <a:lnTo>
                    <a:pt x="1162" y="215"/>
                  </a:lnTo>
                  <a:lnTo>
                    <a:pt x="1213" y="234"/>
                  </a:lnTo>
                  <a:lnTo>
                    <a:pt x="1262" y="251"/>
                  </a:lnTo>
                  <a:lnTo>
                    <a:pt x="1305" y="265"/>
                  </a:lnTo>
                  <a:lnTo>
                    <a:pt x="1343" y="275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6" y="284"/>
                  </a:lnTo>
                  <a:lnTo>
                    <a:pt x="1395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73600" y="6288120"/>
              <a:ext cx="46080" cy="91800"/>
            </a:xfrm>
            <a:custGeom>
              <a:avLst/>
              <a:gdLst/>
              <a:ahLst/>
              <a:rect l="l" t="t" r="r" b="b"/>
              <a:pathLst>
                <a:path w="466" h="1394">
                  <a:moveTo>
                    <a:pt x="286" y="1394"/>
                  </a:moveTo>
                  <a:lnTo>
                    <a:pt x="282" y="1389"/>
                  </a:lnTo>
                  <a:lnTo>
                    <a:pt x="271" y="1372"/>
                  </a:lnTo>
                  <a:lnTo>
                    <a:pt x="254" y="1346"/>
                  </a:lnTo>
                  <a:lnTo>
                    <a:pt x="231" y="1312"/>
                  </a:lnTo>
                  <a:lnTo>
                    <a:pt x="206" y="1269"/>
                  </a:lnTo>
                  <a:lnTo>
                    <a:pt x="178" y="1220"/>
                  </a:lnTo>
                  <a:lnTo>
                    <a:pt x="163" y="1193"/>
                  </a:lnTo>
                  <a:lnTo>
                    <a:pt x="148" y="1165"/>
                  </a:lnTo>
                  <a:lnTo>
                    <a:pt x="133" y="1136"/>
                  </a:lnTo>
                  <a:lnTo>
                    <a:pt x="119" y="1105"/>
                  </a:lnTo>
                  <a:lnTo>
                    <a:pt x="104" y="1074"/>
                  </a:lnTo>
                  <a:lnTo>
                    <a:pt x="89" y="1042"/>
                  </a:lnTo>
                  <a:lnTo>
                    <a:pt x="75" y="1010"/>
                  </a:lnTo>
                  <a:lnTo>
                    <a:pt x="62" y="975"/>
                  </a:lnTo>
                  <a:lnTo>
                    <a:pt x="50" y="942"/>
                  </a:lnTo>
                  <a:lnTo>
                    <a:pt x="39" y="908"/>
                  </a:lnTo>
                  <a:lnTo>
                    <a:pt x="29" y="874"/>
                  </a:lnTo>
                  <a:lnTo>
                    <a:pt x="20" y="839"/>
                  </a:lnTo>
                  <a:lnTo>
                    <a:pt x="13" y="806"/>
                  </a:lnTo>
                  <a:lnTo>
                    <a:pt x="7" y="772"/>
                  </a:lnTo>
                  <a:lnTo>
                    <a:pt x="3" y="739"/>
                  </a:lnTo>
                  <a:lnTo>
                    <a:pt x="0" y="706"/>
                  </a:lnTo>
                  <a:lnTo>
                    <a:pt x="0" y="672"/>
                  </a:lnTo>
                  <a:lnTo>
                    <a:pt x="2" y="641"/>
                  </a:lnTo>
                  <a:lnTo>
                    <a:pt x="6" y="610"/>
                  </a:lnTo>
                  <a:lnTo>
                    <a:pt x="12" y="580"/>
                  </a:lnTo>
                  <a:lnTo>
                    <a:pt x="21" y="562"/>
                  </a:lnTo>
                  <a:lnTo>
                    <a:pt x="44" y="510"/>
                  </a:lnTo>
                  <a:lnTo>
                    <a:pt x="59" y="476"/>
                  </a:lnTo>
                  <a:lnTo>
                    <a:pt x="75" y="436"/>
                  </a:lnTo>
                  <a:lnTo>
                    <a:pt x="93" y="392"/>
                  </a:lnTo>
                  <a:lnTo>
                    <a:pt x="111" y="346"/>
                  </a:lnTo>
                  <a:lnTo>
                    <a:pt x="128" y="299"/>
                  </a:lnTo>
                  <a:lnTo>
                    <a:pt x="144" y="249"/>
                  </a:lnTo>
                  <a:lnTo>
                    <a:pt x="151" y="225"/>
                  </a:lnTo>
                  <a:lnTo>
                    <a:pt x="158" y="201"/>
                  </a:lnTo>
                  <a:lnTo>
                    <a:pt x="164" y="177"/>
                  </a:lnTo>
                  <a:lnTo>
                    <a:pt x="169" y="154"/>
                  </a:lnTo>
                  <a:lnTo>
                    <a:pt x="174" y="132"/>
                  </a:lnTo>
                  <a:lnTo>
                    <a:pt x="178" y="109"/>
                  </a:lnTo>
                  <a:lnTo>
                    <a:pt x="180" y="88"/>
                  </a:lnTo>
                  <a:lnTo>
                    <a:pt x="182" y="68"/>
                  </a:lnTo>
                  <a:lnTo>
                    <a:pt x="183" y="49"/>
                  </a:lnTo>
                  <a:lnTo>
                    <a:pt x="182" y="31"/>
                  </a:lnTo>
                  <a:lnTo>
                    <a:pt x="180" y="15"/>
                  </a:lnTo>
                  <a:lnTo>
                    <a:pt x="177" y="0"/>
                  </a:lnTo>
                  <a:lnTo>
                    <a:pt x="180" y="4"/>
                  </a:lnTo>
                  <a:lnTo>
                    <a:pt x="189" y="17"/>
                  </a:lnTo>
                  <a:lnTo>
                    <a:pt x="203" y="38"/>
                  </a:lnTo>
                  <a:lnTo>
                    <a:pt x="221" y="65"/>
                  </a:lnTo>
                  <a:lnTo>
                    <a:pt x="242" y="100"/>
                  </a:lnTo>
                  <a:lnTo>
                    <a:pt x="267" y="141"/>
                  </a:lnTo>
                  <a:lnTo>
                    <a:pt x="292" y="186"/>
                  </a:lnTo>
                  <a:lnTo>
                    <a:pt x="319" y="235"/>
                  </a:lnTo>
                  <a:lnTo>
                    <a:pt x="345" y="289"/>
                  </a:lnTo>
                  <a:lnTo>
                    <a:pt x="371" y="345"/>
                  </a:lnTo>
                  <a:lnTo>
                    <a:pt x="384" y="374"/>
                  </a:lnTo>
                  <a:lnTo>
                    <a:pt x="396" y="404"/>
                  </a:lnTo>
                  <a:lnTo>
                    <a:pt x="408" y="435"/>
                  </a:lnTo>
                  <a:lnTo>
                    <a:pt x="418" y="465"/>
                  </a:lnTo>
                  <a:lnTo>
                    <a:pt x="428" y="496"/>
                  </a:lnTo>
                  <a:lnTo>
                    <a:pt x="437" y="527"/>
                  </a:lnTo>
                  <a:lnTo>
                    <a:pt x="445" y="558"/>
                  </a:lnTo>
                  <a:lnTo>
                    <a:pt x="452" y="589"/>
                  </a:lnTo>
                  <a:lnTo>
                    <a:pt x="457" y="620"/>
                  </a:lnTo>
                  <a:lnTo>
                    <a:pt x="461" y="651"/>
                  </a:lnTo>
                  <a:lnTo>
                    <a:pt x="464" y="681"/>
                  </a:lnTo>
                  <a:lnTo>
                    <a:pt x="466" y="712"/>
                  </a:lnTo>
                  <a:lnTo>
                    <a:pt x="465" y="729"/>
                  </a:lnTo>
                  <a:lnTo>
                    <a:pt x="462" y="777"/>
                  </a:lnTo>
                  <a:lnTo>
                    <a:pt x="459" y="811"/>
                  </a:lnTo>
                  <a:lnTo>
                    <a:pt x="454" y="851"/>
                  </a:lnTo>
                  <a:lnTo>
                    <a:pt x="449" y="895"/>
                  </a:lnTo>
                  <a:lnTo>
                    <a:pt x="441" y="943"/>
                  </a:lnTo>
                  <a:lnTo>
                    <a:pt x="431" y="996"/>
                  </a:lnTo>
                  <a:lnTo>
                    <a:pt x="419" y="1050"/>
                  </a:lnTo>
                  <a:lnTo>
                    <a:pt x="412" y="1078"/>
                  </a:lnTo>
                  <a:lnTo>
                    <a:pt x="405" y="1106"/>
                  </a:lnTo>
                  <a:lnTo>
                    <a:pt x="397" y="1136"/>
                  </a:lnTo>
                  <a:lnTo>
                    <a:pt x="387" y="1164"/>
                  </a:lnTo>
                  <a:lnTo>
                    <a:pt x="377" y="1194"/>
                  </a:lnTo>
                  <a:lnTo>
                    <a:pt x="367" y="1223"/>
                  </a:lnTo>
                  <a:lnTo>
                    <a:pt x="355" y="1252"/>
                  </a:lnTo>
                  <a:lnTo>
                    <a:pt x="343" y="1282"/>
                  </a:lnTo>
                  <a:lnTo>
                    <a:pt x="330" y="1310"/>
                  </a:lnTo>
                  <a:lnTo>
                    <a:pt x="317" y="1339"/>
                  </a:lnTo>
                  <a:lnTo>
                    <a:pt x="302" y="1367"/>
                  </a:lnTo>
                  <a:lnTo>
                    <a:pt x="286" y="139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00720" y="6166440"/>
              <a:ext cx="290520" cy="194400"/>
            </a:xfrm>
            <a:custGeom>
              <a:avLst/>
              <a:gdLst/>
              <a:ahLst/>
              <a:rect l="l" t="t" r="r" b="b"/>
              <a:pathLst>
                <a:path w="2935" h="2935">
                  <a:moveTo>
                    <a:pt x="1053" y="2295"/>
                  </a:moveTo>
                  <a:lnTo>
                    <a:pt x="1024" y="2333"/>
                  </a:lnTo>
                  <a:lnTo>
                    <a:pt x="995" y="2368"/>
                  </a:lnTo>
                  <a:lnTo>
                    <a:pt x="966" y="2399"/>
                  </a:lnTo>
                  <a:lnTo>
                    <a:pt x="936" y="2428"/>
                  </a:lnTo>
                  <a:lnTo>
                    <a:pt x="907" y="2452"/>
                  </a:lnTo>
                  <a:lnTo>
                    <a:pt x="878" y="2473"/>
                  </a:lnTo>
                  <a:lnTo>
                    <a:pt x="850" y="2491"/>
                  </a:lnTo>
                  <a:lnTo>
                    <a:pt x="822" y="2507"/>
                  </a:lnTo>
                  <a:lnTo>
                    <a:pt x="793" y="2520"/>
                  </a:lnTo>
                  <a:lnTo>
                    <a:pt x="765" y="2530"/>
                  </a:lnTo>
                  <a:lnTo>
                    <a:pt x="738" y="2538"/>
                  </a:lnTo>
                  <a:lnTo>
                    <a:pt x="712" y="2545"/>
                  </a:lnTo>
                  <a:lnTo>
                    <a:pt x="686" y="2549"/>
                  </a:lnTo>
                  <a:lnTo>
                    <a:pt x="661" y="2551"/>
                  </a:lnTo>
                  <a:lnTo>
                    <a:pt x="636" y="2551"/>
                  </a:lnTo>
                  <a:lnTo>
                    <a:pt x="612" y="2550"/>
                  </a:lnTo>
                  <a:lnTo>
                    <a:pt x="589" y="2548"/>
                  </a:lnTo>
                  <a:lnTo>
                    <a:pt x="568" y="2545"/>
                  </a:lnTo>
                  <a:lnTo>
                    <a:pt x="547" y="2540"/>
                  </a:lnTo>
                  <a:lnTo>
                    <a:pt x="528" y="2535"/>
                  </a:lnTo>
                  <a:lnTo>
                    <a:pt x="508" y="2529"/>
                  </a:lnTo>
                  <a:lnTo>
                    <a:pt x="491" y="2523"/>
                  </a:lnTo>
                  <a:lnTo>
                    <a:pt x="475" y="2517"/>
                  </a:lnTo>
                  <a:lnTo>
                    <a:pt x="461" y="2511"/>
                  </a:lnTo>
                  <a:lnTo>
                    <a:pt x="437" y="2498"/>
                  </a:lnTo>
                  <a:lnTo>
                    <a:pt x="418" y="2488"/>
                  </a:lnTo>
                  <a:lnTo>
                    <a:pt x="407" y="2481"/>
                  </a:lnTo>
                  <a:lnTo>
                    <a:pt x="403" y="2478"/>
                  </a:lnTo>
                  <a:lnTo>
                    <a:pt x="382" y="2454"/>
                  </a:lnTo>
                  <a:lnTo>
                    <a:pt x="363" y="2429"/>
                  </a:lnTo>
                  <a:lnTo>
                    <a:pt x="348" y="2404"/>
                  </a:lnTo>
                  <a:lnTo>
                    <a:pt x="336" y="2378"/>
                  </a:lnTo>
                  <a:lnTo>
                    <a:pt x="326" y="2353"/>
                  </a:lnTo>
                  <a:lnTo>
                    <a:pt x="319" y="2327"/>
                  </a:lnTo>
                  <a:lnTo>
                    <a:pt x="314" y="2302"/>
                  </a:lnTo>
                  <a:lnTo>
                    <a:pt x="312" y="2276"/>
                  </a:lnTo>
                  <a:lnTo>
                    <a:pt x="311" y="2250"/>
                  </a:lnTo>
                  <a:lnTo>
                    <a:pt x="313" y="2225"/>
                  </a:lnTo>
                  <a:lnTo>
                    <a:pt x="315" y="2201"/>
                  </a:lnTo>
                  <a:lnTo>
                    <a:pt x="320" y="2176"/>
                  </a:lnTo>
                  <a:lnTo>
                    <a:pt x="326" y="2152"/>
                  </a:lnTo>
                  <a:lnTo>
                    <a:pt x="333" y="2129"/>
                  </a:lnTo>
                  <a:lnTo>
                    <a:pt x="341" y="2105"/>
                  </a:lnTo>
                  <a:lnTo>
                    <a:pt x="350" y="2083"/>
                  </a:lnTo>
                  <a:lnTo>
                    <a:pt x="359" y="2062"/>
                  </a:lnTo>
                  <a:lnTo>
                    <a:pt x="371" y="2041"/>
                  </a:lnTo>
                  <a:lnTo>
                    <a:pt x="381" y="2022"/>
                  </a:lnTo>
                  <a:lnTo>
                    <a:pt x="392" y="2003"/>
                  </a:lnTo>
                  <a:lnTo>
                    <a:pt x="414" y="1968"/>
                  </a:lnTo>
                  <a:lnTo>
                    <a:pt x="434" y="1939"/>
                  </a:lnTo>
                  <a:lnTo>
                    <a:pt x="467" y="1897"/>
                  </a:lnTo>
                  <a:lnTo>
                    <a:pt x="481" y="1882"/>
                  </a:lnTo>
                  <a:lnTo>
                    <a:pt x="510" y="1861"/>
                  </a:lnTo>
                  <a:lnTo>
                    <a:pt x="544" y="1841"/>
                  </a:lnTo>
                  <a:lnTo>
                    <a:pt x="578" y="1821"/>
                  </a:lnTo>
                  <a:lnTo>
                    <a:pt x="614" y="1802"/>
                  </a:lnTo>
                  <a:lnTo>
                    <a:pt x="652" y="1784"/>
                  </a:lnTo>
                  <a:lnTo>
                    <a:pt x="692" y="1767"/>
                  </a:lnTo>
                  <a:lnTo>
                    <a:pt x="731" y="1751"/>
                  </a:lnTo>
                  <a:lnTo>
                    <a:pt x="771" y="1736"/>
                  </a:lnTo>
                  <a:lnTo>
                    <a:pt x="812" y="1722"/>
                  </a:lnTo>
                  <a:lnTo>
                    <a:pt x="851" y="1708"/>
                  </a:lnTo>
                  <a:lnTo>
                    <a:pt x="890" y="1695"/>
                  </a:lnTo>
                  <a:lnTo>
                    <a:pt x="928" y="1684"/>
                  </a:lnTo>
                  <a:lnTo>
                    <a:pt x="999" y="1662"/>
                  </a:lnTo>
                  <a:lnTo>
                    <a:pt x="1060" y="1646"/>
                  </a:lnTo>
                  <a:lnTo>
                    <a:pt x="1055" y="1634"/>
                  </a:lnTo>
                  <a:lnTo>
                    <a:pt x="1051" y="1622"/>
                  </a:lnTo>
                  <a:lnTo>
                    <a:pt x="1046" y="1610"/>
                  </a:lnTo>
                  <a:lnTo>
                    <a:pt x="1043" y="1598"/>
                  </a:lnTo>
                  <a:lnTo>
                    <a:pt x="992" y="1620"/>
                  </a:lnTo>
                  <a:lnTo>
                    <a:pt x="943" y="1641"/>
                  </a:lnTo>
                  <a:lnTo>
                    <a:pt x="898" y="1659"/>
                  </a:lnTo>
                  <a:lnTo>
                    <a:pt x="855" y="1676"/>
                  </a:lnTo>
                  <a:lnTo>
                    <a:pt x="816" y="1692"/>
                  </a:lnTo>
                  <a:lnTo>
                    <a:pt x="778" y="1705"/>
                  </a:lnTo>
                  <a:lnTo>
                    <a:pt x="744" y="1716"/>
                  </a:lnTo>
                  <a:lnTo>
                    <a:pt x="713" y="1726"/>
                  </a:lnTo>
                  <a:lnTo>
                    <a:pt x="661" y="1741"/>
                  </a:lnTo>
                  <a:lnTo>
                    <a:pt x="621" y="1752"/>
                  </a:lnTo>
                  <a:lnTo>
                    <a:pt x="598" y="1757"/>
                  </a:lnTo>
                  <a:lnTo>
                    <a:pt x="590" y="1759"/>
                  </a:lnTo>
                  <a:lnTo>
                    <a:pt x="542" y="1766"/>
                  </a:lnTo>
                  <a:lnTo>
                    <a:pt x="496" y="1770"/>
                  </a:lnTo>
                  <a:lnTo>
                    <a:pt x="453" y="1771"/>
                  </a:lnTo>
                  <a:lnTo>
                    <a:pt x="413" y="1770"/>
                  </a:lnTo>
                  <a:lnTo>
                    <a:pt x="376" y="1767"/>
                  </a:lnTo>
                  <a:lnTo>
                    <a:pt x="339" y="1762"/>
                  </a:lnTo>
                  <a:lnTo>
                    <a:pt x="306" y="1754"/>
                  </a:lnTo>
                  <a:lnTo>
                    <a:pt x="276" y="1745"/>
                  </a:lnTo>
                  <a:lnTo>
                    <a:pt x="247" y="1735"/>
                  </a:lnTo>
                  <a:lnTo>
                    <a:pt x="220" y="1722"/>
                  </a:lnTo>
                  <a:lnTo>
                    <a:pt x="194" y="1709"/>
                  </a:lnTo>
                  <a:lnTo>
                    <a:pt x="172" y="1694"/>
                  </a:lnTo>
                  <a:lnTo>
                    <a:pt x="150" y="1678"/>
                  </a:lnTo>
                  <a:lnTo>
                    <a:pt x="131" y="1662"/>
                  </a:lnTo>
                  <a:lnTo>
                    <a:pt x="114" y="1645"/>
                  </a:lnTo>
                  <a:lnTo>
                    <a:pt x="98" y="1627"/>
                  </a:lnTo>
                  <a:lnTo>
                    <a:pt x="83" y="1610"/>
                  </a:lnTo>
                  <a:lnTo>
                    <a:pt x="69" y="1592"/>
                  </a:lnTo>
                  <a:lnTo>
                    <a:pt x="58" y="1575"/>
                  </a:lnTo>
                  <a:lnTo>
                    <a:pt x="47" y="1557"/>
                  </a:lnTo>
                  <a:lnTo>
                    <a:pt x="38" y="1540"/>
                  </a:lnTo>
                  <a:lnTo>
                    <a:pt x="30" y="1523"/>
                  </a:lnTo>
                  <a:lnTo>
                    <a:pt x="24" y="1507"/>
                  </a:lnTo>
                  <a:lnTo>
                    <a:pt x="18" y="1493"/>
                  </a:lnTo>
                  <a:lnTo>
                    <a:pt x="9" y="1467"/>
                  </a:lnTo>
                  <a:lnTo>
                    <a:pt x="4" y="1447"/>
                  </a:lnTo>
                  <a:lnTo>
                    <a:pt x="1" y="1434"/>
                  </a:lnTo>
                  <a:lnTo>
                    <a:pt x="0" y="1429"/>
                  </a:lnTo>
                  <a:lnTo>
                    <a:pt x="2" y="1397"/>
                  </a:lnTo>
                  <a:lnTo>
                    <a:pt x="7" y="1366"/>
                  </a:lnTo>
                  <a:lnTo>
                    <a:pt x="14" y="1338"/>
                  </a:lnTo>
                  <a:lnTo>
                    <a:pt x="23" y="1311"/>
                  </a:lnTo>
                  <a:lnTo>
                    <a:pt x="34" y="1287"/>
                  </a:lnTo>
                  <a:lnTo>
                    <a:pt x="47" y="1264"/>
                  </a:lnTo>
                  <a:lnTo>
                    <a:pt x="62" y="1242"/>
                  </a:lnTo>
                  <a:lnTo>
                    <a:pt x="79" y="1222"/>
                  </a:lnTo>
                  <a:lnTo>
                    <a:pt x="96" y="1204"/>
                  </a:lnTo>
                  <a:lnTo>
                    <a:pt x="115" y="1187"/>
                  </a:lnTo>
                  <a:lnTo>
                    <a:pt x="135" y="1172"/>
                  </a:lnTo>
                  <a:lnTo>
                    <a:pt x="155" y="1158"/>
                  </a:lnTo>
                  <a:lnTo>
                    <a:pt x="176" y="1145"/>
                  </a:lnTo>
                  <a:lnTo>
                    <a:pt x="198" y="1133"/>
                  </a:lnTo>
                  <a:lnTo>
                    <a:pt x="220" y="1123"/>
                  </a:lnTo>
                  <a:lnTo>
                    <a:pt x="242" y="1113"/>
                  </a:lnTo>
                  <a:lnTo>
                    <a:pt x="264" y="1104"/>
                  </a:lnTo>
                  <a:lnTo>
                    <a:pt x="286" y="1097"/>
                  </a:lnTo>
                  <a:lnTo>
                    <a:pt x="308" y="1091"/>
                  </a:lnTo>
                  <a:lnTo>
                    <a:pt x="328" y="1085"/>
                  </a:lnTo>
                  <a:lnTo>
                    <a:pt x="369" y="1076"/>
                  </a:lnTo>
                  <a:lnTo>
                    <a:pt x="404" y="1070"/>
                  </a:lnTo>
                  <a:lnTo>
                    <a:pt x="457" y="1064"/>
                  </a:lnTo>
                  <a:lnTo>
                    <a:pt x="477" y="1063"/>
                  </a:lnTo>
                  <a:lnTo>
                    <a:pt x="514" y="1069"/>
                  </a:lnTo>
                  <a:lnTo>
                    <a:pt x="552" y="1078"/>
                  </a:lnTo>
                  <a:lnTo>
                    <a:pt x="590" y="1089"/>
                  </a:lnTo>
                  <a:lnTo>
                    <a:pt x="630" y="1101"/>
                  </a:lnTo>
                  <a:lnTo>
                    <a:pt x="671" y="1117"/>
                  </a:lnTo>
                  <a:lnTo>
                    <a:pt x="711" y="1132"/>
                  </a:lnTo>
                  <a:lnTo>
                    <a:pt x="751" y="1149"/>
                  </a:lnTo>
                  <a:lnTo>
                    <a:pt x="790" y="1167"/>
                  </a:lnTo>
                  <a:lnTo>
                    <a:pt x="830" y="1185"/>
                  </a:lnTo>
                  <a:lnTo>
                    <a:pt x="868" y="1204"/>
                  </a:lnTo>
                  <a:lnTo>
                    <a:pt x="904" y="1223"/>
                  </a:lnTo>
                  <a:lnTo>
                    <a:pt x="939" y="1241"/>
                  </a:lnTo>
                  <a:lnTo>
                    <a:pt x="1005" y="1278"/>
                  </a:lnTo>
                  <a:lnTo>
                    <a:pt x="1059" y="1309"/>
                  </a:lnTo>
                  <a:lnTo>
                    <a:pt x="1064" y="1297"/>
                  </a:lnTo>
                  <a:lnTo>
                    <a:pt x="1069" y="1285"/>
                  </a:lnTo>
                  <a:lnTo>
                    <a:pt x="1075" y="1274"/>
                  </a:lnTo>
                  <a:lnTo>
                    <a:pt x="1081" y="1262"/>
                  </a:lnTo>
                  <a:lnTo>
                    <a:pt x="1029" y="1242"/>
                  </a:lnTo>
                  <a:lnTo>
                    <a:pt x="980" y="1222"/>
                  </a:lnTo>
                  <a:lnTo>
                    <a:pt x="933" y="1203"/>
                  </a:lnTo>
                  <a:lnTo>
                    <a:pt x="890" y="1184"/>
                  </a:lnTo>
                  <a:lnTo>
                    <a:pt x="851" y="1166"/>
                  </a:lnTo>
                  <a:lnTo>
                    <a:pt x="815" y="1149"/>
                  </a:lnTo>
                  <a:lnTo>
                    <a:pt x="781" y="1133"/>
                  </a:lnTo>
                  <a:lnTo>
                    <a:pt x="752" y="1118"/>
                  </a:lnTo>
                  <a:lnTo>
                    <a:pt x="704" y="1090"/>
                  </a:lnTo>
                  <a:lnTo>
                    <a:pt x="669" y="1070"/>
                  </a:lnTo>
                  <a:lnTo>
                    <a:pt x="647" y="1057"/>
                  </a:lnTo>
                  <a:lnTo>
                    <a:pt x="640" y="1053"/>
                  </a:lnTo>
                  <a:lnTo>
                    <a:pt x="601" y="1024"/>
                  </a:lnTo>
                  <a:lnTo>
                    <a:pt x="567" y="995"/>
                  </a:lnTo>
                  <a:lnTo>
                    <a:pt x="535" y="966"/>
                  </a:lnTo>
                  <a:lnTo>
                    <a:pt x="507" y="936"/>
                  </a:lnTo>
                  <a:lnTo>
                    <a:pt x="483" y="907"/>
                  </a:lnTo>
                  <a:lnTo>
                    <a:pt x="461" y="878"/>
                  </a:lnTo>
                  <a:lnTo>
                    <a:pt x="443" y="850"/>
                  </a:lnTo>
                  <a:lnTo>
                    <a:pt x="428" y="821"/>
                  </a:lnTo>
                  <a:lnTo>
                    <a:pt x="415" y="793"/>
                  </a:lnTo>
                  <a:lnTo>
                    <a:pt x="405" y="765"/>
                  </a:lnTo>
                  <a:lnTo>
                    <a:pt x="397" y="738"/>
                  </a:lnTo>
                  <a:lnTo>
                    <a:pt x="391" y="712"/>
                  </a:lnTo>
                  <a:lnTo>
                    <a:pt x="387" y="686"/>
                  </a:lnTo>
                  <a:lnTo>
                    <a:pt x="385" y="660"/>
                  </a:lnTo>
                  <a:lnTo>
                    <a:pt x="385" y="636"/>
                  </a:lnTo>
                  <a:lnTo>
                    <a:pt x="386" y="612"/>
                  </a:lnTo>
                  <a:lnTo>
                    <a:pt x="388" y="590"/>
                  </a:lnTo>
                  <a:lnTo>
                    <a:pt x="391" y="568"/>
                  </a:lnTo>
                  <a:lnTo>
                    <a:pt x="396" y="547"/>
                  </a:lnTo>
                  <a:lnTo>
                    <a:pt x="401" y="527"/>
                  </a:lnTo>
                  <a:lnTo>
                    <a:pt x="406" y="509"/>
                  </a:lnTo>
                  <a:lnTo>
                    <a:pt x="412" y="492"/>
                  </a:lnTo>
                  <a:lnTo>
                    <a:pt x="419" y="476"/>
                  </a:lnTo>
                  <a:lnTo>
                    <a:pt x="425" y="461"/>
                  </a:lnTo>
                  <a:lnTo>
                    <a:pt x="437" y="437"/>
                  </a:lnTo>
                  <a:lnTo>
                    <a:pt x="447" y="419"/>
                  </a:lnTo>
                  <a:lnTo>
                    <a:pt x="455" y="408"/>
                  </a:lnTo>
                  <a:lnTo>
                    <a:pt x="457" y="404"/>
                  </a:lnTo>
                  <a:lnTo>
                    <a:pt x="482" y="382"/>
                  </a:lnTo>
                  <a:lnTo>
                    <a:pt x="506" y="364"/>
                  </a:lnTo>
                  <a:lnTo>
                    <a:pt x="532" y="349"/>
                  </a:lnTo>
                  <a:lnTo>
                    <a:pt x="557" y="336"/>
                  </a:lnTo>
                  <a:lnTo>
                    <a:pt x="582" y="327"/>
                  </a:lnTo>
                  <a:lnTo>
                    <a:pt x="608" y="320"/>
                  </a:lnTo>
                  <a:lnTo>
                    <a:pt x="633" y="315"/>
                  </a:lnTo>
                  <a:lnTo>
                    <a:pt x="659" y="312"/>
                  </a:lnTo>
                  <a:lnTo>
                    <a:pt x="685" y="312"/>
                  </a:lnTo>
                  <a:lnTo>
                    <a:pt x="709" y="313"/>
                  </a:lnTo>
                  <a:lnTo>
                    <a:pt x="734" y="316"/>
                  </a:lnTo>
                  <a:lnTo>
                    <a:pt x="758" y="320"/>
                  </a:lnTo>
                  <a:lnTo>
                    <a:pt x="782" y="326"/>
                  </a:lnTo>
                  <a:lnTo>
                    <a:pt x="807" y="333"/>
                  </a:lnTo>
                  <a:lnTo>
                    <a:pt x="829" y="341"/>
                  </a:lnTo>
                  <a:lnTo>
                    <a:pt x="852" y="350"/>
                  </a:lnTo>
                  <a:lnTo>
                    <a:pt x="873" y="360"/>
                  </a:lnTo>
                  <a:lnTo>
                    <a:pt x="893" y="370"/>
                  </a:lnTo>
                  <a:lnTo>
                    <a:pt x="913" y="380"/>
                  </a:lnTo>
                  <a:lnTo>
                    <a:pt x="932" y="392"/>
                  </a:lnTo>
                  <a:lnTo>
                    <a:pt x="967" y="414"/>
                  </a:lnTo>
                  <a:lnTo>
                    <a:pt x="996" y="434"/>
                  </a:lnTo>
                  <a:lnTo>
                    <a:pt x="1037" y="467"/>
                  </a:lnTo>
                  <a:lnTo>
                    <a:pt x="1052" y="480"/>
                  </a:lnTo>
                  <a:lnTo>
                    <a:pt x="1063" y="495"/>
                  </a:lnTo>
                  <a:lnTo>
                    <a:pt x="1074" y="511"/>
                  </a:lnTo>
                  <a:lnTo>
                    <a:pt x="1084" y="527"/>
                  </a:lnTo>
                  <a:lnTo>
                    <a:pt x="1095" y="545"/>
                  </a:lnTo>
                  <a:lnTo>
                    <a:pt x="1116" y="581"/>
                  </a:lnTo>
                  <a:lnTo>
                    <a:pt x="1135" y="618"/>
                  </a:lnTo>
                  <a:lnTo>
                    <a:pt x="1153" y="657"/>
                  </a:lnTo>
                  <a:lnTo>
                    <a:pt x="1170" y="698"/>
                  </a:lnTo>
                  <a:lnTo>
                    <a:pt x="1187" y="738"/>
                  </a:lnTo>
                  <a:lnTo>
                    <a:pt x="1202" y="779"/>
                  </a:lnTo>
                  <a:lnTo>
                    <a:pt x="1217" y="821"/>
                  </a:lnTo>
                  <a:lnTo>
                    <a:pt x="1231" y="862"/>
                  </a:lnTo>
                  <a:lnTo>
                    <a:pt x="1244" y="901"/>
                  </a:lnTo>
                  <a:lnTo>
                    <a:pt x="1256" y="939"/>
                  </a:lnTo>
                  <a:lnTo>
                    <a:pt x="1276" y="1011"/>
                  </a:lnTo>
                  <a:lnTo>
                    <a:pt x="1292" y="1071"/>
                  </a:lnTo>
                  <a:lnTo>
                    <a:pt x="1304" y="1066"/>
                  </a:lnTo>
                  <a:lnTo>
                    <a:pt x="1316" y="1061"/>
                  </a:lnTo>
                  <a:lnTo>
                    <a:pt x="1329" y="1057"/>
                  </a:lnTo>
                  <a:lnTo>
                    <a:pt x="1341" y="1053"/>
                  </a:lnTo>
                  <a:lnTo>
                    <a:pt x="1318" y="1002"/>
                  </a:lnTo>
                  <a:lnTo>
                    <a:pt x="1297" y="952"/>
                  </a:lnTo>
                  <a:lnTo>
                    <a:pt x="1278" y="906"/>
                  </a:lnTo>
                  <a:lnTo>
                    <a:pt x="1261" y="862"/>
                  </a:lnTo>
                  <a:lnTo>
                    <a:pt x="1246" y="821"/>
                  </a:lnTo>
                  <a:lnTo>
                    <a:pt x="1232" y="782"/>
                  </a:lnTo>
                  <a:lnTo>
                    <a:pt x="1220" y="747"/>
                  </a:lnTo>
                  <a:lnTo>
                    <a:pt x="1210" y="716"/>
                  </a:lnTo>
                  <a:lnTo>
                    <a:pt x="1194" y="661"/>
                  </a:lnTo>
                  <a:lnTo>
                    <a:pt x="1183" y="622"/>
                  </a:lnTo>
                  <a:lnTo>
                    <a:pt x="1177" y="598"/>
                  </a:lnTo>
                  <a:lnTo>
                    <a:pt x="1175" y="590"/>
                  </a:lnTo>
                  <a:lnTo>
                    <a:pt x="1169" y="542"/>
                  </a:lnTo>
                  <a:lnTo>
                    <a:pt x="1165" y="496"/>
                  </a:lnTo>
                  <a:lnTo>
                    <a:pt x="1163" y="453"/>
                  </a:lnTo>
                  <a:lnTo>
                    <a:pt x="1164" y="413"/>
                  </a:lnTo>
                  <a:lnTo>
                    <a:pt x="1167" y="375"/>
                  </a:lnTo>
                  <a:lnTo>
                    <a:pt x="1173" y="339"/>
                  </a:lnTo>
                  <a:lnTo>
                    <a:pt x="1180" y="306"/>
                  </a:lnTo>
                  <a:lnTo>
                    <a:pt x="1189" y="275"/>
                  </a:lnTo>
                  <a:lnTo>
                    <a:pt x="1200" y="247"/>
                  </a:lnTo>
                  <a:lnTo>
                    <a:pt x="1212" y="219"/>
                  </a:lnTo>
                  <a:lnTo>
                    <a:pt x="1226" y="194"/>
                  </a:lnTo>
                  <a:lnTo>
                    <a:pt x="1240" y="171"/>
                  </a:lnTo>
                  <a:lnTo>
                    <a:pt x="1257" y="150"/>
                  </a:lnTo>
                  <a:lnTo>
                    <a:pt x="1273" y="131"/>
                  </a:lnTo>
                  <a:lnTo>
                    <a:pt x="1290" y="114"/>
                  </a:lnTo>
                  <a:lnTo>
                    <a:pt x="1307" y="97"/>
                  </a:lnTo>
                  <a:lnTo>
                    <a:pt x="1325" y="82"/>
                  </a:lnTo>
                  <a:lnTo>
                    <a:pt x="1342" y="69"/>
                  </a:lnTo>
                  <a:lnTo>
                    <a:pt x="1360" y="58"/>
                  </a:lnTo>
                  <a:lnTo>
                    <a:pt x="1377" y="47"/>
                  </a:lnTo>
                  <a:lnTo>
                    <a:pt x="1395" y="38"/>
                  </a:lnTo>
                  <a:lnTo>
                    <a:pt x="1412" y="30"/>
                  </a:lnTo>
                  <a:lnTo>
                    <a:pt x="1427" y="24"/>
                  </a:lnTo>
                  <a:lnTo>
                    <a:pt x="1442" y="18"/>
                  </a:lnTo>
                  <a:lnTo>
                    <a:pt x="1468" y="9"/>
                  </a:lnTo>
                  <a:lnTo>
                    <a:pt x="1488" y="4"/>
                  </a:lnTo>
                  <a:lnTo>
                    <a:pt x="1501" y="1"/>
                  </a:lnTo>
                  <a:lnTo>
                    <a:pt x="1506" y="0"/>
                  </a:lnTo>
                  <a:lnTo>
                    <a:pt x="1538" y="2"/>
                  </a:lnTo>
                  <a:lnTo>
                    <a:pt x="1569" y="7"/>
                  </a:lnTo>
                  <a:lnTo>
                    <a:pt x="1597" y="14"/>
                  </a:lnTo>
                  <a:lnTo>
                    <a:pt x="1623" y="23"/>
                  </a:lnTo>
                  <a:lnTo>
                    <a:pt x="1648" y="34"/>
                  </a:lnTo>
                  <a:lnTo>
                    <a:pt x="1671" y="47"/>
                  </a:lnTo>
                  <a:lnTo>
                    <a:pt x="1693" y="62"/>
                  </a:lnTo>
                  <a:lnTo>
                    <a:pt x="1713" y="78"/>
                  </a:lnTo>
                  <a:lnTo>
                    <a:pt x="1731" y="96"/>
                  </a:lnTo>
                  <a:lnTo>
                    <a:pt x="1748" y="115"/>
                  </a:lnTo>
                  <a:lnTo>
                    <a:pt x="1763" y="135"/>
                  </a:lnTo>
                  <a:lnTo>
                    <a:pt x="1777" y="155"/>
                  </a:lnTo>
                  <a:lnTo>
                    <a:pt x="1790" y="176"/>
                  </a:lnTo>
                  <a:lnTo>
                    <a:pt x="1801" y="198"/>
                  </a:lnTo>
                  <a:lnTo>
                    <a:pt x="1812" y="220"/>
                  </a:lnTo>
                  <a:lnTo>
                    <a:pt x="1821" y="241"/>
                  </a:lnTo>
                  <a:lnTo>
                    <a:pt x="1830" y="264"/>
                  </a:lnTo>
                  <a:lnTo>
                    <a:pt x="1838" y="286"/>
                  </a:lnTo>
                  <a:lnTo>
                    <a:pt x="1844" y="308"/>
                  </a:lnTo>
                  <a:lnTo>
                    <a:pt x="1849" y="328"/>
                  </a:lnTo>
                  <a:lnTo>
                    <a:pt x="1858" y="368"/>
                  </a:lnTo>
                  <a:lnTo>
                    <a:pt x="1864" y="404"/>
                  </a:lnTo>
                  <a:lnTo>
                    <a:pt x="1870" y="457"/>
                  </a:lnTo>
                  <a:lnTo>
                    <a:pt x="1871" y="477"/>
                  </a:lnTo>
                  <a:lnTo>
                    <a:pt x="1869" y="495"/>
                  </a:lnTo>
                  <a:lnTo>
                    <a:pt x="1865" y="514"/>
                  </a:lnTo>
                  <a:lnTo>
                    <a:pt x="1861" y="534"/>
                  </a:lnTo>
                  <a:lnTo>
                    <a:pt x="1856" y="553"/>
                  </a:lnTo>
                  <a:lnTo>
                    <a:pt x="1845" y="592"/>
                  </a:lnTo>
                  <a:lnTo>
                    <a:pt x="1833" y="632"/>
                  </a:lnTo>
                  <a:lnTo>
                    <a:pt x="1817" y="672"/>
                  </a:lnTo>
                  <a:lnTo>
                    <a:pt x="1801" y="714"/>
                  </a:lnTo>
                  <a:lnTo>
                    <a:pt x="1784" y="754"/>
                  </a:lnTo>
                  <a:lnTo>
                    <a:pt x="1766" y="794"/>
                  </a:lnTo>
                  <a:lnTo>
                    <a:pt x="1748" y="834"/>
                  </a:lnTo>
                  <a:lnTo>
                    <a:pt x="1729" y="872"/>
                  </a:lnTo>
                  <a:lnTo>
                    <a:pt x="1710" y="909"/>
                  </a:lnTo>
                  <a:lnTo>
                    <a:pt x="1691" y="944"/>
                  </a:lnTo>
                  <a:lnTo>
                    <a:pt x="1654" y="1009"/>
                  </a:lnTo>
                  <a:lnTo>
                    <a:pt x="1623" y="1063"/>
                  </a:lnTo>
                  <a:lnTo>
                    <a:pt x="1635" y="1068"/>
                  </a:lnTo>
                  <a:lnTo>
                    <a:pt x="1648" y="1073"/>
                  </a:lnTo>
                  <a:lnTo>
                    <a:pt x="1659" y="1079"/>
                  </a:lnTo>
                  <a:lnTo>
                    <a:pt x="1671" y="1085"/>
                  </a:lnTo>
                  <a:lnTo>
                    <a:pt x="1692" y="1032"/>
                  </a:lnTo>
                  <a:lnTo>
                    <a:pt x="1712" y="983"/>
                  </a:lnTo>
                  <a:lnTo>
                    <a:pt x="1731" y="936"/>
                  </a:lnTo>
                  <a:lnTo>
                    <a:pt x="1750" y="893"/>
                  </a:lnTo>
                  <a:lnTo>
                    <a:pt x="1768" y="853"/>
                  </a:lnTo>
                  <a:lnTo>
                    <a:pt x="1786" y="816"/>
                  </a:lnTo>
                  <a:lnTo>
                    <a:pt x="1802" y="783"/>
                  </a:lnTo>
                  <a:lnTo>
                    <a:pt x="1817" y="753"/>
                  </a:lnTo>
                  <a:lnTo>
                    <a:pt x="1844" y="704"/>
                  </a:lnTo>
                  <a:lnTo>
                    <a:pt x="1864" y="668"/>
                  </a:lnTo>
                  <a:lnTo>
                    <a:pt x="1877" y="647"/>
                  </a:lnTo>
                  <a:lnTo>
                    <a:pt x="1882" y="640"/>
                  </a:lnTo>
                  <a:lnTo>
                    <a:pt x="1911" y="602"/>
                  </a:lnTo>
                  <a:lnTo>
                    <a:pt x="1940" y="567"/>
                  </a:lnTo>
                  <a:lnTo>
                    <a:pt x="1969" y="536"/>
                  </a:lnTo>
                  <a:lnTo>
                    <a:pt x="1999" y="507"/>
                  </a:lnTo>
                  <a:lnTo>
                    <a:pt x="2028" y="483"/>
                  </a:lnTo>
                  <a:lnTo>
                    <a:pt x="2057" y="462"/>
                  </a:lnTo>
                  <a:lnTo>
                    <a:pt x="2085" y="444"/>
                  </a:lnTo>
                  <a:lnTo>
                    <a:pt x="2113" y="428"/>
                  </a:lnTo>
                  <a:lnTo>
                    <a:pt x="2142" y="416"/>
                  </a:lnTo>
                  <a:lnTo>
                    <a:pt x="2170" y="405"/>
                  </a:lnTo>
                  <a:lnTo>
                    <a:pt x="2197" y="398"/>
                  </a:lnTo>
                  <a:lnTo>
                    <a:pt x="2223" y="392"/>
                  </a:lnTo>
                  <a:lnTo>
                    <a:pt x="2249" y="388"/>
                  </a:lnTo>
                  <a:lnTo>
                    <a:pt x="2275" y="385"/>
                  </a:lnTo>
                  <a:lnTo>
                    <a:pt x="2300" y="384"/>
                  </a:lnTo>
                  <a:lnTo>
                    <a:pt x="2323" y="385"/>
                  </a:lnTo>
                  <a:lnTo>
                    <a:pt x="2346" y="388"/>
                  </a:lnTo>
                  <a:lnTo>
                    <a:pt x="2367" y="392"/>
                  </a:lnTo>
                  <a:lnTo>
                    <a:pt x="2388" y="396"/>
                  </a:lnTo>
                  <a:lnTo>
                    <a:pt x="2408" y="401"/>
                  </a:lnTo>
                  <a:lnTo>
                    <a:pt x="2427" y="407"/>
                  </a:lnTo>
                  <a:lnTo>
                    <a:pt x="2444" y="413"/>
                  </a:lnTo>
                  <a:lnTo>
                    <a:pt x="2460" y="419"/>
                  </a:lnTo>
                  <a:lnTo>
                    <a:pt x="2474" y="425"/>
                  </a:lnTo>
                  <a:lnTo>
                    <a:pt x="2499" y="437"/>
                  </a:lnTo>
                  <a:lnTo>
                    <a:pt x="2517" y="448"/>
                  </a:lnTo>
                  <a:lnTo>
                    <a:pt x="2528" y="455"/>
                  </a:lnTo>
                  <a:lnTo>
                    <a:pt x="2532" y="458"/>
                  </a:lnTo>
                  <a:lnTo>
                    <a:pt x="2553" y="482"/>
                  </a:lnTo>
                  <a:lnTo>
                    <a:pt x="2572" y="506"/>
                  </a:lnTo>
                  <a:lnTo>
                    <a:pt x="2587" y="532"/>
                  </a:lnTo>
                  <a:lnTo>
                    <a:pt x="2599" y="557"/>
                  </a:lnTo>
                  <a:lnTo>
                    <a:pt x="2609" y="582"/>
                  </a:lnTo>
                  <a:lnTo>
                    <a:pt x="2616" y="608"/>
                  </a:lnTo>
                  <a:lnTo>
                    <a:pt x="2621" y="633"/>
                  </a:lnTo>
                  <a:lnTo>
                    <a:pt x="2623" y="658"/>
                  </a:lnTo>
                  <a:lnTo>
                    <a:pt x="2624" y="684"/>
                  </a:lnTo>
                  <a:lnTo>
                    <a:pt x="2622" y="709"/>
                  </a:lnTo>
                  <a:lnTo>
                    <a:pt x="2619" y="734"/>
                  </a:lnTo>
                  <a:lnTo>
                    <a:pt x="2615" y="758"/>
                  </a:lnTo>
                  <a:lnTo>
                    <a:pt x="2609" y="782"/>
                  </a:lnTo>
                  <a:lnTo>
                    <a:pt x="2602" y="806"/>
                  </a:lnTo>
                  <a:lnTo>
                    <a:pt x="2594" y="829"/>
                  </a:lnTo>
                  <a:lnTo>
                    <a:pt x="2585" y="851"/>
                  </a:lnTo>
                  <a:lnTo>
                    <a:pt x="2575" y="873"/>
                  </a:lnTo>
                  <a:lnTo>
                    <a:pt x="2565" y="893"/>
                  </a:lnTo>
                  <a:lnTo>
                    <a:pt x="2553" y="913"/>
                  </a:lnTo>
                  <a:lnTo>
                    <a:pt x="2543" y="931"/>
                  </a:lnTo>
                  <a:lnTo>
                    <a:pt x="2521" y="966"/>
                  </a:lnTo>
                  <a:lnTo>
                    <a:pt x="2500" y="996"/>
                  </a:lnTo>
                  <a:lnTo>
                    <a:pt x="2467" y="1037"/>
                  </a:lnTo>
                  <a:lnTo>
                    <a:pt x="2454" y="1052"/>
                  </a:lnTo>
                  <a:lnTo>
                    <a:pt x="2439" y="1063"/>
                  </a:lnTo>
                  <a:lnTo>
                    <a:pt x="2424" y="1073"/>
                  </a:lnTo>
                  <a:lnTo>
                    <a:pt x="2407" y="1084"/>
                  </a:lnTo>
                  <a:lnTo>
                    <a:pt x="2390" y="1094"/>
                  </a:lnTo>
                  <a:lnTo>
                    <a:pt x="2355" y="1115"/>
                  </a:lnTo>
                  <a:lnTo>
                    <a:pt x="2318" y="1134"/>
                  </a:lnTo>
                  <a:lnTo>
                    <a:pt x="2280" y="1152"/>
                  </a:lnTo>
                  <a:lnTo>
                    <a:pt x="2239" y="1169"/>
                  </a:lnTo>
                  <a:lnTo>
                    <a:pt x="2199" y="1186"/>
                  </a:lnTo>
                  <a:lnTo>
                    <a:pt x="2159" y="1201"/>
                  </a:lnTo>
                  <a:lnTo>
                    <a:pt x="2117" y="1216"/>
                  </a:lnTo>
                  <a:lnTo>
                    <a:pt x="2077" y="1229"/>
                  </a:lnTo>
                  <a:lnTo>
                    <a:pt x="2038" y="1242"/>
                  </a:lnTo>
                  <a:lnTo>
                    <a:pt x="2000" y="1254"/>
                  </a:lnTo>
                  <a:lnTo>
                    <a:pt x="1929" y="1274"/>
                  </a:lnTo>
                  <a:lnTo>
                    <a:pt x="1868" y="1290"/>
                  </a:lnTo>
                  <a:lnTo>
                    <a:pt x="1873" y="1303"/>
                  </a:lnTo>
                  <a:lnTo>
                    <a:pt x="1878" y="1315"/>
                  </a:lnTo>
                  <a:lnTo>
                    <a:pt x="1883" y="1327"/>
                  </a:lnTo>
                  <a:lnTo>
                    <a:pt x="1887" y="1339"/>
                  </a:lnTo>
                  <a:lnTo>
                    <a:pt x="1938" y="1316"/>
                  </a:lnTo>
                  <a:lnTo>
                    <a:pt x="1987" y="1295"/>
                  </a:lnTo>
                  <a:lnTo>
                    <a:pt x="2033" y="1277"/>
                  </a:lnTo>
                  <a:lnTo>
                    <a:pt x="2076" y="1260"/>
                  </a:lnTo>
                  <a:lnTo>
                    <a:pt x="2116" y="1244"/>
                  </a:lnTo>
                  <a:lnTo>
                    <a:pt x="2155" y="1231"/>
                  </a:lnTo>
                  <a:lnTo>
                    <a:pt x="2189" y="1219"/>
                  </a:lnTo>
                  <a:lnTo>
                    <a:pt x="2220" y="1209"/>
                  </a:lnTo>
                  <a:lnTo>
                    <a:pt x="2274" y="1193"/>
                  </a:lnTo>
                  <a:lnTo>
                    <a:pt x="2313" y="1183"/>
                  </a:lnTo>
                  <a:lnTo>
                    <a:pt x="2336" y="1177"/>
                  </a:lnTo>
                  <a:lnTo>
                    <a:pt x="2345" y="1176"/>
                  </a:lnTo>
                  <a:lnTo>
                    <a:pt x="2392" y="1169"/>
                  </a:lnTo>
                  <a:lnTo>
                    <a:pt x="2438" y="1165"/>
                  </a:lnTo>
                  <a:lnTo>
                    <a:pt x="2481" y="1163"/>
                  </a:lnTo>
                  <a:lnTo>
                    <a:pt x="2521" y="1164"/>
                  </a:lnTo>
                  <a:lnTo>
                    <a:pt x="2560" y="1168"/>
                  </a:lnTo>
                  <a:lnTo>
                    <a:pt x="2595" y="1173"/>
                  </a:lnTo>
                  <a:lnTo>
                    <a:pt x="2628" y="1181"/>
                  </a:lnTo>
                  <a:lnTo>
                    <a:pt x="2659" y="1190"/>
                  </a:lnTo>
                  <a:lnTo>
                    <a:pt x="2688" y="1200"/>
                  </a:lnTo>
                  <a:lnTo>
                    <a:pt x="2715" y="1213"/>
                  </a:lnTo>
                  <a:lnTo>
                    <a:pt x="2740" y="1226"/>
                  </a:lnTo>
                  <a:lnTo>
                    <a:pt x="2763" y="1241"/>
                  </a:lnTo>
                  <a:lnTo>
                    <a:pt x="2784" y="1257"/>
                  </a:lnTo>
                  <a:lnTo>
                    <a:pt x="2803" y="1274"/>
                  </a:lnTo>
                  <a:lnTo>
                    <a:pt x="2821" y="1290"/>
                  </a:lnTo>
                  <a:lnTo>
                    <a:pt x="2837" y="1308"/>
                  </a:lnTo>
                  <a:lnTo>
                    <a:pt x="2852" y="1325"/>
                  </a:lnTo>
                  <a:lnTo>
                    <a:pt x="2865" y="1343"/>
                  </a:lnTo>
                  <a:lnTo>
                    <a:pt x="2877" y="1361"/>
                  </a:lnTo>
                  <a:lnTo>
                    <a:pt x="2887" y="1378"/>
                  </a:lnTo>
                  <a:lnTo>
                    <a:pt x="2896" y="1396"/>
                  </a:lnTo>
                  <a:lnTo>
                    <a:pt x="2904" y="1412"/>
                  </a:lnTo>
                  <a:lnTo>
                    <a:pt x="2911" y="1428"/>
                  </a:lnTo>
                  <a:lnTo>
                    <a:pt x="2917" y="1442"/>
                  </a:lnTo>
                  <a:lnTo>
                    <a:pt x="2925" y="1468"/>
                  </a:lnTo>
                  <a:lnTo>
                    <a:pt x="2931" y="1488"/>
                  </a:lnTo>
                  <a:lnTo>
                    <a:pt x="2934" y="1501"/>
                  </a:lnTo>
                  <a:lnTo>
                    <a:pt x="2935" y="1506"/>
                  </a:lnTo>
                  <a:lnTo>
                    <a:pt x="2932" y="1539"/>
                  </a:lnTo>
                  <a:lnTo>
                    <a:pt x="2928" y="1569"/>
                  </a:lnTo>
                  <a:lnTo>
                    <a:pt x="2921" y="1597"/>
                  </a:lnTo>
                  <a:lnTo>
                    <a:pt x="2912" y="1624"/>
                  </a:lnTo>
                  <a:lnTo>
                    <a:pt x="2900" y="1648"/>
                  </a:lnTo>
                  <a:lnTo>
                    <a:pt x="2888" y="1671"/>
                  </a:lnTo>
                  <a:lnTo>
                    <a:pt x="2873" y="1693"/>
                  </a:lnTo>
                  <a:lnTo>
                    <a:pt x="2857" y="1713"/>
                  </a:lnTo>
                  <a:lnTo>
                    <a:pt x="2838" y="1731"/>
                  </a:lnTo>
                  <a:lnTo>
                    <a:pt x="2820" y="1748"/>
                  </a:lnTo>
                  <a:lnTo>
                    <a:pt x="2800" y="1763"/>
                  </a:lnTo>
                  <a:lnTo>
                    <a:pt x="2780" y="1777"/>
                  </a:lnTo>
                  <a:lnTo>
                    <a:pt x="2759" y="1790"/>
                  </a:lnTo>
                  <a:lnTo>
                    <a:pt x="2737" y="1801"/>
                  </a:lnTo>
                  <a:lnTo>
                    <a:pt x="2715" y="1812"/>
                  </a:lnTo>
                  <a:lnTo>
                    <a:pt x="2693" y="1821"/>
                  </a:lnTo>
                  <a:lnTo>
                    <a:pt x="2671" y="1830"/>
                  </a:lnTo>
                  <a:lnTo>
                    <a:pt x="2649" y="1837"/>
                  </a:lnTo>
                  <a:lnTo>
                    <a:pt x="2627" y="1844"/>
                  </a:lnTo>
                  <a:lnTo>
                    <a:pt x="2607" y="1849"/>
                  </a:lnTo>
                  <a:lnTo>
                    <a:pt x="2567" y="1858"/>
                  </a:lnTo>
                  <a:lnTo>
                    <a:pt x="2531" y="1864"/>
                  </a:lnTo>
                  <a:lnTo>
                    <a:pt x="2478" y="1870"/>
                  </a:lnTo>
                  <a:lnTo>
                    <a:pt x="2458" y="1871"/>
                  </a:lnTo>
                  <a:lnTo>
                    <a:pt x="2440" y="1868"/>
                  </a:lnTo>
                  <a:lnTo>
                    <a:pt x="2422" y="1865"/>
                  </a:lnTo>
                  <a:lnTo>
                    <a:pt x="2403" y="1861"/>
                  </a:lnTo>
                  <a:lnTo>
                    <a:pt x="2384" y="1857"/>
                  </a:lnTo>
                  <a:lnTo>
                    <a:pt x="2346" y="1846"/>
                  </a:lnTo>
                  <a:lnTo>
                    <a:pt x="2307" y="1834"/>
                  </a:lnTo>
                  <a:lnTo>
                    <a:pt x="2268" y="1819"/>
                  </a:lnTo>
                  <a:lnTo>
                    <a:pt x="2227" y="1803"/>
                  </a:lnTo>
                  <a:lnTo>
                    <a:pt x="2188" y="1787"/>
                  </a:lnTo>
                  <a:lnTo>
                    <a:pt x="2149" y="1770"/>
                  </a:lnTo>
                  <a:lnTo>
                    <a:pt x="2110" y="1752"/>
                  </a:lnTo>
                  <a:lnTo>
                    <a:pt x="2072" y="1733"/>
                  </a:lnTo>
                  <a:lnTo>
                    <a:pt x="2036" y="1715"/>
                  </a:lnTo>
                  <a:lnTo>
                    <a:pt x="2001" y="1696"/>
                  </a:lnTo>
                  <a:lnTo>
                    <a:pt x="1936" y="1660"/>
                  </a:lnTo>
                  <a:lnTo>
                    <a:pt x="1881" y="1628"/>
                  </a:lnTo>
                  <a:lnTo>
                    <a:pt x="1876" y="1640"/>
                  </a:lnTo>
                  <a:lnTo>
                    <a:pt x="1872" y="1652"/>
                  </a:lnTo>
                  <a:lnTo>
                    <a:pt x="1866" y="1664"/>
                  </a:lnTo>
                  <a:lnTo>
                    <a:pt x="1861" y="1675"/>
                  </a:lnTo>
                  <a:lnTo>
                    <a:pt x="1913" y="1696"/>
                  </a:lnTo>
                  <a:lnTo>
                    <a:pt x="1961" y="1715"/>
                  </a:lnTo>
                  <a:lnTo>
                    <a:pt x="2007" y="1734"/>
                  </a:lnTo>
                  <a:lnTo>
                    <a:pt x="2049" y="1753"/>
                  </a:lnTo>
                  <a:lnTo>
                    <a:pt x="2088" y="1770"/>
                  </a:lnTo>
                  <a:lnTo>
                    <a:pt x="2124" y="1787"/>
                  </a:lnTo>
                  <a:lnTo>
                    <a:pt x="2156" y="1803"/>
                  </a:lnTo>
                  <a:lnTo>
                    <a:pt x="2185" y="1818"/>
                  </a:lnTo>
                  <a:lnTo>
                    <a:pt x="2232" y="1845"/>
                  </a:lnTo>
                  <a:lnTo>
                    <a:pt x="2268" y="1865"/>
                  </a:lnTo>
                  <a:lnTo>
                    <a:pt x="2288" y="1878"/>
                  </a:lnTo>
                  <a:lnTo>
                    <a:pt x="2295" y="1882"/>
                  </a:lnTo>
                  <a:lnTo>
                    <a:pt x="2334" y="1911"/>
                  </a:lnTo>
                  <a:lnTo>
                    <a:pt x="2368" y="1940"/>
                  </a:lnTo>
                  <a:lnTo>
                    <a:pt x="2400" y="1970"/>
                  </a:lnTo>
                  <a:lnTo>
                    <a:pt x="2428" y="1999"/>
                  </a:lnTo>
                  <a:lnTo>
                    <a:pt x="2452" y="2028"/>
                  </a:lnTo>
                  <a:lnTo>
                    <a:pt x="2473" y="2057"/>
                  </a:lnTo>
                  <a:lnTo>
                    <a:pt x="2492" y="2085"/>
                  </a:lnTo>
                  <a:lnTo>
                    <a:pt x="2507" y="2114"/>
                  </a:lnTo>
                  <a:lnTo>
                    <a:pt x="2520" y="2142"/>
                  </a:lnTo>
                  <a:lnTo>
                    <a:pt x="2530" y="2170"/>
                  </a:lnTo>
                  <a:lnTo>
                    <a:pt x="2538" y="2197"/>
                  </a:lnTo>
                  <a:lnTo>
                    <a:pt x="2544" y="2223"/>
                  </a:lnTo>
                  <a:lnTo>
                    <a:pt x="2547" y="2249"/>
                  </a:lnTo>
                  <a:lnTo>
                    <a:pt x="2549" y="2275"/>
                  </a:lnTo>
                  <a:lnTo>
                    <a:pt x="2550" y="2300"/>
                  </a:lnTo>
                  <a:lnTo>
                    <a:pt x="2549" y="2323"/>
                  </a:lnTo>
                  <a:lnTo>
                    <a:pt x="2547" y="2346"/>
                  </a:lnTo>
                  <a:lnTo>
                    <a:pt x="2543" y="2367"/>
                  </a:lnTo>
                  <a:lnTo>
                    <a:pt x="2539" y="2388"/>
                  </a:lnTo>
                  <a:lnTo>
                    <a:pt x="2534" y="2409"/>
                  </a:lnTo>
                  <a:lnTo>
                    <a:pt x="2528" y="2427"/>
                  </a:lnTo>
                  <a:lnTo>
                    <a:pt x="2522" y="2444"/>
                  </a:lnTo>
                  <a:lnTo>
                    <a:pt x="2516" y="2460"/>
                  </a:lnTo>
                  <a:lnTo>
                    <a:pt x="2510" y="2474"/>
                  </a:lnTo>
                  <a:lnTo>
                    <a:pt x="2498" y="2499"/>
                  </a:lnTo>
                  <a:lnTo>
                    <a:pt x="2487" y="2517"/>
                  </a:lnTo>
                  <a:lnTo>
                    <a:pt x="2480" y="2528"/>
                  </a:lnTo>
                  <a:lnTo>
                    <a:pt x="2477" y="2532"/>
                  </a:lnTo>
                  <a:lnTo>
                    <a:pt x="2453" y="2554"/>
                  </a:lnTo>
                  <a:lnTo>
                    <a:pt x="2429" y="2572"/>
                  </a:lnTo>
                  <a:lnTo>
                    <a:pt x="2403" y="2587"/>
                  </a:lnTo>
                  <a:lnTo>
                    <a:pt x="2378" y="2599"/>
                  </a:lnTo>
                  <a:lnTo>
                    <a:pt x="2352" y="2609"/>
                  </a:lnTo>
                  <a:lnTo>
                    <a:pt x="2327" y="2616"/>
                  </a:lnTo>
                  <a:lnTo>
                    <a:pt x="2302" y="2621"/>
                  </a:lnTo>
                  <a:lnTo>
                    <a:pt x="2276" y="2623"/>
                  </a:lnTo>
                  <a:lnTo>
                    <a:pt x="2250" y="2624"/>
                  </a:lnTo>
                  <a:lnTo>
                    <a:pt x="2225" y="2622"/>
                  </a:lnTo>
                  <a:lnTo>
                    <a:pt x="2201" y="2619"/>
                  </a:lnTo>
                  <a:lnTo>
                    <a:pt x="2176" y="2615"/>
                  </a:lnTo>
                  <a:lnTo>
                    <a:pt x="2152" y="2609"/>
                  </a:lnTo>
                  <a:lnTo>
                    <a:pt x="2129" y="2602"/>
                  </a:lnTo>
                  <a:lnTo>
                    <a:pt x="2105" y="2594"/>
                  </a:lnTo>
                  <a:lnTo>
                    <a:pt x="2083" y="2585"/>
                  </a:lnTo>
                  <a:lnTo>
                    <a:pt x="2062" y="2575"/>
                  </a:lnTo>
                  <a:lnTo>
                    <a:pt x="2042" y="2565"/>
                  </a:lnTo>
                  <a:lnTo>
                    <a:pt x="2022" y="2555"/>
                  </a:lnTo>
                  <a:lnTo>
                    <a:pt x="2003" y="2543"/>
                  </a:lnTo>
                  <a:lnTo>
                    <a:pt x="1968" y="2521"/>
                  </a:lnTo>
                  <a:lnTo>
                    <a:pt x="1939" y="2500"/>
                  </a:lnTo>
                  <a:lnTo>
                    <a:pt x="1898" y="2467"/>
                  </a:lnTo>
                  <a:lnTo>
                    <a:pt x="1883" y="2454"/>
                  </a:lnTo>
                  <a:lnTo>
                    <a:pt x="1872" y="2440"/>
                  </a:lnTo>
                  <a:lnTo>
                    <a:pt x="1862" y="2425"/>
                  </a:lnTo>
                  <a:lnTo>
                    <a:pt x="1852" y="2409"/>
                  </a:lnTo>
                  <a:lnTo>
                    <a:pt x="1842" y="2392"/>
                  </a:lnTo>
                  <a:lnTo>
                    <a:pt x="1821" y="2358"/>
                  </a:lnTo>
                  <a:lnTo>
                    <a:pt x="1803" y="2322"/>
                  </a:lnTo>
                  <a:lnTo>
                    <a:pt x="1785" y="2285"/>
                  </a:lnTo>
                  <a:lnTo>
                    <a:pt x="1768" y="2245"/>
                  </a:lnTo>
                  <a:lnTo>
                    <a:pt x="1752" y="2206"/>
                  </a:lnTo>
                  <a:lnTo>
                    <a:pt x="1737" y="2167"/>
                  </a:lnTo>
                  <a:lnTo>
                    <a:pt x="1722" y="2127"/>
                  </a:lnTo>
                  <a:lnTo>
                    <a:pt x="1709" y="2087"/>
                  </a:lnTo>
                  <a:lnTo>
                    <a:pt x="1696" y="2049"/>
                  </a:lnTo>
                  <a:lnTo>
                    <a:pt x="1685" y="2011"/>
                  </a:lnTo>
                  <a:lnTo>
                    <a:pt x="1663" y="1940"/>
                  </a:lnTo>
                  <a:lnTo>
                    <a:pt x="1647" y="1879"/>
                  </a:lnTo>
                  <a:lnTo>
                    <a:pt x="1635" y="1884"/>
                  </a:lnTo>
                  <a:lnTo>
                    <a:pt x="1623" y="1889"/>
                  </a:lnTo>
                  <a:lnTo>
                    <a:pt x="1612" y="1893"/>
                  </a:lnTo>
                  <a:lnTo>
                    <a:pt x="1600" y="1897"/>
                  </a:lnTo>
                  <a:lnTo>
                    <a:pt x="1622" y="1947"/>
                  </a:lnTo>
                  <a:lnTo>
                    <a:pt x="1642" y="1995"/>
                  </a:lnTo>
                  <a:lnTo>
                    <a:pt x="1660" y="2040"/>
                  </a:lnTo>
                  <a:lnTo>
                    <a:pt x="1677" y="2082"/>
                  </a:lnTo>
                  <a:lnTo>
                    <a:pt x="1692" y="2123"/>
                  </a:lnTo>
                  <a:lnTo>
                    <a:pt x="1705" y="2159"/>
                  </a:lnTo>
                  <a:lnTo>
                    <a:pt x="1716" y="2193"/>
                  </a:lnTo>
                  <a:lnTo>
                    <a:pt x="1726" y="2224"/>
                  </a:lnTo>
                  <a:lnTo>
                    <a:pt x="1742" y="2276"/>
                  </a:lnTo>
                  <a:lnTo>
                    <a:pt x="1752" y="2314"/>
                  </a:lnTo>
                  <a:lnTo>
                    <a:pt x="1757" y="2337"/>
                  </a:lnTo>
                  <a:lnTo>
                    <a:pt x="1759" y="2345"/>
                  </a:lnTo>
                  <a:lnTo>
                    <a:pt x="1766" y="2393"/>
                  </a:lnTo>
                  <a:lnTo>
                    <a:pt x="1770" y="2439"/>
                  </a:lnTo>
                  <a:lnTo>
                    <a:pt x="1771" y="2482"/>
                  </a:lnTo>
                  <a:lnTo>
                    <a:pt x="1770" y="2522"/>
                  </a:lnTo>
                  <a:lnTo>
                    <a:pt x="1767" y="2560"/>
                  </a:lnTo>
                  <a:lnTo>
                    <a:pt x="1761" y="2596"/>
                  </a:lnTo>
                  <a:lnTo>
                    <a:pt x="1754" y="2629"/>
                  </a:lnTo>
                  <a:lnTo>
                    <a:pt x="1745" y="2660"/>
                  </a:lnTo>
                  <a:lnTo>
                    <a:pt x="1734" y="2689"/>
                  </a:lnTo>
                  <a:lnTo>
                    <a:pt x="1722" y="2716"/>
                  </a:lnTo>
                  <a:lnTo>
                    <a:pt x="1708" y="2741"/>
                  </a:lnTo>
                  <a:lnTo>
                    <a:pt x="1694" y="2763"/>
                  </a:lnTo>
                  <a:lnTo>
                    <a:pt x="1677" y="2784"/>
                  </a:lnTo>
                  <a:lnTo>
                    <a:pt x="1661" y="2804"/>
                  </a:lnTo>
                  <a:lnTo>
                    <a:pt x="1644" y="2821"/>
                  </a:lnTo>
                  <a:lnTo>
                    <a:pt x="1627" y="2838"/>
                  </a:lnTo>
                  <a:lnTo>
                    <a:pt x="1609" y="2853"/>
                  </a:lnTo>
                  <a:lnTo>
                    <a:pt x="1592" y="2866"/>
                  </a:lnTo>
                  <a:lnTo>
                    <a:pt x="1574" y="2877"/>
                  </a:lnTo>
                  <a:lnTo>
                    <a:pt x="1557" y="2887"/>
                  </a:lnTo>
                  <a:lnTo>
                    <a:pt x="1540" y="2896"/>
                  </a:lnTo>
                  <a:lnTo>
                    <a:pt x="1523" y="2904"/>
                  </a:lnTo>
                  <a:lnTo>
                    <a:pt x="1507" y="2911"/>
                  </a:lnTo>
                  <a:lnTo>
                    <a:pt x="1493" y="2917"/>
                  </a:lnTo>
                  <a:lnTo>
                    <a:pt x="1467" y="2925"/>
                  </a:lnTo>
                  <a:lnTo>
                    <a:pt x="1447" y="2931"/>
                  </a:lnTo>
                  <a:lnTo>
                    <a:pt x="1433" y="2934"/>
                  </a:lnTo>
                  <a:lnTo>
                    <a:pt x="1429" y="2935"/>
                  </a:lnTo>
                  <a:lnTo>
                    <a:pt x="1397" y="2933"/>
                  </a:lnTo>
                  <a:lnTo>
                    <a:pt x="1366" y="2928"/>
                  </a:lnTo>
                  <a:lnTo>
                    <a:pt x="1338" y="2921"/>
                  </a:lnTo>
                  <a:lnTo>
                    <a:pt x="1311" y="2912"/>
                  </a:lnTo>
                  <a:lnTo>
                    <a:pt x="1287" y="2901"/>
                  </a:lnTo>
                  <a:lnTo>
                    <a:pt x="1264" y="2888"/>
                  </a:lnTo>
                  <a:lnTo>
                    <a:pt x="1242" y="2873"/>
                  </a:lnTo>
                  <a:lnTo>
                    <a:pt x="1222" y="2857"/>
                  </a:lnTo>
                  <a:lnTo>
                    <a:pt x="1204" y="2839"/>
                  </a:lnTo>
                  <a:lnTo>
                    <a:pt x="1187" y="2820"/>
                  </a:lnTo>
                  <a:lnTo>
                    <a:pt x="1172" y="2800"/>
                  </a:lnTo>
                  <a:lnTo>
                    <a:pt x="1158" y="2780"/>
                  </a:lnTo>
                  <a:lnTo>
                    <a:pt x="1145" y="2759"/>
                  </a:lnTo>
                  <a:lnTo>
                    <a:pt x="1134" y="2737"/>
                  </a:lnTo>
                  <a:lnTo>
                    <a:pt x="1123" y="2715"/>
                  </a:lnTo>
                  <a:lnTo>
                    <a:pt x="1114" y="2693"/>
                  </a:lnTo>
                  <a:lnTo>
                    <a:pt x="1106" y="2671"/>
                  </a:lnTo>
                  <a:lnTo>
                    <a:pt x="1099" y="2649"/>
                  </a:lnTo>
                  <a:lnTo>
                    <a:pt x="1091" y="2627"/>
                  </a:lnTo>
                  <a:lnTo>
                    <a:pt x="1086" y="2607"/>
                  </a:lnTo>
                  <a:lnTo>
                    <a:pt x="1077" y="2567"/>
                  </a:lnTo>
                  <a:lnTo>
                    <a:pt x="1071" y="2531"/>
                  </a:lnTo>
                  <a:lnTo>
                    <a:pt x="1065" y="2478"/>
                  </a:lnTo>
                  <a:lnTo>
                    <a:pt x="1064" y="2458"/>
                  </a:lnTo>
                  <a:lnTo>
                    <a:pt x="1066" y="2441"/>
                  </a:lnTo>
                  <a:lnTo>
                    <a:pt x="1070" y="2423"/>
                  </a:lnTo>
                  <a:lnTo>
                    <a:pt x="1073" y="2404"/>
                  </a:lnTo>
                  <a:lnTo>
                    <a:pt x="1078" y="2385"/>
                  </a:lnTo>
                  <a:lnTo>
                    <a:pt x="1088" y="2347"/>
                  </a:lnTo>
                  <a:lnTo>
                    <a:pt x="1101" y="2309"/>
                  </a:lnTo>
                  <a:lnTo>
                    <a:pt x="1115" y="2270"/>
                  </a:lnTo>
                  <a:lnTo>
                    <a:pt x="1130" y="2230"/>
                  </a:lnTo>
                  <a:lnTo>
                    <a:pt x="1146" y="2191"/>
                  </a:lnTo>
                  <a:lnTo>
                    <a:pt x="1164" y="2152"/>
                  </a:lnTo>
                  <a:lnTo>
                    <a:pt x="1181" y="2114"/>
                  </a:lnTo>
                  <a:lnTo>
                    <a:pt x="1199" y="2076"/>
                  </a:lnTo>
                  <a:lnTo>
                    <a:pt x="1218" y="2040"/>
                  </a:lnTo>
                  <a:lnTo>
                    <a:pt x="1236" y="2005"/>
                  </a:lnTo>
                  <a:lnTo>
                    <a:pt x="1272" y="1940"/>
                  </a:lnTo>
                  <a:lnTo>
                    <a:pt x="1304" y="1885"/>
                  </a:lnTo>
                  <a:lnTo>
                    <a:pt x="1292" y="1881"/>
                  </a:lnTo>
                  <a:lnTo>
                    <a:pt x="1280" y="1876"/>
                  </a:lnTo>
                  <a:lnTo>
                    <a:pt x="1269" y="1870"/>
                  </a:lnTo>
                  <a:lnTo>
                    <a:pt x="1258" y="1864"/>
                  </a:lnTo>
                  <a:lnTo>
                    <a:pt x="1238" y="1916"/>
                  </a:lnTo>
                  <a:lnTo>
                    <a:pt x="1218" y="1963"/>
                  </a:lnTo>
                  <a:lnTo>
                    <a:pt x="1200" y="2009"/>
                  </a:lnTo>
                  <a:lnTo>
                    <a:pt x="1181" y="2051"/>
                  </a:lnTo>
                  <a:lnTo>
                    <a:pt x="1164" y="2089"/>
                  </a:lnTo>
                  <a:lnTo>
                    <a:pt x="1147" y="2125"/>
                  </a:lnTo>
                  <a:lnTo>
                    <a:pt x="1131" y="2157"/>
                  </a:lnTo>
                  <a:lnTo>
                    <a:pt x="1116" y="2185"/>
                  </a:lnTo>
                  <a:lnTo>
                    <a:pt x="1089" y="2232"/>
                  </a:lnTo>
                  <a:lnTo>
                    <a:pt x="1070" y="2267"/>
                  </a:lnTo>
                  <a:lnTo>
                    <a:pt x="1057" y="2288"/>
                  </a:lnTo>
                  <a:lnTo>
                    <a:pt x="1053" y="2295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4040" y="6236280"/>
              <a:ext cx="82440" cy="54720"/>
            </a:xfrm>
            <a:custGeom>
              <a:avLst/>
              <a:gdLst/>
              <a:ahLst/>
              <a:rect l="l" t="t" r="r" b="b"/>
              <a:pathLst>
                <a:path w="833" h="833">
                  <a:moveTo>
                    <a:pt x="724" y="135"/>
                  </a:moveTo>
                  <a:lnTo>
                    <a:pt x="709" y="120"/>
                  </a:lnTo>
                  <a:lnTo>
                    <a:pt x="693" y="106"/>
                  </a:lnTo>
                  <a:lnTo>
                    <a:pt x="677" y="92"/>
                  </a:lnTo>
                  <a:lnTo>
                    <a:pt x="661" y="80"/>
                  </a:lnTo>
                  <a:lnTo>
                    <a:pt x="644" y="68"/>
                  </a:lnTo>
                  <a:lnTo>
                    <a:pt x="626" y="56"/>
                  </a:lnTo>
                  <a:lnTo>
                    <a:pt x="608" y="47"/>
                  </a:lnTo>
                  <a:lnTo>
                    <a:pt x="590" y="38"/>
                  </a:lnTo>
                  <a:lnTo>
                    <a:pt x="571" y="30"/>
                  </a:lnTo>
                  <a:lnTo>
                    <a:pt x="552" y="23"/>
                  </a:lnTo>
                  <a:lnTo>
                    <a:pt x="533" y="17"/>
                  </a:lnTo>
                  <a:lnTo>
                    <a:pt x="514" y="12"/>
                  </a:lnTo>
                  <a:lnTo>
                    <a:pt x="495" y="8"/>
                  </a:lnTo>
                  <a:lnTo>
                    <a:pt x="474" y="4"/>
                  </a:lnTo>
                  <a:lnTo>
                    <a:pt x="454" y="2"/>
                  </a:lnTo>
                  <a:lnTo>
                    <a:pt x="435" y="1"/>
                  </a:lnTo>
                  <a:lnTo>
                    <a:pt x="415" y="0"/>
                  </a:lnTo>
                  <a:lnTo>
                    <a:pt x="395" y="1"/>
                  </a:lnTo>
                  <a:lnTo>
                    <a:pt x="375" y="3"/>
                  </a:lnTo>
                  <a:lnTo>
                    <a:pt x="355" y="5"/>
                  </a:lnTo>
                  <a:lnTo>
                    <a:pt x="335" y="8"/>
                  </a:lnTo>
                  <a:lnTo>
                    <a:pt x="315" y="13"/>
                  </a:lnTo>
                  <a:lnTo>
                    <a:pt x="296" y="18"/>
                  </a:lnTo>
                  <a:lnTo>
                    <a:pt x="277" y="24"/>
                  </a:lnTo>
                  <a:lnTo>
                    <a:pt x="258" y="32"/>
                  </a:lnTo>
                  <a:lnTo>
                    <a:pt x="240" y="40"/>
                  </a:lnTo>
                  <a:lnTo>
                    <a:pt x="221" y="49"/>
                  </a:lnTo>
                  <a:lnTo>
                    <a:pt x="204" y="60"/>
                  </a:lnTo>
                  <a:lnTo>
                    <a:pt x="185" y="71"/>
                  </a:lnTo>
                  <a:lnTo>
                    <a:pt x="168" y="83"/>
                  </a:lnTo>
                  <a:lnTo>
                    <a:pt x="151" y="96"/>
                  </a:lnTo>
                  <a:lnTo>
                    <a:pt x="135" y="110"/>
                  </a:lnTo>
                  <a:lnTo>
                    <a:pt x="120" y="125"/>
                  </a:lnTo>
                  <a:lnTo>
                    <a:pt x="106" y="140"/>
                  </a:lnTo>
                  <a:lnTo>
                    <a:pt x="92" y="156"/>
                  </a:lnTo>
                  <a:lnTo>
                    <a:pt x="80" y="173"/>
                  </a:lnTo>
                  <a:lnTo>
                    <a:pt x="68" y="190"/>
                  </a:lnTo>
                  <a:lnTo>
                    <a:pt x="57" y="208"/>
                  </a:lnTo>
                  <a:lnTo>
                    <a:pt x="47" y="226"/>
                  </a:lnTo>
                  <a:lnTo>
                    <a:pt x="38" y="244"/>
                  </a:lnTo>
                  <a:lnTo>
                    <a:pt x="30" y="262"/>
                  </a:lnTo>
                  <a:lnTo>
                    <a:pt x="23" y="281"/>
                  </a:lnTo>
                  <a:lnTo>
                    <a:pt x="17" y="300"/>
                  </a:lnTo>
                  <a:lnTo>
                    <a:pt x="12" y="319"/>
                  </a:lnTo>
                  <a:lnTo>
                    <a:pt x="8" y="339"/>
                  </a:lnTo>
                  <a:lnTo>
                    <a:pt x="4" y="359"/>
                  </a:lnTo>
                  <a:lnTo>
                    <a:pt x="2" y="379"/>
                  </a:lnTo>
                  <a:lnTo>
                    <a:pt x="1" y="399"/>
                  </a:lnTo>
                  <a:lnTo>
                    <a:pt x="0" y="419"/>
                  </a:lnTo>
                  <a:lnTo>
                    <a:pt x="1" y="439"/>
                  </a:lnTo>
                  <a:lnTo>
                    <a:pt x="2" y="458"/>
                  </a:lnTo>
                  <a:lnTo>
                    <a:pt x="5" y="478"/>
                  </a:lnTo>
                  <a:lnTo>
                    <a:pt x="8" y="499"/>
                  </a:lnTo>
                  <a:lnTo>
                    <a:pt x="13" y="518"/>
                  </a:lnTo>
                  <a:lnTo>
                    <a:pt x="18" y="538"/>
                  </a:lnTo>
                  <a:lnTo>
                    <a:pt x="24" y="557"/>
                  </a:lnTo>
                  <a:lnTo>
                    <a:pt x="32" y="575"/>
                  </a:lnTo>
                  <a:lnTo>
                    <a:pt x="40" y="594"/>
                  </a:lnTo>
                  <a:lnTo>
                    <a:pt x="49" y="612"/>
                  </a:lnTo>
                  <a:lnTo>
                    <a:pt x="60" y="630"/>
                  </a:lnTo>
                  <a:lnTo>
                    <a:pt x="71" y="649"/>
                  </a:lnTo>
                  <a:lnTo>
                    <a:pt x="83" y="666"/>
                  </a:lnTo>
                  <a:lnTo>
                    <a:pt x="96" y="682"/>
                  </a:lnTo>
                  <a:lnTo>
                    <a:pt x="110" y="698"/>
                  </a:lnTo>
                  <a:lnTo>
                    <a:pt x="125" y="714"/>
                  </a:lnTo>
                  <a:lnTo>
                    <a:pt x="140" y="728"/>
                  </a:lnTo>
                  <a:lnTo>
                    <a:pt x="156" y="741"/>
                  </a:lnTo>
                  <a:lnTo>
                    <a:pt x="173" y="754"/>
                  </a:lnTo>
                  <a:lnTo>
                    <a:pt x="189" y="766"/>
                  </a:lnTo>
                  <a:lnTo>
                    <a:pt x="208" y="776"/>
                  </a:lnTo>
                  <a:lnTo>
                    <a:pt x="226" y="787"/>
                  </a:lnTo>
                  <a:lnTo>
                    <a:pt x="244" y="796"/>
                  </a:lnTo>
                  <a:lnTo>
                    <a:pt x="262" y="804"/>
                  </a:lnTo>
                  <a:lnTo>
                    <a:pt x="281" y="811"/>
                  </a:lnTo>
                  <a:lnTo>
                    <a:pt x="300" y="817"/>
                  </a:lnTo>
                  <a:lnTo>
                    <a:pt x="319" y="822"/>
                  </a:lnTo>
                  <a:lnTo>
                    <a:pt x="339" y="826"/>
                  </a:lnTo>
                  <a:lnTo>
                    <a:pt x="359" y="829"/>
                  </a:lnTo>
                  <a:lnTo>
                    <a:pt x="379" y="831"/>
                  </a:lnTo>
                  <a:lnTo>
                    <a:pt x="399" y="833"/>
                  </a:lnTo>
                  <a:lnTo>
                    <a:pt x="418" y="833"/>
                  </a:lnTo>
                  <a:lnTo>
                    <a:pt x="438" y="832"/>
                  </a:lnTo>
                  <a:lnTo>
                    <a:pt x="458" y="831"/>
                  </a:lnTo>
                  <a:lnTo>
                    <a:pt x="478" y="828"/>
                  </a:lnTo>
                  <a:lnTo>
                    <a:pt x="498" y="825"/>
                  </a:lnTo>
                  <a:lnTo>
                    <a:pt x="518" y="821"/>
                  </a:lnTo>
                  <a:lnTo>
                    <a:pt x="537" y="815"/>
                  </a:lnTo>
                  <a:lnTo>
                    <a:pt x="556" y="809"/>
                  </a:lnTo>
                  <a:lnTo>
                    <a:pt x="575" y="802"/>
                  </a:lnTo>
                  <a:lnTo>
                    <a:pt x="594" y="793"/>
                  </a:lnTo>
                  <a:lnTo>
                    <a:pt x="612" y="784"/>
                  </a:lnTo>
                  <a:lnTo>
                    <a:pt x="630" y="773"/>
                  </a:lnTo>
                  <a:lnTo>
                    <a:pt x="648" y="762"/>
                  </a:lnTo>
                  <a:lnTo>
                    <a:pt x="665" y="750"/>
                  </a:lnTo>
                  <a:lnTo>
                    <a:pt x="682" y="737"/>
                  </a:lnTo>
                  <a:lnTo>
                    <a:pt x="698" y="723"/>
                  </a:lnTo>
                  <a:lnTo>
                    <a:pt x="713" y="708"/>
                  </a:lnTo>
                  <a:lnTo>
                    <a:pt x="728" y="693"/>
                  </a:lnTo>
                  <a:lnTo>
                    <a:pt x="741" y="677"/>
                  </a:lnTo>
                  <a:lnTo>
                    <a:pt x="754" y="660"/>
                  </a:lnTo>
                  <a:lnTo>
                    <a:pt x="765" y="644"/>
                  </a:lnTo>
                  <a:lnTo>
                    <a:pt x="776" y="625"/>
                  </a:lnTo>
                  <a:lnTo>
                    <a:pt x="786" y="607"/>
                  </a:lnTo>
                  <a:lnTo>
                    <a:pt x="796" y="589"/>
                  </a:lnTo>
                  <a:lnTo>
                    <a:pt x="803" y="571"/>
                  </a:lnTo>
                  <a:lnTo>
                    <a:pt x="810" y="552"/>
                  </a:lnTo>
                  <a:lnTo>
                    <a:pt x="816" y="533"/>
                  </a:lnTo>
                  <a:lnTo>
                    <a:pt x="821" y="514"/>
                  </a:lnTo>
                  <a:lnTo>
                    <a:pt x="826" y="494"/>
                  </a:lnTo>
                  <a:lnTo>
                    <a:pt x="829" y="474"/>
                  </a:lnTo>
                  <a:lnTo>
                    <a:pt x="831" y="454"/>
                  </a:lnTo>
                  <a:lnTo>
                    <a:pt x="832" y="434"/>
                  </a:lnTo>
                  <a:lnTo>
                    <a:pt x="833" y="414"/>
                  </a:lnTo>
                  <a:lnTo>
                    <a:pt x="832" y="395"/>
                  </a:lnTo>
                  <a:lnTo>
                    <a:pt x="831" y="375"/>
                  </a:lnTo>
                  <a:lnTo>
                    <a:pt x="828" y="355"/>
                  </a:lnTo>
                  <a:lnTo>
                    <a:pt x="825" y="335"/>
                  </a:lnTo>
                  <a:lnTo>
                    <a:pt x="821" y="315"/>
                  </a:lnTo>
                  <a:lnTo>
                    <a:pt x="815" y="296"/>
                  </a:lnTo>
                  <a:lnTo>
                    <a:pt x="809" y="277"/>
                  </a:lnTo>
                  <a:lnTo>
                    <a:pt x="802" y="258"/>
                  </a:lnTo>
                  <a:lnTo>
                    <a:pt x="794" y="239"/>
                  </a:lnTo>
                  <a:lnTo>
                    <a:pt x="783" y="221"/>
                  </a:lnTo>
                  <a:lnTo>
                    <a:pt x="773" y="203"/>
                  </a:lnTo>
                  <a:lnTo>
                    <a:pt x="762" y="185"/>
                  </a:lnTo>
                  <a:lnTo>
                    <a:pt x="750" y="168"/>
                  </a:lnTo>
                  <a:lnTo>
                    <a:pt x="737" y="151"/>
                  </a:lnTo>
                  <a:lnTo>
                    <a:pt x="724" y="13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1600" y="5968800"/>
              <a:ext cx="21456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0"/>
                  </a:lnTo>
                  <a:lnTo>
                    <a:pt x="733" y="1746"/>
                  </a:lnTo>
                  <a:lnTo>
                    <a:pt x="712" y="1769"/>
                  </a:lnTo>
                  <a:lnTo>
                    <a:pt x="691" y="1789"/>
                  </a:lnTo>
                  <a:lnTo>
                    <a:pt x="669" y="1808"/>
                  </a:lnTo>
                  <a:lnTo>
                    <a:pt x="648" y="1824"/>
                  </a:lnTo>
                  <a:lnTo>
                    <a:pt x="626" y="1837"/>
                  </a:lnTo>
                  <a:lnTo>
                    <a:pt x="605" y="1849"/>
                  </a:lnTo>
                  <a:lnTo>
                    <a:pt x="585" y="1858"/>
                  </a:lnTo>
                  <a:lnTo>
                    <a:pt x="564" y="1866"/>
                  </a:lnTo>
                  <a:lnTo>
                    <a:pt x="545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8" y="1880"/>
                  </a:lnTo>
                  <a:lnTo>
                    <a:pt x="469" y="1881"/>
                  </a:lnTo>
                  <a:lnTo>
                    <a:pt x="451" y="1880"/>
                  </a:lnTo>
                  <a:lnTo>
                    <a:pt x="435" y="1878"/>
                  </a:lnTo>
                  <a:lnTo>
                    <a:pt x="419" y="1876"/>
                  </a:lnTo>
                  <a:lnTo>
                    <a:pt x="403" y="1873"/>
                  </a:lnTo>
                  <a:lnTo>
                    <a:pt x="389" y="1869"/>
                  </a:lnTo>
                  <a:lnTo>
                    <a:pt x="375" y="1865"/>
                  </a:lnTo>
                  <a:lnTo>
                    <a:pt x="363" y="1861"/>
                  </a:lnTo>
                  <a:lnTo>
                    <a:pt x="351" y="1856"/>
                  </a:lnTo>
                  <a:lnTo>
                    <a:pt x="341" y="1851"/>
                  </a:lnTo>
                  <a:lnTo>
                    <a:pt x="308" y="1835"/>
                  </a:lnTo>
                  <a:lnTo>
                    <a:pt x="297" y="1828"/>
                  </a:lnTo>
                  <a:lnTo>
                    <a:pt x="281" y="1810"/>
                  </a:lnTo>
                  <a:lnTo>
                    <a:pt x="268" y="1790"/>
                  </a:lnTo>
                  <a:lnTo>
                    <a:pt x="257" y="1772"/>
                  </a:lnTo>
                  <a:lnTo>
                    <a:pt x="248" y="1753"/>
                  </a:lnTo>
                  <a:lnTo>
                    <a:pt x="241" y="1735"/>
                  </a:lnTo>
                  <a:lnTo>
                    <a:pt x="236" y="1716"/>
                  </a:lnTo>
                  <a:lnTo>
                    <a:pt x="232" y="1697"/>
                  </a:lnTo>
                  <a:lnTo>
                    <a:pt x="230" y="1678"/>
                  </a:lnTo>
                  <a:lnTo>
                    <a:pt x="230" y="1660"/>
                  </a:lnTo>
                  <a:lnTo>
                    <a:pt x="231" y="1641"/>
                  </a:lnTo>
                  <a:lnTo>
                    <a:pt x="233" y="1622"/>
                  </a:lnTo>
                  <a:lnTo>
                    <a:pt x="236" y="1604"/>
                  </a:lnTo>
                  <a:lnTo>
                    <a:pt x="241" y="1587"/>
                  </a:lnTo>
                  <a:lnTo>
                    <a:pt x="246" y="1569"/>
                  </a:lnTo>
                  <a:lnTo>
                    <a:pt x="252" y="1553"/>
                  </a:lnTo>
                  <a:lnTo>
                    <a:pt x="258" y="1536"/>
                  </a:lnTo>
                  <a:lnTo>
                    <a:pt x="265" y="1521"/>
                  </a:lnTo>
                  <a:lnTo>
                    <a:pt x="273" y="1505"/>
                  </a:lnTo>
                  <a:lnTo>
                    <a:pt x="281" y="1490"/>
                  </a:lnTo>
                  <a:lnTo>
                    <a:pt x="289" y="1476"/>
                  </a:lnTo>
                  <a:lnTo>
                    <a:pt x="305" y="1451"/>
                  </a:lnTo>
                  <a:lnTo>
                    <a:pt x="320" y="1430"/>
                  </a:lnTo>
                  <a:lnTo>
                    <a:pt x="345" y="1399"/>
                  </a:lnTo>
                  <a:lnTo>
                    <a:pt x="355" y="1388"/>
                  </a:lnTo>
                  <a:lnTo>
                    <a:pt x="377" y="1373"/>
                  </a:lnTo>
                  <a:lnTo>
                    <a:pt x="401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2" y="1316"/>
                  </a:lnTo>
                  <a:lnTo>
                    <a:pt x="510" y="1303"/>
                  </a:lnTo>
                  <a:lnTo>
                    <a:pt x="539" y="1291"/>
                  </a:lnTo>
                  <a:lnTo>
                    <a:pt x="569" y="1280"/>
                  </a:lnTo>
                  <a:lnTo>
                    <a:pt x="628" y="1259"/>
                  </a:lnTo>
                  <a:lnTo>
                    <a:pt x="684" y="1241"/>
                  </a:lnTo>
                  <a:lnTo>
                    <a:pt x="736" y="1226"/>
                  </a:lnTo>
                  <a:lnTo>
                    <a:pt x="782" y="1213"/>
                  </a:lnTo>
                  <a:lnTo>
                    <a:pt x="779" y="1204"/>
                  </a:lnTo>
                  <a:lnTo>
                    <a:pt x="775" y="1195"/>
                  </a:lnTo>
                  <a:lnTo>
                    <a:pt x="771" y="1187"/>
                  </a:lnTo>
                  <a:lnTo>
                    <a:pt x="769" y="1178"/>
                  </a:lnTo>
                  <a:lnTo>
                    <a:pt x="731" y="1194"/>
                  </a:lnTo>
                  <a:lnTo>
                    <a:pt x="696" y="1209"/>
                  </a:lnTo>
                  <a:lnTo>
                    <a:pt x="663" y="1224"/>
                  </a:lnTo>
                  <a:lnTo>
                    <a:pt x="631" y="1236"/>
                  </a:lnTo>
                  <a:lnTo>
                    <a:pt x="574" y="1257"/>
                  </a:lnTo>
                  <a:lnTo>
                    <a:pt x="526" y="1273"/>
                  </a:lnTo>
                  <a:lnTo>
                    <a:pt x="487" y="1284"/>
                  </a:lnTo>
                  <a:lnTo>
                    <a:pt x="458" y="1291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400" y="1302"/>
                  </a:lnTo>
                  <a:lnTo>
                    <a:pt x="366" y="1305"/>
                  </a:lnTo>
                  <a:lnTo>
                    <a:pt x="335" y="1306"/>
                  </a:lnTo>
                  <a:lnTo>
                    <a:pt x="304" y="1305"/>
                  </a:lnTo>
                  <a:lnTo>
                    <a:pt x="277" y="1303"/>
                  </a:lnTo>
                  <a:lnTo>
                    <a:pt x="251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1" y="1279"/>
                  </a:lnTo>
                  <a:lnTo>
                    <a:pt x="162" y="1270"/>
                  </a:lnTo>
                  <a:lnTo>
                    <a:pt x="143" y="1260"/>
                  </a:lnTo>
                  <a:lnTo>
                    <a:pt x="127" y="1249"/>
                  </a:lnTo>
                  <a:lnTo>
                    <a:pt x="111" y="1238"/>
                  </a:lnTo>
                  <a:lnTo>
                    <a:pt x="97" y="1226"/>
                  </a:lnTo>
                  <a:lnTo>
                    <a:pt x="84" y="1212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2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5"/>
                  </a:lnTo>
                  <a:lnTo>
                    <a:pt x="22" y="1123"/>
                  </a:lnTo>
                  <a:lnTo>
                    <a:pt x="17" y="1112"/>
                  </a:lnTo>
                  <a:lnTo>
                    <a:pt x="13" y="1101"/>
                  </a:lnTo>
                  <a:lnTo>
                    <a:pt x="3" y="1066"/>
                  </a:lnTo>
                  <a:lnTo>
                    <a:pt x="0" y="1053"/>
                  </a:lnTo>
                  <a:lnTo>
                    <a:pt x="1" y="1029"/>
                  </a:lnTo>
                  <a:lnTo>
                    <a:pt x="5" y="1007"/>
                  </a:lnTo>
                  <a:lnTo>
                    <a:pt x="10" y="987"/>
                  </a:lnTo>
                  <a:lnTo>
                    <a:pt x="17" y="967"/>
                  </a:lnTo>
                  <a:lnTo>
                    <a:pt x="25" y="949"/>
                  </a:lnTo>
                  <a:lnTo>
                    <a:pt x="35" y="931"/>
                  </a:lnTo>
                  <a:lnTo>
                    <a:pt x="46" y="915"/>
                  </a:lnTo>
                  <a:lnTo>
                    <a:pt x="58" y="901"/>
                  </a:lnTo>
                  <a:lnTo>
                    <a:pt x="71" y="887"/>
                  </a:lnTo>
                  <a:lnTo>
                    <a:pt x="85" y="875"/>
                  </a:lnTo>
                  <a:lnTo>
                    <a:pt x="99" y="864"/>
                  </a:lnTo>
                  <a:lnTo>
                    <a:pt x="114" y="853"/>
                  </a:lnTo>
                  <a:lnTo>
                    <a:pt x="130" y="844"/>
                  </a:lnTo>
                  <a:lnTo>
                    <a:pt x="146" y="835"/>
                  </a:lnTo>
                  <a:lnTo>
                    <a:pt x="162" y="828"/>
                  </a:lnTo>
                  <a:lnTo>
                    <a:pt x="178" y="821"/>
                  </a:lnTo>
                  <a:lnTo>
                    <a:pt x="195" y="815"/>
                  </a:lnTo>
                  <a:lnTo>
                    <a:pt x="211" y="809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2" y="794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3"/>
                  </a:lnTo>
                  <a:lnTo>
                    <a:pt x="379" y="788"/>
                  </a:lnTo>
                  <a:lnTo>
                    <a:pt x="407" y="795"/>
                  </a:lnTo>
                  <a:lnTo>
                    <a:pt x="435" y="803"/>
                  </a:lnTo>
                  <a:lnTo>
                    <a:pt x="464" y="813"/>
                  </a:lnTo>
                  <a:lnTo>
                    <a:pt x="495" y="823"/>
                  </a:lnTo>
                  <a:lnTo>
                    <a:pt x="524" y="835"/>
                  </a:lnTo>
                  <a:lnTo>
                    <a:pt x="554" y="847"/>
                  </a:lnTo>
                  <a:lnTo>
                    <a:pt x="583" y="860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0" y="942"/>
                  </a:lnTo>
                  <a:lnTo>
                    <a:pt x="782" y="965"/>
                  </a:lnTo>
                  <a:lnTo>
                    <a:pt x="785" y="956"/>
                  </a:lnTo>
                  <a:lnTo>
                    <a:pt x="789" y="948"/>
                  </a:lnTo>
                  <a:lnTo>
                    <a:pt x="793" y="939"/>
                  </a:lnTo>
                  <a:lnTo>
                    <a:pt x="798" y="930"/>
                  </a:lnTo>
                  <a:lnTo>
                    <a:pt x="758" y="915"/>
                  </a:lnTo>
                  <a:lnTo>
                    <a:pt x="722" y="901"/>
                  </a:lnTo>
                  <a:lnTo>
                    <a:pt x="688" y="887"/>
                  </a:lnTo>
                  <a:lnTo>
                    <a:pt x="657" y="873"/>
                  </a:lnTo>
                  <a:lnTo>
                    <a:pt x="600" y="847"/>
                  </a:lnTo>
                  <a:lnTo>
                    <a:pt x="555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79"/>
                  </a:lnTo>
                  <a:lnTo>
                    <a:pt x="472" y="776"/>
                  </a:lnTo>
                  <a:lnTo>
                    <a:pt x="443" y="755"/>
                  </a:lnTo>
                  <a:lnTo>
                    <a:pt x="418" y="733"/>
                  </a:lnTo>
                  <a:lnTo>
                    <a:pt x="395" y="712"/>
                  </a:lnTo>
                  <a:lnTo>
                    <a:pt x="374" y="690"/>
                  </a:lnTo>
                  <a:lnTo>
                    <a:pt x="356" y="669"/>
                  </a:lnTo>
                  <a:lnTo>
                    <a:pt x="341" y="648"/>
                  </a:lnTo>
                  <a:lnTo>
                    <a:pt x="326" y="626"/>
                  </a:lnTo>
                  <a:lnTo>
                    <a:pt x="315" y="605"/>
                  </a:lnTo>
                  <a:lnTo>
                    <a:pt x="306" y="584"/>
                  </a:lnTo>
                  <a:lnTo>
                    <a:pt x="298" y="564"/>
                  </a:lnTo>
                  <a:lnTo>
                    <a:pt x="292" y="544"/>
                  </a:lnTo>
                  <a:lnTo>
                    <a:pt x="288" y="525"/>
                  </a:lnTo>
                  <a:lnTo>
                    <a:pt x="285" y="506"/>
                  </a:lnTo>
                  <a:lnTo>
                    <a:pt x="284" y="486"/>
                  </a:lnTo>
                  <a:lnTo>
                    <a:pt x="283" y="468"/>
                  </a:lnTo>
                  <a:lnTo>
                    <a:pt x="284" y="451"/>
                  </a:lnTo>
                  <a:lnTo>
                    <a:pt x="286" y="434"/>
                  </a:lnTo>
                  <a:lnTo>
                    <a:pt x="288" y="418"/>
                  </a:lnTo>
                  <a:lnTo>
                    <a:pt x="291" y="403"/>
                  </a:lnTo>
                  <a:lnTo>
                    <a:pt x="295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29" y="308"/>
                  </a:lnTo>
                  <a:lnTo>
                    <a:pt x="338" y="297"/>
                  </a:lnTo>
                  <a:lnTo>
                    <a:pt x="356" y="282"/>
                  </a:lnTo>
                  <a:lnTo>
                    <a:pt x="374" y="268"/>
                  </a:lnTo>
                  <a:lnTo>
                    <a:pt x="392" y="257"/>
                  </a:lnTo>
                  <a:lnTo>
                    <a:pt x="411" y="248"/>
                  </a:lnTo>
                  <a:lnTo>
                    <a:pt x="429" y="241"/>
                  </a:lnTo>
                  <a:lnTo>
                    <a:pt x="448" y="236"/>
                  </a:lnTo>
                  <a:lnTo>
                    <a:pt x="467" y="232"/>
                  </a:lnTo>
                  <a:lnTo>
                    <a:pt x="486" y="230"/>
                  </a:lnTo>
                  <a:lnTo>
                    <a:pt x="505" y="230"/>
                  </a:lnTo>
                  <a:lnTo>
                    <a:pt x="523" y="231"/>
                  </a:lnTo>
                  <a:lnTo>
                    <a:pt x="541" y="233"/>
                  </a:lnTo>
                  <a:lnTo>
                    <a:pt x="559" y="236"/>
                  </a:lnTo>
                  <a:lnTo>
                    <a:pt x="577" y="241"/>
                  </a:lnTo>
                  <a:lnTo>
                    <a:pt x="594" y="246"/>
                  </a:lnTo>
                  <a:lnTo>
                    <a:pt x="611" y="252"/>
                  </a:lnTo>
                  <a:lnTo>
                    <a:pt x="628" y="258"/>
                  </a:lnTo>
                  <a:lnTo>
                    <a:pt x="644" y="265"/>
                  </a:lnTo>
                  <a:lnTo>
                    <a:pt x="659" y="273"/>
                  </a:lnTo>
                  <a:lnTo>
                    <a:pt x="674" y="281"/>
                  </a:lnTo>
                  <a:lnTo>
                    <a:pt x="687" y="288"/>
                  </a:lnTo>
                  <a:lnTo>
                    <a:pt x="712" y="304"/>
                  </a:lnTo>
                  <a:lnTo>
                    <a:pt x="734" y="320"/>
                  </a:lnTo>
                  <a:lnTo>
                    <a:pt x="765" y="344"/>
                  </a:lnTo>
                  <a:lnTo>
                    <a:pt x="777" y="353"/>
                  </a:lnTo>
                  <a:lnTo>
                    <a:pt x="792" y="377"/>
                  </a:lnTo>
                  <a:lnTo>
                    <a:pt x="808" y="402"/>
                  </a:lnTo>
                  <a:lnTo>
                    <a:pt x="823" y="428"/>
                  </a:lnTo>
                  <a:lnTo>
                    <a:pt x="837" y="455"/>
                  </a:lnTo>
                  <a:lnTo>
                    <a:pt x="850" y="484"/>
                  </a:lnTo>
                  <a:lnTo>
                    <a:pt x="863" y="515"/>
                  </a:lnTo>
                  <a:lnTo>
                    <a:pt x="875" y="545"/>
                  </a:lnTo>
                  <a:lnTo>
                    <a:pt x="887" y="575"/>
                  </a:lnTo>
                  <a:lnTo>
                    <a:pt x="907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89"/>
                  </a:lnTo>
                  <a:lnTo>
                    <a:pt x="962" y="786"/>
                  </a:lnTo>
                  <a:lnTo>
                    <a:pt x="971" y="782"/>
                  </a:lnTo>
                  <a:lnTo>
                    <a:pt x="980" y="779"/>
                  </a:lnTo>
                  <a:lnTo>
                    <a:pt x="989" y="776"/>
                  </a:lnTo>
                  <a:lnTo>
                    <a:pt x="972" y="738"/>
                  </a:lnTo>
                  <a:lnTo>
                    <a:pt x="957" y="702"/>
                  </a:lnTo>
                  <a:lnTo>
                    <a:pt x="943" y="668"/>
                  </a:lnTo>
                  <a:lnTo>
                    <a:pt x="930" y="635"/>
                  </a:lnTo>
                  <a:lnTo>
                    <a:pt x="908" y="577"/>
                  </a:lnTo>
                  <a:lnTo>
                    <a:pt x="892" y="528"/>
                  </a:lnTo>
                  <a:lnTo>
                    <a:pt x="880" y="487"/>
                  </a:lnTo>
                  <a:lnTo>
                    <a:pt x="872" y="458"/>
                  </a:lnTo>
                  <a:lnTo>
                    <a:pt x="868" y="441"/>
                  </a:lnTo>
                  <a:lnTo>
                    <a:pt x="867" y="434"/>
                  </a:lnTo>
                  <a:lnTo>
                    <a:pt x="862" y="399"/>
                  </a:lnTo>
                  <a:lnTo>
                    <a:pt x="859" y="366"/>
                  </a:lnTo>
                  <a:lnTo>
                    <a:pt x="858" y="334"/>
                  </a:lnTo>
                  <a:lnTo>
                    <a:pt x="858" y="304"/>
                  </a:lnTo>
                  <a:lnTo>
                    <a:pt x="861" y="276"/>
                  </a:lnTo>
                  <a:lnTo>
                    <a:pt x="865" y="250"/>
                  </a:lnTo>
                  <a:lnTo>
                    <a:pt x="870" y="226"/>
                  </a:lnTo>
                  <a:lnTo>
                    <a:pt x="877" y="202"/>
                  </a:lnTo>
                  <a:lnTo>
                    <a:pt x="885" y="181"/>
                  </a:lnTo>
                  <a:lnTo>
                    <a:pt x="894" y="161"/>
                  </a:lnTo>
                  <a:lnTo>
                    <a:pt x="904" y="143"/>
                  </a:lnTo>
                  <a:lnTo>
                    <a:pt x="915" y="126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2"/>
                  </a:lnTo>
                  <a:lnTo>
                    <a:pt x="977" y="60"/>
                  </a:lnTo>
                  <a:lnTo>
                    <a:pt x="990" y="51"/>
                  </a:lnTo>
                  <a:lnTo>
                    <a:pt x="1003" y="42"/>
                  </a:lnTo>
                  <a:lnTo>
                    <a:pt x="1016" y="34"/>
                  </a:lnTo>
                  <a:lnTo>
                    <a:pt x="1040" y="22"/>
                  </a:lnTo>
                  <a:lnTo>
                    <a:pt x="1063" y="13"/>
                  </a:lnTo>
                  <a:lnTo>
                    <a:pt x="1098" y="2"/>
                  </a:lnTo>
                  <a:lnTo>
                    <a:pt x="1111" y="0"/>
                  </a:lnTo>
                  <a:lnTo>
                    <a:pt x="1134" y="1"/>
                  </a:lnTo>
                  <a:lnTo>
                    <a:pt x="1156" y="5"/>
                  </a:lnTo>
                  <a:lnTo>
                    <a:pt x="1177" y="10"/>
                  </a:lnTo>
                  <a:lnTo>
                    <a:pt x="1197" y="17"/>
                  </a:lnTo>
                  <a:lnTo>
                    <a:pt x="1216" y="25"/>
                  </a:lnTo>
                  <a:lnTo>
                    <a:pt x="1233" y="34"/>
                  </a:lnTo>
                  <a:lnTo>
                    <a:pt x="1248" y="45"/>
                  </a:lnTo>
                  <a:lnTo>
                    <a:pt x="1263" y="57"/>
                  </a:lnTo>
                  <a:lnTo>
                    <a:pt x="1276" y="70"/>
                  </a:lnTo>
                  <a:lnTo>
                    <a:pt x="1289" y="85"/>
                  </a:lnTo>
                  <a:lnTo>
                    <a:pt x="1300" y="99"/>
                  </a:lnTo>
                  <a:lnTo>
                    <a:pt x="1310" y="114"/>
                  </a:lnTo>
                  <a:lnTo>
                    <a:pt x="1320" y="130"/>
                  </a:lnTo>
                  <a:lnTo>
                    <a:pt x="1328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4"/>
                  </a:lnTo>
                  <a:lnTo>
                    <a:pt x="1354" y="210"/>
                  </a:lnTo>
                  <a:lnTo>
                    <a:pt x="1360" y="227"/>
                  </a:lnTo>
                  <a:lnTo>
                    <a:pt x="1364" y="242"/>
                  </a:lnTo>
                  <a:lnTo>
                    <a:pt x="1370" y="271"/>
                  </a:lnTo>
                  <a:lnTo>
                    <a:pt x="1375" y="297"/>
                  </a:lnTo>
                  <a:lnTo>
                    <a:pt x="1379" y="336"/>
                  </a:lnTo>
                  <a:lnTo>
                    <a:pt x="1380" y="351"/>
                  </a:lnTo>
                  <a:lnTo>
                    <a:pt x="1376" y="379"/>
                  </a:lnTo>
                  <a:lnTo>
                    <a:pt x="1369" y="407"/>
                  </a:lnTo>
                  <a:lnTo>
                    <a:pt x="1361" y="436"/>
                  </a:lnTo>
                  <a:lnTo>
                    <a:pt x="1351" y="466"/>
                  </a:lnTo>
                  <a:lnTo>
                    <a:pt x="1340" y="495"/>
                  </a:lnTo>
                  <a:lnTo>
                    <a:pt x="1328" y="526"/>
                  </a:lnTo>
                  <a:lnTo>
                    <a:pt x="1316" y="556"/>
                  </a:lnTo>
                  <a:lnTo>
                    <a:pt x="1302" y="585"/>
                  </a:lnTo>
                  <a:lnTo>
                    <a:pt x="1275" y="642"/>
                  </a:lnTo>
                  <a:lnTo>
                    <a:pt x="1247" y="696"/>
                  </a:lnTo>
                  <a:lnTo>
                    <a:pt x="1221" y="744"/>
                  </a:lnTo>
                  <a:lnTo>
                    <a:pt x="1196" y="783"/>
                  </a:lnTo>
                  <a:lnTo>
                    <a:pt x="1206" y="787"/>
                  </a:lnTo>
                  <a:lnTo>
                    <a:pt x="1216" y="792"/>
                  </a:lnTo>
                  <a:lnTo>
                    <a:pt x="1224" y="796"/>
                  </a:lnTo>
                  <a:lnTo>
                    <a:pt x="1233" y="801"/>
                  </a:lnTo>
                  <a:lnTo>
                    <a:pt x="1248" y="761"/>
                  </a:lnTo>
                  <a:lnTo>
                    <a:pt x="1262" y="724"/>
                  </a:lnTo>
                  <a:lnTo>
                    <a:pt x="1277" y="690"/>
                  </a:lnTo>
                  <a:lnTo>
                    <a:pt x="1291" y="658"/>
                  </a:lnTo>
                  <a:lnTo>
                    <a:pt x="1317" y="601"/>
                  </a:lnTo>
                  <a:lnTo>
                    <a:pt x="1340" y="555"/>
                  </a:lnTo>
                  <a:lnTo>
                    <a:pt x="1360" y="519"/>
                  </a:lnTo>
                  <a:lnTo>
                    <a:pt x="1375" y="493"/>
                  </a:lnTo>
                  <a:lnTo>
                    <a:pt x="1385" y="477"/>
                  </a:lnTo>
                  <a:lnTo>
                    <a:pt x="1388" y="472"/>
                  </a:lnTo>
                  <a:lnTo>
                    <a:pt x="1409" y="443"/>
                  </a:lnTo>
                  <a:lnTo>
                    <a:pt x="1431" y="418"/>
                  </a:lnTo>
                  <a:lnTo>
                    <a:pt x="1452" y="395"/>
                  </a:lnTo>
                  <a:lnTo>
                    <a:pt x="1474" y="374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5"/>
                  </a:lnTo>
                  <a:lnTo>
                    <a:pt x="1580" y="306"/>
                  </a:lnTo>
                  <a:lnTo>
                    <a:pt x="1600" y="298"/>
                  </a:lnTo>
                  <a:lnTo>
                    <a:pt x="1620" y="292"/>
                  </a:lnTo>
                  <a:lnTo>
                    <a:pt x="1639" y="288"/>
                  </a:lnTo>
                  <a:lnTo>
                    <a:pt x="1659" y="285"/>
                  </a:lnTo>
                  <a:lnTo>
                    <a:pt x="1678" y="284"/>
                  </a:lnTo>
                  <a:lnTo>
                    <a:pt x="1696" y="283"/>
                  </a:lnTo>
                  <a:lnTo>
                    <a:pt x="1713" y="284"/>
                  </a:lnTo>
                  <a:lnTo>
                    <a:pt x="1730" y="286"/>
                  </a:lnTo>
                  <a:lnTo>
                    <a:pt x="1746" y="288"/>
                  </a:lnTo>
                  <a:lnTo>
                    <a:pt x="1761" y="291"/>
                  </a:lnTo>
                  <a:lnTo>
                    <a:pt x="1776" y="295"/>
                  </a:lnTo>
                  <a:lnTo>
                    <a:pt x="1803" y="304"/>
                  </a:lnTo>
                  <a:lnTo>
                    <a:pt x="1825" y="313"/>
                  </a:lnTo>
                  <a:lnTo>
                    <a:pt x="1856" y="329"/>
                  </a:lnTo>
                  <a:lnTo>
                    <a:pt x="1868" y="337"/>
                  </a:lnTo>
                  <a:lnTo>
                    <a:pt x="1883" y="355"/>
                  </a:lnTo>
                  <a:lnTo>
                    <a:pt x="1896" y="374"/>
                  </a:lnTo>
                  <a:lnTo>
                    <a:pt x="1907" y="392"/>
                  </a:lnTo>
                  <a:lnTo>
                    <a:pt x="1916" y="410"/>
                  </a:lnTo>
                  <a:lnTo>
                    <a:pt x="1923" y="429"/>
                  </a:lnTo>
                  <a:lnTo>
                    <a:pt x="1929" y="448"/>
                  </a:lnTo>
                  <a:lnTo>
                    <a:pt x="1932" y="466"/>
                  </a:lnTo>
                  <a:lnTo>
                    <a:pt x="1934" y="485"/>
                  </a:lnTo>
                  <a:lnTo>
                    <a:pt x="1934" y="505"/>
                  </a:lnTo>
                  <a:lnTo>
                    <a:pt x="1933" y="523"/>
                  </a:lnTo>
                  <a:lnTo>
                    <a:pt x="1931" y="541"/>
                  </a:lnTo>
                  <a:lnTo>
                    <a:pt x="1928" y="559"/>
                  </a:lnTo>
                  <a:lnTo>
                    <a:pt x="1924" y="577"/>
                  </a:lnTo>
                  <a:lnTo>
                    <a:pt x="1918" y="594"/>
                  </a:lnTo>
                  <a:lnTo>
                    <a:pt x="1912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1" y="659"/>
                  </a:lnTo>
                  <a:lnTo>
                    <a:pt x="1883" y="673"/>
                  </a:lnTo>
                  <a:lnTo>
                    <a:pt x="1875" y="687"/>
                  </a:lnTo>
                  <a:lnTo>
                    <a:pt x="1859" y="712"/>
                  </a:lnTo>
                  <a:lnTo>
                    <a:pt x="1844" y="734"/>
                  </a:lnTo>
                  <a:lnTo>
                    <a:pt x="1820" y="764"/>
                  </a:lnTo>
                  <a:lnTo>
                    <a:pt x="1810" y="775"/>
                  </a:lnTo>
                  <a:lnTo>
                    <a:pt x="1787" y="792"/>
                  </a:lnTo>
                  <a:lnTo>
                    <a:pt x="1763" y="807"/>
                  </a:lnTo>
                  <a:lnTo>
                    <a:pt x="1737" y="822"/>
                  </a:lnTo>
                  <a:lnTo>
                    <a:pt x="1710" y="836"/>
                  </a:lnTo>
                  <a:lnTo>
                    <a:pt x="1681" y="849"/>
                  </a:lnTo>
                  <a:lnTo>
                    <a:pt x="1652" y="862"/>
                  </a:lnTo>
                  <a:lnTo>
                    <a:pt x="1622" y="874"/>
                  </a:lnTo>
                  <a:lnTo>
                    <a:pt x="1592" y="885"/>
                  </a:lnTo>
                  <a:lnTo>
                    <a:pt x="1532" y="906"/>
                  </a:lnTo>
                  <a:lnTo>
                    <a:pt x="1475" y="924"/>
                  </a:lnTo>
                  <a:lnTo>
                    <a:pt x="1423" y="940"/>
                  </a:lnTo>
                  <a:lnTo>
                    <a:pt x="1378" y="951"/>
                  </a:lnTo>
                  <a:lnTo>
                    <a:pt x="1382" y="960"/>
                  </a:lnTo>
                  <a:lnTo>
                    <a:pt x="1385" y="969"/>
                  </a:lnTo>
                  <a:lnTo>
                    <a:pt x="1389" y="978"/>
                  </a:lnTo>
                  <a:lnTo>
                    <a:pt x="1392" y="987"/>
                  </a:lnTo>
                  <a:lnTo>
                    <a:pt x="1429" y="971"/>
                  </a:lnTo>
                  <a:lnTo>
                    <a:pt x="1465" y="955"/>
                  </a:lnTo>
                  <a:lnTo>
                    <a:pt x="1499" y="942"/>
                  </a:lnTo>
                  <a:lnTo>
                    <a:pt x="1532" y="928"/>
                  </a:lnTo>
                  <a:lnTo>
                    <a:pt x="1589" y="907"/>
                  </a:lnTo>
                  <a:lnTo>
                    <a:pt x="1637" y="891"/>
                  </a:lnTo>
                  <a:lnTo>
                    <a:pt x="1677" y="880"/>
                  </a:lnTo>
                  <a:lnTo>
                    <a:pt x="1705" y="872"/>
                  </a:lnTo>
                  <a:lnTo>
                    <a:pt x="1723" y="868"/>
                  </a:lnTo>
                  <a:lnTo>
                    <a:pt x="1729" y="867"/>
                  </a:lnTo>
                  <a:lnTo>
                    <a:pt x="1764" y="862"/>
                  </a:lnTo>
                  <a:lnTo>
                    <a:pt x="1798" y="859"/>
                  </a:lnTo>
                  <a:lnTo>
                    <a:pt x="1830" y="858"/>
                  </a:lnTo>
                  <a:lnTo>
                    <a:pt x="1859" y="858"/>
                  </a:lnTo>
                  <a:lnTo>
                    <a:pt x="1887" y="861"/>
                  </a:lnTo>
                  <a:lnTo>
                    <a:pt x="1913" y="865"/>
                  </a:lnTo>
                  <a:lnTo>
                    <a:pt x="1938" y="870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7" y="915"/>
                  </a:lnTo>
                  <a:lnTo>
                    <a:pt x="2053" y="926"/>
                  </a:lnTo>
                  <a:lnTo>
                    <a:pt x="2067" y="939"/>
                  </a:lnTo>
                  <a:lnTo>
                    <a:pt x="2080" y="952"/>
                  </a:lnTo>
                  <a:lnTo>
                    <a:pt x="2093" y="964"/>
                  </a:lnTo>
                  <a:lnTo>
                    <a:pt x="2103" y="977"/>
                  </a:lnTo>
                  <a:lnTo>
                    <a:pt x="2113" y="990"/>
                  </a:lnTo>
                  <a:lnTo>
                    <a:pt x="2121" y="1003"/>
                  </a:lnTo>
                  <a:lnTo>
                    <a:pt x="2129" y="1016"/>
                  </a:lnTo>
                  <a:lnTo>
                    <a:pt x="2142" y="1041"/>
                  </a:lnTo>
                  <a:lnTo>
                    <a:pt x="2151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4"/>
                  </a:lnTo>
                  <a:lnTo>
                    <a:pt x="2159" y="1157"/>
                  </a:lnTo>
                  <a:lnTo>
                    <a:pt x="2154" y="1177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9" y="1248"/>
                  </a:lnTo>
                  <a:lnTo>
                    <a:pt x="2107" y="1263"/>
                  </a:lnTo>
                  <a:lnTo>
                    <a:pt x="2094" y="1276"/>
                  </a:lnTo>
                  <a:lnTo>
                    <a:pt x="2079" y="1289"/>
                  </a:lnTo>
                  <a:lnTo>
                    <a:pt x="2065" y="1300"/>
                  </a:lnTo>
                  <a:lnTo>
                    <a:pt x="2050" y="1310"/>
                  </a:lnTo>
                  <a:lnTo>
                    <a:pt x="2034" y="1320"/>
                  </a:lnTo>
                  <a:lnTo>
                    <a:pt x="2018" y="1328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70" y="1349"/>
                  </a:lnTo>
                  <a:lnTo>
                    <a:pt x="1954" y="1354"/>
                  </a:lnTo>
                  <a:lnTo>
                    <a:pt x="1937" y="1359"/>
                  </a:lnTo>
                  <a:lnTo>
                    <a:pt x="1922" y="1363"/>
                  </a:lnTo>
                  <a:lnTo>
                    <a:pt x="1893" y="1370"/>
                  </a:lnTo>
                  <a:lnTo>
                    <a:pt x="1867" y="1375"/>
                  </a:lnTo>
                  <a:lnTo>
                    <a:pt x="1828" y="1379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8" y="1369"/>
                  </a:lnTo>
                  <a:lnTo>
                    <a:pt x="1730" y="1361"/>
                  </a:lnTo>
                  <a:lnTo>
                    <a:pt x="1701" y="1351"/>
                  </a:lnTo>
                  <a:lnTo>
                    <a:pt x="1672" y="1341"/>
                  </a:lnTo>
                  <a:lnTo>
                    <a:pt x="1642" y="1330"/>
                  </a:lnTo>
                  <a:lnTo>
                    <a:pt x="1613" y="1317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5" y="1251"/>
                  </a:lnTo>
                  <a:lnTo>
                    <a:pt x="1428" y="1225"/>
                  </a:lnTo>
                  <a:lnTo>
                    <a:pt x="1387" y="1200"/>
                  </a:lnTo>
                  <a:lnTo>
                    <a:pt x="1384" y="1209"/>
                  </a:lnTo>
                  <a:lnTo>
                    <a:pt x="1380" y="1218"/>
                  </a:lnTo>
                  <a:lnTo>
                    <a:pt x="1377" y="1227"/>
                  </a:lnTo>
                  <a:lnTo>
                    <a:pt x="1373" y="1236"/>
                  </a:lnTo>
                  <a:lnTo>
                    <a:pt x="1411" y="1250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2" y="1292"/>
                  </a:lnTo>
                  <a:lnTo>
                    <a:pt x="1566" y="1318"/>
                  </a:lnTo>
                  <a:lnTo>
                    <a:pt x="1611" y="1340"/>
                  </a:lnTo>
                  <a:lnTo>
                    <a:pt x="1646" y="1360"/>
                  </a:lnTo>
                  <a:lnTo>
                    <a:pt x="1672" y="1375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1" y="1409"/>
                  </a:lnTo>
                  <a:lnTo>
                    <a:pt x="1746" y="1430"/>
                  </a:lnTo>
                  <a:lnTo>
                    <a:pt x="1769" y="1452"/>
                  </a:lnTo>
                  <a:lnTo>
                    <a:pt x="1790" y="1473"/>
                  </a:lnTo>
                  <a:lnTo>
                    <a:pt x="1809" y="1495"/>
                  </a:lnTo>
                  <a:lnTo>
                    <a:pt x="1824" y="1517"/>
                  </a:lnTo>
                  <a:lnTo>
                    <a:pt x="1838" y="1538"/>
                  </a:lnTo>
                  <a:lnTo>
                    <a:pt x="1849" y="1559"/>
                  </a:lnTo>
                  <a:lnTo>
                    <a:pt x="1858" y="1579"/>
                  </a:lnTo>
                  <a:lnTo>
                    <a:pt x="1866" y="1600"/>
                  </a:lnTo>
                  <a:lnTo>
                    <a:pt x="1872" y="1620"/>
                  </a:lnTo>
                  <a:lnTo>
                    <a:pt x="1876" y="1639"/>
                  </a:lnTo>
                  <a:lnTo>
                    <a:pt x="1879" y="1659"/>
                  </a:lnTo>
                  <a:lnTo>
                    <a:pt x="1880" y="1678"/>
                  </a:lnTo>
                  <a:lnTo>
                    <a:pt x="1881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6" y="1746"/>
                  </a:lnTo>
                  <a:lnTo>
                    <a:pt x="1873" y="1761"/>
                  </a:lnTo>
                  <a:lnTo>
                    <a:pt x="1869" y="1775"/>
                  </a:lnTo>
                  <a:lnTo>
                    <a:pt x="1860" y="1802"/>
                  </a:lnTo>
                  <a:lnTo>
                    <a:pt x="1851" y="1825"/>
                  </a:lnTo>
                  <a:lnTo>
                    <a:pt x="1835" y="1856"/>
                  </a:lnTo>
                  <a:lnTo>
                    <a:pt x="1827" y="1867"/>
                  </a:lnTo>
                  <a:lnTo>
                    <a:pt x="1810" y="1883"/>
                  </a:lnTo>
                  <a:lnTo>
                    <a:pt x="1790" y="1896"/>
                  </a:lnTo>
                  <a:lnTo>
                    <a:pt x="1772" y="1907"/>
                  </a:lnTo>
                  <a:lnTo>
                    <a:pt x="1754" y="1916"/>
                  </a:lnTo>
                  <a:lnTo>
                    <a:pt x="1735" y="1923"/>
                  </a:lnTo>
                  <a:lnTo>
                    <a:pt x="1716" y="1928"/>
                  </a:lnTo>
                  <a:lnTo>
                    <a:pt x="1697" y="1932"/>
                  </a:lnTo>
                  <a:lnTo>
                    <a:pt x="1679" y="1934"/>
                  </a:lnTo>
                  <a:lnTo>
                    <a:pt x="1660" y="1934"/>
                  </a:lnTo>
                  <a:lnTo>
                    <a:pt x="1641" y="1933"/>
                  </a:lnTo>
                  <a:lnTo>
                    <a:pt x="1623" y="1931"/>
                  </a:lnTo>
                  <a:lnTo>
                    <a:pt x="1605" y="1928"/>
                  </a:lnTo>
                  <a:lnTo>
                    <a:pt x="1587" y="1923"/>
                  </a:lnTo>
                  <a:lnTo>
                    <a:pt x="1570" y="1918"/>
                  </a:lnTo>
                  <a:lnTo>
                    <a:pt x="1553" y="1912"/>
                  </a:lnTo>
                  <a:lnTo>
                    <a:pt x="1537" y="1906"/>
                  </a:lnTo>
                  <a:lnTo>
                    <a:pt x="1521" y="1899"/>
                  </a:lnTo>
                  <a:lnTo>
                    <a:pt x="1506" y="1891"/>
                  </a:lnTo>
                  <a:lnTo>
                    <a:pt x="1490" y="1883"/>
                  </a:lnTo>
                  <a:lnTo>
                    <a:pt x="1477" y="1875"/>
                  </a:lnTo>
                  <a:lnTo>
                    <a:pt x="1452" y="1859"/>
                  </a:lnTo>
                  <a:lnTo>
                    <a:pt x="1430" y="1844"/>
                  </a:lnTo>
                  <a:lnTo>
                    <a:pt x="1400" y="1820"/>
                  </a:lnTo>
                  <a:lnTo>
                    <a:pt x="1389" y="1810"/>
                  </a:lnTo>
                  <a:lnTo>
                    <a:pt x="1373" y="1787"/>
                  </a:lnTo>
                  <a:lnTo>
                    <a:pt x="1357" y="1764"/>
                  </a:lnTo>
                  <a:lnTo>
                    <a:pt x="1343" y="1739"/>
                  </a:lnTo>
                  <a:lnTo>
                    <a:pt x="1329" y="1712"/>
                  </a:lnTo>
                  <a:lnTo>
                    <a:pt x="1316" y="1685"/>
                  </a:lnTo>
                  <a:lnTo>
                    <a:pt x="1304" y="1656"/>
                  </a:lnTo>
                  <a:lnTo>
                    <a:pt x="1292" y="1627"/>
                  </a:lnTo>
                  <a:lnTo>
                    <a:pt x="1281" y="1597"/>
                  </a:lnTo>
                  <a:lnTo>
                    <a:pt x="1260" y="1539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8" y="1396"/>
                  </a:lnTo>
                  <a:lnTo>
                    <a:pt x="1179" y="1399"/>
                  </a:lnTo>
                  <a:lnTo>
                    <a:pt x="1196" y="1436"/>
                  </a:lnTo>
                  <a:lnTo>
                    <a:pt x="1212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2"/>
                  </a:lnTo>
                  <a:lnTo>
                    <a:pt x="1273" y="1639"/>
                  </a:lnTo>
                  <a:lnTo>
                    <a:pt x="1284" y="1678"/>
                  </a:lnTo>
                  <a:lnTo>
                    <a:pt x="1292" y="1706"/>
                  </a:lnTo>
                  <a:lnTo>
                    <a:pt x="1296" y="1724"/>
                  </a:lnTo>
                  <a:lnTo>
                    <a:pt x="1297" y="1729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6" y="1830"/>
                  </a:lnTo>
                  <a:lnTo>
                    <a:pt x="1305" y="1860"/>
                  </a:lnTo>
                  <a:lnTo>
                    <a:pt x="1303" y="1888"/>
                  </a:lnTo>
                  <a:lnTo>
                    <a:pt x="1299" y="1914"/>
                  </a:lnTo>
                  <a:lnTo>
                    <a:pt x="1293" y="1938"/>
                  </a:lnTo>
                  <a:lnTo>
                    <a:pt x="1287" y="1962"/>
                  </a:lnTo>
                  <a:lnTo>
                    <a:pt x="1279" y="1983"/>
                  </a:lnTo>
                  <a:lnTo>
                    <a:pt x="1270" y="2002"/>
                  </a:lnTo>
                  <a:lnTo>
                    <a:pt x="1260" y="2021"/>
                  </a:lnTo>
                  <a:lnTo>
                    <a:pt x="1249" y="2037"/>
                  </a:lnTo>
                  <a:lnTo>
                    <a:pt x="1238" y="2053"/>
                  </a:lnTo>
                  <a:lnTo>
                    <a:pt x="1226" y="2067"/>
                  </a:lnTo>
                  <a:lnTo>
                    <a:pt x="1213" y="2080"/>
                  </a:lnTo>
                  <a:lnTo>
                    <a:pt x="1200" y="2093"/>
                  </a:lnTo>
                  <a:lnTo>
                    <a:pt x="1187" y="2103"/>
                  </a:lnTo>
                  <a:lnTo>
                    <a:pt x="1174" y="2113"/>
                  </a:lnTo>
                  <a:lnTo>
                    <a:pt x="1161" y="2122"/>
                  </a:lnTo>
                  <a:lnTo>
                    <a:pt x="1148" y="2129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2" y="2147"/>
                  </a:lnTo>
                  <a:lnTo>
                    <a:pt x="1101" y="2151"/>
                  </a:lnTo>
                  <a:lnTo>
                    <a:pt x="1067" y="2161"/>
                  </a:lnTo>
                  <a:lnTo>
                    <a:pt x="1053" y="2164"/>
                  </a:lnTo>
                  <a:lnTo>
                    <a:pt x="1029" y="2162"/>
                  </a:lnTo>
                  <a:lnTo>
                    <a:pt x="1007" y="2159"/>
                  </a:lnTo>
                  <a:lnTo>
                    <a:pt x="987" y="2154"/>
                  </a:lnTo>
                  <a:lnTo>
                    <a:pt x="967" y="2147"/>
                  </a:lnTo>
                  <a:lnTo>
                    <a:pt x="949" y="2139"/>
                  </a:lnTo>
                  <a:lnTo>
                    <a:pt x="932" y="2129"/>
                  </a:lnTo>
                  <a:lnTo>
                    <a:pt x="916" y="2119"/>
                  </a:lnTo>
                  <a:lnTo>
                    <a:pt x="901" y="2107"/>
                  </a:lnTo>
                  <a:lnTo>
                    <a:pt x="888" y="2094"/>
                  </a:lnTo>
                  <a:lnTo>
                    <a:pt x="875" y="2079"/>
                  </a:lnTo>
                  <a:lnTo>
                    <a:pt x="864" y="2065"/>
                  </a:lnTo>
                  <a:lnTo>
                    <a:pt x="854" y="2050"/>
                  </a:lnTo>
                  <a:lnTo>
                    <a:pt x="844" y="2034"/>
                  </a:lnTo>
                  <a:lnTo>
                    <a:pt x="836" y="2018"/>
                  </a:lnTo>
                  <a:lnTo>
                    <a:pt x="828" y="2002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10" y="1954"/>
                  </a:lnTo>
                  <a:lnTo>
                    <a:pt x="805" y="1937"/>
                  </a:lnTo>
                  <a:lnTo>
                    <a:pt x="801" y="1922"/>
                  </a:lnTo>
                  <a:lnTo>
                    <a:pt x="795" y="1893"/>
                  </a:lnTo>
                  <a:lnTo>
                    <a:pt x="790" y="1866"/>
                  </a:lnTo>
                  <a:lnTo>
                    <a:pt x="786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4"/>
                  </a:lnTo>
                  <a:lnTo>
                    <a:pt x="845" y="1615"/>
                  </a:lnTo>
                  <a:lnTo>
                    <a:pt x="858" y="1587"/>
                  </a:lnTo>
                  <a:lnTo>
                    <a:pt x="884" y="1531"/>
                  </a:lnTo>
                  <a:lnTo>
                    <a:pt x="911" y="1478"/>
                  </a:lnTo>
                  <a:lnTo>
                    <a:pt x="938" y="1431"/>
                  </a:lnTo>
                  <a:lnTo>
                    <a:pt x="962" y="1390"/>
                  </a:lnTo>
                  <a:lnTo>
                    <a:pt x="953" y="1387"/>
                  </a:lnTo>
                  <a:lnTo>
                    <a:pt x="944" y="1383"/>
                  </a:lnTo>
                  <a:lnTo>
                    <a:pt x="936" y="1379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8" y="1448"/>
                  </a:lnTo>
                  <a:lnTo>
                    <a:pt x="884" y="1481"/>
                  </a:lnTo>
                  <a:lnTo>
                    <a:pt x="871" y="1512"/>
                  </a:lnTo>
                  <a:lnTo>
                    <a:pt x="846" y="1566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90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57920" y="6019560"/>
              <a:ext cx="60480" cy="41040"/>
            </a:xfrm>
            <a:custGeom>
              <a:avLst/>
              <a:gdLst/>
              <a:ahLst/>
              <a:rect l="l" t="t" r="r" b="b"/>
              <a:pathLst>
                <a:path w="614" h="614">
                  <a:moveTo>
                    <a:pt x="533" y="99"/>
                  </a:moveTo>
                  <a:lnTo>
                    <a:pt x="522" y="88"/>
                  </a:lnTo>
                  <a:lnTo>
                    <a:pt x="511" y="77"/>
                  </a:lnTo>
                  <a:lnTo>
                    <a:pt x="499" y="67"/>
                  </a:lnTo>
                  <a:lnTo>
                    <a:pt x="487" y="58"/>
                  </a:lnTo>
                  <a:lnTo>
                    <a:pt x="474" y="50"/>
                  </a:lnTo>
                  <a:lnTo>
                    <a:pt x="462" y="42"/>
                  </a:lnTo>
                  <a:lnTo>
                    <a:pt x="449" y="35"/>
                  </a:lnTo>
                  <a:lnTo>
                    <a:pt x="434" y="28"/>
                  </a:lnTo>
                  <a:lnTo>
                    <a:pt x="421" y="22"/>
                  </a:lnTo>
                  <a:lnTo>
                    <a:pt x="407" y="16"/>
                  </a:lnTo>
                  <a:lnTo>
                    <a:pt x="393" y="12"/>
                  </a:lnTo>
                  <a:lnTo>
                    <a:pt x="379" y="8"/>
                  </a:lnTo>
                  <a:lnTo>
                    <a:pt x="364" y="5"/>
                  </a:lnTo>
                  <a:lnTo>
                    <a:pt x="350" y="3"/>
                  </a:lnTo>
                  <a:lnTo>
                    <a:pt x="335" y="1"/>
                  </a:lnTo>
                  <a:lnTo>
                    <a:pt x="321" y="0"/>
                  </a:lnTo>
                  <a:lnTo>
                    <a:pt x="306" y="0"/>
                  </a:lnTo>
                  <a:lnTo>
                    <a:pt x="290" y="0"/>
                  </a:lnTo>
                  <a:lnTo>
                    <a:pt x="276" y="1"/>
                  </a:lnTo>
                  <a:lnTo>
                    <a:pt x="261" y="3"/>
                  </a:lnTo>
                  <a:lnTo>
                    <a:pt x="247" y="5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8"/>
                  </a:lnTo>
                  <a:lnTo>
                    <a:pt x="190" y="24"/>
                  </a:lnTo>
                  <a:lnTo>
                    <a:pt x="177" y="30"/>
                  </a:lnTo>
                  <a:lnTo>
                    <a:pt x="163" y="36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3" y="61"/>
                  </a:lnTo>
                  <a:lnTo>
                    <a:pt x="111" y="70"/>
                  </a:lnTo>
                  <a:lnTo>
                    <a:pt x="99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8" y="115"/>
                  </a:lnTo>
                  <a:lnTo>
                    <a:pt x="58" y="127"/>
                  </a:lnTo>
                  <a:lnTo>
                    <a:pt x="50" y="139"/>
                  </a:lnTo>
                  <a:lnTo>
                    <a:pt x="42" y="152"/>
                  </a:lnTo>
                  <a:lnTo>
                    <a:pt x="35" y="166"/>
                  </a:lnTo>
                  <a:lnTo>
                    <a:pt x="28" y="180"/>
                  </a:lnTo>
                  <a:lnTo>
                    <a:pt x="22" y="193"/>
                  </a:lnTo>
                  <a:lnTo>
                    <a:pt x="17" y="207"/>
                  </a:lnTo>
                  <a:lnTo>
                    <a:pt x="13" y="221"/>
                  </a:lnTo>
                  <a:lnTo>
                    <a:pt x="9" y="235"/>
                  </a:lnTo>
                  <a:lnTo>
                    <a:pt x="6" y="250"/>
                  </a:lnTo>
                  <a:lnTo>
                    <a:pt x="2" y="264"/>
                  </a:lnTo>
                  <a:lnTo>
                    <a:pt x="1" y="279"/>
                  </a:lnTo>
                  <a:lnTo>
                    <a:pt x="0" y="293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1" y="338"/>
                  </a:lnTo>
                  <a:lnTo>
                    <a:pt x="3" y="353"/>
                  </a:lnTo>
                  <a:lnTo>
                    <a:pt x="6" y="367"/>
                  </a:lnTo>
                  <a:lnTo>
                    <a:pt x="10" y="381"/>
                  </a:lnTo>
                  <a:lnTo>
                    <a:pt x="14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30" y="437"/>
                  </a:lnTo>
                  <a:lnTo>
                    <a:pt x="36" y="452"/>
                  </a:lnTo>
                  <a:lnTo>
                    <a:pt x="44" y="465"/>
                  </a:lnTo>
                  <a:lnTo>
                    <a:pt x="52" y="478"/>
                  </a:lnTo>
                  <a:lnTo>
                    <a:pt x="61" y="490"/>
                  </a:lnTo>
                  <a:lnTo>
                    <a:pt x="70" y="503"/>
                  </a:lnTo>
                  <a:lnTo>
                    <a:pt x="81" y="514"/>
                  </a:lnTo>
                  <a:lnTo>
                    <a:pt x="92" y="526"/>
                  </a:lnTo>
                  <a:lnTo>
                    <a:pt x="103" y="536"/>
                  </a:lnTo>
                  <a:lnTo>
                    <a:pt x="115" y="546"/>
                  </a:lnTo>
                  <a:lnTo>
                    <a:pt x="127" y="556"/>
                  </a:lnTo>
                  <a:lnTo>
                    <a:pt x="139" y="564"/>
                  </a:lnTo>
                  <a:lnTo>
                    <a:pt x="153" y="572"/>
                  </a:lnTo>
                  <a:lnTo>
                    <a:pt x="166" y="579"/>
                  </a:lnTo>
                  <a:lnTo>
                    <a:pt x="179" y="586"/>
                  </a:lnTo>
                  <a:lnTo>
                    <a:pt x="193" y="593"/>
                  </a:lnTo>
                  <a:lnTo>
                    <a:pt x="207" y="598"/>
                  </a:lnTo>
                  <a:lnTo>
                    <a:pt x="221" y="602"/>
                  </a:lnTo>
                  <a:lnTo>
                    <a:pt x="235" y="606"/>
                  </a:lnTo>
                  <a:lnTo>
                    <a:pt x="249" y="609"/>
                  </a:lnTo>
                  <a:lnTo>
                    <a:pt x="264" y="611"/>
                  </a:lnTo>
                  <a:lnTo>
                    <a:pt x="278" y="613"/>
                  </a:lnTo>
                  <a:lnTo>
                    <a:pt x="293" y="614"/>
                  </a:lnTo>
                  <a:lnTo>
                    <a:pt x="309" y="614"/>
                  </a:lnTo>
                  <a:lnTo>
                    <a:pt x="323" y="614"/>
                  </a:lnTo>
                  <a:lnTo>
                    <a:pt x="338" y="613"/>
                  </a:lnTo>
                  <a:lnTo>
                    <a:pt x="352" y="611"/>
                  </a:lnTo>
                  <a:lnTo>
                    <a:pt x="367" y="608"/>
                  </a:lnTo>
                  <a:lnTo>
                    <a:pt x="381" y="605"/>
                  </a:lnTo>
                  <a:lnTo>
                    <a:pt x="395" y="601"/>
                  </a:lnTo>
                  <a:lnTo>
                    <a:pt x="410" y="596"/>
                  </a:lnTo>
                  <a:lnTo>
                    <a:pt x="423" y="590"/>
                  </a:lnTo>
                  <a:lnTo>
                    <a:pt x="437" y="584"/>
                  </a:lnTo>
                  <a:lnTo>
                    <a:pt x="452" y="577"/>
                  </a:lnTo>
                  <a:lnTo>
                    <a:pt x="465" y="570"/>
                  </a:lnTo>
                  <a:lnTo>
                    <a:pt x="478" y="561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6" y="522"/>
                  </a:lnTo>
                  <a:lnTo>
                    <a:pt x="536" y="510"/>
                  </a:lnTo>
                  <a:lnTo>
                    <a:pt x="546" y="499"/>
                  </a:lnTo>
                  <a:lnTo>
                    <a:pt x="555" y="487"/>
                  </a:lnTo>
                  <a:lnTo>
                    <a:pt x="564" y="474"/>
                  </a:lnTo>
                  <a:lnTo>
                    <a:pt x="572" y="461"/>
                  </a:lnTo>
                  <a:lnTo>
                    <a:pt x="579" y="447"/>
                  </a:lnTo>
                  <a:lnTo>
                    <a:pt x="585" y="434"/>
                  </a:lnTo>
                  <a:lnTo>
                    <a:pt x="592" y="420"/>
                  </a:lnTo>
                  <a:lnTo>
                    <a:pt x="597" y="406"/>
                  </a:lnTo>
                  <a:lnTo>
                    <a:pt x="602" y="392"/>
                  </a:lnTo>
                  <a:lnTo>
                    <a:pt x="606" y="378"/>
                  </a:lnTo>
                  <a:lnTo>
                    <a:pt x="609" y="364"/>
                  </a:lnTo>
                  <a:lnTo>
                    <a:pt x="611" y="349"/>
                  </a:lnTo>
                  <a:lnTo>
                    <a:pt x="613" y="335"/>
                  </a:lnTo>
                  <a:lnTo>
                    <a:pt x="614" y="320"/>
                  </a:lnTo>
                  <a:lnTo>
                    <a:pt x="614" y="306"/>
                  </a:lnTo>
                  <a:lnTo>
                    <a:pt x="614" y="290"/>
                  </a:lnTo>
                  <a:lnTo>
                    <a:pt x="612" y="276"/>
                  </a:lnTo>
                  <a:lnTo>
                    <a:pt x="611" y="261"/>
                  </a:lnTo>
                  <a:lnTo>
                    <a:pt x="608" y="247"/>
                  </a:lnTo>
                  <a:lnTo>
                    <a:pt x="605" y="232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4" y="176"/>
                  </a:lnTo>
                  <a:lnTo>
                    <a:pt x="577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3"/>
                  </a:lnTo>
                  <a:lnTo>
                    <a:pt x="543" y="111"/>
                  </a:lnTo>
                  <a:lnTo>
                    <a:pt x="533" y="99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64080" y="6052680"/>
              <a:ext cx="176400" cy="117000"/>
            </a:xfrm>
            <a:custGeom>
              <a:avLst/>
              <a:gdLst/>
              <a:ahLst/>
              <a:rect l="l" t="t" r="r" b="b"/>
              <a:pathLst>
                <a:path w="1784" h="1782">
                  <a:moveTo>
                    <a:pt x="641" y="1393"/>
                  </a:moveTo>
                  <a:lnTo>
                    <a:pt x="623" y="1417"/>
                  </a:lnTo>
                  <a:lnTo>
                    <a:pt x="604" y="1439"/>
                  </a:lnTo>
                  <a:lnTo>
                    <a:pt x="587" y="1457"/>
                  </a:lnTo>
                  <a:lnTo>
                    <a:pt x="569" y="1474"/>
                  </a:lnTo>
                  <a:lnTo>
                    <a:pt x="552" y="1489"/>
                  </a:lnTo>
                  <a:lnTo>
                    <a:pt x="534" y="1502"/>
                  </a:lnTo>
                  <a:lnTo>
                    <a:pt x="517" y="1513"/>
                  </a:lnTo>
                  <a:lnTo>
                    <a:pt x="500" y="1522"/>
                  </a:lnTo>
                  <a:lnTo>
                    <a:pt x="483" y="1530"/>
                  </a:lnTo>
                  <a:lnTo>
                    <a:pt x="466" y="1536"/>
                  </a:lnTo>
                  <a:lnTo>
                    <a:pt x="449" y="1541"/>
                  </a:lnTo>
                  <a:lnTo>
                    <a:pt x="433" y="1546"/>
                  </a:lnTo>
                  <a:lnTo>
                    <a:pt x="417" y="1548"/>
                  </a:lnTo>
                  <a:lnTo>
                    <a:pt x="402" y="1549"/>
                  </a:lnTo>
                  <a:lnTo>
                    <a:pt x="387" y="1550"/>
                  </a:lnTo>
                  <a:lnTo>
                    <a:pt x="373" y="1549"/>
                  </a:lnTo>
                  <a:lnTo>
                    <a:pt x="359" y="1548"/>
                  </a:lnTo>
                  <a:lnTo>
                    <a:pt x="346" y="1546"/>
                  </a:lnTo>
                  <a:lnTo>
                    <a:pt x="333" y="1542"/>
                  </a:lnTo>
                  <a:lnTo>
                    <a:pt x="321" y="1539"/>
                  </a:lnTo>
                  <a:lnTo>
                    <a:pt x="299" y="1532"/>
                  </a:lnTo>
                  <a:lnTo>
                    <a:pt x="281" y="1525"/>
                  </a:lnTo>
                  <a:lnTo>
                    <a:pt x="255" y="1511"/>
                  </a:lnTo>
                  <a:lnTo>
                    <a:pt x="246" y="1505"/>
                  </a:lnTo>
                  <a:lnTo>
                    <a:pt x="233" y="1490"/>
                  </a:lnTo>
                  <a:lnTo>
                    <a:pt x="222" y="1475"/>
                  </a:lnTo>
                  <a:lnTo>
                    <a:pt x="213" y="1460"/>
                  </a:lnTo>
                  <a:lnTo>
                    <a:pt x="205" y="1445"/>
                  </a:lnTo>
                  <a:lnTo>
                    <a:pt x="199" y="1429"/>
                  </a:lnTo>
                  <a:lnTo>
                    <a:pt x="195" y="1414"/>
                  </a:lnTo>
                  <a:lnTo>
                    <a:pt x="192" y="1397"/>
                  </a:lnTo>
                  <a:lnTo>
                    <a:pt x="191" y="1382"/>
                  </a:lnTo>
                  <a:lnTo>
                    <a:pt x="190" y="1367"/>
                  </a:lnTo>
                  <a:lnTo>
                    <a:pt x="191" y="1351"/>
                  </a:lnTo>
                  <a:lnTo>
                    <a:pt x="193" y="1336"/>
                  </a:lnTo>
                  <a:lnTo>
                    <a:pt x="195" y="1322"/>
                  </a:lnTo>
                  <a:lnTo>
                    <a:pt x="199" y="1307"/>
                  </a:lnTo>
                  <a:lnTo>
                    <a:pt x="203" y="1293"/>
                  </a:lnTo>
                  <a:lnTo>
                    <a:pt x="208" y="1279"/>
                  </a:lnTo>
                  <a:lnTo>
                    <a:pt x="214" y="1266"/>
                  </a:lnTo>
                  <a:lnTo>
                    <a:pt x="226" y="1239"/>
                  </a:lnTo>
                  <a:lnTo>
                    <a:pt x="239" y="1216"/>
                  </a:lnTo>
                  <a:lnTo>
                    <a:pt x="252" y="1195"/>
                  </a:lnTo>
                  <a:lnTo>
                    <a:pt x="264" y="1178"/>
                  </a:lnTo>
                  <a:lnTo>
                    <a:pt x="284" y="1152"/>
                  </a:lnTo>
                  <a:lnTo>
                    <a:pt x="292" y="1143"/>
                  </a:lnTo>
                  <a:lnTo>
                    <a:pt x="310" y="1131"/>
                  </a:lnTo>
                  <a:lnTo>
                    <a:pt x="331" y="1118"/>
                  </a:lnTo>
                  <a:lnTo>
                    <a:pt x="352" y="1106"/>
                  </a:lnTo>
                  <a:lnTo>
                    <a:pt x="374" y="1094"/>
                  </a:lnTo>
                  <a:lnTo>
                    <a:pt x="397" y="1084"/>
                  </a:lnTo>
                  <a:lnTo>
                    <a:pt x="420" y="1073"/>
                  </a:lnTo>
                  <a:lnTo>
                    <a:pt x="444" y="1063"/>
                  </a:lnTo>
                  <a:lnTo>
                    <a:pt x="470" y="1054"/>
                  </a:lnTo>
                  <a:lnTo>
                    <a:pt x="518" y="1037"/>
                  </a:lnTo>
                  <a:lnTo>
                    <a:pt x="564" y="1022"/>
                  </a:lnTo>
                  <a:lnTo>
                    <a:pt x="608" y="1010"/>
                  </a:lnTo>
                  <a:lnTo>
                    <a:pt x="645" y="1000"/>
                  </a:lnTo>
                  <a:lnTo>
                    <a:pt x="639" y="985"/>
                  </a:lnTo>
                  <a:lnTo>
                    <a:pt x="634" y="971"/>
                  </a:lnTo>
                  <a:lnTo>
                    <a:pt x="574" y="997"/>
                  </a:lnTo>
                  <a:lnTo>
                    <a:pt x="520" y="1018"/>
                  </a:lnTo>
                  <a:lnTo>
                    <a:pt x="474" y="1035"/>
                  </a:lnTo>
                  <a:lnTo>
                    <a:pt x="433" y="1048"/>
                  </a:lnTo>
                  <a:lnTo>
                    <a:pt x="401" y="1057"/>
                  </a:lnTo>
                  <a:lnTo>
                    <a:pt x="378" y="1064"/>
                  </a:lnTo>
                  <a:lnTo>
                    <a:pt x="364" y="1067"/>
                  </a:lnTo>
                  <a:lnTo>
                    <a:pt x="359" y="1068"/>
                  </a:lnTo>
                  <a:lnTo>
                    <a:pt x="330" y="1072"/>
                  </a:lnTo>
                  <a:lnTo>
                    <a:pt x="302" y="1075"/>
                  </a:lnTo>
                  <a:lnTo>
                    <a:pt x="276" y="1076"/>
                  </a:lnTo>
                  <a:lnTo>
                    <a:pt x="252" y="1075"/>
                  </a:lnTo>
                  <a:lnTo>
                    <a:pt x="229" y="1073"/>
                  </a:lnTo>
                  <a:lnTo>
                    <a:pt x="207" y="1070"/>
                  </a:lnTo>
                  <a:lnTo>
                    <a:pt x="187" y="1065"/>
                  </a:lnTo>
                  <a:lnTo>
                    <a:pt x="168" y="1060"/>
                  </a:lnTo>
                  <a:lnTo>
                    <a:pt x="150" y="1053"/>
                  </a:lnTo>
                  <a:lnTo>
                    <a:pt x="134" y="1046"/>
                  </a:lnTo>
                  <a:lnTo>
                    <a:pt x="119" y="1038"/>
                  </a:lnTo>
                  <a:lnTo>
                    <a:pt x="105" y="1029"/>
                  </a:lnTo>
                  <a:lnTo>
                    <a:pt x="92" y="1019"/>
                  </a:lnTo>
                  <a:lnTo>
                    <a:pt x="80" y="1010"/>
                  </a:lnTo>
                  <a:lnTo>
                    <a:pt x="70" y="999"/>
                  </a:lnTo>
                  <a:lnTo>
                    <a:pt x="60" y="989"/>
                  </a:lnTo>
                  <a:lnTo>
                    <a:pt x="51" y="978"/>
                  </a:lnTo>
                  <a:lnTo>
                    <a:pt x="43" y="966"/>
                  </a:lnTo>
                  <a:lnTo>
                    <a:pt x="36" y="956"/>
                  </a:lnTo>
                  <a:lnTo>
                    <a:pt x="30" y="945"/>
                  </a:lnTo>
                  <a:lnTo>
                    <a:pt x="19" y="925"/>
                  </a:lnTo>
                  <a:lnTo>
                    <a:pt x="11" y="907"/>
                  </a:lnTo>
                  <a:lnTo>
                    <a:pt x="3" y="879"/>
                  </a:lnTo>
                  <a:lnTo>
                    <a:pt x="0" y="868"/>
                  </a:lnTo>
                  <a:lnTo>
                    <a:pt x="2" y="848"/>
                  </a:lnTo>
                  <a:lnTo>
                    <a:pt x="4" y="830"/>
                  </a:lnTo>
                  <a:lnTo>
                    <a:pt x="9" y="812"/>
                  </a:lnTo>
                  <a:lnTo>
                    <a:pt x="14" y="796"/>
                  </a:lnTo>
                  <a:lnTo>
                    <a:pt x="22" y="781"/>
                  </a:lnTo>
                  <a:lnTo>
                    <a:pt x="30" y="767"/>
                  </a:lnTo>
                  <a:lnTo>
                    <a:pt x="39" y="754"/>
                  </a:lnTo>
                  <a:lnTo>
                    <a:pt x="49" y="742"/>
                  </a:lnTo>
                  <a:lnTo>
                    <a:pt x="59" y="731"/>
                  </a:lnTo>
                  <a:lnTo>
                    <a:pt x="71" y="721"/>
                  </a:lnTo>
                  <a:lnTo>
                    <a:pt x="82" y="712"/>
                  </a:lnTo>
                  <a:lnTo>
                    <a:pt x="95" y="703"/>
                  </a:lnTo>
                  <a:lnTo>
                    <a:pt x="108" y="695"/>
                  </a:lnTo>
                  <a:lnTo>
                    <a:pt x="121" y="688"/>
                  </a:lnTo>
                  <a:lnTo>
                    <a:pt x="134" y="682"/>
                  </a:lnTo>
                  <a:lnTo>
                    <a:pt x="147" y="675"/>
                  </a:lnTo>
                  <a:lnTo>
                    <a:pt x="175" y="666"/>
                  </a:lnTo>
                  <a:lnTo>
                    <a:pt x="201" y="659"/>
                  </a:lnTo>
                  <a:lnTo>
                    <a:pt x="224" y="653"/>
                  </a:lnTo>
                  <a:lnTo>
                    <a:pt x="246" y="650"/>
                  </a:lnTo>
                  <a:lnTo>
                    <a:pt x="278" y="646"/>
                  </a:lnTo>
                  <a:lnTo>
                    <a:pt x="290" y="645"/>
                  </a:lnTo>
                  <a:lnTo>
                    <a:pt x="312" y="649"/>
                  </a:lnTo>
                  <a:lnTo>
                    <a:pt x="336" y="654"/>
                  </a:lnTo>
                  <a:lnTo>
                    <a:pt x="359" y="661"/>
                  </a:lnTo>
                  <a:lnTo>
                    <a:pt x="383" y="669"/>
                  </a:lnTo>
                  <a:lnTo>
                    <a:pt x="408" y="677"/>
                  </a:lnTo>
                  <a:lnTo>
                    <a:pt x="432" y="688"/>
                  </a:lnTo>
                  <a:lnTo>
                    <a:pt x="456" y="698"/>
                  </a:lnTo>
                  <a:lnTo>
                    <a:pt x="481" y="709"/>
                  </a:lnTo>
                  <a:lnTo>
                    <a:pt x="528" y="731"/>
                  </a:lnTo>
                  <a:lnTo>
                    <a:pt x="571" y="754"/>
                  </a:lnTo>
                  <a:lnTo>
                    <a:pt x="611" y="775"/>
                  </a:lnTo>
                  <a:lnTo>
                    <a:pt x="644" y="795"/>
                  </a:lnTo>
                  <a:lnTo>
                    <a:pt x="650" y="780"/>
                  </a:lnTo>
                  <a:lnTo>
                    <a:pt x="658" y="766"/>
                  </a:lnTo>
                  <a:lnTo>
                    <a:pt x="626" y="754"/>
                  </a:lnTo>
                  <a:lnTo>
                    <a:pt x="595" y="742"/>
                  </a:lnTo>
                  <a:lnTo>
                    <a:pt x="567" y="730"/>
                  </a:lnTo>
                  <a:lnTo>
                    <a:pt x="541" y="719"/>
                  </a:lnTo>
                  <a:lnTo>
                    <a:pt x="496" y="698"/>
                  </a:lnTo>
                  <a:lnTo>
                    <a:pt x="457" y="678"/>
                  </a:lnTo>
                  <a:lnTo>
                    <a:pt x="428" y="662"/>
                  </a:lnTo>
                  <a:lnTo>
                    <a:pt x="407" y="650"/>
                  </a:lnTo>
                  <a:lnTo>
                    <a:pt x="394" y="642"/>
                  </a:lnTo>
                  <a:lnTo>
                    <a:pt x="390" y="639"/>
                  </a:lnTo>
                  <a:lnTo>
                    <a:pt x="366" y="622"/>
                  </a:lnTo>
                  <a:lnTo>
                    <a:pt x="345" y="604"/>
                  </a:lnTo>
                  <a:lnTo>
                    <a:pt x="326" y="586"/>
                  </a:lnTo>
                  <a:lnTo>
                    <a:pt x="308" y="569"/>
                  </a:lnTo>
                  <a:lnTo>
                    <a:pt x="294" y="551"/>
                  </a:lnTo>
                  <a:lnTo>
                    <a:pt x="281" y="533"/>
                  </a:lnTo>
                  <a:lnTo>
                    <a:pt x="270" y="515"/>
                  </a:lnTo>
                  <a:lnTo>
                    <a:pt x="260" y="498"/>
                  </a:lnTo>
                  <a:lnTo>
                    <a:pt x="253" y="481"/>
                  </a:lnTo>
                  <a:lnTo>
                    <a:pt x="246" y="465"/>
                  </a:lnTo>
                  <a:lnTo>
                    <a:pt x="242" y="448"/>
                  </a:lnTo>
                  <a:lnTo>
                    <a:pt x="238" y="432"/>
                  </a:lnTo>
                  <a:lnTo>
                    <a:pt x="236" y="417"/>
                  </a:lnTo>
                  <a:lnTo>
                    <a:pt x="235" y="401"/>
                  </a:lnTo>
                  <a:lnTo>
                    <a:pt x="234" y="386"/>
                  </a:lnTo>
                  <a:lnTo>
                    <a:pt x="235" y="371"/>
                  </a:lnTo>
                  <a:lnTo>
                    <a:pt x="236" y="358"/>
                  </a:lnTo>
                  <a:lnTo>
                    <a:pt x="238" y="345"/>
                  </a:lnTo>
                  <a:lnTo>
                    <a:pt x="241" y="332"/>
                  </a:lnTo>
                  <a:lnTo>
                    <a:pt x="244" y="320"/>
                  </a:lnTo>
                  <a:lnTo>
                    <a:pt x="251" y="299"/>
                  </a:lnTo>
                  <a:lnTo>
                    <a:pt x="259" y="280"/>
                  </a:lnTo>
                  <a:lnTo>
                    <a:pt x="272" y="255"/>
                  </a:lnTo>
                  <a:lnTo>
                    <a:pt x="278" y="244"/>
                  </a:lnTo>
                  <a:lnTo>
                    <a:pt x="293" y="232"/>
                  </a:lnTo>
                  <a:lnTo>
                    <a:pt x="308" y="221"/>
                  </a:lnTo>
                  <a:lnTo>
                    <a:pt x="324" y="212"/>
                  </a:lnTo>
                  <a:lnTo>
                    <a:pt x="339" y="204"/>
                  </a:lnTo>
                  <a:lnTo>
                    <a:pt x="354" y="198"/>
                  </a:lnTo>
                  <a:lnTo>
                    <a:pt x="370" y="194"/>
                  </a:lnTo>
                  <a:lnTo>
                    <a:pt x="385" y="191"/>
                  </a:lnTo>
                  <a:lnTo>
                    <a:pt x="401" y="189"/>
                  </a:lnTo>
                  <a:lnTo>
                    <a:pt x="416" y="189"/>
                  </a:lnTo>
                  <a:lnTo>
                    <a:pt x="431" y="190"/>
                  </a:lnTo>
                  <a:lnTo>
                    <a:pt x="446" y="192"/>
                  </a:lnTo>
                  <a:lnTo>
                    <a:pt x="462" y="194"/>
                  </a:lnTo>
                  <a:lnTo>
                    <a:pt x="476" y="198"/>
                  </a:lnTo>
                  <a:lnTo>
                    <a:pt x="491" y="202"/>
                  </a:lnTo>
                  <a:lnTo>
                    <a:pt x="504" y="207"/>
                  </a:lnTo>
                  <a:lnTo>
                    <a:pt x="518" y="212"/>
                  </a:lnTo>
                  <a:lnTo>
                    <a:pt x="543" y="224"/>
                  </a:lnTo>
                  <a:lnTo>
                    <a:pt x="566" y="237"/>
                  </a:lnTo>
                  <a:lnTo>
                    <a:pt x="587" y="251"/>
                  </a:lnTo>
                  <a:lnTo>
                    <a:pt x="605" y="264"/>
                  </a:lnTo>
                  <a:lnTo>
                    <a:pt x="631" y="284"/>
                  </a:lnTo>
                  <a:lnTo>
                    <a:pt x="640" y="292"/>
                  </a:lnTo>
                  <a:lnTo>
                    <a:pt x="653" y="310"/>
                  </a:lnTo>
                  <a:lnTo>
                    <a:pt x="666" y="331"/>
                  </a:lnTo>
                  <a:lnTo>
                    <a:pt x="678" y="352"/>
                  </a:lnTo>
                  <a:lnTo>
                    <a:pt x="690" y="375"/>
                  </a:lnTo>
                  <a:lnTo>
                    <a:pt x="701" y="399"/>
                  </a:lnTo>
                  <a:lnTo>
                    <a:pt x="711" y="424"/>
                  </a:lnTo>
                  <a:lnTo>
                    <a:pt x="721" y="448"/>
                  </a:lnTo>
                  <a:lnTo>
                    <a:pt x="731" y="473"/>
                  </a:lnTo>
                  <a:lnTo>
                    <a:pt x="748" y="523"/>
                  </a:lnTo>
                  <a:lnTo>
                    <a:pt x="764" y="571"/>
                  </a:lnTo>
                  <a:lnTo>
                    <a:pt x="776" y="613"/>
                  </a:lnTo>
                  <a:lnTo>
                    <a:pt x="786" y="650"/>
                  </a:lnTo>
                  <a:lnTo>
                    <a:pt x="800" y="644"/>
                  </a:lnTo>
                  <a:lnTo>
                    <a:pt x="815" y="639"/>
                  </a:lnTo>
                  <a:lnTo>
                    <a:pt x="801" y="608"/>
                  </a:lnTo>
                  <a:lnTo>
                    <a:pt x="789" y="578"/>
                  </a:lnTo>
                  <a:lnTo>
                    <a:pt x="777" y="550"/>
                  </a:lnTo>
                  <a:lnTo>
                    <a:pt x="767" y="523"/>
                  </a:lnTo>
                  <a:lnTo>
                    <a:pt x="748" y="475"/>
                  </a:lnTo>
                  <a:lnTo>
                    <a:pt x="735" y="435"/>
                  </a:lnTo>
                  <a:lnTo>
                    <a:pt x="726" y="402"/>
                  </a:lnTo>
                  <a:lnTo>
                    <a:pt x="719" y="377"/>
                  </a:lnTo>
                  <a:lnTo>
                    <a:pt x="716" y="363"/>
                  </a:lnTo>
                  <a:lnTo>
                    <a:pt x="714" y="358"/>
                  </a:lnTo>
                  <a:lnTo>
                    <a:pt x="710" y="329"/>
                  </a:lnTo>
                  <a:lnTo>
                    <a:pt x="708" y="301"/>
                  </a:lnTo>
                  <a:lnTo>
                    <a:pt x="707" y="275"/>
                  </a:lnTo>
                  <a:lnTo>
                    <a:pt x="708" y="251"/>
                  </a:lnTo>
                  <a:lnTo>
                    <a:pt x="709" y="227"/>
                  </a:lnTo>
                  <a:lnTo>
                    <a:pt x="713" y="206"/>
                  </a:lnTo>
                  <a:lnTo>
                    <a:pt x="717" y="186"/>
                  </a:lnTo>
                  <a:lnTo>
                    <a:pt x="723" y="167"/>
                  </a:lnTo>
                  <a:lnTo>
                    <a:pt x="729" y="150"/>
                  </a:lnTo>
                  <a:lnTo>
                    <a:pt x="737" y="133"/>
                  </a:lnTo>
                  <a:lnTo>
                    <a:pt x="745" y="118"/>
                  </a:lnTo>
                  <a:lnTo>
                    <a:pt x="755" y="103"/>
                  </a:lnTo>
                  <a:lnTo>
                    <a:pt x="764" y="91"/>
                  </a:lnTo>
                  <a:lnTo>
                    <a:pt x="774" y="79"/>
                  </a:lnTo>
                  <a:lnTo>
                    <a:pt x="784" y="68"/>
                  </a:lnTo>
                  <a:lnTo>
                    <a:pt x="795" y="59"/>
                  </a:lnTo>
                  <a:lnTo>
                    <a:pt x="805" y="50"/>
                  </a:lnTo>
                  <a:lnTo>
                    <a:pt x="816" y="42"/>
                  </a:lnTo>
                  <a:lnTo>
                    <a:pt x="827" y="35"/>
                  </a:lnTo>
                  <a:lnTo>
                    <a:pt x="837" y="29"/>
                  </a:lnTo>
                  <a:lnTo>
                    <a:pt x="858" y="18"/>
                  </a:lnTo>
                  <a:lnTo>
                    <a:pt x="876" y="11"/>
                  </a:lnTo>
                  <a:lnTo>
                    <a:pt x="905" y="2"/>
                  </a:lnTo>
                  <a:lnTo>
                    <a:pt x="916" y="0"/>
                  </a:lnTo>
                  <a:lnTo>
                    <a:pt x="935" y="1"/>
                  </a:lnTo>
                  <a:lnTo>
                    <a:pt x="953" y="4"/>
                  </a:lnTo>
                  <a:lnTo>
                    <a:pt x="970" y="8"/>
                  </a:lnTo>
                  <a:lnTo>
                    <a:pt x="987" y="14"/>
                  </a:lnTo>
                  <a:lnTo>
                    <a:pt x="1001" y="21"/>
                  </a:lnTo>
                  <a:lnTo>
                    <a:pt x="1015" y="29"/>
                  </a:lnTo>
                  <a:lnTo>
                    <a:pt x="1028" y="38"/>
                  </a:lnTo>
                  <a:lnTo>
                    <a:pt x="1040" y="47"/>
                  </a:lnTo>
                  <a:lnTo>
                    <a:pt x="1052" y="58"/>
                  </a:lnTo>
                  <a:lnTo>
                    <a:pt x="1063" y="69"/>
                  </a:lnTo>
                  <a:lnTo>
                    <a:pt x="1072" y="81"/>
                  </a:lnTo>
                  <a:lnTo>
                    <a:pt x="1080" y="94"/>
                  </a:lnTo>
                  <a:lnTo>
                    <a:pt x="1088" y="107"/>
                  </a:lnTo>
                  <a:lnTo>
                    <a:pt x="1095" y="120"/>
                  </a:lnTo>
                  <a:lnTo>
                    <a:pt x="1101" y="134"/>
                  </a:lnTo>
                  <a:lnTo>
                    <a:pt x="1107" y="147"/>
                  </a:lnTo>
                  <a:lnTo>
                    <a:pt x="1116" y="174"/>
                  </a:lnTo>
                  <a:lnTo>
                    <a:pt x="1124" y="199"/>
                  </a:lnTo>
                  <a:lnTo>
                    <a:pt x="1129" y="223"/>
                  </a:lnTo>
                  <a:lnTo>
                    <a:pt x="1133" y="245"/>
                  </a:lnTo>
                  <a:lnTo>
                    <a:pt x="1136" y="278"/>
                  </a:lnTo>
                  <a:lnTo>
                    <a:pt x="1137" y="290"/>
                  </a:lnTo>
                  <a:lnTo>
                    <a:pt x="1133" y="312"/>
                  </a:lnTo>
                  <a:lnTo>
                    <a:pt x="1128" y="335"/>
                  </a:lnTo>
                  <a:lnTo>
                    <a:pt x="1121" y="359"/>
                  </a:lnTo>
                  <a:lnTo>
                    <a:pt x="1114" y="383"/>
                  </a:lnTo>
                  <a:lnTo>
                    <a:pt x="1105" y="409"/>
                  </a:lnTo>
                  <a:lnTo>
                    <a:pt x="1095" y="433"/>
                  </a:lnTo>
                  <a:lnTo>
                    <a:pt x="1085" y="458"/>
                  </a:lnTo>
                  <a:lnTo>
                    <a:pt x="1074" y="482"/>
                  </a:lnTo>
                  <a:lnTo>
                    <a:pt x="1051" y="529"/>
                  </a:lnTo>
                  <a:lnTo>
                    <a:pt x="1027" y="574"/>
                  </a:lnTo>
                  <a:lnTo>
                    <a:pt x="1005" y="613"/>
                  </a:lnTo>
                  <a:lnTo>
                    <a:pt x="986" y="645"/>
                  </a:lnTo>
                  <a:lnTo>
                    <a:pt x="1001" y="652"/>
                  </a:lnTo>
                  <a:lnTo>
                    <a:pt x="1015" y="659"/>
                  </a:lnTo>
                  <a:lnTo>
                    <a:pt x="1028" y="627"/>
                  </a:lnTo>
                  <a:lnTo>
                    <a:pt x="1040" y="597"/>
                  </a:lnTo>
                  <a:lnTo>
                    <a:pt x="1053" y="569"/>
                  </a:lnTo>
                  <a:lnTo>
                    <a:pt x="1064" y="542"/>
                  </a:lnTo>
                  <a:lnTo>
                    <a:pt x="1085" y="495"/>
                  </a:lnTo>
                  <a:lnTo>
                    <a:pt x="1105" y="457"/>
                  </a:lnTo>
                  <a:lnTo>
                    <a:pt x="1121" y="428"/>
                  </a:lnTo>
                  <a:lnTo>
                    <a:pt x="1133" y="407"/>
                  </a:lnTo>
                  <a:lnTo>
                    <a:pt x="1141" y="394"/>
                  </a:lnTo>
                  <a:lnTo>
                    <a:pt x="1143" y="388"/>
                  </a:lnTo>
                  <a:lnTo>
                    <a:pt x="1161" y="365"/>
                  </a:lnTo>
                  <a:lnTo>
                    <a:pt x="1179" y="344"/>
                  </a:lnTo>
                  <a:lnTo>
                    <a:pt x="1197" y="325"/>
                  </a:lnTo>
                  <a:lnTo>
                    <a:pt x="1215" y="308"/>
                  </a:lnTo>
                  <a:lnTo>
                    <a:pt x="1232" y="294"/>
                  </a:lnTo>
                  <a:lnTo>
                    <a:pt x="1250" y="281"/>
                  </a:lnTo>
                  <a:lnTo>
                    <a:pt x="1267" y="270"/>
                  </a:lnTo>
                  <a:lnTo>
                    <a:pt x="1284" y="260"/>
                  </a:lnTo>
                  <a:lnTo>
                    <a:pt x="1301" y="253"/>
                  </a:lnTo>
                  <a:lnTo>
                    <a:pt x="1318" y="245"/>
                  </a:lnTo>
                  <a:lnTo>
                    <a:pt x="1334" y="241"/>
                  </a:lnTo>
                  <a:lnTo>
                    <a:pt x="1352" y="237"/>
                  </a:lnTo>
                  <a:lnTo>
                    <a:pt x="1367" y="235"/>
                  </a:lnTo>
                  <a:lnTo>
                    <a:pt x="1383" y="233"/>
                  </a:lnTo>
                  <a:lnTo>
                    <a:pt x="1397" y="233"/>
                  </a:lnTo>
                  <a:lnTo>
                    <a:pt x="1412" y="234"/>
                  </a:lnTo>
                  <a:lnTo>
                    <a:pt x="1425" y="235"/>
                  </a:lnTo>
                  <a:lnTo>
                    <a:pt x="1439" y="237"/>
                  </a:lnTo>
                  <a:lnTo>
                    <a:pt x="1451" y="240"/>
                  </a:lnTo>
                  <a:lnTo>
                    <a:pt x="1463" y="243"/>
                  </a:lnTo>
                  <a:lnTo>
                    <a:pt x="1485" y="251"/>
                  </a:lnTo>
                  <a:lnTo>
                    <a:pt x="1504" y="258"/>
                  </a:lnTo>
                  <a:lnTo>
                    <a:pt x="1530" y="272"/>
                  </a:lnTo>
                  <a:lnTo>
                    <a:pt x="1539" y="278"/>
                  </a:lnTo>
                  <a:lnTo>
                    <a:pt x="1552" y="293"/>
                  </a:lnTo>
                  <a:lnTo>
                    <a:pt x="1563" y="307"/>
                  </a:lnTo>
                  <a:lnTo>
                    <a:pt x="1572" y="323"/>
                  </a:lnTo>
                  <a:lnTo>
                    <a:pt x="1579" y="338"/>
                  </a:lnTo>
                  <a:lnTo>
                    <a:pt x="1585" y="353"/>
                  </a:lnTo>
                  <a:lnTo>
                    <a:pt x="1589" y="368"/>
                  </a:lnTo>
                  <a:lnTo>
                    <a:pt x="1592" y="384"/>
                  </a:lnTo>
                  <a:lnTo>
                    <a:pt x="1594" y="400"/>
                  </a:lnTo>
                  <a:lnTo>
                    <a:pt x="1594" y="416"/>
                  </a:lnTo>
                  <a:lnTo>
                    <a:pt x="1593" y="431"/>
                  </a:lnTo>
                  <a:lnTo>
                    <a:pt x="1591" y="446"/>
                  </a:lnTo>
                  <a:lnTo>
                    <a:pt x="1589" y="460"/>
                  </a:lnTo>
                  <a:lnTo>
                    <a:pt x="1585" y="475"/>
                  </a:lnTo>
                  <a:lnTo>
                    <a:pt x="1581" y="489"/>
                  </a:lnTo>
                  <a:lnTo>
                    <a:pt x="1576" y="503"/>
                  </a:lnTo>
                  <a:lnTo>
                    <a:pt x="1571" y="516"/>
                  </a:lnTo>
                  <a:lnTo>
                    <a:pt x="1558" y="543"/>
                  </a:lnTo>
                  <a:lnTo>
                    <a:pt x="1545" y="566"/>
                  </a:lnTo>
                  <a:lnTo>
                    <a:pt x="1532" y="587"/>
                  </a:lnTo>
                  <a:lnTo>
                    <a:pt x="1520" y="604"/>
                  </a:lnTo>
                  <a:lnTo>
                    <a:pt x="1500" y="630"/>
                  </a:lnTo>
                  <a:lnTo>
                    <a:pt x="1492" y="639"/>
                  </a:lnTo>
                  <a:lnTo>
                    <a:pt x="1472" y="652"/>
                  </a:lnTo>
                  <a:lnTo>
                    <a:pt x="1452" y="664"/>
                  </a:lnTo>
                  <a:lnTo>
                    <a:pt x="1431" y="676"/>
                  </a:lnTo>
                  <a:lnTo>
                    <a:pt x="1409" y="689"/>
                  </a:lnTo>
                  <a:lnTo>
                    <a:pt x="1385" y="700"/>
                  </a:lnTo>
                  <a:lnTo>
                    <a:pt x="1361" y="710"/>
                  </a:lnTo>
                  <a:lnTo>
                    <a:pt x="1336" y="720"/>
                  </a:lnTo>
                  <a:lnTo>
                    <a:pt x="1311" y="730"/>
                  </a:lnTo>
                  <a:lnTo>
                    <a:pt x="1262" y="747"/>
                  </a:lnTo>
                  <a:lnTo>
                    <a:pt x="1216" y="761"/>
                  </a:lnTo>
                  <a:lnTo>
                    <a:pt x="1172" y="774"/>
                  </a:lnTo>
                  <a:lnTo>
                    <a:pt x="1135" y="783"/>
                  </a:lnTo>
                  <a:lnTo>
                    <a:pt x="1141" y="798"/>
                  </a:lnTo>
                  <a:lnTo>
                    <a:pt x="1147" y="813"/>
                  </a:lnTo>
                  <a:lnTo>
                    <a:pt x="1177" y="799"/>
                  </a:lnTo>
                  <a:lnTo>
                    <a:pt x="1208" y="786"/>
                  </a:lnTo>
                  <a:lnTo>
                    <a:pt x="1236" y="775"/>
                  </a:lnTo>
                  <a:lnTo>
                    <a:pt x="1262" y="765"/>
                  </a:lnTo>
                  <a:lnTo>
                    <a:pt x="1309" y="748"/>
                  </a:lnTo>
                  <a:lnTo>
                    <a:pt x="1350" y="734"/>
                  </a:lnTo>
                  <a:lnTo>
                    <a:pt x="1382" y="725"/>
                  </a:lnTo>
                  <a:lnTo>
                    <a:pt x="1405" y="719"/>
                  </a:lnTo>
                  <a:lnTo>
                    <a:pt x="1420" y="715"/>
                  </a:lnTo>
                  <a:lnTo>
                    <a:pt x="1425" y="714"/>
                  </a:lnTo>
                  <a:lnTo>
                    <a:pt x="1454" y="710"/>
                  </a:lnTo>
                  <a:lnTo>
                    <a:pt x="1481" y="708"/>
                  </a:lnTo>
                  <a:lnTo>
                    <a:pt x="1508" y="707"/>
                  </a:lnTo>
                  <a:lnTo>
                    <a:pt x="1532" y="707"/>
                  </a:lnTo>
                  <a:lnTo>
                    <a:pt x="1555" y="709"/>
                  </a:lnTo>
                  <a:lnTo>
                    <a:pt x="1576" y="713"/>
                  </a:lnTo>
                  <a:lnTo>
                    <a:pt x="1597" y="717"/>
                  </a:lnTo>
                  <a:lnTo>
                    <a:pt x="1615" y="723"/>
                  </a:lnTo>
                  <a:lnTo>
                    <a:pt x="1634" y="729"/>
                  </a:lnTo>
                  <a:lnTo>
                    <a:pt x="1650" y="737"/>
                  </a:lnTo>
                  <a:lnTo>
                    <a:pt x="1665" y="745"/>
                  </a:lnTo>
                  <a:lnTo>
                    <a:pt x="1679" y="754"/>
                  </a:lnTo>
                  <a:lnTo>
                    <a:pt x="1692" y="763"/>
                  </a:lnTo>
                  <a:lnTo>
                    <a:pt x="1703" y="773"/>
                  </a:lnTo>
                  <a:lnTo>
                    <a:pt x="1714" y="783"/>
                  </a:lnTo>
                  <a:lnTo>
                    <a:pt x="1724" y="794"/>
                  </a:lnTo>
                  <a:lnTo>
                    <a:pt x="1733" y="804"/>
                  </a:lnTo>
                  <a:lnTo>
                    <a:pt x="1740" y="815"/>
                  </a:lnTo>
                  <a:lnTo>
                    <a:pt x="1748" y="827"/>
                  </a:lnTo>
                  <a:lnTo>
                    <a:pt x="1754" y="837"/>
                  </a:lnTo>
                  <a:lnTo>
                    <a:pt x="1764" y="858"/>
                  </a:lnTo>
                  <a:lnTo>
                    <a:pt x="1772" y="876"/>
                  </a:lnTo>
                  <a:lnTo>
                    <a:pt x="1781" y="904"/>
                  </a:lnTo>
                  <a:lnTo>
                    <a:pt x="1784" y="915"/>
                  </a:lnTo>
                  <a:lnTo>
                    <a:pt x="1782" y="934"/>
                  </a:lnTo>
                  <a:lnTo>
                    <a:pt x="1779" y="952"/>
                  </a:lnTo>
                  <a:lnTo>
                    <a:pt x="1774" y="970"/>
                  </a:lnTo>
                  <a:lnTo>
                    <a:pt x="1769" y="986"/>
                  </a:lnTo>
                  <a:lnTo>
                    <a:pt x="1762" y="1001"/>
                  </a:lnTo>
                  <a:lnTo>
                    <a:pt x="1754" y="1015"/>
                  </a:lnTo>
                  <a:lnTo>
                    <a:pt x="1745" y="1028"/>
                  </a:lnTo>
                  <a:lnTo>
                    <a:pt x="1735" y="1040"/>
                  </a:lnTo>
                  <a:lnTo>
                    <a:pt x="1725" y="1051"/>
                  </a:lnTo>
                  <a:lnTo>
                    <a:pt x="1714" y="1061"/>
                  </a:lnTo>
                  <a:lnTo>
                    <a:pt x="1702" y="1071"/>
                  </a:lnTo>
                  <a:lnTo>
                    <a:pt x="1689" y="1079"/>
                  </a:lnTo>
                  <a:lnTo>
                    <a:pt x="1676" y="1087"/>
                  </a:lnTo>
                  <a:lnTo>
                    <a:pt x="1663" y="1094"/>
                  </a:lnTo>
                  <a:lnTo>
                    <a:pt x="1650" y="1100"/>
                  </a:lnTo>
                  <a:lnTo>
                    <a:pt x="1637" y="1106"/>
                  </a:lnTo>
                  <a:lnTo>
                    <a:pt x="1609" y="1116"/>
                  </a:lnTo>
                  <a:lnTo>
                    <a:pt x="1584" y="1123"/>
                  </a:lnTo>
                  <a:lnTo>
                    <a:pt x="1560" y="1129"/>
                  </a:lnTo>
                  <a:lnTo>
                    <a:pt x="1538" y="1132"/>
                  </a:lnTo>
                  <a:lnTo>
                    <a:pt x="1506" y="1136"/>
                  </a:lnTo>
                  <a:lnTo>
                    <a:pt x="1494" y="1137"/>
                  </a:lnTo>
                  <a:lnTo>
                    <a:pt x="1471" y="1133"/>
                  </a:lnTo>
                  <a:lnTo>
                    <a:pt x="1449" y="1128"/>
                  </a:lnTo>
                  <a:lnTo>
                    <a:pt x="1426" y="1122"/>
                  </a:lnTo>
                  <a:lnTo>
                    <a:pt x="1402" y="1114"/>
                  </a:lnTo>
                  <a:lnTo>
                    <a:pt x="1378" y="1105"/>
                  </a:lnTo>
                  <a:lnTo>
                    <a:pt x="1354" y="1095"/>
                  </a:lnTo>
                  <a:lnTo>
                    <a:pt x="1329" y="1085"/>
                  </a:lnTo>
                  <a:lnTo>
                    <a:pt x="1305" y="1075"/>
                  </a:lnTo>
                  <a:lnTo>
                    <a:pt x="1259" y="1052"/>
                  </a:lnTo>
                  <a:lnTo>
                    <a:pt x="1216" y="1030"/>
                  </a:lnTo>
                  <a:lnTo>
                    <a:pt x="1176" y="1009"/>
                  </a:lnTo>
                  <a:lnTo>
                    <a:pt x="1143" y="989"/>
                  </a:lnTo>
                  <a:lnTo>
                    <a:pt x="1137" y="1004"/>
                  </a:lnTo>
                  <a:lnTo>
                    <a:pt x="1131" y="1018"/>
                  </a:lnTo>
                  <a:lnTo>
                    <a:pt x="1193" y="1042"/>
                  </a:lnTo>
                  <a:lnTo>
                    <a:pt x="1245" y="1064"/>
                  </a:lnTo>
                  <a:lnTo>
                    <a:pt x="1290" y="1085"/>
                  </a:lnTo>
                  <a:lnTo>
                    <a:pt x="1327" y="1104"/>
                  </a:lnTo>
                  <a:lnTo>
                    <a:pt x="1357" y="1121"/>
                  </a:lnTo>
                  <a:lnTo>
                    <a:pt x="1378" y="1133"/>
                  </a:lnTo>
                  <a:lnTo>
                    <a:pt x="1390" y="1140"/>
                  </a:lnTo>
                  <a:lnTo>
                    <a:pt x="1395" y="1143"/>
                  </a:lnTo>
                  <a:lnTo>
                    <a:pt x="1418" y="1161"/>
                  </a:lnTo>
                  <a:lnTo>
                    <a:pt x="1439" y="1178"/>
                  </a:lnTo>
                  <a:lnTo>
                    <a:pt x="1458" y="1196"/>
                  </a:lnTo>
                  <a:lnTo>
                    <a:pt x="1475" y="1214"/>
                  </a:lnTo>
                  <a:lnTo>
                    <a:pt x="1490" y="1231"/>
                  </a:lnTo>
                  <a:lnTo>
                    <a:pt x="1503" y="1249"/>
                  </a:lnTo>
                  <a:lnTo>
                    <a:pt x="1514" y="1267"/>
                  </a:lnTo>
                  <a:lnTo>
                    <a:pt x="1524" y="1284"/>
                  </a:lnTo>
                  <a:lnTo>
                    <a:pt x="1531" y="1301"/>
                  </a:lnTo>
                  <a:lnTo>
                    <a:pt x="1538" y="1318"/>
                  </a:lnTo>
                  <a:lnTo>
                    <a:pt x="1542" y="1334"/>
                  </a:lnTo>
                  <a:lnTo>
                    <a:pt x="1546" y="1350"/>
                  </a:lnTo>
                  <a:lnTo>
                    <a:pt x="1548" y="1366"/>
                  </a:lnTo>
                  <a:lnTo>
                    <a:pt x="1550" y="1381"/>
                  </a:lnTo>
                  <a:lnTo>
                    <a:pt x="1550" y="1396"/>
                  </a:lnTo>
                  <a:lnTo>
                    <a:pt x="1549" y="1411"/>
                  </a:lnTo>
                  <a:lnTo>
                    <a:pt x="1548" y="1425"/>
                  </a:lnTo>
                  <a:lnTo>
                    <a:pt x="1546" y="1438"/>
                  </a:lnTo>
                  <a:lnTo>
                    <a:pt x="1543" y="1451"/>
                  </a:lnTo>
                  <a:lnTo>
                    <a:pt x="1540" y="1463"/>
                  </a:lnTo>
                  <a:lnTo>
                    <a:pt x="1533" y="1484"/>
                  </a:lnTo>
                  <a:lnTo>
                    <a:pt x="1526" y="1503"/>
                  </a:lnTo>
                  <a:lnTo>
                    <a:pt x="1512" y="1528"/>
                  </a:lnTo>
                  <a:lnTo>
                    <a:pt x="1506" y="1538"/>
                  </a:lnTo>
                  <a:lnTo>
                    <a:pt x="1491" y="1552"/>
                  </a:lnTo>
                  <a:lnTo>
                    <a:pt x="1475" y="1562"/>
                  </a:lnTo>
                  <a:lnTo>
                    <a:pt x="1460" y="1572"/>
                  </a:lnTo>
                  <a:lnTo>
                    <a:pt x="1445" y="1579"/>
                  </a:lnTo>
                  <a:lnTo>
                    <a:pt x="1429" y="1585"/>
                  </a:lnTo>
                  <a:lnTo>
                    <a:pt x="1414" y="1589"/>
                  </a:lnTo>
                  <a:lnTo>
                    <a:pt x="1399" y="1592"/>
                  </a:lnTo>
                  <a:lnTo>
                    <a:pt x="1383" y="1593"/>
                  </a:lnTo>
                  <a:lnTo>
                    <a:pt x="1368" y="1594"/>
                  </a:lnTo>
                  <a:lnTo>
                    <a:pt x="1353" y="1593"/>
                  </a:lnTo>
                  <a:lnTo>
                    <a:pt x="1338" y="1591"/>
                  </a:lnTo>
                  <a:lnTo>
                    <a:pt x="1322" y="1588"/>
                  </a:lnTo>
                  <a:lnTo>
                    <a:pt x="1308" y="1585"/>
                  </a:lnTo>
                  <a:lnTo>
                    <a:pt x="1293" y="1580"/>
                  </a:lnTo>
                  <a:lnTo>
                    <a:pt x="1280" y="1576"/>
                  </a:lnTo>
                  <a:lnTo>
                    <a:pt x="1266" y="1570"/>
                  </a:lnTo>
                  <a:lnTo>
                    <a:pt x="1241" y="1558"/>
                  </a:lnTo>
                  <a:lnTo>
                    <a:pt x="1218" y="1545"/>
                  </a:lnTo>
                  <a:lnTo>
                    <a:pt x="1197" y="1531"/>
                  </a:lnTo>
                  <a:lnTo>
                    <a:pt x="1178" y="1518"/>
                  </a:lnTo>
                  <a:lnTo>
                    <a:pt x="1153" y="1498"/>
                  </a:lnTo>
                  <a:lnTo>
                    <a:pt x="1144" y="1490"/>
                  </a:lnTo>
                  <a:lnTo>
                    <a:pt x="1131" y="1472"/>
                  </a:lnTo>
                  <a:lnTo>
                    <a:pt x="1119" y="1453"/>
                  </a:lnTo>
                  <a:lnTo>
                    <a:pt x="1107" y="1432"/>
                  </a:lnTo>
                  <a:lnTo>
                    <a:pt x="1096" y="1411"/>
                  </a:lnTo>
                  <a:lnTo>
                    <a:pt x="1085" y="1387"/>
                  </a:lnTo>
                  <a:lnTo>
                    <a:pt x="1075" y="1364"/>
                  </a:lnTo>
                  <a:lnTo>
                    <a:pt x="1065" y="1340"/>
                  </a:lnTo>
                  <a:lnTo>
                    <a:pt x="1056" y="1316"/>
                  </a:lnTo>
                  <a:lnTo>
                    <a:pt x="1038" y="1268"/>
                  </a:lnTo>
                  <a:lnTo>
                    <a:pt x="1023" y="1221"/>
                  </a:lnTo>
                  <a:lnTo>
                    <a:pt x="1011" y="1179"/>
                  </a:lnTo>
                  <a:lnTo>
                    <a:pt x="1001" y="1141"/>
                  </a:lnTo>
                  <a:lnTo>
                    <a:pt x="987" y="1147"/>
                  </a:lnTo>
                  <a:lnTo>
                    <a:pt x="972" y="1152"/>
                  </a:lnTo>
                  <a:lnTo>
                    <a:pt x="998" y="1211"/>
                  </a:lnTo>
                  <a:lnTo>
                    <a:pt x="1019" y="1265"/>
                  </a:lnTo>
                  <a:lnTo>
                    <a:pt x="1036" y="1311"/>
                  </a:lnTo>
                  <a:lnTo>
                    <a:pt x="1050" y="1350"/>
                  </a:lnTo>
                  <a:lnTo>
                    <a:pt x="1059" y="1382"/>
                  </a:lnTo>
                  <a:lnTo>
                    <a:pt x="1065" y="1406"/>
                  </a:lnTo>
                  <a:lnTo>
                    <a:pt x="1068" y="1420"/>
                  </a:lnTo>
                  <a:lnTo>
                    <a:pt x="1069" y="1425"/>
                  </a:lnTo>
                  <a:lnTo>
                    <a:pt x="1074" y="1454"/>
                  </a:lnTo>
                  <a:lnTo>
                    <a:pt x="1076" y="1481"/>
                  </a:lnTo>
                  <a:lnTo>
                    <a:pt x="1077" y="1507"/>
                  </a:lnTo>
                  <a:lnTo>
                    <a:pt x="1076" y="1531"/>
                  </a:lnTo>
                  <a:lnTo>
                    <a:pt x="1074" y="1555"/>
                  </a:lnTo>
                  <a:lnTo>
                    <a:pt x="1071" y="1577"/>
                  </a:lnTo>
                  <a:lnTo>
                    <a:pt x="1066" y="1597"/>
                  </a:lnTo>
                  <a:lnTo>
                    <a:pt x="1061" y="1615"/>
                  </a:lnTo>
                  <a:lnTo>
                    <a:pt x="1054" y="1633"/>
                  </a:lnTo>
                  <a:lnTo>
                    <a:pt x="1047" y="1649"/>
                  </a:lnTo>
                  <a:lnTo>
                    <a:pt x="1038" y="1664"/>
                  </a:lnTo>
                  <a:lnTo>
                    <a:pt x="1029" y="1678"/>
                  </a:lnTo>
                  <a:lnTo>
                    <a:pt x="1019" y="1692"/>
                  </a:lnTo>
                  <a:lnTo>
                    <a:pt x="1010" y="1703"/>
                  </a:lnTo>
                  <a:lnTo>
                    <a:pt x="999" y="1714"/>
                  </a:lnTo>
                  <a:lnTo>
                    <a:pt x="989" y="1724"/>
                  </a:lnTo>
                  <a:lnTo>
                    <a:pt x="978" y="1733"/>
                  </a:lnTo>
                  <a:lnTo>
                    <a:pt x="967" y="1740"/>
                  </a:lnTo>
                  <a:lnTo>
                    <a:pt x="957" y="1747"/>
                  </a:lnTo>
                  <a:lnTo>
                    <a:pt x="946" y="1754"/>
                  </a:lnTo>
                  <a:lnTo>
                    <a:pt x="926" y="1764"/>
                  </a:lnTo>
                  <a:lnTo>
                    <a:pt x="908" y="1771"/>
                  </a:lnTo>
                  <a:lnTo>
                    <a:pt x="879" y="1780"/>
                  </a:lnTo>
                  <a:lnTo>
                    <a:pt x="868" y="1782"/>
                  </a:lnTo>
                  <a:lnTo>
                    <a:pt x="849" y="1781"/>
                  </a:lnTo>
                  <a:lnTo>
                    <a:pt x="831" y="1778"/>
                  </a:lnTo>
                  <a:lnTo>
                    <a:pt x="813" y="1774"/>
                  </a:lnTo>
                  <a:lnTo>
                    <a:pt x="797" y="1768"/>
                  </a:lnTo>
                  <a:lnTo>
                    <a:pt x="782" y="1762"/>
                  </a:lnTo>
                  <a:lnTo>
                    <a:pt x="769" y="1754"/>
                  </a:lnTo>
                  <a:lnTo>
                    <a:pt x="756" y="1745"/>
                  </a:lnTo>
                  <a:lnTo>
                    <a:pt x="743" y="1735"/>
                  </a:lnTo>
                  <a:lnTo>
                    <a:pt x="732" y="1724"/>
                  </a:lnTo>
                  <a:lnTo>
                    <a:pt x="722" y="1713"/>
                  </a:lnTo>
                  <a:lnTo>
                    <a:pt x="712" y="1701"/>
                  </a:lnTo>
                  <a:lnTo>
                    <a:pt x="704" y="1689"/>
                  </a:lnTo>
                  <a:lnTo>
                    <a:pt x="696" y="1675"/>
                  </a:lnTo>
                  <a:lnTo>
                    <a:pt x="689" y="1662"/>
                  </a:lnTo>
                  <a:lnTo>
                    <a:pt x="683" y="1649"/>
                  </a:lnTo>
                  <a:lnTo>
                    <a:pt x="677" y="1635"/>
                  </a:lnTo>
                  <a:lnTo>
                    <a:pt x="668" y="1609"/>
                  </a:lnTo>
                  <a:lnTo>
                    <a:pt x="660" y="1583"/>
                  </a:lnTo>
                  <a:lnTo>
                    <a:pt x="655" y="1559"/>
                  </a:lnTo>
                  <a:lnTo>
                    <a:pt x="651" y="1537"/>
                  </a:lnTo>
                  <a:lnTo>
                    <a:pt x="648" y="1505"/>
                  </a:lnTo>
                  <a:lnTo>
                    <a:pt x="647" y="1493"/>
                  </a:lnTo>
                  <a:lnTo>
                    <a:pt x="651" y="1471"/>
                  </a:lnTo>
                  <a:lnTo>
                    <a:pt x="656" y="1449"/>
                  </a:lnTo>
                  <a:lnTo>
                    <a:pt x="662" y="1426"/>
                  </a:lnTo>
                  <a:lnTo>
                    <a:pt x="669" y="1403"/>
                  </a:lnTo>
                  <a:lnTo>
                    <a:pt x="678" y="1378"/>
                  </a:lnTo>
                  <a:lnTo>
                    <a:pt x="687" y="1354"/>
                  </a:lnTo>
                  <a:lnTo>
                    <a:pt x="697" y="1331"/>
                  </a:lnTo>
                  <a:lnTo>
                    <a:pt x="707" y="1307"/>
                  </a:lnTo>
                  <a:lnTo>
                    <a:pt x="729" y="1262"/>
                  </a:lnTo>
                  <a:lnTo>
                    <a:pt x="751" y="1218"/>
                  </a:lnTo>
                  <a:lnTo>
                    <a:pt x="773" y="1179"/>
                  </a:lnTo>
                  <a:lnTo>
                    <a:pt x="793" y="1145"/>
                  </a:lnTo>
                  <a:lnTo>
                    <a:pt x="779" y="1139"/>
                  </a:lnTo>
                  <a:lnTo>
                    <a:pt x="765" y="1132"/>
                  </a:lnTo>
                  <a:lnTo>
                    <a:pt x="740" y="1193"/>
                  </a:lnTo>
                  <a:lnTo>
                    <a:pt x="718" y="1245"/>
                  </a:lnTo>
                  <a:lnTo>
                    <a:pt x="697" y="1291"/>
                  </a:lnTo>
                  <a:lnTo>
                    <a:pt x="678" y="1327"/>
                  </a:lnTo>
                  <a:lnTo>
                    <a:pt x="663" y="1356"/>
                  </a:lnTo>
                  <a:lnTo>
                    <a:pt x="651" y="1376"/>
                  </a:lnTo>
                  <a:lnTo>
                    <a:pt x="643" y="1389"/>
                  </a:lnTo>
                  <a:lnTo>
                    <a:pt x="641" y="13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26000" y="6094800"/>
              <a:ext cx="50760" cy="32760"/>
            </a:xfrm>
            <a:custGeom>
              <a:avLst/>
              <a:gdLst/>
              <a:ahLst/>
              <a:rect l="l" t="t" r="r" b="b"/>
              <a:pathLst>
                <a:path w="505" h="506">
                  <a:moveTo>
                    <a:pt x="439" y="82"/>
                  </a:moveTo>
                  <a:lnTo>
                    <a:pt x="430" y="72"/>
                  </a:lnTo>
                  <a:lnTo>
                    <a:pt x="420" y="64"/>
                  </a:lnTo>
                  <a:lnTo>
                    <a:pt x="411" y="56"/>
                  </a:lnTo>
                  <a:lnTo>
                    <a:pt x="400" y="48"/>
                  </a:lnTo>
                  <a:lnTo>
                    <a:pt x="389" y="40"/>
                  </a:lnTo>
                  <a:lnTo>
                    <a:pt x="379" y="33"/>
                  </a:lnTo>
                  <a:lnTo>
                    <a:pt x="368" y="28"/>
                  </a:lnTo>
                  <a:lnTo>
                    <a:pt x="357" y="22"/>
                  </a:lnTo>
                  <a:lnTo>
                    <a:pt x="346" y="17"/>
                  </a:lnTo>
                  <a:lnTo>
                    <a:pt x="335" y="13"/>
                  </a:lnTo>
                  <a:lnTo>
                    <a:pt x="323" y="9"/>
                  </a:lnTo>
                  <a:lnTo>
                    <a:pt x="311" y="6"/>
                  </a:lnTo>
                  <a:lnTo>
                    <a:pt x="299" y="4"/>
                  </a:lnTo>
                  <a:lnTo>
                    <a:pt x="288" y="2"/>
                  </a:lnTo>
                  <a:lnTo>
                    <a:pt x="276" y="1"/>
                  </a:lnTo>
                  <a:lnTo>
                    <a:pt x="263" y="0"/>
                  </a:lnTo>
                  <a:lnTo>
                    <a:pt x="250" y="0"/>
                  </a:lnTo>
                  <a:lnTo>
                    <a:pt x="238" y="0"/>
                  </a:lnTo>
                  <a:lnTo>
                    <a:pt x="226" y="1"/>
                  </a:lnTo>
                  <a:lnTo>
                    <a:pt x="214" y="2"/>
                  </a:lnTo>
                  <a:lnTo>
                    <a:pt x="203" y="4"/>
                  </a:lnTo>
                  <a:lnTo>
                    <a:pt x="191" y="7"/>
                  </a:lnTo>
                  <a:lnTo>
                    <a:pt x="179" y="10"/>
                  </a:lnTo>
                  <a:lnTo>
                    <a:pt x="167" y="14"/>
                  </a:lnTo>
                  <a:lnTo>
                    <a:pt x="156" y="18"/>
                  </a:lnTo>
                  <a:lnTo>
                    <a:pt x="145" y="23"/>
                  </a:lnTo>
                  <a:lnTo>
                    <a:pt x="134" y="29"/>
                  </a:lnTo>
                  <a:lnTo>
                    <a:pt x="123" y="35"/>
                  </a:lnTo>
                  <a:lnTo>
                    <a:pt x="111" y="42"/>
                  </a:lnTo>
                  <a:lnTo>
                    <a:pt x="101" y="50"/>
                  </a:lnTo>
                  <a:lnTo>
                    <a:pt x="91" y="58"/>
                  </a:lnTo>
                  <a:lnTo>
                    <a:pt x="81" y="66"/>
                  </a:lnTo>
                  <a:lnTo>
                    <a:pt x="72" y="75"/>
                  </a:lnTo>
                  <a:lnTo>
                    <a:pt x="63" y="85"/>
                  </a:lnTo>
                  <a:lnTo>
                    <a:pt x="55" y="95"/>
                  </a:lnTo>
                  <a:lnTo>
                    <a:pt x="47" y="104"/>
                  </a:lnTo>
                  <a:lnTo>
                    <a:pt x="40" y="115"/>
                  </a:lnTo>
                  <a:lnTo>
                    <a:pt x="34" y="125"/>
                  </a:lnTo>
                  <a:lnTo>
                    <a:pt x="28" y="136"/>
                  </a:lnTo>
                  <a:lnTo>
                    <a:pt x="22" y="147"/>
                  </a:lnTo>
                  <a:lnTo>
                    <a:pt x="17" y="158"/>
                  </a:lnTo>
                  <a:lnTo>
                    <a:pt x="13" y="170"/>
                  </a:lnTo>
                  <a:lnTo>
                    <a:pt x="10" y="181"/>
                  </a:lnTo>
                  <a:lnTo>
                    <a:pt x="6" y="194"/>
                  </a:lnTo>
                  <a:lnTo>
                    <a:pt x="4" y="206"/>
                  </a:lnTo>
                  <a:lnTo>
                    <a:pt x="2" y="218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4"/>
                  </a:lnTo>
                  <a:lnTo>
                    <a:pt x="0" y="266"/>
                  </a:lnTo>
                  <a:lnTo>
                    <a:pt x="1" y="278"/>
                  </a:lnTo>
                  <a:lnTo>
                    <a:pt x="2" y="290"/>
                  </a:lnTo>
                  <a:lnTo>
                    <a:pt x="4" y="302"/>
                  </a:lnTo>
                  <a:lnTo>
                    <a:pt x="7" y="314"/>
                  </a:lnTo>
                  <a:lnTo>
                    <a:pt x="10" y="325"/>
                  </a:lnTo>
                  <a:lnTo>
                    <a:pt x="14" y="338"/>
                  </a:lnTo>
                  <a:lnTo>
                    <a:pt x="18" y="349"/>
                  </a:lnTo>
                  <a:lnTo>
                    <a:pt x="23" y="361"/>
                  </a:lnTo>
                  <a:lnTo>
                    <a:pt x="29" y="372"/>
                  </a:lnTo>
                  <a:lnTo>
                    <a:pt x="35" y="383"/>
                  </a:lnTo>
                  <a:lnTo>
                    <a:pt x="42" y="393"/>
                  </a:lnTo>
                  <a:lnTo>
                    <a:pt x="49" y="403"/>
                  </a:lnTo>
                  <a:lnTo>
                    <a:pt x="57" y="414"/>
                  </a:lnTo>
                  <a:lnTo>
                    <a:pt x="66" y="423"/>
                  </a:lnTo>
                  <a:lnTo>
                    <a:pt x="75" y="433"/>
                  </a:lnTo>
                  <a:lnTo>
                    <a:pt x="84" y="441"/>
                  </a:lnTo>
                  <a:lnTo>
                    <a:pt x="94" y="450"/>
                  </a:lnTo>
                  <a:lnTo>
                    <a:pt x="104" y="457"/>
                  </a:lnTo>
                  <a:lnTo>
                    <a:pt x="114" y="464"/>
                  </a:lnTo>
                  <a:lnTo>
                    <a:pt x="125" y="471"/>
                  </a:lnTo>
                  <a:lnTo>
                    <a:pt x="136" y="478"/>
                  </a:lnTo>
                  <a:lnTo>
                    <a:pt x="147" y="483"/>
                  </a:lnTo>
                  <a:lnTo>
                    <a:pt x="158" y="488"/>
                  </a:lnTo>
                  <a:lnTo>
                    <a:pt x="170" y="492"/>
                  </a:lnTo>
                  <a:lnTo>
                    <a:pt x="181" y="496"/>
                  </a:lnTo>
                  <a:lnTo>
                    <a:pt x="193" y="499"/>
                  </a:lnTo>
                  <a:lnTo>
                    <a:pt x="205" y="501"/>
                  </a:lnTo>
                  <a:lnTo>
                    <a:pt x="217" y="503"/>
                  </a:lnTo>
                  <a:lnTo>
                    <a:pt x="229" y="505"/>
                  </a:lnTo>
                  <a:lnTo>
                    <a:pt x="241" y="505"/>
                  </a:lnTo>
                  <a:lnTo>
                    <a:pt x="253" y="506"/>
                  </a:lnTo>
                  <a:lnTo>
                    <a:pt x="266" y="505"/>
                  </a:lnTo>
                  <a:lnTo>
                    <a:pt x="278" y="504"/>
                  </a:lnTo>
                  <a:lnTo>
                    <a:pt x="290" y="503"/>
                  </a:lnTo>
                  <a:lnTo>
                    <a:pt x="302" y="501"/>
                  </a:lnTo>
                  <a:lnTo>
                    <a:pt x="314" y="498"/>
                  </a:lnTo>
                  <a:lnTo>
                    <a:pt x="325" y="495"/>
                  </a:lnTo>
                  <a:lnTo>
                    <a:pt x="337" y="491"/>
                  </a:lnTo>
                  <a:lnTo>
                    <a:pt x="348" y="487"/>
                  </a:lnTo>
                  <a:lnTo>
                    <a:pt x="360" y="481"/>
                  </a:lnTo>
                  <a:lnTo>
                    <a:pt x="371" y="476"/>
                  </a:lnTo>
                  <a:lnTo>
                    <a:pt x="381" y="469"/>
                  </a:lnTo>
                  <a:lnTo>
                    <a:pt x="392" y="462"/>
                  </a:lnTo>
                  <a:lnTo>
                    <a:pt x="402" y="455"/>
                  </a:lnTo>
                  <a:lnTo>
                    <a:pt x="414" y="447"/>
                  </a:lnTo>
                  <a:lnTo>
                    <a:pt x="423" y="438"/>
                  </a:lnTo>
                  <a:lnTo>
                    <a:pt x="433" y="429"/>
                  </a:lnTo>
                  <a:lnTo>
                    <a:pt x="441" y="420"/>
                  </a:lnTo>
                  <a:lnTo>
                    <a:pt x="449" y="410"/>
                  </a:lnTo>
                  <a:lnTo>
                    <a:pt x="457" y="400"/>
                  </a:lnTo>
                  <a:lnTo>
                    <a:pt x="464" y="390"/>
                  </a:lnTo>
                  <a:lnTo>
                    <a:pt x="471" y="380"/>
                  </a:lnTo>
                  <a:lnTo>
                    <a:pt x="476" y="369"/>
                  </a:lnTo>
                  <a:lnTo>
                    <a:pt x="482" y="358"/>
                  </a:lnTo>
                  <a:lnTo>
                    <a:pt x="487" y="347"/>
                  </a:lnTo>
                  <a:lnTo>
                    <a:pt x="491" y="335"/>
                  </a:lnTo>
                  <a:lnTo>
                    <a:pt x="495" y="323"/>
                  </a:lnTo>
                  <a:lnTo>
                    <a:pt x="498" y="311"/>
                  </a:lnTo>
                  <a:lnTo>
                    <a:pt x="500" y="299"/>
                  </a:lnTo>
                  <a:lnTo>
                    <a:pt x="502" y="287"/>
                  </a:lnTo>
                  <a:lnTo>
                    <a:pt x="503" y="275"/>
                  </a:lnTo>
                  <a:lnTo>
                    <a:pt x="504" y="263"/>
                  </a:lnTo>
                  <a:lnTo>
                    <a:pt x="505" y="251"/>
                  </a:lnTo>
                  <a:lnTo>
                    <a:pt x="504" y="239"/>
                  </a:lnTo>
                  <a:lnTo>
                    <a:pt x="503" y="227"/>
                  </a:lnTo>
                  <a:lnTo>
                    <a:pt x="502" y="215"/>
                  </a:lnTo>
                  <a:lnTo>
                    <a:pt x="500" y="203"/>
                  </a:lnTo>
                  <a:lnTo>
                    <a:pt x="497" y="191"/>
                  </a:lnTo>
                  <a:lnTo>
                    <a:pt x="494" y="179"/>
                  </a:lnTo>
                  <a:lnTo>
                    <a:pt x="490" y="167"/>
                  </a:lnTo>
                  <a:lnTo>
                    <a:pt x="486" y="156"/>
                  </a:lnTo>
                  <a:lnTo>
                    <a:pt x="481" y="144"/>
                  </a:lnTo>
                  <a:lnTo>
                    <a:pt x="475" y="133"/>
                  </a:lnTo>
                  <a:lnTo>
                    <a:pt x="469" y="122"/>
                  </a:lnTo>
                  <a:lnTo>
                    <a:pt x="462" y="112"/>
                  </a:lnTo>
                  <a:lnTo>
                    <a:pt x="455" y="101"/>
                  </a:lnTo>
                  <a:lnTo>
                    <a:pt x="447" y="91"/>
                  </a:lnTo>
                  <a:lnTo>
                    <a:pt x="439" y="82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3240" y="5950080"/>
              <a:ext cx="214200" cy="142560"/>
            </a:xfrm>
            <a:custGeom>
              <a:avLst/>
              <a:gdLst/>
              <a:ahLst/>
              <a:rect l="l" t="t" r="r" b="b"/>
              <a:pathLst>
                <a:path w="2164" h="2164">
                  <a:moveTo>
                    <a:pt x="777" y="1692"/>
                  </a:moveTo>
                  <a:lnTo>
                    <a:pt x="755" y="1721"/>
                  </a:lnTo>
                  <a:lnTo>
                    <a:pt x="734" y="1747"/>
                  </a:lnTo>
                  <a:lnTo>
                    <a:pt x="711" y="1770"/>
                  </a:lnTo>
                  <a:lnTo>
                    <a:pt x="690" y="1790"/>
                  </a:lnTo>
                  <a:lnTo>
                    <a:pt x="669" y="1809"/>
                  </a:lnTo>
                  <a:lnTo>
                    <a:pt x="648" y="1824"/>
                  </a:lnTo>
                  <a:lnTo>
                    <a:pt x="627" y="1838"/>
                  </a:lnTo>
                  <a:lnTo>
                    <a:pt x="606" y="1849"/>
                  </a:lnTo>
                  <a:lnTo>
                    <a:pt x="585" y="1859"/>
                  </a:lnTo>
                  <a:lnTo>
                    <a:pt x="564" y="1866"/>
                  </a:lnTo>
                  <a:lnTo>
                    <a:pt x="544" y="1872"/>
                  </a:lnTo>
                  <a:lnTo>
                    <a:pt x="525" y="1876"/>
                  </a:lnTo>
                  <a:lnTo>
                    <a:pt x="506" y="1879"/>
                  </a:lnTo>
                  <a:lnTo>
                    <a:pt x="487" y="1881"/>
                  </a:lnTo>
                  <a:lnTo>
                    <a:pt x="469" y="1881"/>
                  </a:lnTo>
                  <a:lnTo>
                    <a:pt x="452" y="1881"/>
                  </a:lnTo>
                  <a:lnTo>
                    <a:pt x="435" y="1879"/>
                  </a:lnTo>
                  <a:lnTo>
                    <a:pt x="418" y="1877"/>
                  </a:lnTo>
                  <a:lnTo>
                    <a:pt x="403" y="1873"/>
                  </a:lnTo>
                  <a:lnTo>
                    <a:pt x="389" y="1870"/>
                  </a:lnTo>
                  <a:lnTo>
                    <a:pt x="375" y="1866"/>
                  </a:lnTo>
                  <a:lnTo>
                    <a:pt x="362" y="1861"/>
                  </a:lnTo>
                  <a:lnTo>
                    <a:pt x="351" y="1857"/>
                  </a:lnTo>
                  <a:lnTo>
                    <a:pt x="340" y="1852"/>
                  </a:lnTo>
                  <a:lnTo>
                    <a:pt x="309" y="1835"/>
                  </a:lnTo>
                  <a:lnTo>
                    <a:pt x="298" y="1828"/>
                  </a:lnTo>
                  <a:lnTo>
                    <a:pt x="281" y="1810"/>
                  </a:lnTo>
                  <a:lnTo>
                    <a:pt x="268" y="1791"/>
                  </a:lnTo>
                  <a:lnTo>
                    <a:pt x="257" y="1773"/>
                  </a:lnTo>
                  <a:lnTo>
                    <a:pt x="248" y="1754"/>
                  </a:lnTo>
                  <a:lnTo>
                    <a:pt x="241" y="1735"/>
                  </a:lnTo>
                  <a:lnTo>
                    <a:pt x="235" y="1717"/>
                  </a:lnTo>
                  <a:lnTo>
                    <a:pt x="232" y="1698"/>
                  </a:lnTo>
                  <a:lnTo>
                    <a:pt x="230" y="1679"/>
                  </a:lnTo>
                  <a:lnTo>
                    <a:pt x="229" y="1660"/>
                  </a:lnTo>
                  <a:lnTo>
                    <a:pt x="230" y="1641"/>
                  </a:lnTo>
                  <a:lnTo>
                    <a:pt x="233" y="1623"/>
                  </a:lnTo>
                  <a:lnTo>
                    <a:pt x="236" y="1605"/>
                  </a:lnTo>
                  <a:lnTo>
                    <a:pt x="240" y="1587"/>
                  </a:lnTo>
                  <a:lnTo>
                    <a:pt x="245" y="1570"/>
                  </a:lnTo>
                  <a:lnTo>
                    <a:pt x="251" y="1553"/>
                  </a:lnTo>
                  <a:lnTo>
                    <a:pt x="258" y="1537"/>
                  </a:lnTo>
                  <a:lnTo>
                    <a:pt x="265" y="1521"/>
                  </a:lnTo>
                  <a:lnTo>
                    <a:pt x="272" y="1505"/>
                  </a:lnTo>
                  <a:lnTo>
                    <a:pt x="280" y="1491"/>
                  </a:lnTo>
                  <a:lnTo>
                    <a:pt x="289" y="1477"/>
                  </a:lnTo>
                  <a:lnTo>
                    <a:pt x="305" y="1452"/>
                  </a:lnTo>
                  <a:lnTo>
                    <a:pt x="320" y="1430"/>
                  </a:lnTo>
                  <a:lnTo>
                    <a:pt x="345" y="1400"/>
                  </a:lnTo>
                  <a:lnTo>
                    <a:pt x="355" y="1389"/>
                  </a:lnTo>
                  <a:lnTo>
                    <a:pt x="376" y="1373"/>
                  </a:lnTo>
                  <a:lnTo>
                    <a:pt x="400" y="1357"/>
                  </a:lnTo>
                  <a:lnTo>
                    <a:pt x="426" y="1343"/>
                  </a:lnTo>
                  <a:lnTo>
                    <a:pt x="453" y="1329"/>
                  </a:lnTo>
                  <a:lnTo>
                    <a:pt x="481" y="1316"/>
                  </a:lnTo>
                  <a:lnTo>
                    <a:pt x="510" y="1304"/>
                  </a:lnTo>
                  <a:lnTo>
                    <a:pt x="539" y="1292"/>
                  </a:lnTo>
                  <a:lnTo>
                    <a:pt x="568" y="1280"/>
                  </a:lnTo>
                  <a:lnTo>
                    <a:pt x="628" y="1260"/>
                  </a:lnTo>
                  <a:lnTo>
                    <a:pt x="684" y="1242"/>
                  </a:lnTo>
                  <a:lnTo>
                    <a:pt x="737" y="1227"/>
                  </a:lnTo>
                  <a:lnTo>
                    <a:pt x="782" y="1214"/>
                  </a:lnTo>
                  <a:lnTo>
                    <a:pt x="778" y="1205"/>
                  </a:lnTo>
                  <a:lnTo>
                    <a:pt x="775" y="1196"/>
                  </a:lnTo>
                  <a:lnTo>
                    <a:pt x="772" y="1187"/>
                  </a:lnTo>
                  <a:lnTo>
                    <a:pt x="769" y="1178"/>
                  </a:lnTo>
                  <a:lnTo>
                    <a:pt x="732" y="1195"/>
                  </a:lnTo>
                  <a:lnTo>
                    <a:pt x="696" y="1210"/>
                  </a:lnTo>
                  <a:lnTo>
                    <a:pt x="662" y="1225"/>
                  </a:lnTo>
                  <a:lnTo>
                    <a:pt x="631" y="1237"/>
                  </a:lnTo>
                  <a:lnTo>
                    <a:pt x="573" y="1257"/>
                  </a:lnTo>
                  <a:lnTo>
                    <a:pt x="525" y="1273"/>
                  </a:lnTo>
                  <a:lnTo>
                    <a:pt x="487" y="1284"/>
                  </a:lnTo>
                  <a:lnTo>
                    <a:pt x="459" y="1292"/>
                  </a:lnTo>
                  <a:lnTo>
                    <a:pt x="441" y="1296"/>
                  </a:lnTo>
                  <a:lnTo>
                    <a:pt x="435" y="1297"/>
                  </a:lnTo>
                  <a:lnTo>
                    <a:pt x="399" y="1302"/>
                  </a:lnTo>
                  <a:lnTo>
                    <a:pt x="366" y="1305"/>
                  </a:lnTo>
                  <a:lnTo>
                    <a:pt x="334" y="1307"/>
                  </a:lnTo>
                  <a:lnTo>
                    <a:pt x="305" y="1306"/>
                  </a:lnTo>
                  <a:lnTo>
                    <a:pt x="276" y="1303"/>
                  </a:lnTo>
                  <a:lnTo>
                    <a:pt x="250" y="1299"/>
                  </a:lnTo>
                  <a:lnTo>
                    <a:pt x="226" y="1294"/>
                  </a:lnTo>
                  <a:lnTo>
                    <a:pt x="203" y="1287"/>
                  </a:lnTo>
                  <a:lnTo>
                    <a:pt x="182" y="1279"/>
                  </a:lnTo>
                  <a:lnTo>
                    <a:pt x="162" y="1270"/>
                  </a:lnTo>
                  <a:lnTo>
                    <a:pt x="144" y="1261"/>
                  </a:lnTo>
                  <a:lnTo>
                    <a:pt x="126" y="1250"/>
                  </a:lnTo>
                  <a:lnTo>
                    <a:pt x="110" y="1238"/>
                  </a:lnTo>
                  <a:lnTo>
                    <a:pt x="96" y="1226"/>
                  </a:lnTo>
                  <a:lnTo>
                    <a:pt x="83" y="1213"/>
                  </a:lnTo>
                  <a:lnTo>
                    <a:pt x="72" y="1200"/>
                  </a:lnTo>
                  <a:lnTo>
                    <a:pt x="61" y="1187"/>
                  </a:lnTo>
                  <a:lnTo>
                    <a:pt x="51" y="1174"/>
                  </a:lnTo>
                  <a:lnTo>
                    <a:pt x="43" y="1161"/>
                  </a:lnTo>
                  <a:lnTo>
                    <a:pt x="35" y="1148"/>
                  </a:lnTo>
                  <a:lnTo>
                    <a:pt x="28" y="1136"/>
                  </a:lnTo>
                  <a:lnTo>
                    <a:pt x="23" y="1124"/>
                  </a:lnTo>
                  <a:lnTo>
                    <a:pt x="18" y="1112"/>
                  </a:lnTo>
                  <a:lnTo>
                    <a:pt x="13" y="1102"/>
                  </a:lnTo>
                  <a:lnTo>
                    <a:pt x="3" y="1067"/>
                  </a:lnTo>
                  <a:lnTo>
                    <a:pt x="0" y="1054"/>
                  </a:lnTo>
                  <a:lnTo>
                    <a:pt x="2" y="1030"/>
                  </a:lnTo>
                  <a:lnTo>
                    <a:pt x="5" y="1008"/>
                  </a:lnTo>
                  <a:lnTo>
                    <a:pt x="10" y="987"/>
                  </a:lnTo>
                  <a:lnTo>
                    <a:pt x="17" y="968"/>
                  </a:lnTo>
                  <a:lnTo>
                    <a:pt x="25" y="949"/>
                  </a:lnTo>
                  <a:lnTo>
                    <a:pt x="35" y="932"/>
                  </a:lnTo>
                  <a:lnTo>
                    <a:pt x="46" y="916"/>
                  </a:lnTo>
                  <a:lnTo>
                    <a:pt x="58" y="901"/>
                  </a:lnTo>
                  <a:lnTo>
                    <a:pt x="71" y="888"/>
                  </a:lnTo>
                  <a:lnTo>
                    <a:pt x="84" y="876"/>
                  </a:lnTo>
                  <a:lnTo>
                    <a:pt x="99" y="864"/>
                  </a:lnTo>
                  <a:lnTo>
                    <a:pt x="114" y="854"/>
                  </a:lnTo>
                  <a:lnTo>
                    <a:pt x="129" y="844"/>
                  </a:lnTo>
                  <a:lnTo>
                    <a:pt x="146" y="836"/>
                  </a:lnTo>
                  <a:lnTo>
                    <a:pt x="162" y="828"/>
                  </a:lnTo>
                  <a:lnTo>
                    <a:pt x="179" y="821"/>
                  </a:lnTo>
                  <a:lnTo>
                    <a:pt x="195" y="815"/>
                  </a:lnTo>
                  <a:lnTo>
                    <a:pt x="211" y="810"/>
                  </a:lnTo>
                  <a:lnTo>
                    <a:pt x="227" y="805"/>
                  </a:lnTo>
                  <a:lnTo>
                    <a:pt x="242" y="801"/>
                  </a:lnTo>
                  <a:lnTo>
                    <a:pt x="271" y="795"/>
                  </a:lnTo>
                  <a:lnTo>
                    <a:pt x="298" y="789"/>
                  </a:lnTo>
                  <a:lnTo>
                    <a:pt x="337" y="784"/>
                  </a:lnTo>
                  <a:lnTo>
                    <a:pt x="352" y="784"/>
                  </a:lnTo>
                  <a:lnTo>
                    <a:pt x="378" y="788"/>
                  </a:lnTo>
                  <a:lnTo>
                    <a:pt x="406" y="796"/>
                  </a:lnTo>
                  <a:lnTo>
                    <a:pt x="436" y="804"/>
                  </a:lnTo>
                  <a:lnTo>
                    <a:pt x="465" y="813"/>
                  </a:lnTo>
                  <a:lnTo>
                    <a:pt x="494" y="824"/>
                  </a:lnTo>
                  <a:lnTo>
                    <a:pt x="524" y="835"/>
                  </a:lnTo>
                  <a:lnTo>
                    <a:pt x="553" y="848"/>
                  </a:lnTo>
                  <a:lnTo>
                    <a:pt x="583" y="861"/>
                  </a:lnTo>
                  <a:lnTo>
                    <a:pt x="640" y="888"/>
                  </a:lnTo>
                  <a:lnTo>
                    <a:pt x="693" y="915"/>
                  </a:lnTo>
                  <a:lnTo>
                    <a:pt x="741" y="943"/>
                  </a:lnTo>
                  <a:lnTo>
                    <a:pt x="781" y="966"/>
                  </a:lnTo>
                  <a:lnTo>
                    <a:pt x="785" y="957"/>
                  </a:lnTo>
                  <a:lnTo>
                    <a:pt x="789" y="948"/>
                  </a:lnTo>
                  <a:lnTo>
                    <a:pt x="793" y="940"/>
                  </a:lnTo>
                  <a:lnTo>
                    <a:pt x="797" y="930"/>
                  </a:lnTo>
                  <a:lnTo>
                    <a:pt x="759" y="916"/>
                  </a:lnTo>
                  <a:lnTo>
                    <a:pt x="723" y="901"/>
                  </a:lnTo>
                  <a:lnTo>
                    <a:pt x="688" y="887"/>
                  </a:lnTo>
                  <a:lnTo>
                    <a:pt x="656" y="873"/>
                  </a:lnTo>
                  <a:lnTo>
                    <a:pt x="601" y="847"/>
                  </a:lnTo>
                  <a:lnTo>
                    <a:pt x="554" y="824"/>
                  </a:lnTo>
                  <a:lnTo>
                    <a:pt x="519" y="805"/>
                  </a:lnTo>
                  <a:lnTo>
                    <a:pt x="493" y="789"/>
                  </a:lnTo>
                  <a:lnTo>
                    <a:pt x="477" y="780"/>
                  </a:lnTo>
                  <a:lnTo>
                    <a:pt x="472" y="776"/>
                  </a:lnTo>
                  <a:lnTo>
                    <a:pt x="444" y="755"/>
                  </a:lnTo>
                  <a:lnTo>
                    <a:pt x="417" y="734"/>
                  </a:lnTo>
                  <a:lnTo>
                    <a:pt x="394" y="712"/>
                  </a:lnTo>
                  <a:lnTo>
                    <a:pt x="374" y="691"/>
                  </a:lnTo>
                  <a:lnTo>
                    <a:pt x="356" y="670"/>
                  </a:lnTo>
                  <a:lnTo>
                    <a:pt x="340" y="648"/>
                  </a:lnTo>
                  <a:lnTo>
                    <a:pt x="327" y="626"/>
                  </a:lnTo>
                  <a:lnTo>
                    <a:pt x="316" y="605"/>
                  </a:lnTo>
                  <a:lnTo>
                    <a:pt x="306" y="585"/>
                  </a:lnTo>
                  <a:lnTo>
                    <a:pt x="299" y="565"/>
                  </a:lnTo>
                  <a:lnTo>
                    <a:pt x="293" y="545"/>
                  </a:lnTo>
                  <a:lnTo>
                    <a:pt x="289" y="525"/>
                  </a:lnTo>
                  <a:lnTo>
                    <a:pt x="286" y="506"/>
                  </a:lnTo>
                  <a:lnTo>
                    <a:pt x="284" y="487"/>
                  </a:lnTo>
                  <a:lnTo>
                    <a:pt x="284" y="469"/>
                  </a:lnTo>
                  <a:lnTo>
                    <a:pt x="285" y="452"/>
                  </a:lnTo>
                  <a:lnTo>
                    <a:pt x="286" y="435"/>
                  </a:lnTo>
                  <a:lnTo>
                    <a:pt x="289" y="419"/>
                  </a:lnTo>
                  <a:lnTo>
                    <a:pt x="292" y="404"/>
                  </a:lnTo>
                  <a:lnTo>
                    <a:pt x="296" y="389"/>
                  </a:lnTo>
                  <a:lnTo>
                    <a:pt x="304" y="363"/>
                  </a:lnTo>
                  <a:lnTo>
                    <a:pt x="313" y="340"/>
                  </a:lnTo>
                  <a:lnTo>
                    <a:pt x="330" y="309"/>
                  </a:lnTo>
                  <a:lnTo>
                    <a:pt x="337" y="298"/>
                  </a:lnTo>
                  <a:lnTo>
                    <a:pt x="355" y="282"/>
                  </a:lnTo>
                  <a:lnTo>
                    <a:pt x="373" y="269"/>
                  </a:lnTo>
                  <a:lnTo>
                    <a:pt x="392" y="258"/>
                  </a:lnTo>
                  <a:lnTo>
                    <a:pt x="410" y="249"/>
                  </a:lnTo>
                  <a:lnTo>
                    <a:pt x="430" y="242"/>
                  </a:lnTo>
                  <a:lnTo>
                    <a:pt x="448" y="236"/>
                  </a:lnTo>
                  <a:lnTo>
                    <a:pt x="467" y="233"/>
                  </a:lnTo>
                  <a:lnTo>
                    <a:pt x="486" y="231"/>
                  </a:lnTo>
                  <a:lnTo>
                    <a:pt x="504" y="230"/>
                  </a:lnTo>
                  <a:lnTo>
                    <a:pt x="523" y="231"/>
                  </a:lnTo>
                  <a:lnTo>
                    <a:pt x="541" y="234"/>
                  </a:lnTo>
                  <a:lnTo>
                    <a:pt x="559" y="237"/>
                  </a:lnTo>
                  <a:lnTo>
                    <a:pt x="578" y="241"/>
                  </a:lnTo>
                  <a:lnTo>
                    <a:pt x="595" y="246"/>
                  </a:lnTo>
                  <a:lnTo>
                    <a:pt x="612" y="252"/>
                  </a:lnTo>
                  <a:lnTo>
                    <a:pt x="628" y="259"/>
                  </a:lnTo>
                  <a:lnTo>
                    <a:pt x="644" y="266"/>
                  </a:lnTo>
                  <a:lnTo>
                    <a:pt x="659" y="273"/>
                  </a:lnTo>
                  <a:lnTo>
                    <a:pt x="673" y="281"/>
                  </a:lnTo>
                  <a:lnTo>
                    <a:pt x="687" y="289"/>
                  </a:lnTo>
                  <a:lnTo>
                    <a:pt x="712" y="305"/>
                  </a:lnTo>
                  <a:lnTo>
                    <a:pt x="735" y="320"/>
                  </a:lnTo>
                  <a:lnTo>
                    <a:pt x="765" y="344"/>
                  </a:lnTo>
                  <a:lnTo>
                    <a:pt x="776" y="354"/>
                  </a:lnTo>
                  <a:lnTo>
                    <a:pt x="792" y="378"/>
                  </a:lnTo>
                  <a:lnTo>
                    <a:pt x="807" y="402"/>
                  </a:lnTo>
                  <a:lnTo>
                    <a:pt x="822" y="428"/>
                  </a:lnTo>
                  <a:lnTo>
                    <a:pt x="836" y="456"/>
                  </a:lnTo>
                  <a:lnTo>
                    <a:pt x="850" y="485"/>
                  </a:lnTo>
                  <a:lnTo>
                    <a:pt x="862" y="515"/>
                  </a:lnTo>
                  <a:lnTo>
                    <a:pt x="876" y="545"/>
                  </a:lnTo>
                  <a:lnTo>
                    <a:pt x="887" y="575"/>
                  </a:lnTo>
                  <a:lnTo>
                    <a:pt x="908" y="635"/>
                  </a:lnTo>
                  <a:lnTo>
                    <a:pt x="926" y="693"/>
                  </a:lnTo>
                  <a:lnTo>
                    <a:pt x="941" y="745"/>
                  </a:lnTo>
                  <a:lnTo>
                    <a:pt x="953" y="790"/>
                  </a:lnTo>
                  <a:lnTo>
                    <a:pt x="961" y="786"/>
                  </a:lnTo>
                  <a:lnTo>
                    <a:pt x="970" y="783"/>
                  </a:lnTo>
                  <a:lnTo>
                    <a:pt x="979" y="779"/>
                  </a:lnTo>
                  <a:lnTo>
                    <a:pt x="989" y="777"/>
                  </a:lnTo>
                  <a:lnTo>
                    <a:pt x="972" y="739"/>
                  </a:lnTo>
                  <a:lnTo>
                    <a:pt x="956" y="703"/>
                  </a:lnTo>
                  <a:lnTo>
                    <a:pt x="942" y="668"/>
                  </a:lnTo>
                  <a:lnTo>
                    <a:pt x="930" y="635"/>
                  </a:lnTo>
                  <a:lnTo>
                    <a:pt x="909" y="577"/>
                  </a:lnTo>
                  <a:lnTo>
                    <a:pt x="893" y="528"/>
                  </a:lnTo>
                  <a:lnTo>
                    <a:pt x="881" y="488"/>
                  </a:lnTo>
                  <a:lnTo>
                    <a:pt x="873" y="459"/>
                  </a:lnTo>
                  <a:lnTo>
                    <a:pt x="869" y="441"/>
                  </a:lnTo>
                  <a:lnTo>
                    <a:pt x="866" y="435"/>
                  </a:lnTo>
                  <a:lnTo>
                    <a:pt x="861" y="400"/>
                  </a:lnTo>
                  <a:lnTo>
                    <a:pt x="858" y="367"/>
                  </a:lnTo>
                  <a:lnTo>
                    <a:pt x="857" y="334"/>
                  </a:lnTo>
                  <a:lnTo>
                    <a:pt x="858" y="305"/>
                  </a:lnTo>
                  <a:lnTo>
                    <a:pt x="860" y="277"/>
                  </a:lnTo>
                  <a:lnTo>
                    <a:pt x="864" y="251"/>
                  </a:lnTo>
                  <a:lnTo>
                    <a:pt x="871" y="227"/>
                  </a:lnTo>
                  <a:lnTo>
                    <a:pt x="878" y="203"/>
                  </a:lnTo>
                  <a:lnTo>
                    <a:pt x="885" y="182"/>
                  </a:lnTo>
                  <a:lnTo>
                    <a:pt x="894" y="162"/>
                  </a:lnTo>
                  <a:lnTo>
                    <a:pt x="904" y="144"/>
                  </a:lnTo>
                  <a:lnTo>
                    <a:pt x="915" y="127"/>
                  </a:lnTo>
                  <a:lnTo>
                    <a:pt x="927" y="111"/>
                  </a:lnTo>
                  <a:lnTo>
                    <a:pt x="939" y="97"/>
                  </a:lnTo>
                  <a:lnTo>
                    <a:pt x="951" y="84"/>
                  </a:lnTo>
                  <a:lnTo>
                    <a:pt x="964" y="71"/>
                  </a:lnTo>
                  <a:lnTo>
                    <a:pt x="977" y="61"/>
                  </a:lnTo>
                  <a:lnTo>
                    <a:pt x="990" y="51"/>
                  </a:lnTo>
                  <a:lnTo>
                    <a:pt x="1003" y="43"/>
                  </a:lnTo>
                  <a:lnTo>
                    <a:pt x="1016" y="35"/>
                  </a:lnTo>
                  <a:lnTo>
                    <a:pt x="1041" y="23"/>
                  </a:lnTo>
                  <a:lnTo>
                    <a:pt x="1063" y="13"/>
                  </a:lnTo>
                  <a:lnTo>
                    <a:pt x="1097" y="3"/>
                  </a:lnTo>
                  <a:lnTo>
                    <a:pt x="1110" y="0"/>
                  </a:lnTo>
                  <a:lnTo>
                    <a:pt x="1134" y="2"/>
                  </a:lnTo>
                  <a:lnTo>
                    <a:pt x="1156" y="5"/>
                  </a:lnTo>
                  <a:lnTo>
                    <a:pt x="1178" y="10"/>
                  </a:lnTo>
                  <a:lnTo>
                    <a:pt x="1197" y="17"/>
                  </a:lnTo>
                  <a:lnTo>
                    <a:pt x="1215" y="25"/>
                  </a:lnTo>
                  <a:lnTo>
                    <a:pt x="1232" y="35"/>
                  </a:lnTo>
                  <a:lnTo>
                    <a:pt x="1248" y="46"/>
                  </a:lnTo>
                  <a:lnTo>
                    <a:pt x="1262" y="58"/>
                  </a:lnTo>
                  <a:lnTo>
                    <a:pt x="1276" y="71"/>
                  </a:lnTo>
                  <a:lnTo>
                    <a:pt x="1288" y="85"/>
                  </a:lnTo>
                  <a:lnTo>
                    <a:pt x="1300" y="100"/>
                  </a:lnTo>
                  <a:lnTo>
                    <a:pt x="1311" y="115"/>
                  </a:lnTo>
                  <a:lnTo>
                    <a:pt x="1320" y="130"/>
                  </a:lnTo>
                  <a:lnTo>
                    <a:pt x="1329" y="146"/>
                  </a:lnTo>
                  <a:lnTo>
                    <a:pt x="1336" y="162"/>
                  </a:lnTo>
                  <a:lnTo>
                    <a:pt x="1343" y="178"/>
                  </a:lnTo>
                  <a:lnTo>
                    <a:pt x="1349" y="195"/>
                  </a:lnTo>
                  <a:lnTo>
                    <a:pt x="1355" y="211"/>
                  </a:lnTo>
                  <a:lnTo>
                    <a:pt x="1359" y="227"/>
                  </a:lnTo>
                  <a:lnTo>
                    <a:pt x="1364" y="243"/>
                  </a:lnTo>
                  <a:lnTo>
                    <a:pt x="1370" y="272"/>
                  </a:lnTo>
                  <a:lnTo>
                    <a:pt x="1375" y="298"/>
                  </a:lnTo>
                  <a:lnTo>
                    <a:pt x="1379" y="337"/>
                  </a:lnTo>
                  <a:lnTo>
                    <a:pt x="1380" y="351"/>
                  </a:lnTo>
                  <a:lnTo>
                    <a:pt x="1375" y="380"/>
                  </a:lnTo>
                  <a:lnTo>
                    <a:pt x="1369" y="408"/>
                  </a:lnTo>
                  <a:lnTo>
                    <a:pt x="1361" y="437"/>
                  </a:lnTo>
                  <a:lnTo>
                    <a:pt x="1351" y="466"/>
                  </a:lnTo>
                  <a:lnTo>
                    <a:pt x="1340" y="496"/>
                  </a:lnTo>
                  <a:lnTo>
                    <a:pt x="1329" y="527"/>
                  </a:lnTo>
                  <a:lnTo>
                    <a:pt x="1316" y="557"/>
                  </a:lnTo>
                  <a:lnTo>
                    <a:pt x="1302" y="586"/>
                  </a:lnTo>
                  <a:lnTo>
                    <a:pt x="1274" y="643"/>
                  </a:lnTo>
                  <a:lnTo>
                    <a:pt x="1247" y="697"/>
                  </a:lnTo>
                  <a:lnTo>
                    <a:pt x="1220" y="744"/>
                  </a:lnTo>
                  <a:lnTo>
                    <a:pt x="1197" y="784"/>
                  </a:lnTo>
                  <a:lnTo>
                    <a:pt x="1206" y="788"/>
                  </a:lnTo>
                  <a:lnTo>
                    <a:pt x="1215" y="793"/>
                  </a:lnTo>
                  <a:lnTo>
                    <a:pt x="1224" y="797"/>
                  </a:lnTo>
                  <a:lnTo>
                    <a:pt x="1232" y="801"/>
                  </a:lnTo>
                  <a:lnTo>
                    <a:pt x="1247" y="761"/>
                  </a:lnTo>
                  <a:lnTo>
                    <a:pt x="1262" y="725"/>
                  </a:lnTo>
                  <a:lnTo>
                    <a:pt x="1276" y="691"/>
                  </a:lnTo>
                  <a:lnTo>
                    <a:pt x="1290" y="659"/>
                  </a:lnTo>
                  <a:lnTo>
                    <a:pt x="1317" y="602"/>
                  </a:lnTo>
                  <a:lnTo>
                    <a:pt x="1340" y="556"/>
                  </a:lnTo>
                  <a:lnTo>
                    <a:pt x="1360" y="520"/>
                  </a:lnTo>
                  <a:lnTo>
                    <a:pt x="1375" y="493"/>
                  </a:lnTo>
                  <a:lnTo>
                    <a:pt x="1384" y="477"/>
                  </a:lnTo>
                  <a:lnTo>
                    <a:pt x="1388" y="472"/>
                  </a:lnTo>
                  <a:lnTo>
                    <a:pt x="1409" y="444"/>
                  </a:lnTo>
                  <a:lnTo>
                    <a:pt x="1430" y="418"/>
                  </a:lnTo>
                  <a:lnTo>
                    <a:pt x="1453" y="395"/>
                  </a:lnTo>
                  <a:lnTo>
                    <a:pt x="1474" y="375"/>
                  </a:lnTo>
                  <a:lnTo>
                    <a:pt x="1495" y="356"/>
                  </a:lnTo>
                  <a:lnTo>
                    <a:pt x="1517" y="340"/>
                  </a:lnTo>
                  <a:lnTo>
                    <a:pt x="1538" y="327"/>
                  </a:lnTo>
                  <a:lnTo>
                    <a:pt x="1559" y="316"/>
                  </a:lnTo>
                  <a:lnTo>
                    <a:pt x="1579" y="306"/>
                  </a:lnTo>
                  <a:lnTo>
                    <a:pt x="1600" y="299"/>
                  </a:lnTo>
                  <a:lnTo>
                    <a:pt x="1620" y="293"/>
                  </a:lnTo>
                  <a:lnTo>
                    <a:pt x="1640" y="289"/>
                  </a:lnTo>
                  <a:lnTo>
                    <a:pt x="1659" y="286"/>
                  </a:lnTo>
                  <a:lnTo>
                    <a:pt x="1677" y="284"/>
                  </a:lnTo>
                  <a:lnTo>
                    <a:pt x="1695" y="284"/>
                  </a:lnTo>
                  <a:lnTo>
                    <a:pt x="1713" y="285"/>
                  </a:lnTo>
                  <a:lnTo>
                    <a:pt x="1729" y="286"/>
                  </a:lnTo>
                  <a:lnTo>
                    <a:pt x="1746" y="289"/>
                  </a:lnTo>
                  <a:lnTo>
                    <a:pt x="1762" y="292"/>
                  </a:lnTo>
                  <a:lnTo>
                    <a:pt x="1776" y="296"/>
                  </a:lnTo>
                  <a:lnTo>
                    <a:pt x="1802" y="304"/>
                  </a:lnTo>
                  <a:lnTo>
                    <a:pt x="1824" y="313"/>
                  </a:lnTo>
                  <a:lnTo>
                    <a:pt x="1856" y="330"/>
                  </a:lnTo>
                  <a:lnTo>
                    <a:pt x="1867" y="337"/>
                  </a:lnTo>
                  <a:lnTo>
                    <a:pt x="1883" y="355"/>
                  </a:lnTo>
                  <a:lnTo>
                    <a:pt x="1897" y="374"/>
                  </a:lnTo>
                  <a:lnTo>
                    <a:pt x="1908" y="392"/>
                  </a:lnTo>
                  <a:lnTo>
                    <a:pt x="1917" y="411"/>
                  </a:lnTo>
                  <a:lnTo>
                    <a:pt x="1924" y="430"/>
                  </a:lnTo>
                  <a:lnTo>
                    <a:pt x="1929" y="448"/>
                  </a:lnTo>
                  <a:lnTo>
                    <a:pt x="1933" y="467"/>
                  </a:lnTo>
                  <a:lnTo>
                    <a:pt x="1935" y="485"/>
                  </a:lnTo>
                  <a:lnTo>
                    <a:pt x="1935" y="505"/>
                  </a:lnTo>
                  <a:lnTo>
                    <a:pt x="1934" y="523"/>
                  </a:lnTo>
                  <a:lnTo>
                    <a:pt x="1932" y="542"/>
                  </a:lnTo>
                  <a:lnTo>
                    <a:pt x="1928" y="560"/>
                  </a:lnTo>
                  <a:lnTo>
                    <a:pt x="1924" y="577"/>
                  </a:lnTo>
                  <a:lnTo>
                    <a:pt x="1919" y="594"/>
                  </a:lnTo>
                  <a:lnTo>
                    <a:pt x="1913" y="611"/>
                  </a:lnTo>
                  <a:lnTo>
                    <a:pt x="1906" y="627"/>
                  </a:lnTo>
                  <a:lnTo>
                    <a:pt x="1899" y="643"/>
                  </a:lnTo>
                  <a:lnTo>
                    <a:pt x="1892" y="659"/>
                  </a:lnTo>
                  <a:lnTo>
                    <a:pt x="1883" y="674"/>
                  </a:lnTo>
                  <a:lnTo>
                    <a:pt x="1875" y="688"/>
                  </a:lnTo>
                  <a:lnTo>
                    <a:pt x="1859" y="713"/>
                  </a:lnTo>
                  <a:lnTo>
                    <a:pt x="1844" y="734"/>
                  </a:lnTo>
                  <a:lnTo>
                    <a:pt x="1819" y="765"/>
                  </a:lnTo>
                  <a:lnTo>
                    <a:pt x="1809" y="776"/>
                  </a:lnTo>
                  <a:lnTo>
                    <a:pt x="1787" y="793"/>
                  </a:lnTo>
                  <a:lnTo>
                    <a:pt x="1763" y="808"/>
                  </a:lnTo>
                  <a:lnTo>
                    <a:pt x="1736" y="822"/>
                  </a:lnTo>
                  <a:lnTo>
                    <a:pt x="1709" y="836"/>
                  </a:lnTo>
                  <a:lnTo>
                    <a:pt x="1681" y="850"/>
                  </a:lnTo>
                  <a:lnTo>
                    <a:pt x="1652" y="862"/>
                  </a:lnTo>
                  <a:lnTo>
                    <a:pt x="1622" y="875"/>
                  </a:lnTo>
                  <a:lnTo>
                    <a:pt x="1591" y="886"/>
                  </a:lnTo>
                  <a:lnTo>
                    <a:pt x="1532" y="907"/>
                  </a:lnTo>
                  <a:lnTo>
                    <a:pt x="1475" y="924"/>
                  </a:lnTo>
                  <a:lnTo>
                    <a:pt x="1422" y="940"/>
                  </a:lnTo>
                  <a:lnTo>
                    <a:pt x="1377" y="952"/>
                  </a:lnTo>
                  <a:lnTo>
                    <a:pt x="1381" y="961"/>
                  </a:lnTo>
                  <a:lnTo>
                    <a:pt x="1385" y="970"/>
                  </a:lnTo>
                  <a:lnTo>
                    <a:pt x="1388" y="979"/>
                  </a:lnTo>
                  <a:lnTo>
                    <a:pt x="1391" y="988"/>
                  </a:lnTo>
                  <a:lnTo>
                    <a:pt x="1429" y="971"/>
                  </a:lnTo>
                  <a:lnTo>
                    <a:pt x="1466" y="956"/>
                  </a:lnTo>
                  <a:lnTo>
                    <a:pt x="1499" y="942"/>
                  </a:lnTo>
                  <a:lnTo>
                    <a:pt x="1531" y="929"/>
                  </a:lnTo>
                  <a:lnTo>
                    <a:pt x="1588" y="908"/>
                  </a:lnTo>
                  <a:lnTo>
                    <a:pt x="1638" y="892"/>
                  </a:lnTo>
                  <a:lnTo>
                    <a:pt x="1676" y="880"/>
                  </a:lnTo>
                  <a:lnTo>
                    <a:pt x="1705" y="873"/>
                  </a:lnTo>
                  <a:lnTo>
                    <a:pt x="1722" y="869"/>
                  </a:lnTo>
                  <a:lnTo>
                    <a:pt x="1728" y="867"/>
                  </a:lnTo>
                  <a:lnTo>
                    <a:pt x="1765" y="862"/>
                  </a:lnTo>
                  <a:lnTo>
                    <a:pt x="1798" y="859"/>
                  </a:lnTo>
                  <a:lnTo>
                    <a:pt x="1829" y="858"/>
                  </a:lnTo>
                  <a:lnTo>
                    <a:pt x="1859" y="859"/>
                  </a:lnTo>
                  <a:lnTo>
                    <a:pt x="1887" y="861"/>
                  </a:lnTo>
                  <a:lnTo>
                    <a:pt x="1914" y="865"/>
                  </a:lnTo>
                  <a:lnTo>
                    <a:pt x="1938" y="871"/>
                  </a:lnTo>
                  <a:lnTo>
                    <a:pt x="1961" y="877"/>
                  </a:lnTo>
                  <a:lnTo>
                    <a:pt x="1982" y="885"/>
                  </a:lnTo>
                  <a:lnTo>
                    <a:pt x="2002" y="894"/>
                  </a:lnTo>
                  <a:lnTo>
                    <a:pt x="2020" y="904"/>
                  </a:lnTo>
                  <a:lnTo>
                    <a:pt x="2038" y="915"/>
                  </a:lnTo>
                  <a:lnTo>
                    <a:pt x="2053" y="927"/>
                  </a:lnTo>
                  <a:lnTo>
                    <a:pt x="2067" y="940"/>
                  </a:lnTo>
                  <a:lnTo>
                    <a:pt x="2080" y="952"/>
                  </a:lnTo>
                  <a:lnTo>
                    <a:pt x="2092" y="965"/>
                  </a:lnTo>
                  <a:lnTo>
                    <a:pt x="2103" y="978"/>
                  </a:lnTo>
                  <a:lnTo>
                    <a:pt x="2112" y="991"/>
                  </a:lnTo>
                  <a:lnTo>
                    <a:pt x="2121" y="1004"/>
                  </a:lnTo>
                  <a:lnTo>
                    <a:pt x="2129" y="1017"/>
                  </a:lnTo>
                  <a:lnTo>
                    <a:pt x="2141" y="1041"/>
                  </a:lnTo>
                  <a:lnTo>
                    <a:pt x="2150" y="1063"/>
                  </a:lnTo>
                  <a:lnTo>
                    <a:pt x="2161" y="1098"/>
                  </a:lnTo>
                  <a:lnTo>
                    <a:pt x="2164" y="1111"/>
                  </a:lnTo>
                  <a:lnTo>
                    <a:pt x="2162" y="1135"/>
                  </a:lnTo>
                  <a:lnTo>
                    <a:pt x="2159" y="1157"/>
                  </a:lnTo>
                  <a:lnTo>
                    <a:pt x="2153" y="1178"/>
                  </a:lnTo>
                  <a:lnTo>
                    <a:pt x="2147" y="1197"/>
                  </a:lnTo>
                  <a:lnTo>
                    <a:pt x="2139" y="1215"/>
                  </a:lnTo>
                  <a:lnTo>
                    <a:pt x="2129" y="1233"/>
                  </a:lnTo>
                  <a:lnTo>
                    <a:pt x="2118" y="1249"/>
                  </a:lnTo>
                  <a:lnTo>
                    <a:pt x="2106" y="1263"/>
                  </a:lnTo>
                  <a:lnTo>
                    <a:pt x="2093" y="1277"/>
                  </a:lnTo>
                  <a:lnTo>
                    <a:pt x="2080" y="1289"/>
                  </a:lnTo>
                  <a:lnTo>
                    <a:pt x="2065" y="1301"/>
                  </a:lnTo>
                  <a:lnTo>
                    <a:pt x="2050" y="1311"/>
                  </a:lnTo>
                  <a:lnTo>
                    <a:pt x="2034" y="1320"/>
                  </a:lnTo>
                  <a:lnTo>
                    <a:pt x="2018" y="1329"/>
                  </a:lnTo>
                  <a:lnTo>
                    <a:pt x="2002" y="1336"/>
                  </a:lnTo>
                  <a:lnTo>
                    <a:pt x="1986" y="1343"/>
                  </a:lnTo>
                  <a:lnTo>
                    <a:pt x="1969" y="1349"/>
                  </a:lnTo>
                  <a:lnTo>
                    <a:pt x="1953" y="1355"/>
                  </a:lnTo>
                  <a:lnTo>
                    <a:pt x="1938" y="1359"/>
                  </a:lnTo>
                  <a:lnTo>
                    <a:pt x="1922" y="1363"/>
                  </a:lnTo>
                  <a:lnTo>
                    <a:pt x="1893" y="1371"/>
                  </a:lnTo>
                  <a:lnTo>
                    <a:pt x="1866" y="1375"/>
                  </a:lnTo>
                  <a:lnTo>
                    <a:pt x="1827" y="1380"/>
                  </a:lnTo>
                  <a:lnTo>
                    <a:pt x="1813" y="1380"/>
                  </a:lnTo>
                  <a:lnTo>
                    <a:pt x="1786" y="1376"/>
                  </a:lnTo>
                  <a:lnTo>
                    <a:pt x="1759" y="1370"/>
                  </a:lnTo>
                  <a:lnTo>
                    <a:pt x="1730" y="1361"/>
                  </a:lnTo>
                  <a:lnTo>
                    <a:pt x="1701" y="1352"/>
                  </a:lnTo>
                  <a:lnTo>
                    <a:pt x="1672" y="1342"/>
                  </a:lnTo>
                  <a:lnTo>
                    <a:pt x="1643" y="1330"/>
                  </a:lnTo>
                  <a:lnTo>
                    <a:pt x="1614" y="1318"/>
                  </a:lnTo>
                  <a:lnTo>
                    <a:pt x="1584" y="1305"/>
                  </a:lnTo>
                  <a:lnTo>
                    <a:pt x="1528" y="1278"/>
                  </a:lnTo>
                  <a:lnTo>
                    <a:pt x="1476" y="1251"/>
                  </a:lnTo>
                  <a:lnTo>
                    <a:pt x="1427" y="1225"/>
                  </a:lnTo>
                  <a:lnTo>
                    <a:pt x="1387" y="1201"/>
                  </a:lnTo>
                  <a:lnTo>
                    <a:pt x="1383" y="1210"/>
                  </a:lnTo>
                  <a:lnTo>
                    <a:pt x="1380" y="1218"/>
                  </a:lnTo>
                  <a:lnTo>
                    <a:pt x="1376" y="1228"/>
                  </a:lnTo>
                  <a:lnTo>
                    <a:pt x="1372" y="1236"/>
                  </a:lnTo>
                  <a:lnTo>
                    <a:pt x="1410" y="1251"/>
                  </a:lnTo>
                  <a:lnTo>
                    <a:pt x="1446" y="1265"/>
                  </a:lnTo>
                  <a:lnTo>
                    <a:pt x="1480" y="1279"/>
                  </a:lnTo>
                  <a:lnTo>
                    <a:pt x="1511" y="1293"/>
                  </a:lnTo>
                  <a:lnTo>
                    <a:pt x="1566" y="1318"/>
                  </a:lnTo>
                  <a:lnTo>
                    <a:pt x="1611" y="1341"/>
                  </a:lnTo>
                  <a:lnTo>
                    <a:pt x="1647" y="1360"/>
                  </a:lnTo>
                  <a:lnTo>
                    <a:pt x="1672" y="1376"/>
                  </a:lnTo>
                  <a:lnTo>
                    <a:pt x="1687" y="1385"/>
                  </a:lnTo>
                  <a:lnTo>
                    <a:pt x="1692" y="1388"/>
                  </a:lnTo>
                  <a:lnTo>
                    <a:pt x="1720" y="1410"/>
                  </a:lnTo>
                  <a:lnTo>
                    <a:pt x="1747" y="1431"/>
                  </a:lnTo>
                  <a:lnTo>
                    <a:pt x="1770" y="1452"/>
                  </a:lnTo>
                  <a:lnTo>
                    <a:pt x="1790" y="1474"/>
                  </a:lnTo>
                  <a:lnTo>
                    <a:pt x="1808" y="1495"/>
                  </a:lnTo>
                  <a:lnTo>
                    <a:pt x="1824" y="1517"/>
                  </a:lnTo>
                  <a:lnTo>
                    <a:pt x="1837" y="1538"/>
                  </a:lnTo>
                  <a:lnTo>
                    <a:pt x="1848" y="1559"/>
                  </a:lnTo>
                  <a:lnTo>
                    <a:pt x="1858" y="1580"/>
                  </a:lnTo>
                  <a:lnTo>
                    <a:pt x="1865" y="1600"/>
                  </a:lnTo>
                  <a:lnTo>
                    <a:pt x="1871" y="1620"/>
                  </a:lnTo>
                  <a:lnTo>
                    <a:pt x="1876" y="1639"/>
                  </a:lnTo>
                  <a:lnTo>
                    <a:pt x="1878" y="1660"/>
                  </a:lnTo>
                  <a:lnTo>
                    <a:pt x="1880" y="1678"/>
                  </a:lnTo>
                  <a:lnTo>
                    <a:pt x="1880" y="1696"/>
                  </a:lnTo>
                  <a:lnTo>
                    <a:pt x="1880" y="1713"/>
                  </a:lnTo>
                  <a:lnTo>
                    <a:pt x="1878" y="1730"/>
                  </a:lnTo>
                  <a:lnTo>
                    <a:pt x="1875" y="1746"/>
                  </a:lnTo>
                  <a:lnTo>
                    <a:pt x="1872" y="1761"/>
                  </a:lnTo>
                  <a:lnTo>
                    <a:pt x="1869" y="1776"/>
                  </a:lnTo>
                  <a:lnTo>
                    <a:pt x="1860" y="1803"/>
                  </a:lnTo>
                  <a:lnTo>
                    <a:pt x="1851" y="1825"/>
                  </a:lnTo>
                  <a:lnTo>
                    <a:pt x="1834" y="1857"/>
                  </a:lnTo>
                  <a:lnTo>
                    <a:pt x="1827" y="1868"/>
                  </a:lnTo>
                  <a:lnTo>
                    <a:pt x="1809" y="1883"/>
                  </a:lnTo>
                  <a:lnTo>
                    <a:pt x="1791" y="1897"/>
                  </a:lnTo>
                  <a:lnTo>
                    <a:pt x="1773" y="1908"/>
                  </a:lnTo>
                  <a:lnTo>
                    <a:pt x="1754" y="1917"/>
                  </a:lnTo>
                  <a:lnTo>
                    <a:pt x="1734" y="1924"/>
                  </a:lnTo>
                  <a:lnTo>
                    <a:pt x="1716" y="1929"/>
                  </a:lnTo>
                  <a:lnTo>
                    <a:pt x="1697" y="1932"/>
                  </a:lnTo>
                  <a:lnTo>
                    <a:pt x="1678" y="1934"/>
                  </a:lnTo>
                  <a:lnTo>
                    <a:pt x="1660" y="1935"/>
                  </a:lnTo>
                  <a:lnTo>
                    <a:pt x="1641" y="1934"/>
                  </a:lnTo>
                  <a:lnTo>
                    <a:pt x="1623" y="1932"/>
                  </a:lnTo>
                  <a:lnTo>
                    <a:pt x="1605" y="1928"/>
                  </a:lnTo>
                  <a:lnTo>
                    <a:pt x="1587" y="1924"/>
                  </a:lnTo>
                  <a:lnTo>
                    <a:pt x="1569" y="1919"/>
                  </a:lnTo>
                  <a:lnTo>
                    <a:pt x="1553" y="1913"/>
                  </a:lnTo>
                  <a:lnTo>
                    <a:pt x="1536" y="1906"/>
                  </a:lnTo>
                  <a:lnTo>
                    <a:pt x="1521" y="1899"/>
                  </a:lnTo>
                  <a:lnTo>
                    <a:pt x="1505" y="1891"/>
                  </a:lnTo>
                  <a:lnTo>
                    <a:pt x="1491" y="1884"/>
                  </a:lnTo>
                  <a:lnTo>
                    <a:pt x="1477" y="1876"/>
                  </a:lnTo>
                  <a:lnTo>
                    <a:pt x="1451" y="1860"/>
                  </a:lnTo>
                  <a:lnTo>
                    <a:pt x="1430" y="1844"/>
                  </a:lnTo>
                  <a:lnTo>
                    <a:pt x="1399" y="1820"/>
                  </a:lnTo>
                  <a:lnTo>
                    <a:pt x="1388" y="1810"/>
                  </a:lnTo>
                  <a:lnTo>
                    <a:pt x="1373" y="1788"/>
                  </a:lnTo>
                  <a:lnTo>
                    <a:pt x="1358" y="1764"/>
                  </a:lnTo>
                  <a:lnTo>
                    <a:pt x="1344" y="1739"/>
                  </a:lnTo>
                  <a:lnTo>
                    <a:pt x="1330" y="1713"/>
                  </a:lnTo>
                  <a:lnTo>
                    <a:pt x="1317" y="1685"/>
                  </a:lnTo>
                  <a:lnTo>
                    <a:pt x="1303" y="1657"/>
                  </a:lnTo>
                  <a:lnTo>
                    <a:pt x="1292" y="1627"/>
                  </a:lnTo>
                  <a:lnTo>
                    <a:pt x="1280" y="1598"/>
                  </a:lnTo>
                  <a:lnTo>
                    <a:pt x="1260" y="1540"/>
                  </a:lnTo>
                  <a:lnTo>
                    <a:pt x="1242" y="1483"/>
                  </a:lnTo>
                  <a:lnTo>
                    <a:pt x="1227" y="1431"/>
                  </a:lnTo>
                  <a:lnTo>
                    <a:pt x="1215" y="1386"/>
                  </a:lnTo>
                  <a:lnTo>
                    <a:pt x="1206" y="1390"/>
                  </a:lnTo>
                  <a:lnTo>
                    <a:pt x="1197" y="1393"/>
                  </a:lnTo>
                  <a:lnTo>
                    <a:pt x="1189" y="1397"/>
                  </a:lnTo>
                  <a:lnTo>
                    <a:pt x="1180" y="1399"/>
                  </a:lnTo>
                  <a:lnTo>
                    <a:pt x="1196" y="1436"/>
                  </a:lnTo>
                  <a:lnTo>
                    <a:pt x="1211" y="1471"/>
                  </a:lnTo>
                  <a:lnTo>
                    <a:pt x="1225" y="1504"/>
                  </a:lnTo>
                  <a:lnTo>
                    <a:pt x="1237" y="1536"/>
                  </a:lnTo>
                  <a:lnTo>
                    <a:pt x="1257" y="1593"/>
                  </a:lnTo>
                  <a:lnTo>
                    <a:pt x="1273" y="1640"/>
                  </a:lnTo>
                  <a:lnTo>
                    <a:pt x="1284" y="1679"/>
                  </a:lnTo>
                  <a:lnTo>
                    <a:pt x="1291" y="1707"/>
                  </a:lnTo>
                  <a:lnTo>
                    <a:pt x="1295" y="1724"/>
                  </a:lnTo>
                  <a:lnTo>
                    <a:pt x="1297" y="1730"/>
                  </a:lnTo>
                  <a:lnTo>
                    <a:pt x="1302" y="1765"/>
                  </a:lnTo>
                  <a:lnTo>
                    <a:pt x="1305" y="1799"/>
                  </a:lnTo>
                  <a:lnTo>
                    <a:pt x="1307" y="1831"/>
                  </a:lnTo>
                  <a:lnTo>
                    <a:pt x="1305" y="1860"/>
                  </a:lnTo>
                  <a:lnTo>
                    <a:pt x="1302" y="1888"/>
                  </a:lnTo>
                  <a:lnTo>
                    <a:pt x="1298" y="1914"/>
                  </a:lnTo>
                  <a:lnTo>
                    <a:pt x="1293" y="1938"/>
                  </a:lnTo>
                  <a:lnTo>
                    <a:pt x="1286" y="1962"/>
                  </a:lnTo>
                  <a:lnTo>
                    <a:pt x="1278" y="1983"/>
                  </a:lnTo>
                  <a:lnTo>
                    <a:pt x="1269" y="2003"/>
                  </a:lnTo>
                  <a:lnTo>
                    <a:pt x="1259" y="2021"/>
                  </a:lnTo>
                  <a:lnTo>
                    <a:pt x="1249" y="2038"/>
                  </a:lnTo>
                  <a:lnTo>
                    <a:pt x="1237" y="2054"/>
                  </a:lnTo>
                  <a:lnTo>
                    <a:pt x="1225" y="2068"/>
                  </a:lnTo>
                  <a:lnTo>
                    <a:pt x="1213" y="2081"/>
                  </a:lnTo>
                  <a:lnTo>
                    <a:pt x="1200" y="2093"/>
                  </a:lnTo>
                  <a:lnTo>
                    <a:pt x="1187" y="2104"/>
                  </a:lnTo>
                  <a:lnTo>
                    <a:pt x="1174" y="2114"/>
                  </a:lnTo>
                  <a:lnTo>
                    <a:pt x="1161" y="2122"/>
                  </a:lnTo>
                  <a:lnTo>
                    <a:pt x="1147" y="2130"/>
                  </a:lnTo>
                  <a:lnTo>
                    <a:pt x="1135" y="2136"/>
                  </a:lnTo>
                  <a:lnTo>
                    <a:pt x="1123" y="2142"/>
                  </a:lnTo>
                  <a:lnTo>
                    <a:pt x="1111" y="2147"/>
                  </a:lnTo>
                  <a:lnTo>
                    <a:pt x="1101" y="2151"/>
                  </a:lnTo>
                  <a:lnTo>
                    <a:pt x="1067" y="2162"/>
                  </a:lnTo>
                  <a:lnTo>
                    <a:pt x="1054" y="2164"/>
                  </a:lnTo>
                  <a:lnTo>
                    <a:pt x="1030" y="2163"/>
                  </a:lnTo>
                  <a:lnTo>
                    <a:pt x="1007" y="2160"/>
                  </a:lnTo>
                  <a:lnTo>
                    <a:pt x="986" y="2154"/>
                  </a:lnTo>
                  <a:lnTo>
                    <a:pt x="967" y="2148"/>
                  </a:lnTo>
                  <a:lnTo>
                    <a:pt x="949" y="2139"/>
                  </a:lnTo>
                  <a:lnTo>
                    <a:pt x="932" y="2130"/>
                  </a:lnTo>
                  <a:lnTo>
                    <a:pt x="916" y="2119"/>
                  </a:lnTo>
                  <a:lnTo>
                    <a:pt x="902" y="2107"/>
                  </a:lnTo>
                  <a:lnTo>
                    <a:pt x="888" y="2094"/>
                  </a:lnTo>
                  <a:lnTo>
                    <a:pt x="876" y="2080"/>
                  </a:lnTo>
                  <a:lnTo>
                    <a:pt x="864" y="2065"/>
                  </a:lnTo>
                  <a:lnTo>
                    <a:pt x="853" y="2050"/>
                  </a:lnTo>
                  <a:lnTo>
                    <a:pt x="844" y="2035"/>
                  </a:lnTo>
                  <a:lnTo>
                    <a:pt x="835" y="2019"/>
                  </a:lnTo>
                  <a:lnTo>
                    <a:pt x="828" y="2003"/>
                  </a:lnTo>
                  <a:lnTo>
                    <a:pt x="821" y="1986"/>
                  </a:lnTo>
                  <a:lnTo>
                    <a:pt x="815" y="1970"/>
                  </a:lnTo>
                  <a:lnTo>
                    <a:pt x="809" y="1954"/>
                  </a:lnTo>
                  <a:lnTo>
                    <a:pt x="805" y="1938"/>
                  </a:lnTo>
                  <a:lnTo>
                    <a:pt x="801" y="1922"/>
                  </a:lnTo>
                  <a:lnTo>
                    <a:pt x="794" y="1893"/>
                  </a:lnTo>
                  <a:lnTo>
                    <a:pt x="790" y="1867"/>
                  </a:lnTo>
                  <a:lnTo>
                    <a:pt x="785" y="1828"/>
                  </a:lnTo>
                  <a:lnTo>
                    <a:pt x="785" y="1813"/>
                  </a:lnTo>
                  <a:lnTo>
                    <a:pt x="789" y="1786"/>
                  </a:lnTo>
                  <a:lnTo>
                    <a:pt x="795" y="1759"/>
                  </a:lnTo>
                  <a:lnTo>
                    <a:pt x="803" y="1731"/>
                  </a:lnTo>
                  <a:lnTo>
                    <a:pt x="812" y="1703"/>
                  </a:lnTo>
                  <a:lnTo>
                    <a:pt x="822" y="1674"/>
                  </a:lnTo>
                  <a:lnTo>
                    <a:pt x="833" y="1645"/>
                  </a:lnTo>
                  <a:lnTo>
                    <a:pt x="845" y="1616"/>
                  </a:lnTo>
                  <a:lnTo>
                    <a:pt x="857" y="1587"/>
                  </a:lnTo>
                  <a:lnTo>
                    <a:pt x="885" y="1532"/>
                  </a:lnTo>
                  <a:lnTo>
                    <a:pt x="912" y="1479"/>
                  </a:lnTo>
                  <a:lnTo>
                    <a:pt x="938" y="1431"/>
                  </a:lnTo>
                  <a:lnTo>
                    <a:pt x="961" y="1391"/>
                  </a:lnTo>
                  <a:lnTo>
                    <a:pt x="952" y="1387"/>
                  </a:lnTo>
                  <a:lnTo>
                    <a:pt x="944" y="1384"/>
                  </a:lnTo>
                  <a:lnTo>
                    <a:pt x="936" y="1380"/>
                  </a:lnTo>
                  <a:lnTo>
                    <a:pt x="928" y="1375"/>
                  </a:lnTo>
                  <a:lnTo>
                    <a:pt x="913" y="1413"/>
                  </a:lnTo>
                  <a:lnTo>
                    <a:pt x="899" y="1448"/>
                  </a:lnTo>
                  <a:lnTo>
                    <a:pt x="885" y="1481"/>
                  </a:lnTo>
                  <a:lnTo>
                    <a:pt x="872" y="1513"/>
                  </a:lnTo>
                  <a:lnTo>
                    <a:pt x="845" y="1567"/>
                  </a:lnTo>
                  <a:lnTo>
                    <a:pt x="823" y="1611"/>
                  </a:lnTo>
                  <a:lnTo>
                    <a:pt x="804" y="1646"/>
                  </a:lnTo>
                  <a:lnTo>
                    <a:pt x="789" y="1672"/>
                  </a:lnTo>
                  <a:lnTo>
                    <a:pt x="780" y="1687"/>
                  </a:lnTo>
                  <a:lnTo>
                    <a:pt x="777" y="16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59560" y="6000840"/>
              <a:ext cx="60120" cy="41040"/>
            </a:xfrm>
            <a:custGeom>
              <a:avLst/>
              <a:gdLst/>
              <a:ahLst/>
              <a:rect l="l" t="t" r="r" b="b"/>
              <a:pathLst>
                <a:path w="613" h="615">
                  <a:moveTo>
                    <a:pt x="533" y="100"/>
                  </a:moveTo>
                  <a:lnTo>
                    <a:pt x="522" y="88"/>
                  </a:lnTo>
                  <a:lnTo>
                    <a:pt x="510" y="78"/>
                  </a:lnTo>
                  <a:lnTo>
                    <a:pt x="499" y="68"/>
                  </a:lnTo>
                  <a:lnTo>
                    <a:pt x="487" y="59"/>
                  </a:lnTo>
                  <a:lnTo>
                    <a:pt x="474" y="50"/>
                  </a:lnTo>
                  <a:lnTo>
                    <a:pt x="461" y="42"/>
                  </a:lnTo>
                  <a:lnTo>
                    <a:pt x="448" y="35"/>
                  </a:lnTo>
                  <a:lnTo>
                    <a:pt x="435" y="29"/>
                  </a:lnTo>
                  <a:lnTo>
                    <a:pt x="421" y="23"/>
                  </a:lnTo>
                  <a:lnTo>
                    <a:pt x="407" y="17"/>
                  </a:lnTo>
                  <a:lnTo>
                    <a:pt x="393" y="12"/>
                  </a:lnTo>
                  <a:lnTo>
                    <a:pt x="378" y="9"/>
                  </a:lnTo>
                  <a:lnTo>
                    <a:pt x="364" y="5"/>
                  </a:lnTo>
                  <a:lnTo>
                    <a:pt x="349" y="3"/>
                  </a:lnTo>
                  <a:lnTo>
                    <a:pt x="335" y="1"/>
                  </a:lnTo>
                  <a:lnTo>
                    <a:pt x="320" y="0"/>
                  </a:lnTo>
                  <a:lnTo>
                    <a:pt x="305" y="0"/>
                  </a:lnTo>
                  <a:lnTo>
                    <a:pt x="291" y="0"/>
                  </a:lnTo>
                  <a:lnTo>
                    <a:pt x="276" y="2"/>
                  </a:lnTo>
                  <a:lnTo>
                    <a:pt x="262" y="3"/>
                  </a:lnTo>
                  <a:lnTo>
                    <a:pt x="247" y="6"/>
                  </a:lnTo>
                  <a:lnTo>
                    <a:pt x="232" y="9"/>
                  </a:lnTo>
                  <a:lnTo>
                    <a:pt x="218" y="13"/>
                  </a:lnTo>
                  <a:lnTo>
                    <a:pt x="204" y="19"/>
                  </a:lnTo>
                  <a:lnTo>
                    <a:pt x="190" y="24"/>
                  </a:lnTo>
                  <a:lnTo>
                    <a:pt x="176" y="30"/>
                  </a:lnTo>
                  <a:lnTo>
                    <a:pt x="162" y="37"/>
                  </a:lnTo>
                  <a:lnTo>
                    <a:pt x="149" y="44"/>
                  </a:lnTo>
                  <a:lnTo>
                    <a:pt x="136" y="52"/>
                  </a:lnTo>
                  <a:lnTo>
                    <a:pt x="124" y="61"/>
                  </a:lnTo>
                  <a:lnTo>
                    <a:pt x="112" y="71"/>
                  </a:lnTo>
                  <a:lnTo>
                    <a:pt x="100" y="81"/>
                  </a:lnTo>
                  <a:lnTo>
                    <a:pt x="88" y="92"/>
                  </a:lnTo>
                  <a:lnTo>
                    <a:pt x="77" y="103"/>
                  </a:lnTo>
                  <a:lnTo>
                    <a:pt x="67" y="115"/>
                  </a:lnTo>
                  <a:lnTo>
                    <a:pt x="58" y="127"/>
                  </a:lnTo>
                  <a:lnTo>
                    <a:pt x="49" y="140"/>
                  </a:lnTo>
                  <a:lnTo>
                    <a:pt x="41" y="153"/>
                  </a:lnTo>
                  <a:lnTo>
                    <a:pt x="34" y="167"/>
                  </a:lnTo>
                  <a:lnTo>
                    <a:pt x="28" y="180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2" y="222"/>
                  </a:lnTo>
                  <a:lnTo>
                    <a:pt x="8" y="236"/>
                  </a:lnTo>
                  <a:lnTo>
                    <a:pt x="5" y="250"/>
                  </a:lnTo>
                  <a:lnTo>
                    <a:pt x="3" y="265"/>
                  </a:lnTo>
                  <a:lnTo>
                    <a:pt x="1" y="279"/>
                  </a:lnTo>
                  <a:lnTo>
                    <a:pt x="0" y="294"/>
                  </a:lnTo>
                  <a:lnTo>
                    <a:pt x="0" y="309"/>
                  </a:lnTo>
                  <a:lnTo>
                    <a:pt x="1" y="324"/>
                  </a:lnTo>
                  <a:lnTo>
                    <a:pt x="2" y="339"/>
                  </a:lnTo>
                  <a:lnTo>
                    <a:pt x="3" y="353"/>
                  </a:lnTo>
                  <a:lnTo>
                    <a:pt x="6" y="368"/>
                  </a:lnTo>
                  <a:lnTo>
                    <a:pt x="9" y="382"/>
                  </a:lnTo>
                  <a:lnTo>
                    <a:pt x="13" y="396"/>
                  </a:lnTo>
                  <a:lnTo>
                    <a:pt x="18" y="410"/>
                  </a:lnTo>
                  <a:lnTo>
                    <a:pt x="23" y="424"/>
                  </a:lnTo>
                  <a:lnTo>
                    <a:pt x="29" y="438"/>
                  </a:lnTo>
                  <a:lnTo>
                    <a:pt x="36" y="452"/>
                  </a:lnTo>
                  <a:lnTo>
                    <a:pt x="43" y="465"/>
                  </a:lnTo>
                  <a:lnTo>
                    <a:pt x="52" y="478"/>
                  </a:lnTo>
                  <a:lnTo>
                    <a:pt x="60" y="491"/>
                  </a:lnTo>
                  <a:lnTo>
                    <a:pt x="70" y="503"/>
                  </a:lnTo>
                  <a:lnTo>
                    <a:pt x="80" y="515"/>
                  </a:lnTo>
                  <a:lnTo>
                    <a:pt x="91" y="526"/>
                  </a:lnTo>
                  <a:lnTo>
                    <a:pt x="104" y="537"/>
                  </a:lnTo>
                  <a:lnTo>
                    <a:pt x="115" y="547"/>
                  </a:lnTo>
                  <a:lnTo>
                    <a:pt x="127" y="556"/>
                  </a:lnTo>
                  <a:lnTo>
                    <a:pt x="140" y="565"/>
                  </a:lnTo>
                  <a:lnTo>
                    <a:pt x="153" y="573"/>
                  </a:lnTo>
                  <a:lnTo>
                    <a:pt x="166" y="580"/>
                  </a:lnTo>
                  <a:lnTo>
                    <a:pt x="179" y="586"/>
                  </a:lnTo>
                  <a:lnTo>
                    <a:pt x="193" y="592"/>
                  </a:lnTo>
                  <a:lnTo>
                    <a:pt x="207" y="598"/>
                  </a:lnTo>
                  <a:lnTo>
                    <a:pt x="221" y="603"/>
                  </a:lnTo>
                  <a:lnTo>
                    <a:pt x="235" y="606"/>
                  </a:lnTo>
                  <a:lnTo>
                    <a:pt x="250" y="609"/>
                  </a:lnTo>
                  <a:lnTo>
                    <a:pt x="265" y="612"/>
                  </a:lnTo>
                  <a:lnTo>
                    <a:pt x="279" y="613"/>
                  </a:lnTo>
                  <a:lnTo>
                    <a:pt x="294" y="614"/>
                  </a:lnTo>
                  <a:lnTo>
                    <a:pt x="308" y="615"/>
                  </a:lnTo>
                  <a:lnTo>
                    <a:pt x="323" y="614"/>
                  </a:lnTo>
                  <a:lnTo>
                    <a:pt x="337" y="613"/>
                  </a:lnTo>
                  <a:lnTo>
                    <a:pt x="352" y="611"/>
                  </a:lnTo>
                  <a:lnTo>
                    <a:pt x="366" y="609"/>
                  </a:lnTo>
                  <a:lnTo>
                    <a:pt x="381" y="605"/>
                  </a:lnTo>
                  <a:lnTo>
                    <a:pt x="396" y="602"/>
                  </a:lnTo>
                  <a:lnTo>
                    <a:pt x="410" y="597"/>
                  </a:lnTo>
                  <a:lnTo>
                    <a:pt x="424" y="591"/>
                  </a:lnTo>
                  <a:lnTo>
                    <a:pt x="438" y="584"/>
                  </a:lnTo>
                  <a:lnTo>
                    <a:pt x="451" y="578"/>
                  </a:lnTo>
                  <a:lnTo>
                    <a:pt x="464" y="570"/>
                  </a:lnTo>
                  <a:lnTo>
                    <a:pt x="477" y="562"/>
                  </a:lnTo>
                  <a:lnTo>
                    <a:pt x="490" y="553"/>
                  </a:lnTo>
                  <a:lnTo>
                    <a:pt x="502" y="543"/>
                  </a:lnTo>
                  <a:lnTo>
                    <a:pt x="514" y="533"/>
                  </a:lnTo>
                  <a:lnTo>
                    <a:pt x="525" y="522"/>
                  </a:lnTo>
                  <a:lnTo>
                    <a:pt x="536" y="511"/>
                  </a:lnTo>
                  <a:lnTo>
                    <a:pt x="547" y="499"/>
                  </a:lnTo>
                  <a:lnTo>
                    <a:pt x="556" y="487"/>
                  </a:lnTo>
                  <a:lnTo>
                    <a:pt x="564" y="475"/>
                  </a:lnTo>
                  <a:lnTo>
                    <a:pt x="572" y="462"/>
                  </a:lnTo>
                  <a:lnTo>
                    <a:pt x="579" y="448"/>
                  </a:lnTo>
                  <a:lnTo>
                    <a:pt x="586" y="434"/>
                  </a:lnTo>
                  <a:lnTo>
                    <a:pt x="592" y="421"/>
                  </a:lnTo>
                  <a:lnTo>
                    <a:pt x="597" y="407"/>
                  </a:lnTo>
                  <a:lnTo>
                    <a:pt x="601" y="393"/>
                  </a:lnTo>
                  <a:lnTo>
                    <a:pt x="605" y="379"/>
                  </a:lnTo>
                  <a:lnTo>
                    <a:pt x="608" y="364"/>
                  </a:lnTo>
                  <a:lnTo>
                    <a:pt x="611" y="350"/>
                  </a:lnTo>
                  <a:lnTo>
                    <a:pt x="612" y="335"/>
                  </a:lnTo>
                  <a:lnTo>
                    <a:pt x="613" y="321"/>
                  </a:lnTo>
                  <a:lnTo>
                    <a:pt x="613" y="305"/>
                  </a:lnTo>
                  <a:lnTo>
                    <a:pt x="613" y="291"/>
                  </a:lnTo>
                  <a:lnTo>
                    <a:pt x="612" y="276"/>
                  </a:lnTo>
                  <a:lnTo>
                    <a:pt x="610" y="261"/>
                  </a:lnTo>
                  <a:lnTo>
                    <a:pt x="608" y="247"/>
                  </a:lnTo>
                  <a:lnTo>
                    <a:pt x="604" y="233"/>
                  </a:lnTo>
                  <a:lnTo>
                    <a:pt x="601" y="218"/>
                  </a:lnTo>
                  <a:lnTo>
                    <a:pt x="596" y="204"/>
                  </a:lnTo>
                  <a:lnTo>
                    <a:pt x="591" y="190"/>
                  </a:lnTo>
                  <a:lnTo>
                    <a:pt x="585" y="177"/>
                  </a:lnTo>
                  <a:lnTo>
                    <a:pt x="578" y="163"/>
                  </a:lnTo>
                  <a:lnTo>
                    <a:pt x="570" y="149"/>
                  </a:lnTo>
                  <a:lnTo>
                    <a:pt x="562" y="136"/>
                  </a:lnTo>
                  <a:lnTo>
                    <a:pt x="553" y="124"/>
                  </a:lnTo>
                  <a:lnTo>
                    <a:pt x="544" y="112"/>
                  </a:lnTo>
                  <a:lnTo>
                    <a:pt x="533" y="100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16720" y="6078960"/>
              <a:ext cx="226800" cy="151920"/>
            </a:xfrm>
            <a:custGeom>
              <a:avLst/>
              <a:gdLst/>
              <a:ahLst/>
              <a:rect l="l" t="t" r="r" b="b"/>
              <a:pathLst>
                <a:path w="2293" h="2293">
                  <a:moveTo>
                    <a:pt x="823" y="1792"/>
                  </a:moveTo>
                  <a:lnTo>
                    <a:pt x="799" y="1823"/>
                  </a:lnTo>
                  <a:lnTo>
                    <a:pt x="777" y="1850"/>
                  </a:lnTo>
                  <a:lnTo>
                    <a:pt x="754" y="1875"/>
                  </a:lnTo>
                  <a:lnTo>
                    <a:pt x="731" y="1897"/>
                  </a:lnTo>
                  <a:lnTo>
                    <a:pt x="709" y="1916"/>
                  </a:lnTo>
                  <a:lnTo>
                    <a:pt x="686" y="1932"/>
                  </a:lnTo>
                  <a:lnTo>
                    <a:pt x="663" y="1946"/>
                  </a:lnTo>
                  <a:lnTo>
                    <a:pt x="641" y="1958"/>
                  </a:lnTo>
                  <a:lnTo>
                    <a:pt x="619" y="1968"/>
                  </a:lnTo>
                  <a:lnTo>
                    <a:pt x="598" y="1976"/>
                  </a:lnTo>
                  <a:lnTo>
                    <a:pt x="577" y="1983"/>
                  </a:lnTo>
                  <a:lnTo>
                    <a:pt x="556" y="1987"/>
                  </a:lnTo>
                  <a:lnTo>
                    <a:pt x="536" y="1990"/>
                  </a:lnTo>
                  <a:lnTo>
                    <a:pt x="515" y="1992"/>
                  </a:lnTo>
                  <a:lnTo>
                    <a:pt x="496" y="1992"/>
                  </a:lnTo>
                  <a:lnTo>
                    <a:pt x="478" y="1992"/>
                  </a:lnTo>
                  <a:lnTo>
                    <a:pt x="460" y="1990"/>
                  </a:lnTo>
                  <a:lnTo>
                    <a:pt x="443" y="1987"/>
                  </a:lnTo>
                  <a:lnTo>
                    <a:pt x="427" y="1984"/>
                  </a:lnTo>
                  <a:lnTo>
                    <a:pt x="412" y="1980"/>
                  </a:lnTo>
                  <a:lnTo>
                    <a:pt x="398" y="1976"/>
                  </a:lnTo>
                  <a:lnTo>
                    <a:pt x="384" y="1971"/>
                  </a:lnTo>
                  <a:lnTo>
                    <a:pt x="371" y="1966"/>
                  </a:lnTo>
                  <a:lnTo>
                    <a:pt x="360" y="1961"/>
                  </a:lnTo>
                  <a:lnTo>
                    <a:pt x="326" y="1944"/>
                  </a:lnTo>
                  <a:lnTo>
                    <a:pt x="315" y="1936"/>
                  </a:lnTo>
                  <a:lnTo>
                    <a:pt x="298" y="1917"/>
                  </a:lnTo>
                  <a:lnTo>
                    <a:pt x="284" y="1898"/>
                  </a:lnTo>
                  <a:lnTo>
                    <a:pt x="272" y="1878"/>
                  </a:lnTo>
                  <a:lnTo>
                    <a:pt x="263" y="1859"/>
                  </a:lnTo>
                  <a:lnTo>
                    <a:pt x="255" y="1838"/>
                  </a:lnTo>
                  <a:lnTo>
                    <a:pt x="250" y="1818"/>
                  </a:lnTo>
                  <a:lnTo>
                    <a:pt x="246" y="1798"/>
                  </a:lnTo>
                  <a:lnTo>
                    <a:pt x="244" y="1778"/>
                  </a:lnTo>
                  <a:lnTo>
                    <a:pt x="243" y="1759"/>
                  </a:lnTo>
                  <a:lnTo>
                    <a:pt x="244" y="1739"/>
                  </a:lnTo>
                  <a:lnTo>
                    <a:pt x="247" y="1720"/>
                  </a:lnTo>
                  <a:lnTo>
                    <a:pt x="250" y="1700"/>
                  </a:lnTo>
                  <a:lnTo>
                    <a:pt x="255" y="1681"/>
                  </a:lnTo>
                  <a:lnTo>
                    <a:pt x="260" y="1663"/>
                  </a:lnTo>
                  <a:lnTo>
                    <a:pt x="266" y="1645"/>
                  </a:lnTo>
                  <a:lnTo>
                    <a:pt x="273" y="1628"/>
                  </a:lnTo>
                  <a:lnTo>
                    <a:pt x="281" y="1611"/>
                  </a:lnTo>
                  <a:lnTo>
                    <a:pt x="289" y="1595"/>
                  </a:lnTo>
                  <a:lnTo>
                    <a:pt x="297" y="1580"/>
                  </a:lnTo>
                  <a:lnTo>
                    <a:pt x="306" y="1564"/>
                  </a:lnTo>
                  <a:lnTo>
                    <a:pt x="323" y="1538"/>
                  </a:lnTo>
                  <a:lnTo>
                    <a:pt x="339" y="1515"/>
                  </a:lnTo>
                  <a:lnTo>
                    <a:pt x="364" y="1482"/>
                  </a:lnTo>
                  <a:lnTo>
                    <a:pt x="375" y="1471"/>
                  </a:lnTo>
                  <a:lnTo>
                    <a:pt x="399" y="1454"/>
                  </a:lnTo>
                  <a:lnTo>
                    <a:pt x="424" y="1439"/>
                  </a:lnTo>
                  <a:lnTo>
                    <a:pt x="451" y="1424"/>
                  </a:lnTo>
                  <a:lnTo>
                    <a:pt x="480" y="1408"/>
                  </a:lnTo>
                  <a:lnTo>
                    <a:pt x="509" y="1394"/>
                  </a:lnTo>
                  <a:lnTo>
                    <a:pt x="540" y="1381"/>
                  </a:lnTo>
                  <a:lnTo>
                    <a:pt x="571" y="1368"/>
                  </a:lnTo>
                  <a:lnTo>
                    <a:pt x="602" y="1356"/>
                  </a:lnTo>
                  <a:lnTo>
                    <a:pt x="664" y="1334"/>
                  </a:lnTo>
                  <a:lnTo>
                    <a:pt x="725" y="1315"/>
                  </a:lnTo>
                  <a:lnTo>
                    <a:pt x="779" y="1299"/>
                  </a:lnTo>
                  <a:lnTo>
                    <a:pt x="828" y="1286"/>
                  </a:lnTo>
                  <a:lnTo>
                    <a:pt x="824" y="1276"/>
                  </a:lnTo>
                  <a:lnTo>
                    <a:pt x="821" y="1267"/>
                  </a:lnTo>
                  <a:lnTo>
                    <a:pt x="817" y="1257"/>
                  </a:lnTo>
                  <a:lnTo>
                    <a:pt x="814" y="1248"/>
                  </a:lnTo>
                  <a:lnTo>
                    <a:pt x="774" y="1266"/>
                  </a:lnTo>
                  <a:lnTo>
                    <a:pt x="737" y="1283"/>
                  </a:lnTo>
                  <a:lnTo>
                    <a:pt x="702" y="1297"/>
                  </a:lnTo>
                  <a:lnTo>
                    <a:pt x="667" y="1310"/>
                  </a:lnTo>
                  <a:lnTo>
                    <a:pt x="607" y="1332"/>
                  </a:lnTo>
                  <a:lnTo>
                    <a:pt x="557" y="1348"/>
                  </a:lnTo>
                  <a:lnTo>
                    <a:pt x="515" y="1360"/>
                  </a:lnTo>
                  <a:lnTo>
                    <a:pt x="485" y="1368"/>
                  </a:lnTo>
                  <a:lnTo>
                    <a:pt x="467" y="1373"/>
                  </a:lnTo>
                  <a:lnTo>
                    <a:pt x="460" y="1374"/>
                  </a:lnTo>
                  <a:lnTo>
                    <a:pt x="423" y="1380"/>
                  </a:lnTo>
                  <a:lnTo>
                    <a:pt x="388" y="1383"/>
                  </a:lnTo>
                  <a:lnTo>
                    <a:pt x="354" y="1384"/>
                  </a:lnTo>
                  <a:lnTo>
                    <a:pt x="322" y="1383"/>
                  </a:lnTo>
                  <a:lnTo>
                    <a:pt x="293" y="1381"/>
                  </a:lnTo>
                  <a:lnTo>
                    <a:pt x="265" y="1376"/>
                  </a:lnTo>
                  <a:lnTo>
                    <a:pt x="239" y="1371"/>
                  </a:lnTo>
                  <a:lnTo>
                    <a:pt x="214" y="1364"/>
                  </a:lnTo>
                  <a:lnTo>
                    <a:pt x="192" y="1355"/>
                  </a:lnTo>
                  <a:lnTo>
                    <a:pt x="171" y="1346"/>
                  </a:lnTo>
                  <a:lnTo>
                    <a:pt x="152" y="1335"/>
                  </a:lnTo>
                  <a:lnTo>
                    <a:pt x="134" y="1324"/>
                  </a:lnTo>
                  <a:lnTo>
                    <a:pt x="117" y="1312"/>
                  </a:lnTo>
                  <a:lnTo>
                    <a:pt x="102" y="1299"/>
                  </a:lnTo>
                  <a:lnTo>
                    <a:pt x="89" y="1286"/>
                  </a:lnTo>
                  <a:lnTo>
                    <a:pt x="75" y="1271"/>
                  </a:lnTo>
                  <a:lnTo>
                    <a:pt x="64" y="1257"/>
                  </a:lnTo>
                  <a:lnTo>
                    <a:pt x="54" y="1244"/>
                  </a:lnTo>
                  <a:lnTo>
                    <a:pt x="45" y="1230"/>
                  </a:lnTo>
                  <a:lnTo>
                    <a:pt x="37" y="1216"/>
                  </a:lnTo>
                  <a:lnTo>
                    <a:pt x="30" y="1203"/>
                  </a:lnTo>
                  <a:lnTo>
                    <a:pt x="23" y="1190"/>
                  </a:lnTo>
                  <a:lnTo>
                    <a:pt x="18" y="1178"/>
                  </a:lnTo>
                  <a:lnTo>
                    <a:pt x="14" y="1167"/>
                  </a:lnTo>
                  <a:lnTo>
                    <a:pt x="3" y="1130"/>
                  </a:lnTo>
                  <a:lnTo>
                    <a:pt x="0" y="1116"/>
                  </a:lnTo>
                  <a:lnTo>
                    <a:pt x="1" y="1091"/>
                  </a:lnTo>
                  <a:lnTo>
                    <a:pt x="5" y="1068"/>
                  </a:lnTo>
                  <a:lnTo>
                    <a:pt x="11" y="1046"/>
                  </a:lnTo>
                  <a:lnTo>
                    <a:pt x="18" y="1025"/>
                  </a:lnTo>
                  <a:lnTo>
                    <a:pt x="26" y="1006"/>
                  </a:lnTo>
                  <a:lnTo>
                    <a:pt x="37" y="987"/>
                  </a:lnTo>
                  <a:lnTo>
                    <a:pt x="48" y="970"/>
                  </a:lnTo>
                  <a:lnTo>
                    <a:pt x="61" y="955"/>
                  </a:lnTo>
                  <a:lnTo>
                    <a:pt x="74" y="941"/>
                  </a:lnTo>
                  <a:lnTo>
                    <a:pt x="90" y="927"/>
                  </a:lnTo>
                  <a:lnTo>
                    <a:pt x="105" y="915"/>
                  </a:lnTo>
                  <a:lnTo>
                    <a:pt x="121" y="905"/>
                  </a:lnTo>
                  <a:lnTo>
                    <a:pt x="138" y="895"/>
                  </a:lnTo>
                  <a:lnTo>
                    <a:pt x="154" y="885"/>
                  </a:lnTo>
                  <a:lnTo>
                    <a:pt x="171" y="877"/>
                  </a:lnTo>
                  <a:lnTo>
                    <a:pt x="189" y="870"/>
                  </a:lnTo>
                  <a:lnTo>
                    <a:pt x="206" y="864"/>
                  </a:lnTo>
                  <a:lnTo>
                    <a:pt x="223" y="858"/>
                  </a:lnTo>
                  <a:lnTo>
                    <a:pt x="240" y="853"/>
                  </a:lnTo>
                  <a:lnTo>
                    <a:pt x="257" y="849"/>
                  </a:lnTo>
                  <a:lnTo>
                    <a:pt x="288" y="841"/>
                  </a:lnTo>
                  <a:lnTo>
                    <a:pt x="315" y="836"/>
                  </a:lnTo>
                  <a:lnTo>
                    <a:pt x="356" y="831"/>
                  </a:lnTo>
                  <a:lnTo>
                    <a:pt x="372" y="830"/>
                  </a:lnTo>
                  <a:lnTo>
                    <a:pt x="401" y="835"/>
                  </a:lnTo>
                  <a:lnTo>
                    <a:pt x="431" y="842"/>
                  </a:lnTo>
                  <a:lnTo>
                    <a:pt x="461" y="851"/>
                  </a:lnTo>
                  <a:lnTo>
                    <a:pt x="492" y="861"/>
                  </a:lnTo>
                  <a:lnTo>
                    <a:pt x="523" y="873"/>
                  </a:lnTo>
                  <a:lnTo>
                    <a:pt x="555" y="885"/>
                  </a:lnTo>
                  <a:lnTo>
                    <a:pt x="586" y="898"/>
                  </a:lnTo>
                  <a:lnTo>
                    <a:pt x="617" y="912"/>
                  </a:lnTo>
                  <a:lnTo>
                    <a:pt x="678" y="941"/>
                  </a:lnTo>
                  <a:lnTo>
                    <a:pt x="734" y="970"/>
                  </a:lnTo>
                  <a:lnTo>
                    <a:pt x="784" y="999"/>
                  </a:lnTo>
                  <a:lnTo>
                    <a:pt x="828" y="1023"/>
                  </a:lnTo>
                  <a:lnTo>
                    <a:pt x="831" y="1014"/>
                  </a:lnTo>
                  <a:lnTo>
                    <a:pt x="835" y="1005"/>
                  </a:lnTo>
                  <a:lnTo>
                    <a:pt x="840" y="996"/>
                  </a:lnTo>
                  <a:lnTo>
                    <a:pt x="845" y="986"/>
                  </a:lnTo>
                  <a:lnTo>
                    <a:pt x="803" y="970"/>
                  </a:lnTo>
                  <a:lnTo>
                    <a:pt x="765" y="955"/>
                  </a:lnTo>
                  <a:lnTo>
                    <a:pt x="729" y="940"/>
                  </a:lnTo>
                  <a:lnTo>
                    <a:pt x="696" y="925"/>
                  </a:lnTo>
                  <a:lnTo>
                    <a:pt x="636" y="898"/>
                  </a:lnTo>
                  <a:lnTo>
                    <a:pt x="587" y="873"/>
                  </a:lnTo>
                  <a:lnTo>
                    <a:pt x="550" y="853"/>
                  </a:lnTo>
                  <a:lnTo>
                    <a:pt x="521" y="836"/>
                  </a:lnTo>
                  <a:lnTo>
                    <a:pt x="505" y="826"/>
                  </a:lnTo>
                  <a:lnTo>
                    <a:pt x="500" y="822"/>
                  </a:lnTo>
                  <a:lnTo>
                    <a:pt x="469" y="800"/>
                  </a:lnTo>
                  <a:lnTo>
                    <a:pt x="442" y="777"/>
                  </a:lnTo>
                  <a:lnTo>
                    <a:pt x="418" y="755"/>
                  </a:lnTo>
                  <a:lnTo>
                    <a:pt x="396" y="732"/>
                  </a:lnTo>
                  <a:lnTo>
                    <a:pt x="376" y="709"/>
                  </a:lnTo>
                  <a:lnTo>
                    <a:pt x="360" y="686"/>
                  </a:lnTo>
                  <a:lnTo>
                    <a:pt x="346" y="664"/>
                  </a:lnTo>
                  <a:lnTo>
                    <a:pt x="334" y="641"/>
                  </a:lnTo>
                  <a:lnTo>
                    <a:pt x="324" y="620"/>
                  </a:lnTo>
                  <a:lnTo>
                    <a:pt x="316" y="598"/>
                  </a:lnTo>
                  <a:lnTo>
                    <a:pt x="310" y="577"/>
                  </a:lnTo>
                  <a:lnTo>
                    <a:pt x="305" y="556"/>
                  </a:lnTo>
                  <a:lnTo>
                    <a:pt x="302" y="535"/>
                  </a:lnTo>
                  <a:lnTo>
                    <a:pt x="300" y="516"/>
                  </a:lnTo>
                  <a:lnTo>
                    <a:pt x="300" y="497"/>
                  </a:lnTo>
                  <a:lnTo>
                    <a:pt x="301" y="478"/>
                  </a:lnTo>
                  <a:lnTo>
                    <a:pt x="303" y="461"/>
                  </a:lnTo>
                  <a:lnTo>
                    <a:pt x="305" y="444"/>
                  </a:lnTo>
                  <a:lnTo>
                    <a:pt x="309" y="428"/>
                  </a:lnTo>
                  <a:lnTo>
                    <a:pt x="312" y="412"/>
                  </a:lnTo>
                  <a:lnTo>
                    <a:pt x="317" y="397"/>
                  </a:lnTo>
                  <a:lnTo>
                    <a:pt x="322" y="384"/>
                  </a:lnTo>
                  <a:lnTo>
                    <a:pt x="326" y="372"/>
                  </a:lnTo>
                  <a:lnTo>
                    <a:pt x="331" y="361"/>
                  </a:lnTo>
                  <a:lnTo>
                    <a:pt x="349" y="327"/>
                  </a:lnTo>
                  <a:lnTo>
                    <a:pt x="357" y="316"/>
                  </a:lnTo>
                  <a:lnTo>
                    <a:pt x="376" y="299"/>
                  </a:lnTo>
                  <a:lnTo>
                    <a:pt x="396" y="285"/>
                  </a:lnTo>
                  <a:lnTo>
                    <a:pt x="415" y="273"/>
                  </a:lnTo>
                  <a:lnTo>
                    <a:pt x="435" y="263"/>
                  </a:lnTo>
                  <a:lnTo>
                    <a:pt x="455" y="255"/>
                  </a:lnTo>
                  <a:lnTo>
                    <a:pt x="474" y="250"/>
                  </a:lnTo>
                  <a:lnTo>
                    <a:pt x="494" y="246"/>
                  </a:lnTo>
                  <a:lnTo>
                    <a:pt x="514" y="244"/>
                  </a:lnTo>
                  <a:lnTo>
                    <a:pt x="535" y="243"/>
                  </a:lnTo>
                  <a:lnTo>
                    <a:pt x="554" y="244"/>
                  </a:lnTo>
                  <a:lnTo>
                    <a:pt x="573" y="247"/>
                  </a:lnTo>
                  <a:lnTo>
                    <a:pt x="592" y="250"/>
                  </a:lnTo>
                  <a:lnTo>
                    <a:pt x="611" y="255"/>
                  </a:lnTo>
                  <a:lnTo>
                    <a:pt x="629" y="260"/>
                  </a:lnTo>
                  <a:lnTo>
                    <a:pt x="647" y="266"/>
                  </a:lnTo>
                  <a:lnTo>
                    <a:pt x="664" y="274"/>
                  </a:lnTo>
                  <a:lnTo>
                    <a:pt x="682" y="282"/>
                  </a:lnTo>
                  <a:lnTo>
                    <a:pt x="698" y="290"/>
                  </a:lnTo>
                  <a:lnTo>
                    <a:pt x="713" y="298"/>
                  </a:lnTo>
                  <a:lnTo>
                    <a:pt x="728" y="306"/>
                  </a:lnTo>
                  <a:lnTo>
                    <a:pt x="754" y="323"/>
                  </a:lnTo>
                  <a:lnTo>
                    <a:pt x="777" y="339"/>
                  </a:lnTo>
                  <a:lnTo>
                    <a:pt x="810" y="365"/>
                  </a:lnTo>
                  <a:lnTo>
                    <a:pt x="822" y="375"/>
                  </a:lnTo>
                  <a:lnTo>
                    <a:pt x="839" y="399"/>
                  </a:lnTo>
                  <a:lnTo>
                    <a:pt x="855" y="426"/>
                  </a:lnTo>
                  <a:lnTo>
                    <a:pt x="871" y="454"/>
                  </a:lnTo>
                  <a:lnTo>
                    <a:pt x="886" y="483"/>
                  </a:lnTo>
                  <a:lnTo>
                    <a:pt x="900" y="513"/>
                  </a:lnTo>
                  <a:lnTo>
                    <a:pt x="914" y="545"/>
                  </a:lnTo>
                  <a:lnTo>
                    <a:pt x="927" y="577"/>
                  </a:lnTo>
                  <a:lnTo>
                    <a:pt x="939" y="609"/>
                  </a:lnTo>
                  <a:lnTo>
                    <a:pt x="961" y="673"/>
                  </a:lnTo>
                  <a:lnTo>
                    <a:pt x="981" y="734"/>
                  </a:lnTo>
                  <a:lnTo>
                    <a:pt x="997" y="789"/>
                  </a:lnTo>
                  <a:lnTo>
                    <a:pt x="1009" y="837"/>
                  </a:lnTo>
                  <a:lnTo>
                    <a:pt x="1018" y="833"/>
                  </a:lnTo>
                  <a:lnTo>
                    <a:pt x="1028" y="829"/>
                  </a:lnTo>
                  <a:lnTo>
                    <a:pt x="1038" y="826"/>
                  </a:lnTo>
                  <a:lnTo>
                    <a:pt x="1048" y="823"/>
                  </a:lnTo>
                  <a:lnTo>
                    <a:pt x="1030" y="783"/>
                  </a:lnTo>
                  <a:lnTo>
                    <a:pt x="1013" y="744"/>
                  </a:lnTo>
                  <a:lnTo>
                    <a:pt x="998" y="708"/>
                  </a:lnTo>
                  <a:lnTo>
                    <a:pt x="985" y="673"/>
                  </a:lnTo>
                  <a:lnTo>
                    <a:pt x="962" y="612"/>
                  </a:lnTo>
                  <a:lnTo>
                    <a:pt x="945" y="560"/>
                  </a:lnTo>
                  <a:lnTo>
                    <a:pt x="932" y="517"/>
                  </a:lnTo>
                  <a:lnTo>
                    <a:pt x="924" y="486"/>
                  </a:lnTo>
                  <a:lnTo>
                    <a:pt x="919" y="467"/>
                  </a:lnTo>
                  <a:lnTo>
                    <a:pt x="918" y="461"/>
                  </a:lnTo>
                  <a:lnTo>
                    <a:pt x="912" y="424"/>
                  </a:lnTo>
                  <a:lnTo>
                    <a:pt x="909" y="388"/>
                  </a:lnTo>
                  <a:lnTo>
                    <a:pt x="908" y="354"/>
                  </a:lnTo>
                  <a:lnTo>
                    <a:pt x="909" y="323"/>
                  </a:lnTo>
                  <a:lnTo>
                    <a:pt x="912" y="294"/>
                  </a:lnTo>
                  <a:lnTo>
                    <a:pt x="916" y="265"/>
                  </a:lnTo>
                  <a:lnTo>
                    <a:pt x="922" y="239"/>
                  </a:lnTo>
                  <a:lnTo>
                    <a:pt x="929" y="215"/>
                  </a:lnTo>
                  <a:lnTo>
                    <a:pt x="937" y="193"/>
                  </a:lnTo>
                  <a:lnTo>
                    <a:pt x="947" y="172"/>
                  </a:lnTo>
                  <a:lnTo>
                    <a:pt x="957" y="152"/>
                  </a:lnTo>
                  <a:lnTo>
                    <a:pt x="969" y="135"/>
                  </a:lnTo>
                  <a:lnTo>
                    <a:pt x="982" y="117"/>
                  </a:lnTo>
                  <a:lnTo>
                    <a:pt x="994" y="102"/>
                  </a:lnTo>
                  <a:lnTo>
                    <a:pt x="1007" y="88"/>
                  </a:lnTo>
                  <a:lnTo>
                    <a:pt x="1021" y="76"/>
                  </a:lnTo>
                  <a:lnTo>
                    <a:pt x="1035" y="65"/>
                  </a:lnTo>
                  <a:lnTo>
                    <a:pt x="1048" y="55"/>
                  </a:lnTo>
                  <a:lnTo>
                    <a:pt x="1062" y="45"/>
                  </a:lnTo>
                  <a:lnTo>
                    <a:pt x="1076" y="37"/>
                  </a:lnTo>
                  <a:lnTo>
                    <a:pt x="1089" y="30"/>
                  </a:lnTo>
                  <a:lnTo>
                    <a:pt x="1102" y="24"/>
                  </a:lnTo>
                  <a:lnTo>
                    <a:pt x="1115" y="19"/>
                  </a:lnTo>
                  <a:lnTo>
                    <a:pt x="1126" y="14"/>
                  </a:lnTo>
                  <a:lnTo>
                    <a:pt x="1162" y="3"/>
                  </a:lnTo>
                  <a:lnTo>
                    <a:pt x="1176" y="0"/>
                  </a:lnTo>
                  <a:lnTo>
                    <a:pt x="1201" y="2"/>
                  </a:lnTo>
                  <a:lnTo>
                    <a:pt x="1225" y="6"/>
                  </a:lnTo>
                  <a:lnTo>
                    <a:pt x="1247" y="11"/>
                  </a:lnTo>
                  <a:lnTo>
                    <a:pt x="1268" y="19"/>
                  </a:lnTo>
                  <a:lnTo>
                    <a:pt x="1287" y="27"/>
                  </a:lnTo>
                  <a:lnTo>
                    <a:pt x="1305" y="37"/>
                  </a:lnTo>
                  <a:lnTo>
                    <a:pt x="1322" y="49"/>
                  </a:lnTo>
                  <a:lnTo>
                    <a:pt x="1337" y="61"/>
                  </a:lnTo>
                  <a:lnTo>
                    <a:pt x="1352" y="75"/>
                  </a:lnTo>
                  <a:lnTo>
                    <a:pt x="1365" y="90"/>
                  </a:lnTo>
                  <a:lnTo>
                    <a:pt x="1377" y="105"/>
                  </a:lnTo>
                  <a:lnTo>
                    <a:pt x="1388" y="121"/>
                  </a:lnTo>
                  <a:lnTo>
                    <a:pt x="1398" y="138"/>
                  </a:lnTo>
                  <a:lnTo>
                    <a:pt x="1408" y="155"/>
                  </a:lnTo>
                  <a:lnTo>
                    <a:pt x="1416" y="172"/>
                  </a:lnTo>
                  <a:lnTo>
                    <a:pt x="1423" y="189"/>
                  </a:lnTo>
                  <a:lnTo>
                    <a:pt x="1429" y="206"/>
                  </a:lnTo>
                  <a:lnTo>
                    <a:pt x="1435" y="223"/>
                  </a:lnTo>
                  <a:lnTo>
                    <a:pt x="1440" y="240"/>
                  </a:lnTo>
                  <a:lnTo>
                    <a:pt x="1444" y="256"/>
                  </a:lnTo>
                  <a:lnTo>
                    <a:pt x="1451" y="288"/>
                  </a:lnTo>
                  <a:lnTo>
                    <a:pt x="1456" y="316"/>
                  </a:lnTo>
                  <a:lnTo>
                    <a:pt x="1461" y="357"/>
                  </a:lnTo>
                  <a:lnTo>
                    <a:pt x="1462" y="372"/>
                  </a:lnTo>
                  <a:lnTo>
                    <a:pt x="1457" y="401"/>
                  </a:lnTo>
                  <a:lnTo>
                    <a:pt x="1450" y="432"/>
                  </a:lnTo>
                  <a:lnTo>
                    <a:pt x="1441" y="463"/>
                  </a:lnTo>
                  <a:lnTo>
                    <a:pt x="1431" y="494"/>
                  </a:lnTo>
                  <a:lnTo>
                    <a:pt x="1420" y="525"/>
                  </a:lnTo>
                  <a:lnTo>
                    <a:pt x="1407" y="557"/>
                  </a:lnTo>
                  <a:lnTo>
                    <a:pt x="1393" y="590"/>
                  </a:lnTo>
                  <a:lnTo>
                    <a:pt x="1379" y="621"/>
                  </a:lnTo>
                  <a:lnTo>
                    <a:pt x="1365" y="651"/>
                  </a:lnTo>
                  <a:lnTo>
                    <a:pt x="1350" y="681"/>
                  </a:lnTo>
                  <a:lnTo>
                    <a:pt x="1335" y="711"/>
                  </a:lnTo>
                  <a:lnTo>
                    <a:pt x="1320" y="738"/>
                  </a:lnTo>
                  <a:lnTo>
                    <a:pt x="1293" y="788"/>
                  </a:lnTo>
                  <a:lnTo>
                    <a:pt x="1268" y="830"/>
                  </a:lnTo>
                  <a:lnTo>
                    <a:pt x="1278" y="834"/>
                  </a:lnTo>
                  <a:lnTo>
                    <a:pt x="1287" y="839"/>
                  </a:lnTo>
                  <a:lnTo>
                    <a:pt x="1296" y="843"/>
                  </a:lnTo>
                  <a:lnTo>
                    <a:pt x="1305" y="849"/>
                  </a:lnTo>
                  <a:lnTo>
                    <a:pt x="1321" y="806"/>
                  </a:lnTo>
                  <a:lnTo>
                    <a:pt x="1337" y="768"/>
                  </a:lnTo>
                  <a:lnTo>
                    <a:pt x="1352" y="732"/>
                  </a:lnTo>
                  <a:lnTo>
                    <a:pt x="1367" y="697"/>
                  </a:lnTo>
                  <a:lnTo>
                    <a:pt x="1394" y="638"/>
                  </a:lnTo>
                  <a:lnTo>
                    <a:pt x="1420" y="589"/>
                  </a:lnTo>
                  <a:lnTo>
                    <a:pt x="1440" y="550"/>
                  </a:lnTo>
                  <a:lnTo>
                    <a:pt x="1456" y="523"/>
                  </a:lnTo>
                  <a:lnTo>
                    <a:pt x="1466" y="506"/>
                  </a:lnTo>
                  <a:lnTo>
                    <a:pt x="1470" y="500"/>
                  </a:lnTo>
                  <a:lnTo>
                    <a:pt x="1492" y="470"/>
                  </a:lnTo>
                  <a:lnTo>
                    <a:pt x="1515" y="443"/>
                  </a:lnTo>
                  <a:lnTo>
                    <a:pt x="1538" y="419"/>
                  </a:lnTo>
                  <a:lnTo>
                    <a:pt x="1561" y="396"/>
                  </a:lnTo>
                  <a:lnTo>
                    <a:pt x="1584" y="377"/>
                  </a:lnTo>
                  <a:lnTo>
                    <a:pt x="1606" y="361"/>
                  </a:lnTo>
                  <a:lnTo>
                    <a:pt x="1629" y="347"/>
                  </a:lnTo>
                  <a:lnTo>
                    <a:pt x="1651" y="335"/>
                  </a:lnTo>
                  <a:lnTo>
                    <a:pt x="1673" y="325"/>
                  </a:lnTo>
                  <a:lnTo>
                    <a:pt x="1694" y="317"/>
                  </a:lnTo>
                  <a:lnTo>
                    <a:pt x="1716" y="311"/>
                  </a:lnTo>
                  <a:lnTo>
                    <a:pt x="1737" y="306"/>
                  </a:lnTo>
                  <a:lnTo>
                    <a:pt x="1757" y="303"/>
                  </a:lnTo>
                  <a:lnTo>
                    <a:pt x="1777" y="301"/>
                  </a:lnTo>
                  <a:lnTo>
                    <a:pt x="1796" y="301"/>
                  </a:lnTo>
                  <a:lnTo>
                    <a:pt x="1814" y="302"/>
                  </a:lnTo>
                  <a:lnTo>
                    <a:pt x="1832" y="304"/>
                  </a:lnTo>
                  <a:lnTo>
                    <a:pt x="1850" y="306"/>
                  </a:lnTo>
                  <a:lnTo>
                    <a:pt x="1866" y="310"/>
                  </a:lnTo>
                  <a:lnTo>
                    <a:pt x="1881" y="313"/>
                  </a:lnTo>
                  <a:lnTo>
                    <a:pt x="1909" y="322"/>
                  </a:lnTo>
                  <a:lnTo>
                    <a:pt x="1932" y="332"/>
                  </a:lnTo>
                  <a:lnTo>
                    <a:pt x="1966" y="350"/>
                  </a:lnTo>
                  <a:lnTo>
                    <a:pt x="1978" y="357"/>
                  </a:lnTo>
                  <a:lnTo>
                    <a:pt x="1995" y="376"/>
                  </a:lnTo>
                  <a:lnTo>
                    <a:pt x="2009" y="395"/>
                  </a:lnTo>
                  <a:lnTo>
                    <a:pt x="2021" y="416"/>
                  </a:lnTo>
                  <a:lnTo>
                    <a:pt x="2030" y="435"/>
                  </a:lnTo>
                  <a:lnTo>
                    <a:pt x="2038" y="455"/>
                  </a:lnTo>
                  <a:lnTo>
                    <a:pt x="2043" y="475"/>
                  </a:lnTo>
                  <a:lnTo>
                    <a:pt x="2047" y="495"/>
                  </a:lnTo>
                  <a:lnTo>
                    <a:pt x="2049" y="514"/>
                  </a:lnTo>
                  <a:lnTo>
                    <a:pt x="2049" y="534"/>
                  </a:lnTo>
                  <a:lnTo>
                    <a:pt x="2048" y="554"/>
                  </a:lnTo>
                  <a:lnTo>
                    <a:pt x="2046" y="574"/>
                  </a:lnTo>
                  <a:lnTo>
                    <a:pt x="2043" y="593"/>
                  </a:lnTo>
                  <a:lnTo>
                    <a:pt x="2038" y="612"/>
                  </a:lnTo>
                  <a:lnTo>
                    <a:pt x="2032" y="630"/>
                  </a:lnTo>
                  <a:lnTo>
                    <a:pt x="2026" y="648"/>
                  </a:lnTo>
                  <a:lnTo>
                    <a:pt x="2019" y="665"/>
                  </a:lnTo>
                  <a:lnTo>
                    <a:pt x="2011" y="681"/>
                  </a:lnTo>
                  <a:lnTo>
                    <a:pt x="2004" y="697"/>
                  </a:lnTo>
                  <a:lnTo>
                    <a:pt x="1995" y="714"/>
                  </a:lnTo>
                  <a:lnTo>
                    <a:pt x="1986" y="728"/>
                  </a:lnTo>
                  <a:lnTo>
                    <a:pt x="1969" y="755"/>
                  </a:lnTo>
                  <a:lnTo>
                    <a:pt x="1953" y="778"/>
                  </a:lnTo>
                  <a:lnTo>
                    <a:pt x="1927" y="810"/>
                  </a:lnTo>
                  <a:lnTo>
                    <a:pt x="1917" y="822"/>
                  </a:lnTo>
                  <a:lnTo>
                    <a:pt x="1893" y="839"/>
                  </a:lnTo>
                  <a:lnTo>
                    <a:pt x="1867" y="856"/>
                  </a:lnTo>
                  <a:lnTo>
                    <a:pt x="1839" y="871"/>
                  </a:lnTo>
                  <a:lnTo>
                    <a:pt x="1810" y="886"/>
                  </a:lnTo>
                  <a:lnTo>
                    <a:pt x="1780" y="900"/>
                  </a:lnTo>
                  <a:lnTo>
                    <a:pt x="1749" y="914"/>
                  </a:lnTo>
                  <a:lnTo>
                    <a:pt x="1718" y="926"/>
                  </a:lnTo>
                  <a:lnTo>
                    <a:pt x="1685" y="938"/>
                  </a:lnTo>
                  <a:lnTo>
                    <a:pt x="1654" y="950"/>
                  </a:lnTo>
                  <a:lnTo>
                    <a:pt x="1623" y="960"/>
                  </a:lnTo>
                  <a:lnTo>
                    <a:pt x="1592" y="970"/>
                  </a:lnTo>
                  <a:lnTo>
                    <a:pt x="1563" y="979"/>
                  </a:lnTo>
                  <a:lnTo>
                    <a:pt x="1507" y="996"/>
                  </a:lnTo>
                  <a:lnTo>
                    <a:pt x="1459" y="1008"/>
                  </a:lnTo>
                  <a:lnTo>
                    <a:pt x="1463" y="1018"/>
                  </a:lnTo>
                  <a:lnTo>
                    <a:pt x="1467" y="1027"/>
                  </a:lnTo>
                  <a:lnTo>
                    <a:pt x="1470" y="1037"/>
                  </a:lnTo>
                  <a:lnTo>
                    <a:pt x="1474" y="1047"/>
                  </a:lnTo>
                  <a:lnTo>
                    <a:pt x="1514" y="1029"/>
                  </a:lnTo>
                  <a:lnTo>
                    <a:pt x="1552" y="1012"/>
                  </a:lnTo>
                  <a:lnTo>
                    <a:pt x="1588" y="998"/>
                  </a:lnTo>
                  <a:lnTo>
                    <a:pt x="1622" y="984"/>
                  </a:lnTo>
                  <a:lnTo>
                    <a:pt x="1682" y="962"/>
                  </a:lnTo>
                  <a:lnTo>
                    <a:pt x="1735" y="945"/>
                  </a:lnTo>
                  <a:lnTo>
                    <a:pt x="1776" y="933"/>
                  </a:lnTo>
                  <a:lnTo>
                    <a:pt x="1806" y="924"/>
                  </a:lnTo>
                  <a:lnTo>
                    <a:pt x="1824" y="920"/>
                  </a:lnTo>
                  <a:lnTo>
                    <a:pt x="1831" y="919"/>
                  </a:lnTo>
                  <a:lnTo>
                    <a:pt x="1869" y="913"/>
                  </a:lnTo>
                  <a:lnTo>
                    <a:pt x="1904" y="910"/>
                  </a:lnTo>
                  <a:lnTo>
                    <a:pt x="1937" y="909"/>
                  </a:lnTo>
                  <a:lnTo>
                    <a:pt x="1969" y="910"/>
                  </a:lnTo>
                  <a:lnTo>
                    <a:pt x="1999" y="912"/>
                  </a:lnTo>
                  <a:lnTo>
                    <a:pt x="2027" y="917"/>
                  </a:lnTo>
                  <a:lnTo>
                    <a:pt x="2053" y="922"/>
                  </a:lnTo>
                  <a:lnTo>
                    <a:pt x="2077" y="930"/>
                  </a:lnTo>
                  <a:lnTo>
                    <a:pt x="2099" y="938"/>
                  </a:lnTo>
                  <a:lnTo>
                    <a:pt x="2120" y="947"/>
                  </a:lnTo>
                  <a:lnTo>
                    <a:pt x="2140" y="958"/>
                  </a:lnTo>
                  <a:lnTo>
                    <a:pt x="2158" y="969"/>
                  </a:lnTo>
                  <a:lnTo>
                    <a:pt x="2175" y="982"/>
                  </a:lnTo>
                  <a:lnTo>
                    <a:pt x="2190" y="995"/>
                  </a:lnTo>
                  <a:lnTo>
                    <a:pt x="2204" y="1008"/>
                  </a:lnTo>
                  <a:lnTo>
                    <a:pt x="2216" y="1022"/>
                  </a:lnTo>
                  <a:lnTo>
                    <a:pt x="2227" y="1036"/>
                  </a:lnTo>
                  <a:lnTo>
                    <a:pt x="2237" y="1049"/>
                  </a:lnTo>
                  <a:lnTo>
                    <a:pt x="2247" y="1063"/>
                  </a:lnTo>
                  <a:lnTo>
                    <a:pt x="2255" y="1077"/>
                  </a:lnTo>
                  <a:lnTo>
                    <a:pt x="2262" y="1090"/>
                  </a:lnTo>
                  <a:lnTo>
                    <a:pt x="2268" y="1103"/>
                  </a:lnTo>
                  <a:lnTo>
                    <a:pt x="2273" y="1115"/>
                  </a:lnTo>
                  <a:lnTo>
                    <a:pt x="2278" y="1126"/>
                  </a:lnTo>
                  <a:lnTo>
                    <a:pt x="2290" y="1163"/>
                  </a:lnTo>
                  <a:lnTo>
                    <a:pt x="2293" y="1177"/>
                  </a:lnTo>
                  <a:lnTo>
                    <a:pt x="2291" y="1202"/>
                  </a:lnTo>
                  <a:lnTo>
                    <a:pt x="2287" y="1226"/>
                  </a:lnTo>
                  <a:lnTo>
                    <a:pt x="2281" y="1248"/>
                  </a:lnTo>
                  <a:lnTo>
                    <a:pt x="2274" y="1268"/>
                  </a:lnTo>
                  <a:lnTo>
                    <a:pt x="2265" y="1288"/>
                  </a:lnTo>
                  <a:lnTo>
                    <a:pt x="2255" y="1306"/>
                  </a:lnTo>
                  <a:lnTo>
                    <a:pt x="2243" y="1323"/>
                  </a:lnTo>
                  <a:lnTo>
                    <a:pt x="2231" y="1338"/>
                  </a:lnTo>
                  <a:lnTo>
                    <a:pt x="2217" y="1352"/>
                  </a:lnTo>
                  <a:lnTo>
                    <a:pt x="2203" y="1366"/>
                  </a:lnTo>
                  <a:lnTo>
                    <a:pt x="2187" y="1378"/>
                  </a:lnTo>
                  <a:lnTo>
                    <a:pt x="2172" y="1388"/>
                  </a:lnTo>
                  <a:lnTo>
                    <a:pt x="2155" y="1398"/>
                  </a:lnTo>
                  <a:lnTo>
                    <a:pt x="2138" y="1407"/>
                  </a:lnTo>
                  <a:lnTo>
                    <a:pt x="2120" y="1415"/>
                  </a:lnTo>
                  <a:lnTo>
                    <a:pt x="2103" y="1424"/>
                  </a:lnTo>
                  <a:lnTo>
                    <a:pt x="2086" y="1430"/>
                  </a:lnTo>
                  <a:lnTo>
                    <a:pt x="2069" y="1436"/>
                  </a:lnTo>
                  <a:lnTo>
                    <a:pt x="2052" y="1441"/>
                  </a:lnTo>
                  <a:lnTo>
                    <a:pt x="2036" y="1445"/>
                  </a:lnTo>
                  <a:lnTo>
                    <a:pt x="2005" y="1452"/>
                  </a:lnTo>
                  <a:lnTo>
                    <a:pt x="1977" y="1457"/>
                  </a:lnTo>
                  <a:lnTo>
                    <a:pt x="1935" y="1461"/>
                  </a:lnTo>
                  <a:lnTo>
                    <a:pt x="1920" y="1462"/>
                  </a:lnTo>
                  <a:lnTo>
                    <a:pt x="1892" y="1457"/>
                  </a:lnTo>
                  <a:lnTo>
                    <a:pt x="1863" y="1451"/>
                  </a:lnTo>
                  <a:lnTo>
                    <a:pt x="1832" y="1443"/>
                  </a:lnTo>
                  <a:lnTo>
                    <a:pt x="1802" y="1433"/>
                  </a:lnTo>
                  <a:lnTo>
                    <a:pt x="1771" y="1421"/>
                  </a:lnTo>
                  <a:lnTo>
                    <a:pt x="1740" y="1409"/>
                  </a:lnTo>
                  <a:lnTo>
                    <a:pt x="1709" y="1396"/>
                  </a:lnTo>
                  <a:lnTo>
                    <a:pt x="1678" y="1382"/>
                  </a:lnTo>
                  <a:lnTo>
                    <a:pt x="1648" y="1368"/>
                  </a:lnTo>
                  <a:lnTo>
                    <a:pt x="1618" y="1354"/>
                  </a:lnTo>
                  <a:lnTo>
                    <a:pt x="1590" y="1340"/>
                  </a:lnTo>
                  <a:lnTo>
                    <a:pt x="1563" y="1325"/>
                  </a:lnTo>
                  <a:lnTo>
                    <a:pt x="1512" y="1298"/>
                  </a:lnTo>
                  <a:lnTo>
                    <a:pt x="1469" y="1272"/>
                  </a:lnTo>
                  <a:lnTo>
                    <a:pt x="1465" y="1282"/>
                  </a:lnTo>
                  <a:lnTo>
                    <a:pt x="1462" y="1291"/>
                  </a:lnTo>
                  <a:lnTo>
                    <a:pt x="1458" y="1300"/>
                  </a:lnTo>
                  <a:lnTo>
                    <a:pt x="1454" y="1309"/>
                  </a:lnTo>
                  <a:lnTo>
                    <a:pt x="1494" y="1325"/>
                  </a:lnTo>
                  <a:lnTo>
                    <a:pt x="1532" y="1340"/>
                  </a:lnTo>
                  <a:lnTo>
                    <a:pt x="1568" y="1355"/>
                  </a:lnTo>
                  <a:lnTo>
                    <a:pt x="1600" y="1369"/>
                  </a:lnTo>
                  <a:lnTo>
                    <a:pt x="1658" y="1396"/>
                  </a:lnTo>
                  <a:lnTo>
                    <a:pt x="1707" y="1420"/>
                  </a:lnTo>
                  <a:lnTo>
                    <a:pt x="1744" y="1442"/>
                  </a:lnTo>
                  <a:lnTo>
                    <a:pt x="1771" y="1457"/>
                  </a:lnTo>
                  <a:lnTo>
                    <a:pt x="1787" y="1467"/>
                  </a:lnTo>
                  <a:lnTo>
                    <a:pt x="1792" y="1470"/>
                  </a:lnTo>
                  <a:lnTo>
                    <a:pt x="1822" y="1493"/>
                  </a:lnTo>
                  <a:lnTo>
                    <a:pt x="1851" y="1516"/>
                  </a:lnTo>
                  <a:lnTo>
                    <a:pt x="1875" y="1538"/>
                  </a:lnTo>
                  <a:lnTo>
                    <a:pt x="1896" y="1561"/>
                  </a:lnTo>
                  <a:lnTo>
                    <a:pt x="1915" y="1585"/>
                  </a:lnTo>
                  <a:lnTo>
                    <a:pt x="1932" y="1607"/>
                  </a:lnTo>
                  <a:lnTo>
                    <a:pt x="1946" y="1629"/>
                  </a:lnTo>
                  <a:lnTo>
                    <a:pt x="1958" y="1651"/>
                  </a:lnTo>
                  <a:lnTo>
                    <a:pt x="1968" y="1673"/>
                  </a:lnTo>
                  <a:lnTo>
                    <a:pt x="1976" y="1695"/>
                  </a:lnTo>
                  <a:lnTo>
                    <a:pt x="1982" y="1717"/>
                  </a:lnTo>
                  <a:lnTo>
                    <a:pt x="1987" y="1738"/>
                  </a:lnTo>
                  <a:lnTo>
                    <a:pt x="1990" y="1758"/>
                  </a:lnTo>
                  <a:lnTo>
                    <a:pt x="1992" y="1777"/>
                  </a:lnTo>
                  <a:lnTo>
                    <a:pt x="1992" y="1796"/>
                  </a:lnTo>
                  <a:lnTo>
                    <a:pt x="1992" y="1815"/>
                  </a:lnTo>
                  <a:lnTo>
                    <a:pt x="1990" y="1832"/>
                  </a:lnTo>
                  <a:lnTo>
                    <a:pt x="1986" y="1849"/>
                  </a:lnTo>
                  <a:lnTo>
                    <a:pt x="1983" y="1867"/>
                  </a:lnTo>
                  <a:lnTo>
                    <a:pt x="1979" y="1882"/>
                  </a:lnTo>
                  <a:lnTo>
                    <a:pt x="1975" y="1896"/>
                  </a:lnTo>
                  <a:lnTo>
                    <a:pt x="1970" y="1909"/>
                  </a:lnTo>
                  <a:lnTo>
                    <a:pt x="1965" y="1922"/>
                  </a:lnTo>
                  <a:lnTo>
                    <a:pt x="1960" y="1933"/>
                  </a:lnTo>
                  <a:lnTo>
                    <a:pt x="1943" y="1966"/>
                  </a:lnTo>
                  <a:lnTo>
                    <a:pt x="1935" y="1978"/>
                  </a:lnTo>
                  <a:lnTo>
                    <a:pt x="1916" y="1995"/>
                  </a:lnTo>
                  <a:lnTo>
                    <a:pt x="1897" y="2010"/>
                  </a:lnTo>
                  <a:lnTo>
                    <a:pt x="1878" y="2022"/>
                  </a:lnTo>
                  <a:lnTo>
                    <a:pt x="1858" y="2031"/>
                  </a:lnTo>
                  <a:lnTo>
                    <a:pt x="1837" y="2038"/>
                  </a:lnTo>
                  <a:lnTo>
                    <a:pt x="1817" y="2044"/>
                  </a:lnTo>
                  <a:lnTo>
                    <a:pt x="1798" y="2048"/>
                  </a:lnTo>
                  <a:lnTo>
                    <a:pt x="1778" y="2050"/>
                  </a:lnTo>
                  <a:lnTo>
                    <a:pt x="1758" y="2050"/>
                  </a:lnTo>
                  <a:lnTo>
                    <a:pt x="1739" y="2049"/>
                  </a:lnTo>
                  <a:lnTo>
                    <a:pt x="1719" y="2047"/>
                  </a:lnTo>
                  <a:lnTo>
                    <a:pt x="1700" y="2043"/>
                  </a:lnTo>
                  <a:lnTo>
                    <a:pt x="1681" y="2039"/>
                  </a:lnTo>
                  <a:lnTo>
                    <a:pt x="1662" y="2033"/>
                  </a:lnTo>
                  <a:lnTo>
                    <a:pt x="1645" y="2027"/>
                  </a:lnTo>
                  <a:lnTo>
                    <a:pt x="1627" y="2020"/>
                  </a:lnTo>
                  <a:lnTo>
                    <a:pt x="1611" y="2012"/>
                  </a:lnTo>
                  <a:lnTo>
                    <a:pt x="1595" y="2004"/>
                  </a:lnTo>
                  <a:lnTo>
                    <a:pt x="1579" y="1995"/>
                  </a:lnTo>
                  <a:lnTo>
                    <a:pt x="1565" y="1987"/>
                  </a:lnTo>
                  <a:lnTo>
                    <a:pt x="1537" y="1970"/>
                  </a:lnTo>
                  <a:lnTo>
                    <a:pt x="1514" y="1953"/>
                  </a:lnTo>
                  <a:lnTo>
                    <a:pt x="1482" y="1928"/>
                  </a:lnTo>
                  <a:lnTo>
                    <a:pt x="1470" y="1917"/>
                  </a:lnTo>
                  <a:lnTo>
                    <a:pt x="1454" y="1894"/>
                  </a:lnTo>
                  <a:lnTo>
                    <a:pt x="1438" y="1869"/>
                  </a:lnTo>
                  <a:lnTo>
                    <a:pt x="1423" y="1842"/>
                  </a:lnTo>
                  <a:lnTo>
                    <a:pt x="1409" y="1814"/>
                  </a:lnTo>
                  <a:lnTo>
                    <a:pt x="1394" y="1785"/>
                  </a:lnTo>
                  <a:lnTo>
                    <a:pt x="1381" y="1755"/>
                  </a:lnTo>
                  <a:lnTo>
                    <a:pt x="1368" y="1724"/>
                  </a:lnTo>
                  <a:lnTo>
                    <a:pt x="1356" y="1692"/>
                  </a:lnTo>
                  <a:lnTo>
                    <a:pt x="1345" y="1662"/>
                  </a:lnTo>
                  <a:lnTo>
                    <a:pt x="1334" y="1631"/>
                  </a:lnTo>
                  <a:lnTo>
                    <a:pt x="1325" y="1601"/>
                  </a:lnTo>
                  <a:lnTo>
                    <a:pt x="1315" y="1572"/>
                  </a:lnTo>
                  <a:lnTo>
                    <a:pt x="1299" y="1516"/>
                  </a:lnTo>
                  <a:lnTo>
                    <a:pt x="1287" y="1468"/>
                  </a:lnTo>
                  <a:lnTo>
                    <a:pt x="1278" y="1472"/>
                  </a:lnTo>
                  <a:lnTo>
                    <a:pt x="1268" y="1476"/>
                  </a:lnTo>
                  <a:lnTo>
                    <a:pt x="1259" y="1479"/>
                  </a:lnTo>
                  <a:lnTo>
                    <a:pt x="1249" y="1482"/>
                  </a:lnTo>
                  <a:lnTo>
                    <a:pt x="1267" y="1521"/>
                  </a:lnTo>
                  <a:lnTo>
                    <a:pt x="1283" y="1558"/>
                  </a:lnTo>
                  <a:lnTo>
                    <a:pt x="1297" y="1594"/>
                  </a:lnTo>
                  <a:lnTo>
                    <a:pt x="1310" y="1627"/>
                  </a:lnTo>
                  <a:lnTo>
                    <a:pt x="1331" y="1687"/>
                  </a:lnTo>
                  <a:lnTo>
                    <a:pt x="1348" y="1738"/>
                  </a:lnTo>
                  <a:lnTo>
                    <a:pt x="1360" y="1778"/>
                  </a:lnTo>
                  <a:lnTo>
                    <a:pt x="1368" y="1808"/>
                  </a:lnTo>
                  <a:lnTo>
                    <a:pt x="1372" y="1826"/>
                  </a:lnTo>
                  <a:lnTo>
                    <a:pt x="1374" y="1832"/>
                  </a:lnTo>
                  <a:lnTo>
                    <a:pt x="1379" y="1871"/>
                  </a:lnTo>
                  <a:lnTo>
                    <a:pt x="1382" y="1906"/>
                  </a:lnTo>
                  <a:lnTo>
                    <a:pt x="1383" y="1939"/>
                  </a:lnTo>
                  <a:lnTo>
                    <a:pt x="1382" y="1970"/>
                  </a:lnTo>
                  <a:lnTo>
                    <a:pt x="1380" y="2001"/>
                  </a:lnTo>
                  <a:lnTo>
                    <a:pt x="1375" y="2028"/>
                  </a:lnTo>
                  <a:lnTo>
                    <a:pt x="1370" y="2054"/>
                  </a:lnTo>
                  <a:lnTo>
                    <a:pt x="1363" y="2078"/>
                  </a:lnTo>
                  <a:lnTo>
                    <a:pt x="1354" y="2100"/>
                  </a:lnTo>
                  <a:lnTo>
                    <a:pt x="1345" y="2121"/>
                  </a:lnTo>
                  <a:lnTo>
                    <a:pt x="1334" y="2142"/>
                  </a:lnTo>
                  <a:lnTo>
                    <a:pt x="1323" y="2159"/>
                  </a:lnTo>
                  <a:lnTo>
                    <a:pt x="1311" y="2176"/>
                  </a:lnTo>
                  <a:lnTo>
                    <a:pt x="1298" y="2191"/>
                  </a:lnTo>
                  <a:lnTo>
                    <a:pt x="1285" y="2205"/>
                  </a:lnTo>
                  <a:lnTo>
                    <a:pt x="1271" y="2217"/>
                  </a:lnTo>
                  <a:lnTo>
                    <a:pt x="1256" y="2228"/>
                  </a:lnTo>
                  <a:lnTo>
                    <a:pt x="1243" y="2238"/>
                  </a:lnTo>
                  <a:lnTo>
                    <a:pt x="1229" y="2247"/>
                  </a:lnTo>
                  <a:lnTo>
                    <a:pt x="1215" y="2255"/>
                  </a:lnTo>
                  <a:lnTo>
                    <a:pt x="1202" y="2263"/>
                  </a:lnTo>
                  <a:lnTo>
                    <a:pt x="1189" y="2269"/>
                  </a:lnTo>
                  <a:lnTo>
                    <a:pt x="1177" y="2274"/>
                  </a:lnTo>
                  <a:lnTo>
                    <a:pt x="1166" y="2278"/>
                  </a:lnTo>
                  <a:lnTo>
                    <a:pt x="1130" y="2290"/>
                  </a:lnTo>
                  <a:lnTo>
                    <a:pt x="1116" y="2293"/>
                  </a:lnTo>
                  <a:lnTo>
                    <a:pt x="1090" y="2292"/>
                  </a:lnTo>
                  <a:lnTo>
                    <a:pt x="1067" y="2288"/>
                  </a:lnTo>
                  <a:lnTo>
                    <a:pt x="1045" y="2282"/>
                  </a:lnTo>
                  <a:lnTo>
                    <a:pt x="1024" y="2274"/>
                  </a:lnTo>
                  <a:lnTo>
                    <a:pt x="1005" y="2266"/>
                  </a:lnTo>
                  <a:lnTo>
                    <a:pt x="987" y="2256"/>
                  </a:lnTo>
                  <a:lnTo>
                    <a:pt x="970" y="2244"/>
                  </a:lnTo>
                  <a:lnTo>
                    <a:pt x="954" y="2232"/>
                  </a:lnTo>
                  <a:lnTo>
                    <a:pt x="940" y="2218"/>
                  </a:lnTo>
                  <a:lnTo>
                    <a:pt x="927" y="2203"/>
                  </a:lnTo>
                  <a:lnTo>
                    <a:pt x="915" y="2188"/>
                  </a:lnTo>
                  <a:lnTo>
                    <a:pt x="904" y="2172"/>
                  </a:lnTo>
                  <a:lnTo>
                    <a:pt x="894" y="2156"/>
                  </a:lnTo>
                  <a:lnTo>
                    <a:pt x="885" y="2138"/>
                  </a:lnTo>
                  <a:lnTo>
                    <a:pt x="877" y="2121"/>
                  </a:lnTo>
                  <a:lnTo>
                    <a:pt x="870" y="2104"/>
                  </a:lnTo>
                  <a:lnTo>
                    <a:pt x="863" y="2087"/>
                  </a:lnTo>
                  <a:lnTo>
                    <a:pt x="858" y="2070"/>
                  </a:lnTo>
                  <a:lnTo>
                    <a:pt x="853" y="2053"/>
                  </a:lnTo>
                  <a:lnTo>
                    <a:pt x="848" y="2037"/>
                  </a:lnTo>
                  <a:lnTo>
                    <a:pt x="842" y="2006"/>
                  </a:lnTo>
                  <a:lnTo>
                    <a:pt x="837" y="1977"/>
                  </a:lnTo>
                  <a:lnTo>
                    <a:pt x="832" y="1936"/>
                  </a:lnTo>
                  <a:lnTo>
                    <a:pt x="831" y="1920"/>
                  </a:lnTo>
                  <a:lnTo>
                    <a:pt x="836" y="1893"/>
                  </a:lnTo>
                  <a:lnTo>
                    <a:pt x="842" y="1864"/>
                  </a:lnTo>
                  <a:lnTo>
                    <a:pt x="850" y="1834"/>
                  </a:lnTo>
                  <a:lnTo>
                    <a:pt x="860" y="1804"/>
                  </a:lnTo>
                  <a:lnTo>
                    <a:pt x="871" y="1773"/>
                  </a:lnTo>
                  <a:lnTo>
                    <a:pt x="882" y="1743"/>
                  </a:lnTo>
                  <a:lnTo>
                    <a:pt x="895" y="1712"/>
                  </a:lnTo>
                  <a:lnTo>
                    <a:pt x="909" y="1681"/>
                  </a:lnTo>
                  <a:lnTo>
                    <a:pt x="922" y="1651"/>
                  </a:lnTo>
                  <a:lnTo>
                    <a:pt x="936" y="1622"/>
                  </a:lnTo>
                  <a:lnTo>
                    <a:pt x="951" y="1594"/>
                  </a:lnTo>
                  <a:lnTo>
                    <a:pt x="965" y="1567"/>
                  </a:lnTo>
                  <a:lnTo>
                    <a:pt x="993" y="1516"/>
                  </a:lnTo>
                  <a:lnTo>
                    <a:pt x="1018" y="1473"/>
                  </a:lnTo>
                  <a:lnTo>
                    <a:pt x="1009" y="1469"/>
                  </a:lnTo>
                  <a:lnTo>
                    <a:pt x="1000" y="1465"/>
                  </a:lnTo>
                  <a:lnTo>
                    <a:pt x="991" y="1461"/>
                  </a:lnTo>
                  <a:lnTo>
                    <a:pt x="983" y="1457"/>
                  </a:lnTo>
                  <a:lnTo>
                    <a:pt x="967" y="1497"/>
                  </a:lnTo>
                  <a:lnTo>
                    <a:pt x="951" y="1534"/>
                  </a:lnTo>
                  <a:lnTo>
                    <a:pt x="937" y="1570"/>
                  </a:lnTo>
                  <a:lnTo>
                    <a:pt x="922" y="1602"/>
                  </a:lnTo>
                  <a:lnTo>
                    <a:pt x="895" y="1660"/>
                  </a:lnTo>
                  <a:lnTo>
                    <a:pt x="872" y="1707"/>
                  </a:lnTo>
                  <a:lnTo>
                    <a:pt x="851" y="1745"/>
                  </a:lnTo>
                  <a:lnTo>
                    <a:pt x="836" y="1771"/>
                  </a:lnTo>
                  <a:lnTo>
                    <a:pt x="826" y="1787"/>
                  </a:lnTo>
                  <a:lnTo>
                    <a:pt x="823" y="1792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97720" y="6133680"/>
              <a:ext cx="64800" cy="42120"/>
            </a:xfrm>
            <a:custGeom>
              <a:avLst/>
              <a:gdLst/>
              <a:ahLst/>
              <a:rect l="l" t="t" r="r" b="b"/>
              <a:pathLst>
                <a:path w="650" h="651">
                  <a:moveTo>
                    <a:pt x="565" y="105"/>
                  </a:moveTo>
                  <a:lnTo>
                    <a:pt x="553" y="94"/>
                  </a:lnTo>
                  <a:lnTo>
                    <a:pt x="541" y="82"/>
                  </a:lnTo>
                  <a:lnTo>
                    <a:pt x="529" y="72"/>
                  </a:lnTo>
                  <a:lnTo>
                    <a:pt x="516" y="62"/>
                  </a:lnTo>
                  <a:lnTo>
                    <a:pt x="503" y="53"/>
                  </a:lnTo>
                  <a:lnTo>
                    <a:pt x="489" y="45"/>
                  </a:lnTo>
                  <a:lnTo>
                    <a:pt x="475" y="37"/>
                  </a:lnTo>
                  <a:lnTo>
                    <a:pt x="461" y="30"/>
                  </a:lnTo>
                  <a:lnTo>
                    <a:pt x="447" y="23"/>
                  </a:lnTo>
                  <a:lnTo>
                    <a:pt x="431" y="18"/>
                  </a:lnTo>
                  <a:lnTo>
                    <a:pt x="416" y="13"/>
                  </a:lnTo>
                  <a:lnTo>
                    <a:pt x="401" y="9"/>
                  </a:lnTo>
                  <a:lnTo>
                    <a:pt x="386" y="6"/>
                  </a:lnTo>
                  <a:lnTo>
                    <a:pt x="371" y="3"/>
                  </a:lnTo>
                  <a:lnTo>
                    <a:pt x="355" y="1"/>
                  </a:lnTo>
                  <a:lnTo>
                    <a:pt x="340" y="0"/>
                  </a:lnTo>
                  <a:lnTo>
                    <a:pt x="324" y="0"/>
                  </a:lnTo>
                  <a:lnTo>
                    <a:pt x="309" y="0"/>
                  </a:lnTo>
                  <a:lnTo>
                    <a:pt x="292" y="2"/>
                  </a:lnTo>
                  <a:lnTo>
                    <a:pt x="277" y="3"/>
                  </a:lnTo>
                  <a:lnTo>
                    <a:pt x="262" y="6"/>
                  </a:lnTo>
                  <a:lnTo>
                    <a:pt x="246" y="10"/>
                  </a:lnTo>
                  <a:lnTo>
                    <a:pt x="231" y="14"/>
                  </a:lnTo>
                  <a:lnTo>
                    <a:pt x="216" y="19"/>
                  </a:lnTo>
                  <a:lnTo>
                    <a:pt x="202" y="24"/>
                  </a:lnTo>
                  <a:lnTo>
                    <a:pt x="187" y="32"/>
                  </a:lnTo>
                  <a:lnTo>
                    <a:pt x="173" y="39"/>
                  </a:lnTo>
                  <a:lnTo>
                    <a:pt x="159" y="47"/>
                  </a:lnTo>
                  <a:lnTo>
                    <a:pt x="144" y="55"/>
                  </a:lnTo>
                  <a:lnTo>
                    <a:pt x="131" y="65"/>
                  </a:lnTo>
                  <a:lnTo>
                    <a:pt x="118" y="75"/>
                  </a:lnTo>
                  <a:lnTo>
                    <a:pt x="106" y="86"/>
                  </a:lnTo>
                  <a:lnTo>
                    <a:pt x="94" y="97"/>
                  </a:lnTo>
                  <a:lnTo>
                    <a:pt x="82" y="109"/>
                  </a:lnTo>
                  <a:lnTo>
                    <a:pt x="72" y="122"/>
                  </a:lnTo>
                  <a:lnTo>
                    <a:pt x="62" y="135"/>
                  </a:lnTo>
                  <a:lnTo>
                    <a:pt x="53" y="148"/>
                  </a:lnTo>
                  <a:lnTo>
                    <a:pt x="45" y="161"/>
                  </a:lnTo>
                  <a:lnTo>
                    <a:pt x="37" y="176"/>
                  </a:lnTo>
                  <a:lnTo>
                    <a:pt x="30" y="191"/>
                  </a:lnTo>
                  <a:lnTo>
                    <a:pt x="24" y="205"/>
                  </a:lnTo>
                  <a:lnTo>
                    <a:pt x="18" y="220"/>
                  </a:lnTo>
                  <a:lnTo>
                    <a:pt x="14" y="235"/>
                  </a:lnTo>
                  <a:lnTo>
                    <a:pt x="10" y="250"/>
                  </a:lnTo>
                  <a:lnTo>
                    <a:pt x="5" y="265"/>
                  </a:lnTo>
                  <a:lnTo>
                    <a:pt x="3" y="280"/>
                  </a:lnTo>
                  <a:lnTo>
                    <a:pt x="1" y="295"/>
                  </a:lnTo>
                  <a:lnTo>
                    <a:pt x="0" y="311"/>
                  </a:lnTo>
                  <a:lnTo>
                    <a:pt x="0" y="327"/>
                  </a:lnTo>
                  <a:lnTo>
                    <a:pt x="0" y="343"/>
                  </a:lnTo>
                  <a:lnTo>
                    <a:pt x="1" y="358"/>
                  </a:lnTo>
                  <a:lnTo>
                    <a:pt x="3" y="374"/>
                  </a:lnTo>
                  <a:lnTo>
                    <a:pt x="7" y="389"/>
                  </a:lnTo>
                  <a:lnTo>
                    <a:pt x="10" y="404"/>
                  </a:lnTo>
                  <a:lnTo>
                    <a:pt x="15" y="419"/>
                  </a:lnTo>
                  <a:lnTo>
                    <a:pt x="20" y="434"/>
                  </a:lnTo>
                  <a:lnTo>
                    <a:pt x="25" y="449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3"/>
                  </a:lnTo>
                  <a:lnTo>
                    <a:pt x="55" y="506"/>
                  </a:lnTo>
                  <a:lnTo>
                    <a:pt x="65" y="520"/>
                  </a:lnTo>
                  <a:lnTo>
                    <a:pt x="75" y="533"/>
                  </a:lnTo>
                  <a:lnTo>
                    <a:pt x="86" y="545"/>
                  </a:lnTo>
                  <a:lnTo>
                    <a:pt x="97" y="557"/>
                  </a:lnTo>
                  <a:lnTo>
                    <a:pt x="109" y="568"/>
                  </a:lnTo>
                  <a:lnTo>
                    <a:pt x="122" y="579"/>
                  </a:lnTo>
                  <a:lnTo>
                    <a:pt x="135" y="589"/>
                  </a:lnTo>
                  <a:lnTo>
                    <a:pt x="148" y="598"/>
                  </a:lnTo>
                  <a:lnTo>
                    <a:pt x="162" y="607"/>
                  </a:lnTo>
                  <a:lnTo>
                    <a:pt x="176" y="615"/>
                  </a:lnTo>
                  <a:lnTo>
                    <a:pt x="190" y="622"/>
                  </a:lnTo>
                  <a:lnTo>
                    <a:pt x="205" y="628"/>
                  </a:lnTo>
                  <a:lnTo>
                    <a:pt x="219" y="633"/>
                  </a:lnTo>
                  <a:lnTo>
                    <a:pt x="234" y="638"/>
                  </a:lnTo>
                  <a:lnTo>
                    <a:pt x="249" y="642"/>
                  </a:lnTo>
                  <a:lnTo>
                    <a:pt x="265" y="645"/>
                  </a:lnTo>
                  <a:lnTo>
                    <a:pt x="280" y="648"/>
                  </a:lnTo>
                  <a:lnTo>
                    <a:pt x="295" y="649"/>
                  </a:lnTo>
                  <a:lnTo>
                    <a:pt x="312" y="650"/>
                  </a:lnTo>
                  <a:lnTo>
                    <a:pt x="327" y="651"/>
                  </a:lnTo>
                  <a:lnTo>
                    <a:pt x="343" y="650"/>
                  </a:lnTo>
                  <a:lnTo>
                    <a:pt x="358" y="649"/>
                  </a:lnTo>
                  <a:lnTo>
                    <a:pt x="374" y="647"/>
                  </a:lnTo>
                  <a:lnTo>
                    <a:pt x="389" y="644"/>
                  </a:lnTo>
                  <a:lnTo>
                    <a:pt x="404" y="641"/>
                  </a:lnTo>
                  <a:lnTo>
                    <a:pt x="419" y="637"/>
                  </a:lnTo>
                  <a:lnTo>
                    <a:pt x="434" y="632"/>
                  </a:lnTo>
                  <a:lnTo>
                    <a:pt x="450" y="626"/>
                  </a:lnTo>
                  <a:lnTo>
                    <a:pt x="464" y="620"/>
                  </a:lnTo>
                  <a:lnTo>
                    <a:pt x="478" y="613"/>
                  </a:lnTo>
                  <a:lnTo>
                    <a:pt x="492" y="605"/>
                  </a:lnTo>
                  <a:lnTo>
                    <a:pt x="506" y="595"/>
                  </a:lnTo>
                  <a:lnTo>
                    <a:pt x="519" y="585"/>
                  </a:lnTo>
                  <a:lnTo>
                    <a:pt x="532" y="575"/>
                  </a:lnTo>
                  <a:lnTo>
                    <a:pt x="545" y="564"/>
                  </a:lnTo>
                  <a:lnTo>
                    <a:pt x="557" y="553"/>
                  </a:lnTo>
                  <a:lnTo>
                    <a:pt x="568" y="541"/>
                  </a:lnTo>
                  <a:lnTo>
                    <a:pt x="579" y="529"/>
                  </a:lnTo>
                  <a:lnTo>
                    <a:pt x="588" y="516"/>
                  </a:lnTo>
                  <a:lnTo>
                    <a:pt x="598" y="502"/>
                  </a:lnTo>
                  <a:lnTo>
                    <a:pt x="607" y="489"/>
                  </a:lnTo>
                  <a:lnTo>
                    <a:pt x="614" y="475"/>
                  </a:lnTo>
                  <a:lnTo>
                    <a:pt x="621" y="461"/>
                  </a:lnTo>
                  <a:lnTo>
                    <a:pt x="627" y="446"/>
                  </a:lnTo>
                  <a:lnTo>
                    <a:pt x="633" y="431"/>
                  </a:lnTo>
                  <a:lnTo>
                    <a:pt x="638" y="416"/>
                  </a:lnTo>
                  <a:lnTo>
                    <a:pt x="642" y="401"/>
                  </a:lnTo>
                  <a:lnTo>
                    <a:pt x="645" y="386"/>
                  </a:lnTo>
                  <a:lnTo>
                    <a:pt x="647" y="370"/>
                  </a:lnTo>
                  <a:lnTo>
                    <a:pt x="649" y="355"/>
                  </a:lnTo>
                  <a:lnTo>
                    <a:pt x="650" y="340"/>
                  </a:lnTo>
                  <a:lnTo>
                    <a:pt x="650" y="324"/>
                  </a:lnTo>
                  <a:lnTo>
                    <a:pt x="650" y="308"/>
                  </a:lnTo>
                  <a:lnTo>
                    <a:pt x="649" y="292"/>
                  </a:lnTo>
                  <a:lnTo>
                    <a:pt x="647" y="277"/>
                  </a:lnTo>
                  <a:lnTo>
                    <a:pt x="644" y="261"/>
                  </a:lnTo>
                  <a:lnTo>
                    <a:pt x="641" y="246"/>
                  </a:lnTo>
                  <a:lnTo>
                    <a:pt x="637" y="231"/>
                  </a:lnTo>
                  <a:lnTo>
                    <a:pt x="632" y="216"/>
                  </a:lnTo>
                  <a:lnTo>
                    <a:pt x="626" y="202"/>
                  </a:lnTo>
                  <a:lnTo>
                    <a:pt x="620" y="187"/>
                  </a:lnTo>
                  <a:lnTo>
                    <a:pt x="613" y="173"/>
                  </a:lnTo>
                  <a:lnTo>
                    <a:pt x="605" y="158"/>
                  </a:lnTo>
                  <a:lnTo>
                    <a:pt x="596" y="144"/>
                  </a:lnTo>
                  <a:lnTo>
                    <a:pt x="586" y="131"/>
                  </a:lnTo>
                  <a:lnTo>
                    <a:pt x="576" y="118"/>
                  </a:lnTo>
                  <a:lnTo>
                    <a:pt x="565" y="105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15120" y="6132960"/>
              <a:ext cx="137880" cy="30600"/>
            </a:xfrm>
            <a:custGeom>
              <a:avLst/>
              <a:gdLst/>
              <a:ahLst/>
              <a:rect l="l" t="t" r="r" b="b"/>
              <a:pathLst>
                <a:path w="1396" h="456">
                  <a:moveTo>
                    <a:pt x="1396" y="284"/>
                  </a:moveTo>
                  <a:lnTo>
                    <a:pt x="1392" y="288"/>
                  </a:lnTo>
                  <a:lnTo>
                    <a:pt x="1379" y="298"/>
                  </a:lnTo>
                  <a:lnTo>
                    <a:pt x="1361" y="313"/>
                  </a:lnTo>
                  <a:lnTo>
                    <a:pt x="1334" y="333"/>
                  </a:lnTo>
                  <a:lnTo>
                    <a:pt x="1318" y="343"/>
                  </a:lnTo>
                  <a:lnTo>
                    <a:pt x="1301" y="354"/>
                  </a:lnTo>
                  <a:lnTo>
                    <a:pt x="1281" y="365"/>
                  </a:lnTo>
                  <a:lnTo>
                    <a:pt x="1260" y="377"/>
                  </a:lnTo>
                  <a:lnTo>
                    <a:pt x="1235" y="388"/>
                  </a:lnTo>
                  <a:lnTo>
                    <a:pt x="1210" y="399"/>
                  </a:lnTo>
                  <a:lnTo>
                    <a:pt x="1183" y="409"/>
                  </a:lnTo>
                  <a:lnTo>
                    <a:pt x="1154" y="419"/>
                  </a:lnTo>
                  <a:lnTo>
                    <a:pt x="1124" y="428"/>
                  </a:lnTo>
                  <a:lnTo>
                    <a:pt x="1090" y="436"/>
                  </a:lnTo>
                  <a:lnTo>
                    <a:pt x="1056" y="443"/>
                  </a:lnTo>
                  <a:lnTo>
                    <a:pt x="1020" y="448"/>
                  </a:lnTo>
                  <a:lnTo>
                    <a:pt x="982" y="452"/>
                  </a:lnTo>
                  <a:lnTo>
                    <a:pt x="941" y="455"/>
                  </a:lnTo>
                  <a:lnTo>
                    <a:pt x="900" y="456"/>
                  </a:lnTo>
                  <a:lnTo>
                    <a:pt x="856" y="454"/>
                  </a:lnTo>
                  <a:lnTo>
                    <a:pt x="811" y="451"/>
                  </a:lnTo>
                  <a:lnTo>
                    <a:pt x="763" y="445"/>
                  </a:lnTo>
                  <a:lnTo>
                    <a:pt x="714" y="437"/>
                  </a:lnTo>
                  <a:lnTo>
                    <a:pt x="664" y="426"/>
                  </a:lnTo>
                  <a:lnTo>
                    <a:pt x="611" y="413"/>
                  </a:lnTo>
                  <a:lnTo>
                    <a:pt x="557" y="396"/>
                  </a:lnTo>
                  <a:lnTo>
                    <a:pt x="500" y="376"/>
                  </a:lnTo>
                  <a:lnTo>
                    <a:pt x="442" y="353"/>
                  </a:lnTo>
                  <a:lnTo>
                    <a:pt x="433" y="345"/>
                  </a:lnTo>
                  <a:lnTo>
                    <a:pt x="407" y="322"/>
                  </a:lnTo>
                  <a:lnTo>
                    <a:pt x="388" y="307"/>
                  </a:lnTo>
                  <a:lnTo>
                    <a:pt x="365" y="290"/>
                  </a:lnTo>
                  <a:lnTo>
                    <a:pt x="340" y="273"/>
                  </a:lnTo>
                  <a:lnTo>
                    <a:pt x="311" y="255"/>
                  </a:lnTo>
                  <a:lnTo>
                    <a:pt x="280" y="237"/>
                  </a:lnTo>
                  <a:lnTo>
                    <a:pt x="246" y="220"/>
                  </a:lnTo>
                  <a:lnTo>
                    <a:pt x="228" y="211"/>
                  </a:lnTo>
                  <a:lnTo>
                    <a:pt x="209" y="204"/>
                  </a:lnTo>
                  <a:lnTo>
                    <a:pt x="190" y="196"/>
                  </a:lnTo>
                  <a:lnTo>
                    <a:pt x="171" y="190"/>
                  </a:lnTo>
                  <a:lnTo>
                    <a:pt x="151" y="184"/>
                  </a:lnTo>
                  <a:lnTo>
                    <a:pt x="130" y="178"/>
                  </a:lnTo>
                  <a:lnTo>
                    <a:pt x="110" y="173"/>
                  </a:lnTo>
                  <a:lnTo>
                    <a:pt x="89" y="169"/>
                  </a:lnTo>
                  <a:lnTo>
                    <a:pt x="66" y="166"/>
                  </a:lnTo>
                  <a:lnTo>
                    <a:pt x="45" y="164"/>
                  </a:lnTo>
                  <a:lnTo>
                    <a:pt x="23" y="163"/>
                  </a:lnTo>
                  <a:lnTo>
                    <a:pt x="0" y="163"/>
                  </a:lnTo>
                  <a:lnTo>
                    <a:pt x="5" y="160"/>
                  </a:lnTo>
                  <a:lnTo>
                    <a:pt x="19" y="152"/>
                  </a:lnTo>
                  <a:lnTo>
                    <a:pt x="40" y="139"/>
                  </a:lnTo>
                  <a:lnTo>
                    <a:pt x="70" y="122"/>
                  </a:lnTo>
                  <a:lnTo>
                    <a:pt x="107" y="104"/>
                  </a:lnTo>
                  <a:lnTo>
                    <a:pt x="150" y="84"/>
                  </a:lnTo>
                  <a:lnTo>
                    <a:pt x="174" y="74"/>
                  </a:lnTo>
                  <a:lnTo>
                    <a:pt x="199" y="64"/>
                  </a:lnTo>
                  <a:lnTo>
                    <a:pt x="226" y="54"/>
                  </a:lnTo>
                  <a:lnTo>
                    <a:pt x="253" y="45"/>
                  </a:lnTo>
                  <a:lnTo>
                    <a:pt x="282" y="36"/>
                  </a:lnTo>
                  <a:lnTo>
                    <a:pt x="311" y="27"/>
                  </a:lnTo>
                  <a:lnTo>
                    <a:pt x="341" y="20"/>
                  </a:lnTo>
                  <a:lnTo>
                    <a:pt x="373" y="13"/>
                  </a:lnTo>
                  <a:lnTo>
                    <a:pt x="405" y="8"/>
                  </a:lnTo>
                  <a:lnTo>
                    <a:pt x="438" y="4"/>
                  </a:lnTo>
                  <a:lnTo>
                    <a:pt x="471" y="1"/>
                  </a:lnTo>
                  <a:lnTo>
                    <a:pt x="505" y="0"/>
                  </a:lnTo>
                  <a:lnTo>
                    <a:pt x="540" y="0"/>
                  </a:lnTo>
                  <a:lnTo>
                    <a:pt x="574" y="2"/>
                  </a:lnTo>
                  <a:lnTo>
                    <a:pt x="609" y="6"/>
                  </a:lnTo>
                  <a:lnTo>
                    <a:pt x="644" y="11"/>
                  </a:lnTo>
                  <a:lnTo>
                    <a:pt x="680" y="19"/>
                  </a:lnTo>
                  <a:lnTo>
                    <a:pt x="715" y="29"/>
                  </a:lnTo>
                  <a:lnTo>
                    <a:pt x="750" y="43"/>
                  </a:lnTo>
                  <a:lnTo>
                    <a:pt x="785" y="58"/>
                  </a:lnTo>
                  <a:lnTo>
                    <a:pt x="808" y="68"/>
                  </a:lnTo>
                  <a:lnTo>
                    <a:pt x="868" y="94"/>
                  </a:lnTo>
                  <a:lnTo>
                    <a:pt x="955" y="131"/>
                  </a:lnTo>
                  <a:lnTo>
                    <a:pt x="1056" y="173"/>
                  </a:lnTo>
                  <a:lnTo>
                    <a:pt x="1110" y="195"/>
                  </a:lnTo>
                  <a:lnTo>
                    <a:pt x="1163" y="216"/>
                  </a:lnTo>
                  <a:lnTo>
                    <a:pt x="1214" y="235"/>
                  </a:lnTo>
                  <a:lnTo>
                    <a:pt x="1262" y="251"/>
                  </a:lnTo>
                  <a:lnTo>
                    <a:pt x="1305" y="266"/>
                  </a:lnTo>
                  <a:lnTo>
                    <a:pt x="1343" y="276"/>
                  </a:lnTo>
                  <a:lnTo>
                    <a:pt x="1359" y="280"/>
                  </a:lnTo>
                  <a:lnTo>
                    <a:pt x="1373" y="283"/>
                  </a:lnTo>
                  <a:lnTo>
                    <a:pt x="1385" y="284"/>
                  </a:lnTo>
                  <a:lnTo>
                    <a:pt x="1396" y="284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08520" y="6197400"/>
              <a:ext cx="252720" cy="167760"/>
            </a:xfrm>
            <a:custGeom>
              <a:avLst/>
              <a:gdLst/>
              <a:ahLst/>
              <a:rect l="l" t="t" r="r" b="b"/>
              <a:pathLst>
                <a:path w="2550" h="2550">
                  <a:moveTo>
                    <a:pt x="915" y="1993"/>
                  </a:moveTo>
                  <a:lnTo>
                    <a:pt x="890" y="2027"/>
                  </a:lnTo>
                  <a:lnTo>
                    <a:pt x="865" y="2057"/>
                  </a:lnTo>
                  <a:lnTo>
                    <a:pt x="839" y="2085"/>
                  </a:lnTo>
                  <a:lnTo>
                    <a:pt x="814" y="2109"/>
                  </a:lnTo>
                  <a:lnTo>
                    <a:pt x="789" y="2130"/>
                  </a:lnTo>
                  <a:lnTo>
                    <a:pt x="763" y="2149"/>
                  </a:lnTo>
                  <a:lnTo>
                    <a:pt x="738" y="2165"/>
                  </a:lnTo>
                  <a:lnTo>
                    <a:pt x="714" y="2178"/>
                  </a:lnTo>
                  <a:lnTo>
                    <a:pt x="689" y="2189"/>
                  </a:lnTo>
                  <a:lnTo>
                    <a:pt x="666" y="2198"/>
                  </a:lnTo>
                  <a:lnTo>
                    <a:pt x="642" y="2205"/>
                  </a:lnTo>
                  <a:lnTo>
                    <a:pt x="618" y="2210"/>
                  </a:lnTo>
                  <a:lnTo>
                    <a:pt x="596" y="2213"/>
                  </a:lnTo>
                  <a:lnTo>
                    <a:pt x="574" y="2215"/>
                  </a:lnTo>
                  <a:lnTo>
                    <a:pt x="553" y="2216"/>
                  </a:lnTo>
                  <a:lnTo>
                    <a:pt x="533" y="2215"/>
                  </a:lnTo>
                  <a:lnTo>
                    <a:pt x="513" y="2213"/>
                  </a:lnTo>
                  <a:lnTo>
                    <a:pt x="494" y="2210"/>
                  </a:lnTo>
                  <a:lnTo>
                    <a:pt x="475" y="2206"/>
                  </a:lnTo>
                  <a:lnTo>
                    <a:pt x="458" y="2202"/>
                  </a:lnTo>
                  <a:lnTo>
                    <a:pt x="442" y="2197"/>
                  </a:lnTo>
                  <a:lnTo>
                    <a:pt x="427" y="2192"/>
                  </a:lnTo>
                  <a:lnTo>
                    <a:pt x="414" y="2187"/>
                  </a:lnTo>
                  <a:lnTo>
                    <a:pt x="401" y="2181"/>
                  </a:lnTo>
                  <a:lnTo>
                    <a:pt x="380" y="2171"/>
                  </a:lnTo>
                  <a:lnTo>
                    <a:pt x="364" y="2162"/>
                  </a:lnTo>
                  <a:lnTo>
                    <a:pt x="354" y="2155"/>
                  </a:lnTo>
                  <a:lnTo>
                    <a:pt x="351" y="2153"/>
                  </a:lnTo>
                  <a:lnTo>
                    <a:pt x="332" y="2132"/>
                  </a:lnTo>
                  <a:lnTo>
                    <a:pt x="316" y="2111"/>
                  </a:lnTo>
                  <a:lnTo>
                    <a:pt x="303" y="2089"/>
                  </a:lnTo>
                  <a:lnTo>
                    <a:pt x="292" y="2066"/>
                  </a:lnTo>
                  <a:lnTo>
                    <a:pt x="284" y="2044"/>
                  </a:lnTo>
                  <a:lnTo>
                    <a:pt x="278" y="2022"/>
                  </a:lnTo>
                  <a:lnTo>
                    <a:pt x="274" y="2000"/>
                  </a:lnTo>
                  <a:lnTo>
                    <a:pt x="271" y="1978"/>
                  </a:lnTo>
                  <a:lnTo>
                    <a:pt x="271" y="1956"/>
                  </a:lnTo>
                  <a:lnTo>
                    <a:pt x="272" y="1933"/>
                  </a:lnTo>
                  <a:lnTo>
                    <a:pt x="275" y="1912"/>
                  </a:lnTo>
                  <a:lnTo>
                    <a:pt x="278" y="1891"/>
                  </a:lnTo>
                  <a:lnTo>
                    <a:pt x="283" y="1870"/>
                  </a:lnTo>
                  <a:lnTo>
                    <a:pt x="290" y="1849"/>
                  </a:lnTo>
                  <a:lnTo>
                    <a:pt x="297" y="1830"/>
                  </a:lnTo>
                  <a:lnTo>
                    <a:pt x="304" y="1810"/>
                  </a:lnTo>
                  <a:lnTo>
                    <a:pt x="313" y="1791"/>
                  </a:lnTo>
                  <a:lnTo>
                    <a:pt x="322" y="1773"/>
                  </a:lnTo>
                  <a:lnTo>
                    <a:pt x="331" y="1756"/>
                  </a:lnTo>
                  <a:lnTo>
                    <a:pt x="341" y="1740"/>
                  </a:lnTo>
                  <a:lnTo>
                    <a:pt x="360" y="1710"/>
                  </a:lnTo>
                  <a:lnTo>
                    <a:pt x="378" y="1685"/>
                  </a:lnTo>
                  <a:lnTo>
                    <a:pt x="407" y="1648"/>
                  </a:lnTo>
                  <a:lnTo>
                    <a:pt x="418" y="1635"/>
                  </a:lnTo>
                  <a:lnTo>
                    <a:pt x="444" y="1617"/>
                  </a:lnTo>
                  <a:lnTo>
                    <a:pt x="472" y="1599"/>
                  </a:lnTo>
                  <a:lnTo>
                    <a:pt x="503" y="1582"/>
                  </a:lnTo>
                  <a:lnTo>
                    <a:pt x="534" y="1566"/>
                  </a:lnTo>
                  <a:lnTo>
                    <a:pt x="567" y="1551"/>
                  </a:lnTo>
                  <a:lnTo>
                    <a:pt x="601" y="1536"/>
                  </a:lnTo>
                  <a:lnTo>
                    <a:pt x="636" y="1522"/>
                  </a:lnTo>
                  <a:lnTo>
                    <a:pt x="671" y="1509"/>
                  </a:lnTo>
                  <a:lnTo>
                    <a:pt x="705" y="1495"/>
                  </a:lnTo>
                  <a:lnTo>
                    <a:pt x="740" y="1483"/>
                  </a:lnTo>
                  <a:lnTo>
                    <a:pt x="773" y="1473"/>
                  </a:lnTo>
                  <a:lnTo>
                    <a:pt x="807" y="1462"/>
                  </a:lnTo>
                  <a:lnTo>
                    <a:pt x="868" y="1445"/>
                  </a:lnTo>
                  <a:lnTo>
                    <a:pt x="921" y="1430"/>
                  </a:lnTo>
                  <a:lnTo>
                    <a:pt x="917" y="1420"/>
                  </a:lnTo>
                  <a:lnTo>
                    <a:pt x="913" y="1409"/>
                  </a:lnTo>
                  <a:lnTo>
                    <a:pt x="909" y="1399"/>
                  </a:lnTo>
                  <a:lnTo>
                    <a:pt x="906" y="1389"/>
                  </a:lnTo>
                  <a:lnTo>
                    <a:pt x="862" y="1408"/>
                  </a:lnTo>
                  <a:lnTo>
                    <a:pt x="821" y="1426"/>
                  </a:lnTo>
                  <a:lnTo>
                    <a:pt x="781" y="1442"/>
                  </a:lnTo>
                  <a:lnTo>
                    <a:pt x="743" y="1456"/>
                  </a:lnTo>
                  <a:lnTo>
                    <a:pt x="676" y="1481"/>
                  </a:lnTo>
                  <a:lnTo>
                    <a:pt x="619" y="1499"/>
                  </a:lnTo>
                  <a:lnTo>
                    <a:pt x="574" y="1513"/>
                  </a:lnTo>
                  <a:lnTo>
                    <a:pt x="540" y="1522"/>
                  </a:lnTo>
                  <a:lnTo>
                    <a:pt x="520" y="1527"/>
                  </a:lnTo>
                  <a:lnTo>
                    <a:pt x="513" y="1529"/>
                  </a:lnTo>
                  <a:lnTo>
                    <a:pt x="470" y="1535"/>
                  </a:lnTo>
                  <a:lnTo>
                    <a:pt x="431" y="1538"/>
                  </a:lnTo>
                  <a:lnTo>
                    <a:pt x="394" y="1540"/>
                  </a:lnTo>
                  <a:lnTo>
                    <a:pt x="360" y="1539"/>
                  </a:lnTo>
                  <a:lnTo>
                    <a:pt x="326" y="1536"/>
                  </a:lnTo>
                  <a:lnTo>
                    <a:pt x="295" y="1531"/>
                  </a:lnTo>
                  <a:lnTo>
                    <a:pt x="267" y="1525"/>
                  </a:lnTo>
                  <a:lnTo>
                    <a:pt x="240" y="1517"/>
                  </a:lnTo>
                  <a:lnTo>
                    <a:pt x="215" y="1508"/>
                  </a:lnTo>
                  <a:lnTo>
                    <a:pt x="191" y="1496"/>
                  </a:lnTo>
                  <a:lnTo>
                    <a:pt x="169" y="1484"/>
                  </a:lnTo>
                  <a:lnTo>
                    <a:pt x="149" y="1472"/>
                  </a:lnTo>
                  <a:lnTo>
                    <a:pt x="131" y="1458"/>
                  </a:lnTo>
                  <a:lnTo>
                    <a:pt x="114" y="1444"/>
                  </a:lnTo>
                  <a:lnTo>
                    <a:pt x="99" y="1429"/>
                  </a:lnTo>
                  <a:lnTo>
                    <a:pt x="85" y="1414"/>
                  </a:lnTo>
                  <a:lnTo>
                    <a:pt x="73" y="1399"/>
                  </a:lnTo>
                  <a:lnTo>
                    <a:pt x="61" y="1384"/>
                  </a:lnTo>
                  <a:lnTo>
                    <a:pt x="51" y="1368"/>
                  </a:lnTo>
                  <a:lnTo>
                    <a:pt x="41" y="1352"/>
                  </a:lnTo>
                  <a:lnTo>
                    <a:pt x="33" y="1338"/>
                  </a:lnTo>
                  <a:lnTo>
                    <a:pt x="26" y="1324"/>
                  </a:lnTo>
                  <a:lnTo>
                    <a:pt x="21" y="1310"/>
                  </a:lnTo>
                  <a:lnTo>
                    <a:pt x="16" y="1297"/>
                  </a:lnTo>
                  <a:lnTo>
                    <a:pt x="8" y="1275"/>
                  </a:lnTo>
                  <a:lnTo>
                    <a:pt x="3" y="1257"/>
                  </a:lnTo>
                  <a:lnTo>
                    <a:pt x="1" y="1246"/>
                  </a:lnTo>
                  <a:lnTo>
                    <a:pt x="0" y="1242"/>
                  </a:lnTo>
                  <a:lnTo>
                    <a:pt x="2" y="1213"/>
                  </a:lnTo>
                  <a:lnTo>
                    <a:pt x="6" y="1187"/>
                  </a:lnTo>
                  <a:lnTo>
                    <a:pt x="12" y="1163"/>
                  </a:lnTo>
                  <a:lnTo>
                    <a:pt x="20" y="1140"/>
                  </a:lnTo>
                  <a:lnTo>
                    <a:pt x="30" y="1118"/>
                  </a:lnTo>
                  <a:lnTo>
                    <a:pt x="41" y="1098"/>
                  </a:lnTo>
                  <a:lnTo>
                    <a:pt x="55" y="1080"/>
                  </a:lnTo>
                  <a:lnTo>
                    <a:pt x="69" y="1062"/>
                  </a:lnTo>
                  <a:lnTo>
                    <a:pt x="84" y="1046"/>
                  </a:lnTo>
                  <a:lnTo>
                    <a:pt x="100" y="1031"/>
                  </a:lnTo>
                  <a:lnTo>
                    <a:pt x="117" y="1018"/>
                  </a:lnTo>
                  <a:lnTo>
                    <a:pt x="135" y="1006"/>
                  </a:lnTo>
                  <a:lnTo>
                    <a:pt x="153" y="995"/>
                  </a:lnTo>
                  <a:lnTo>
                    <a:pt x="172" y="985"/>
                  </a:lnTo>
                  <a:lnTo>
                    <a:pt x="191" y="976"/>
                  </a:lnTo>
                  <a:lnTo>
                    <a:pt x="211" y="968"/>
                  </a:lnTo>
                  <a:lnTo>
                    <a:pt x="230" y="960"/>
                  </a:lnTo>
                  <a:lnTo>
                    <a:pt x="249" y="954"/>
                  </a:lnTo>
                  <a:lnTo>
                    <a:pt x="268" y="948"/>
                  </a:lnTo>
                  <a:lnTo>
                    <a:pt x="286" y="944"/>
                  </a:lnTo>
                  <a:lnTo>
                    <a:pt x="320" y="936"/>
                  </a:lnTo>
                  <a:lnTo>
                    <a:pt x="352" y="931"/>
                  </a:lnTo>
                  <a:lnTo>
                    <a:pt x="398" y="924"/>
                  </a:lnTo>
                  <a:lnTo>
                    <a:pt x="415" y="923"/>
                  </a:lnTo>
                  <a:lnTo>
                    <a:pt x="446" y="929"/>
                  </a:lnTo>
                  <a:lnTo>
                    <a:pt x="479" y="937"/>
                  </a:lnTo>
                  <a:lnTo>
                    <a:pt x="514" y="947"/>
                  </a:lnTo>
                  <a:lnTo>
                    <a:pt x="548" y="958"/>
                  </a:lnTo>
                  <a:lnTo>
                    <a:pt x="582" y="970"/>
                  </a:lnTo>
                  <a:lnTo>
                    <a:pt x="617" y="984"/>
                  </a:lnTo>
                  <a:lnTo>
                    <a:pt x="653" y="999"/>
                  </a:lnTo>
                  <a:lnTo>
                    <a:pt x="687" y="1014"/>
                  </a:lnTo>
                  <a:lnTo>
                    <a:pt x="721" y="1030"/>
                  </a:lnTo>
                  <a:lnTo>
                    <a:pt x="754" y="1046"/>
                  </a:lnTo>
                  <a:lnTo>
                    <a:pt x="787" y="1062"/>
                  </a:lnTo>
                  <a:lnTo>
                    <a:pt x="817" y="1079"/>
                  </a:lnTo>
                  <a:lnTo>
                    <a:pt x="873" y="1110"/>
                  </a:lnTo>
                  <a:lnTo>
                    <a:pt x="920" y="1138"/>
                  </a:lnTo>
                  <a:lnTo>
                    <a:pt x="924" y="1127"/>
                  </a:lnTo>
                  <a:lnTo>
                    <a:pt x="930" y="1117"/>
                  </a:lnTo>
                  <a:lnTo>
                    <a:pt x="935" y="1107"/>
                  </a:lnTo>
                  <a:lnTo>
                    <a:pt x="940" y="1097"/>
                  </a:lnTo>
                  <a:lnTo>
                    <a:pt x="894" y="1080"/>
                  </a:lnTo>
                  <a:lnTo>
                    <a:pt x="851" y="1062"/>
                  </a:lnTo>
                  <a:lnTo>
                    <a:pt x="811" y="1045"/>
                  </a:lnTo>
                  <a:lnTo>
                    <a:pt x="773" y="1029"/>
                  </a:lnTo>
                  <a:lnTo>
                    <a:pt x="739" y="1013"/>
                  </a:lnTo>
                  <a:lnTo>
                    <a:pt x="708" y="998"/>
                  </a:lnTo>
                  <a:lnTo>
                    <a:pt x="680" y="984"/>
                  </a:lnTo>
                  <a:lnTo>
                    <a:pt x="654" y="971"/>
                  </a:lnTo>
                  <a:lnTo>
                    <a:pt x="611" y="948"/>
                  </a:lnTo>
                  <a:lnTo>
                    <a:pt x="581" y="931"/>
                  </a:lnTo>
                  <a:lnTo>
                    <a:pt x="563" y="919"/>
                  </a:lnTo>
                  <a:lnTo>
                    <a:pt x="557" y="915"/>
                  </a:lnTo>
                  <a:lnTo>
                    <a:pt x="523" y="890"/>
                  </a:lnTo>
                  <a:lnTo>
                    <a:pt x="493" y="864"/>
                  </a:lnTo>
                  <a:lnTo>
                    <a:pt x="465" y="839"/>
                  </a:lnTo>
                  <a:lnTo>
                    <a:pt x="441" y="814"/>
                  </a:lnTo>
                  <a:lnTo>
                    <a:pt x="420" y="789"/>
                  </a:lnTo>
                  <a:lnTo>
                    <a:pt x="401" y="763"/>
                  </a:lnTo>
                  <a:lnTo>
                    <a:pt x="386" y="738"/>
                  </a:lnTo>
                  <a:lnTo>
                    <a:pt x="372" y="713"/>
                  </a:lnTo>
                  <a:lnTo>
                    <a:pt x="361" y="689"/>
                  </a:lnTo>
                  <a:lnTo>
                    <a:pt x="352" y="665"/>
                  </a:lnTo>
                  <a:lnTo>
                    <a:pt x="345" y="641"/>
                  </a:lnTo>
                  <a:lnTo>
                    <a:pt x="339" y="618"/>
                  </a:lnTo>
                  <a:lnTo>
                    <a:pt x="336" y="596"/>
                  </a:lnTo>
                  <a:lnTo>
                    <a:pt x="334" y="574"/>
                  </a:lnTo>
                  <a:lnTo>
                    <a:pt x="334" y="553"/>
                  </a:lnTo>
                  <a:lnTo>
                    <a:pt x="335" y="532"/>
                  </a:lnTo>
                  <a:lnTo>
                    <a:pt x="337" y="513"/>
                  </a:lnTo>
                  <a:lnTo>
                    <a:pt x="341" y="493"/>
                  </a:lnTo>
                  <a:lnTo>
                    <a:pt x="344" y="475"/>
                  </a:lnTo>
                  <a:lnTo>
                    <a:pt x="349" y="458"/>
                  </a:lnTo>
                  <a:lnTo>
                    <a:pt x="353" y="442"/>
                  </a:lnTo>
                  <a:lnTo>
                    <a:pt x="359" y="427"/>
                  </a:lnTo>
                  <a:lnTo>
                    <a:pt x="364" y="414"/>
                  </a:lnTo>
                  <a:lnTo>
                    <a:pt x="370" y="401"/>
                  </a:lnTo>
                  <a:lnTo>
                    <a:pt x="380" y="380"/>
                  </a:lnTo>
                  <a:lnTo>
                    <a:pt x="389" y="364"/>
                  </a:lnTo>
                  <a:lnTo>
                    <a:pt x="396" y="354"/>
                  </a:lnTo>
                  <a:lnTo>
                    <a:pt x="398" y="350"/>
                  </a:lnTo>
                  <a:lnTo>
                    <a:pt x="419" y="332"/>
                  </a:lnTo>
                  <a:lnTo>
                    <a:pt x="440" y="316"/>
                  </a:lnTo>
                  <a:lnTo>
                    <a:pt x="462" y="303"/>
                  </a:lnTo>
                  <a:lnTo>
                    <a:pt x="484" y="293"/>
                  </a:lnTo>
                  <a:lnTo>
                    <a:pt x="507" y="284"/>
                  </a:lnTo>
                  <a:lnTo>
                    <a:pt x="529" y="278"/>
                  </a:lnTo>
                  <a:lnTo>
                    <a:pt x="551" y="274"/>
                  </a:lnTo>
                  <a:lnTo>
                    <a:pt x="573" y="272"/>
                  </a:lnTo>
                  <a:lnTo>
                    <a:pt x="595" y="271"/>
                  </a:lnTo>
                  <a:lnTo>
                    <a:pt x="616" y="272"/>
                  </a:lnTo>
                  <a:lnTo>
                    <a:pt x="639" y="275"/>
                  </a:lnTo>
                  <a:lnTo>
                    <a:pt x="660" y="279"/>
                  </a:lnTo>
                  <a:lnTo>
                    <a:pt x="680" y="284"/>
                  </a:lnTo>
                  <a:lnTo>
                    <a:pt x="701" y="290"/>
                  </a:lnTo>
                  <a:lnTo>
                    <a:pt x="721" y="297"/>
                  </a:lnTo>
                  <a:lnTo>
                    <a:pt x="740" y="304"/>
                  </a:lnTo>
                  <a:lnTo>
                    <a:pt x="758" y="313"/>
                  </a:lnTo>
                  <a:lnTo>
                    <a:pt x="776" y="322"/>
                  </a:lnTo>
                  <a:lnTo>
                    <a:pt x="794" y="331"/>
                  </a:lnTo>
                  <a:lnTo>
                    <a:pt x="810" y="340"/>
                  </a:lnTo>
                  <a:lnTo>
                    <a:pt x="840" y="360"/>
                  </a:lnTo>
                  <a:lnTo>
                    <a:pt x="865" y="378"/>
                  </a:lnTo>
                  <a:lnTo>
                    <a:pt x="901" y="406"/>
                  </a:lnTo>
                  <a:lnTo>
                    <a:pt x="914" y="418"/>
                  </a:lnTo>
                  <a:lnTo>
                    <a:pt x="934" y="444"/>
                  </a:lnTo>
                  <a:lnTo>
                    <a:pt x="952" y="473"/>
                  </a:lnTo>
                  <a:lnTo>
                    <a:pt x="969" y="505"/>
                  </a:lnTo>
                  <a:lnTo>
                    <a:pt x="986" y="537"/>
                  </a:lnTo>
                  <a:lnTo>
                    <a:pt x="1002" y="571"/>
                  </a:lnTo>
                  <a:lnTo>
                    <a:pt x="1017" y="606"/>
                  </a:lnTo>
                  <a:lnTo>
                    <a:pt x="1031" y="641"/>
                  </a:lnTo>
                  <a:lnTo>
                    <a:pt x="1045" y="678"/>
                  </a:lnTo>
                  <a:lnTo>
                    <a:pt x="1057" y="713"/>
                  </a:lnTo>
                  <a:lnTo>
                    <a:pt x="1069" y="748"/>
                  </a:lnTo>
                  <a:lnTo>
                    <a:pt x="1081" y="783"/>
                  </a:lnTo>
                  <a:lnTo>
                    <a:pt x="1091" y="817"/>
                  </a:lnTo>
                  <a:lnTo>
                    <a:pt x="1109" y="878"/>
                  </a:lnTo>
                  <a:lnTo>
                    <a:pt x="1123" y="931"/>
                  </a:lnTo>
                  <a:lnTo>
                    <a:pt x="1133" y="926"/>
                  </a:lnTo>
                  <a:lnTo>
                    <a:pt x="1144" y="922"/>
                  </a:lnTo>
                  <a:lnTo>
                    <a:pt x="1155" y="918"/>
                  </a:lnTo>
                  <a:lnTo>
                    <a:pt x="1165" y="915"/>
                  </a:lnTo>
                  <a:lnTo>
                    <a:pt x="1145" y="870"/>
                  </a:lnTo>
                  <a:lnTo>
                    <a:pt x="1127" y="828"/>
                  </a:lnTo>
                  <a:lnTo>
                    <a:pt x="1111" y="787"/>
                  </a:lnTo>
                  <a:lnTo>
                    <a:pt x="1096" y="749"/>
                  </a:lnTo>
                  <a:lnTo>
                    <a:pt x="1083" y="713"/>
                  </a:lnTo>
                  <a:lnTo>
                    <a:pt x="1070" y="680"/>
                  </a:lnTo>
                  <a:lnTo>
                    <a:pt x="1060" y="650"/>
                  </a:lnTo>
                  <a:lnTo>
                    <a:pt x="1051" y="621"/>
                  </a:lnTo>
                  <a:lnTo>
                    <a:pt x="1037" y="575"/>
                  </a:lnTo>
                  <a:lnTo>
                    <a:pt x="1028" y="541"/>
                  </a:lnTo>
                  <a:lnTo>
                    <a:pt x="1023" y="520"/>
                  </a:lnTo>
                  <a:lnTo>
                    <a:pt x="1021" y="513"/>
                  </a:lnTo>
                  <a:lnTo>
                    <a:pt x="1015" y="470"/>
                  </a:lnTo>
                  <a:lnTo>
                    <a:pt x="1012" y="431"/>
                  </a:lnTo>
                  <a:lnTo>
                    <a:pt x="1011" y="394"/>
                  </a:lnTo>
                  <a:lnTo>
                    <a:pt x="1012" y="359"/>
                  </a:lnTo>
                  <a:lnTo>
                    <a:pt x="1014" y="326"/>
                  </a:lnTo>
                  <a:lnTo>
                    <a:pt x="1019" y="295"/>
                  </a:lnTo>
                  <a:lnTo>
                    <a:pt x="1025" y="266"/>
                  </a:lnTo>
                  <a:lnTo>
                    <a:pt x="1033" y="240"/>
                  </a:lnTo>
                  <a:lnTo>
                    <a:pt x="1043" y="215"/>
                  </a:lnTo>
                  <a:lnTo>
                    <a:pt x="1053" y="190"/>
                  </a:lnTo>
                  <a:lnTo>
                    <a:pt x="1065" y="169"/>
                  </a:lnTo>
                  <a:lnTo>
                    <a:pt x="1079" y="149"/>
                  </a:lnTo>
                  <a:lnTo>
                    <a:pt x="1092" y="131"/>
                  </a:lnTo>
                  <a:lnTo>
                    <a:pt x="1106" y="114"/>
                  </a:lnTo>
                  <a:lnTo>
                    <a:pt x="1121" y="99"/>
                  </a:lnTo>
                  <a:lnTo>
                    <a:pt x="1136" y="85"/>
                  </a:lnTo>
                  <a:lnTo>
                    <a:pt x="1151" y="72"/>
                  </a:lnTo>
                  <a:lnTo>
                    <a:pt x="1167" y="60"/>
                  </a:lnTo>
                  <a:lnTo>
                    <a:pt x="1182" y="50"/>
                  </a:lnTo>
                  <a:lnTo>
                    <a:pt x="1197" y="41"/>
                  </a:lnTo>
                  <a:lnTo>
                    <a:pt x="1212" y="33"/>
                  </a:lnTo>
                  <a:lnTo>
                    <a:pt x="1227" y="27"/>
                  </a:lnTo>
                  <a:lnTo>
                    <a:pt x="1240" y="21"/>
                  </a:lnTo>
                  <a:lnTo>
                    <a:pt x="1253" y="16"/>
                  </a:lnTo>
                  <a:lnTo>
                    <a:pt x="1275" y="8"/>
                  </a:lnTo>
                  <a:lnTo>
                    <a:pt x="1293" y="3"/>
                  </a:lnTo>
                  <a:lnTo>
                    <a:pt x="1304" y="1"/>
                  </a:lnTo>
                  <a:lnTo>
                    <a:pt x="1308" y="0"/>
                  </a:lnTo>
                  <a:lnTo>
                    <a:pt x="1336" y="2"/>
                  </a:lnTo>
                  <a:lnTo>
                    <a:pt x="1362" y="6"/>
                  </a:lnTo>
                  <a:lnTo>
                    <a:pt x="1388" y="12"/>
                  </a:lnTo>
                  <a:lnTo>
                    <a:pt x="1411" y="20"/>
                  </a:lnTo>
                  <a:lnTo>
                    <a:pt x="1432" y="30"/>
                  </a:lnTo>
                  <a:lnTo>
                    <a:pt x="1452" y="41"/>
                  </a:lnTo>
                  <a:lnTo>
                    <a:pt x="1470" y="54"/>
                  </a:lnTo>
                  <a:lnTo>
                    <a:pt x="1488" y="69"/>
                  </a:lnTo>
                  <a:lnTo>
                    <a:pt x="1503" y="84"/>
                  </a:lnTo>
                  <a:lnTo>
                    <a:pt x="1519" y="100"/>
                  </a:lnTo>
                  <a:lnTo>
                    <a:pt x="1532" y="117"/>
                  </a:lnTo>
                  <a:lnTo>
                    <a:pt x="1544" y="135"/>
                  </a:lnTo>
                  <a:lnTo>
                    <a:pt x="1556" y="153"/>
                  </a:lnTo>
                  <a:lnTo>
                    <a:pt x="1566" y="172"/>
                  </a:lnTo>
                  <a:lnTo>
                    <a:pt x="1575" y="191"/>
                  </a:lnTo>
                  <a:lnTo>
                    <a:pt x="1583" y="210"/>
                  </a:lnTo>
                  <a:lnTo>
                    <a:pt x="1590" y="230"/>
                  </a:lnTo>
                  <a:lnTo>
                    <a:pt x="1596" y="249"/>
                  </a:lnTo>
                  <a:lnTo>
                    <a:pt x="1602" y="267"/>
                  </a:lnTo>
                  <a:lnTo>
                    <a:pt x="1606" y="286"/>
                  </a:lnTo>
                  <a:lnTo>
                    <a:pt x="1614" y="320"/>
                  </a:lnTo>
                  <a:lnTo>
                    <a:pt x="1619" y="350"/>
                  </a:lnTo>
                  <a:lnTo>
                    <a:pt x="1625" y="397"/>
                  </a:lnTo>
                  <a:lnTo>
                    <a:pt x="1626" y="415"/>
                  </a:lnTo>
                  <a:lnTo>
                    <a:pt x="1620" y="447"/>
                  </a:lnTo>
                  <a:lnTo>
                    <a:pt x="1613" y="480"/>
                  </a:lnTo>
                  <a:lnTo>
                    <a:pt x="1603" y="515"/>
                  </a:lnTo>
                  <a:lnTo>
                    <a:pt x="1592" y="549"/>
                  </a:lnTo>
                  <a:lnTo>
                    <a:pt x="1579" y="585"/>
                  </a:lnTo>
                  <a:lnTo>
                    <a:pt x="1565" y="620"/>
                  </a:lnTo>
                  <a:lnTo>
                    <a:pt x="1551" y="656"/>
                  </a:lnTo>
                  <a:lnTo>
                    <a:pt x="1535" y="690"/>
                  </a:lnTo>
                  <a:lnTo>
                    <a:pt x="1519" y="724"/>
                  </a:lnTo>
                  <a:lnTo>
                    <a:pt x="1502" y="758"/>
                  </a:lnTo>
                  <a:lnTo>
                    <a:pt x="1485" y="791"/>
                  </a:lnTo>
                  <a:lnTo>
                    <a:pt x="1469" y="821"/>
                  </a:lnTo>
                  <a:lnTo>
                    <a:pt x="1438" y="877"/>
                  </a:lnTo>
                  <a:lnTo>
                    <a:pt x="1410" y="924"/>
                  </a:lnTo>
                  <a:lnTo>
                    <a:pt x="1421" y="928"/>
                  </a:lnTo>
                  <a:lnTo>
                    <a:pt x="1432" y="934"/>
                  </a:lnTo>
                  <a:lnTo>
                    <a:pt x="1442" y="938"/>
                  </a:lnTo>
                  <a:lnTo>
                    <a:pt x="1452" y="944"/>
                  </a:lnTo>
                  <a:lnTo>
                    <a:pt x="1470" y="897"/>
                  </a:lnTo>
                  <a:lnTo>
                    <a:pt x="1487" y="854"/>
                  </a:lnTo>
                  <a:lnTo>
                    <a:pt x="1504" y="814"/>
                  </a:lnTo>
                  <a:lnTo>
                    <a:pt x="1521" y="775"/>
                  </a:lnTo>
                  <a:lnTo>
                    <a:pt x="1552" y="709"/>
                  </a:lnTo>
                  <a:lnTo>
                    <a:pt x="1579" y="655"/>
                  </a:lnTo>
                  <a:lnTo>
                    <a:pt x="1602" y="612"/>
                  </a:lnTo>
                  <a:lnTo>
                    <a:pt x="1620" y="581"/>
                  </a:lnTo>
                  <a:lnTo>
                    <a:pt x="1631" y="563"/>
                  </a:lnTo>
                  <a:lnTo>
                    <a:pt x="1635" y="557"/>
                  </a:lnTo>
                  <a:lnTo>
                    <a:pt x="1661" y="523"/>
                  </a:lnTo>
                  <a:lnTo>
                    <a:pt x="1686" y="492"/>
                  </a:lnTo>
                  <a:lnTo>
                    <a:pt x="1711" y="465"/>
                  </a:lnTo>
                  <a:lnTo>
                    <a:pt x="1736" y="441"/>
                  </a:lnTo>
                  <a:lnTo>
                    <a:pt x="1762" y="420"/>
                  </a:lnTo>
                  <a:lnTo>
                    <a:pt x="1787" y="402"/>
                  </a:lnTo>
                  <a:lnTo>
                    <a:pt x="1812" y="386"/>
                  </a:lnTo>
                  <a:lnTo>
                    <a:pt x="1837" y="373"/>
                  </a:lnTo>
                  <a:lnTo>
                    <a:pt x="1861" y="362"/>
                  </a:lnTo>
                  <a:lnTo>
                    <a:pt x="1885" y="352"/>
                  </a:lnTo>
                  <a:lnTo>
                    <a:pt x="1909" y="345"/>
                  </a:lnTo>
                  <a:lnTo>
                    <a:pt x="1932" y="340"/>
                  </a:lnTo>
                  <a:lnTo>
                    <a:pt x="1955" y="336"/>
                  </a:lnTo>
                  <a:lnTo>
                    <a:pt x="1977" y="335"/>
                  </a:lnTo>
                  <a:lnTo>
                    <a:pt x="1998" y="334"/>
                  </a:lnTo>
                  <a:lnTo>
                    <a:pt x="2019" y="335"/>
                  </a:lnTo>
                  <a:lnTo>
                    <a:pt x="2038" y="337"/>
                  </a:lnTo>
                  <a:lnTo>
                    <a:pt x="2057" y="340"/>
                  </a:lnTo>
                  <a:lnTo>
                    <a:pt x="2075" y="344"/>
                  </a:lnTo>
                  <a:lnTo>
                    <a:pt x="2092" y="348"/>
                  </a:lnTo>
                  <a:lnTo>
                    <a:pt x="2109" y="353"/>
                  </a:lnTo>
                  <a:lnTo>
                    <a:pt x="2124" y="359"/>
                  </a:lnTo>
                  <a:lnTo>
                    <a:pt x="2137" y="364"/>
                  </a:lnTo>
                  <a:lnTo>
                    <a:pt x="2150" y="370"/>
                  </a:lnTo>
                  <a:lnTo>
                    <a:pt x="2171" y="380"/>
                  </a:lnTo>
                  <a:lnTo>
                    <a:pt x="2187" y="389"/>
                  </a:lnTo>
                  <a:lnTo>
                    <a:pt x="2197" y="396"/>
                  </a:lnTo>
                  <a:lnTo>
                    <a:pt x="2200" y="398"/>
                  </a:lnTo>
                  <a:lnTo>
                    <a:pt x="2219" y="419"/>
                  </a:lnTo>
                  <a:lnTo>
                    <a:pt x="2234" y="440"/>
                  </a:lnTo>
                  <a:lnTo>
                    <a:pt x="2248" y="462"/>
                  </a:lnTo>
                  <a:lnTo>
                    <a:pt x="2259" y="484"/>
                  </a:lnTo>
                  <a:lnTo>
                    <a:pt x="2267" y="506"/>
                  </a:lnTo>
                  <a:lnTo>
                    <a:pt x="2273" y="528"/>
                  </a:lnTo>
                  <a:lnTo>
                    <a:pt x="2277" y="551"/>
                  </a:lnTo>
                  <a:lnTo>
                    <a:pt x="2279" y="572"/>
                  </a:lnTo>
                  <a:lnTo>
                    <a:pt x="2280" y="594"/>
                  </a:lnTo>
                  <a:lnTo>
                    <a:pt x="2279" y="616"/>
                  </a:lnTo>
                  <a:lnTo>
                    <a:pt x="2276" y="637"/>
                  </a:lnTo>
                  <a:lnTo>
                    <a:pt x="2272" y="660"/>
                  </a:lnTo>
                  <a:lnTo>
                    <a:pt x="2267" y="680"/>
                  </a:lnTo>
                  <a:lnTo>
                    <a:pt x="2261" y="701"/>
                  </a:lnTo>
                  <a:lnTo>
                    <a:pt x="2254" y="720"/>
                  </a:lnTo>
                  <a:lnTo>
                    <a:pt x="2246" y="739"/>
                  </a:lnTo>
                  <a:lnTo>
                    <a:pt x="2237" y="758"/>
                  </a:lnTo>
                  <a:lnTo>
                    <a:pt x="2228" y="776"/>
                  </a:lnTo>
                  <a:lnTo>
                    <a:pt x="2219" y="794"/>
                  </a:lnTo>
                  <a:lnTo>
                    <a:pt x="2209" y="810"/>
                  </a:lnTo>
                  <a:lnTo>
                    <a:pt x="2190" y="840"/>
                  </a:lnTo>
                  <a:lnTo>
                    <a:pt x="2172" y="865"/>
                  </a:lnTo>
                  <a:lnTo>
                    <a:pt x="2144" y="901"/>
                  </a:lnTo>
                  <a:lnTo>
                    <a:pt x="2132" y="914"/>
                  </a:lnTo>
                  <a:lnTo>
                    <a:pt x="2106" y="934"/>
                  </a:lnTo>
                  <a:lnTo>
                    <a:pt x="2077" y="951"/>
                  </a:lnTo>
                  <a:lnTo>
                    <a:pt x="2046" y="969"/>
                  </a:lnTo>
                  <a:lnTo>
                    <a:pt x="2014" y="985"/>
                  </a:lnTo>
                  <a:lnTo>
                    <a:pt x="1981" y="1001"/>
                  </a:lnTo>
                  <a:lnTo>
                    <a:pt x="1946" y="1016"/>
                  </a:lnTo>
                  <a:lnTo>
                    <a:pt x="1911" y="1030"/>
                  </a:lnTo>
                  <a:lnTo>
                    <a:pt x="1876" y="1043"/>
                  </a:lnTo>
                  <a:lnTo>
                    <a:pt x="1840" y="1056"/>
                  </a:lnTo>
                  <a:lnTo>
                    <a:pt x="1806" y="1068"/>
                  </a:lnTo>
                  <a:lnTo>
                    <a:pt x="1771" y="1080"/>
                  </a:lnTo>
                  <a:lnTo>
                    <a:pt x="1738" y="1090"/>
                  </a:lnTo>
                  <a:lnTo>
                    <a:pt x="1677" y="1107"/>
                  </a:lnTo>
                  <a:lnTo>
                    <a:pt x="1623" y="1121"/>
                  </a:lnTo>
                  <a:lnTo>
                    <a:pt x="1627" y="1132"/>
                  </a:lnTo>
                  <a:lnTo>
                    <a:pt x="1632" y="1142"/>
                  </a:lnTo>
                  <a:lnTo>
                    <a:pt x="1636" y="1153"/>
                  </a:lnTo>
                  <a:lnTo>
                    <a:pt x="1639" y="1164"/>
                  </a:lnTo>
                  <a:lnTo>
                    <a:pt x="1684" y="1144"/>
                  </a:lnTo>
                  <a:lnTo>
                    <a:pt x="1726" y="1126"/>
                  </a:lnTo>
                  <a:lnTo>
                    <a:pt x="1766" y="1109"/>
                  </a:lnTo>
                  <a:lnTo>
                    <a:pt x="1805" y="1095"/>
                  </a:lnTo>
                  <a:lnTo>
                    <a:pt x="1872" y="1069"/>
                  </a:lnTo>
                  <a:lnTo>
                    <a:pt x="1929" y="1050"/>
                  </a:lnTo>
                  <a:lnTo>
                    <a:pt x="1976" y="1037"/>
                  </a:lnTo>
                  <a:lnTo>
                    <a:pt x="2009" y="1028"/>
                  </a:lnTo>
                  <a:lnTo>
                    <a:pt x="2030" y="1023"/>
                  </a:lnTo>
                  <a:lnTo>
                    <a:pt x="2037" y="1021"/>
                  </a:lnTo>
                  <a:lnTo>
                    <a:pt x="2078" y="1016"/>
                  </a:lnTo>
                  <a:lnTo>
                    <a:pt x="2119" y="1012"/>
                  </a:lnTo>
                  <a:lnTo>
                    <a:pt x="2156" y="1011"/>
                  </a:lnTo>
                  <a:lnTo>
                    <a:pt x="2190" y="1012"/>
                  </a:lnTo>
                  <a:lnTo>
                    <a:pt x="2223" y="1014"/>
                  </a:lnTo>
                  <a:lnTo>
                    <a:pt x="2255" y="1019"/>
                  </a:lnTo>
                  <a:lnTo>
                    <a:pt x="2283" y="1026"/>
                  </a:lnTo>
                  <a:lnTo>
                    <a:pt x="2310" y="1034"/>
                  </a:lnTo>
                  <a:lnTo>
                    <a:pt x="2335" y="1043"/>
                  </a:lnTo>
                  <a:lnTo>
                    <a:pt x="2359" y="1054"/>
                  </a:lnTo>
                  <a:lnTo>
                    <a:pt x="2380" y="1065"/>
                  </a:lnTo>
                  <a:lnTo>
                    <a:pt x="2401" y="1079"/>
                  </a:lnTo>
                  <a:lnTo>
                    <a:pt x="2419" y="1092"/>
                  </a:lnTo>
                  <a:lnTo>
                    <a:pt x="2436" y="1107"/>
                  </a:lnTo>
                  <a:lnTo>
                    <a:pt x="2451" y="1121"/>
                  </a:lnTo>
                  <a:lnTo>
                    <a:pt x="2465" y="1136"/>
                  </a:lnTo>
                  <a:lnTo>
                    <a:pt x="2478" y="1151"/>
                  </a:lnTo>
                  <a:lnTo>
                    <a:pt x="2489" y="1167"/>
                  </a:lnTo>
                  <a:lnTo>
                    <a:pt x="2499" y="1182"/>
                  </a:lnTo>
                  <a:lnTo>
                    <a:pt x="2508" y="1197"/>
                  </a:lnTo>
                  <a:lnTo>
                    <a:pt x="2516" y="1212"/>
                  </a:lnTo>
                  <a:lnTo>
                    <a:pt x="2523" y="1227"/>
                  </a:lnTo>
                  <a:lnTo>
                    <a:pt x="2528" y="1241"/>
                  </a:lnTo>
                  <a:lnTo>
                    <a:pt x="2534" y="1253"/>
                  </a:lnTo>
                  <a:lnTo>
                    <a:pt x="2542" y="1276"/>
                  </a:lnTo>
                  <a:lnTo>
                    <a:pt x="2547" y="1293"/>
                  </a:lnTo>
                  <a:lnTo>
                    <a:pt x="2549" y="1305"/>
                  </a:lnTo>
                  <a:lnTo>
                    <a:pt x="2550" y="1309"/>
                  </a:lnTo>
                  <a:lnTo>
                    <a:pt x="2548" y="1337"/>
                  </a:lnTo>
                  <a:lnTo>
                    <a:pt x="2544" y="1364"/>
                  </a:lnTo>
                  <a:lnTo>
                    <a:pt x="2538" y="1388"/>
                  </a:lnTo>
                  <a:lnTo>
                    <a:pt x="2529" y="1411"/>
                  </a:lnTo>
                  <a:lnTo>
                    <a:pt x="2520" y="1432"/>
                  </a:lnTo>
                  <a:lnTo>
                    <a:pt x="2508" y="1452"/>
                  </a:lnTo>
                  <a:lnTo>
                    <a:pt x="2496" y="1471"/>
                  </a:lnTo>
                  <a:lnTo>
                    <a:pt x="2482" y="1488"/>
                  </a:lnTo>
                  <a:lnTo>
                    <a:pt x="2466" y="1504"/>
                  </a:lnTo>
                  <a:lnTo>
                    <a:pt x="2450" y="1519"/>
                  </a:lnTo>
                  <a:lnTo>
                    <a:pt x="2433" y="1532"/>
                  </a:lnTo>
                  <a:lnTo>
                    <a:pt x="2416" y="1544"/>
                  </a:lnTo>
                  <a:lnTo>
                    <a:pt x="2397" y="1556"/>
                  </a:lnTo>
                  <a:lnTo>
                    <a:pt x="2378" y="1566"/>
                  </a:lnTo>
                  <a:lnTo>
                    <a:pt x="2359" y="1575"/>
                  </a:lnTo>
                  <a:lnTo>
                    <a:pt x="2340" y="1583"/>
                  </a:lnTo>
                  <a:lnTo>
                    <a:pt x="2321" y="1590"/>
                  </a:lnTo>
                  <a:lnTo>
                    <a:pt x="2302" y="1596"/>
                  </a:lnTo>
                  <a:lnTo>
                    <a:pt x="2283" y="1602"/>
                  </a:lnTo>
                  <a:lnTo>
                    <a:pt x="2265" y="1606"/>
                  </a:lnTo>
                  <a:lnTo>
                    <a:pt x="2230" y="1614"/>
                  </a:lnTo>
                  <a:lnTo>
                    <a:pt x="2199" y="1619"/>
                  </a:lnTo>
                  <a:lnTo>
                    <a:pt x="2153" y="1624"/>
                  </a:lnTo>
                  <a:lnTo>
                    <a:pt x="2136" y="1625"/>
                  </a:lnTo>
                  <a:lnTo>
                    <a:pt x="2105" y="1620"/>
                  </a:lnTo>
                  <a:lnTo>
                    <a:pt x="2072" y="1613"/>
                  </a:lnTo>
                  <a:lnTo>
                    <a:pt x="2038" y="1604"/>
                  </a:lnTo>
                  <a:lnTo>
                    <a:pt x="2005" y="1593"/>
                  </a:lnTo>
                  <a:lnTo>
                    <a:pt x="1970" y="1581"/>
                  </a:lnTo>
                  <a:lnTo>
                    <a:pt x="1935" y="1567"/>
                  </a:lnTo>
                  <a:lnTo>
                    <a:pt x="1901" y="1553"/>
                  </a:lnTo>
                  <a:lnTo>
                    <a:pt x="1867" y="1538"/>
                  </a:lnTo>
                  <a:lnTo>
                    <a:pt x="1834" y="1522"/>
                  </a:lnTo>
                  <a:lnTo>
                    <a:pt x="1800" y="1505"/>
                  </a:lnTo>
                  <a:lnTo>
                    <a:pt x="1769" y="1489"/>
                  </a:lnTo>
                  <a:lnTo>
                    <a:pt x="1738" y="1473"/>
                  </a:lnTo>
                  <a:lnTo>
                    <a:pt x="1683" y="1443"/>
                  </a:lnTo>
                  <a:lnTo>
                    <a:pt x="1634" y="1415"/>
                  </a:lnTo>
                  <a:lnTo>
                    <a:pt x="1630" y="1425"/>
                  </a:lnTo>
                  <a:lnTo>
                    <a:pt x="1626" y="1436"/>
                  </a:lnTo>
                  <a:lnTo>
                    <a:pt x="1621" y="1446"/>
                  </a:lnTo>
                  <a:lnTo>
                    <a:pt x="1617" y="1456"/>
                  </a:lnTo>
                  <a:lnTo>
                    <a:pt x="1662" y="1473"/>
                  </a:lnTo>
                  <a:lnTo>
                    <a:pt x="1704" y="1490"/>
                  </a:lnTo>
                  <a:lnTo>
                    <a:pt x="1744" y="1507"/>
                  </a:lnTo>
                  <a:lnTo>
                    <a:pt x="1780" y="1523"/>
                  </a:lnTo>
                  <a:lnTo>
                    <a:pt x="1845" y="1553"/>
                  </a:lnTo>
                  <a:lnTo>
                    <a:pt x="1898" y="1580"/>
                  </a:lnTo>
                  <a:lnTo>
                    <a:pt x="1940" y="1603"/>
                  </a:lnTo>
                  <a:lnTo>
                    <a:pt x="1970" y="1620"/>
                  </a:lnTo>
                  <a:lnTo>
                    <a:pt x="1988" y="1631"/>
                  </a:lnTo>
                  <a:lnTo>
                    <a:pt x="1994" y="1635"/>
                  </a:lnTo>
                  <a:lnTo>
                    <a:pt x="2028" y="1661"/>
                  </a:lnTo>
                  <a:lnTo>
                    <a:pt x="2058" y="1686"/>
                  </a:lnTo>
                  <a:lnTo>
                    <a:pt x="2085" y="1711"/>
                  </a:lnTo>
                  <a:lnTo>
                    <a:pt x="2110" y="1736"/>
                  </a:lnTo>
                  <a:lnTo>
                    <a:pt x="2131" y="1762"/>
                  </a:lnTo>
                  <a:lnTo>
                    <a:pt x="2149" y="1786"/>
                  </a:lnTo>
                  <a:lnTo>
                    <a:pt x="2165" y="1812"/>
                  </a:lnTo>
                  <a:lnTo>
                    <a:pt x="2178" y="1837"/>
                  </a:lnTo>
                  <a:lnTo>
                    <a:pt x="2189" y="1861"/>
                  </a:lnTo>
                  <a:lnTo>
                    <a:pt x="2198" y="1885"/>
                  </a:lnTo>
                  <a:lnTo>
                    <a:pt x="2205" y="1908"/>
                  </a:lnTo>
                  <a:lnTo>
                    <a:pt x="2210" y="1931"/>
                  </a:lnTo>
                  <a:lnTo>
                    <a:pt x="2213" y="1955"/>
                  </a:lnTo>
                  <a:lnTo>
                    <a:pt x="2215" y="1977"/>
                  </a:lnTo>
                  <a:lnTo>
                    <a:pt x="2216" y="1998"/>
                  </a:lnTo>
                  <a:lnTo>
                    <a:pt x="2215" y="2018"/>
                  </a:lnTo>
                  <a:lnTo>
                    <a:pt x="2213" y="2038"/>
                  </a:lnTo>
                  <a:lnTo>
                    <a:pt x="2210" y="2057"/>
                  </a:lnTo>
                  <a:lnTo>
                    <a:pt x="2206" y="2075"/>
                  </a:lnTo>
                  <a:lnTo>
                    <a:pt x="2202" y="2093"/>
                  </a:lnTo>
                  <a:lnTo>
                    <a:pt x="2197" y="2109"/>
                  </a:lnTo>
                  <a:lnTo>
                    <a:pt x="2192" y="2124"/>
                  </a:lnTo>
                  <a:lnTo>
                    <a:pt x="2186" y="2137"/>
                  </a:lnTo>
                  <a:lnTo>
                    <a:pt x="2181" y="2150"/>
                  </a:lnTo>
                  <a:lnTo>
                    <a:pt x="2170" y="2171"/>
                  </a:lnTo>
                  <a:lnTo>
                    <a:pt x="2161" y="2187"/>
                  </a:lnTo>
                  <a:lnTo>
                    <a:pt x="2155" y="2197"/>
                  </a:lnTo>
                  <a:lnTo>
                    <a:pt x="2153" y="2200"/>
                  </a:lnTo>
                  <a:lnTo>
                    <a:pt x="2132" y="2218"/>
                  </a:lnTo>
                  <a:lnTo>
                    <a:pt x="2110" y="2235"/>
                  </a:lnTo>
                  <a:lnTo>
                    <a:pt x="2088" y="2248"/>
                  </a:lnTo>
                  <a:lnTo>
                    <a:pt x="2066" y="2259"/>
                  </a:lnTo>
                  <a:lnTo>
                    <a:pt x="2044" y="2267"/>
                  </a:lnTo>
                  <a:lnTo>
                    <a:pt x="2022" y="2273"/>
                  </a:lnTo>
                  <a:lnTo>
                    <a:pt x="2000" y="2277"/>
                  </a:lnTo>
                  <a:lnTo>
                    <a:pt x="1978" y="2279"/>
                  </a:lnTo>
                  <a:lnTo>
                    <a:pt x="1956" y="2280"/>
                  </a:lnTo>
                  <a:lnTo>
                    <a:pt x="1933" y="2279"/>
                  </a:lnTo>
                  <a:lnTo>
                    <a:pt x="1912" y="2276"/>
                  </a:lnTo>
                  <a:lnTo>
                    <a:pt x="1891" y="2272"/>
                  </a:lnTo>
                  <a:lnTo>
                    <a:pt x="1870" y="2267"/>
                  </a:lnTo>
                  <a:lnTo>
                    <a:pt x="1850" y="2261"/>
                  </a:lnTo>
                  <a:lnTo>
                    <a:pt x="1830" y="2254"/>
                  </a:lnTo>
                  <a:lnTo>
                    <a:pt x="1811" y="2246"/>
                  </a:lnTo>
                  <a:lnTo>
                    <a:pt x="1791" y="2238"/>
                  </a:lnTo>
                  <a:lnTo>
                    <a:pt x="1773" y="2229"/>
                  </a:lnTo>
                  <a:lnTo>
                    <a:pt x="1756" y="2219"/>
                  </a:lnTo>
                  <a:lnTo>
                    <a:pt x="1740" y="2209"/>
                  </a:lnTo>
                  <a:lnTo>
                    <a:pt x="1711" y="2190"/>
                  </a:lnTo>
                  <a:lnTo>
                    <a:pt x="1685" y="2172"/>
                  </a:lnTo>
                  <a:lnTo>
                    <a:pt x="1648" y="2144"/>
                  </a:lnTo>
                  <a:lnTo>
                    <a:pt x="1635" y="2132"/>
                  </a:lnTo>
                  <a:lnTo>
                    <a:pt x="1617" y="2107"/>
                  </a:lnTo>
                  <a:lnTo>
                    <a:pt x="1600" y="2078"/>
                  </a:lnTo>
                  <a:lnTo>
                    <a:pt x="1583" y="2049"/>
                  </a:lnTo>
                  <a:lnTo>
                    <a:pt x="1567" y="2017"/>
                  </a:lnTo>
                  <a:lnTo>
                    <a:pt x="1552" y="1985"/>
                  </a:lnTo>
                  <a:lnTo>
                    <a:pt x="1537" y="1952"/>
                  </a:lnTo>
                  <a:lnTo>
                    <a:pt x="1523" y="1917"/>
                  </a:lnTo>
                  <a:lnTo>
                    <a:pt x="1509" y="1882"/>
                  </a:lnTo>
                  <a:lnTo>
                    <a:pt x="1496" y="1848"/>
                  </a:lnTo>
                  <a:lnTo>
                    <a:pt x="1484" y="1814"/>
                  </a:lnTo>
                  <a:lnTo>
                    <a:pt x="1473" y="1780"/>
                  </a:lnTo>
                  <a:lnTo>
                    <a:pt x="1463" y="1747"/>
                  </a:lnTo>
                  <a:lnTo>
                    <a:pt x="1446" y="1686"/>
                  </a:lnTo>
                  <a:lnTo>
                    <a:pt x="1431" y="1632"/>
                  </a:lnTo>
                  <a:lnTo>
                    <a:pt x="1421" y="1637"/>
                  </a:lnTo>
                  <a:lnTo>
                    <a:pt x="1411" y="1641"/>
                  </a:lnTo>
                  <a:lnTo>
                    <a:pt x="1401" y="1644"/>
                  </a:lnTo>
                  <a:lnTo>
                    <a:pt x="1390" y="1648"/>
                  </a:lnTo>
                  <a:lnTo>
                    <a:pt x="1410" y="1692"/>
                  </a:lnTo>
                  <a:lnTo>
                    <a:pt x="1427" y="1733"/>
                  </a:lnTo>
                  <a:lnTo>
                    <a:pt x="1443" y="1772"/>
                  </a:lnTo>
                  <a:lnTo>
                    <a:pt x="1457" y="1810"/>
                  </a:lnTo>
                  <a:lnTo>
                    <a:pt x="1481" y="1876"/>
                  </a:lnTo>
                  <a:lnTo>
                    <a:pt x="1499" y="1932"/>
                  </a:lnTo>
                  <a:lnTo>
                    <a:pt x="1514" y="1978"/>
                  </a:lnTo>
                  <a:lnTo>
                    <a:pt x="1522" y="2011"/>
                  </a:lnTo>
                  <a:lnTo>
                    <a:pt x="1527" y="2031"/>
                  </a:lnTo>
                  <a:lnTo>
                    <a:pt x="1529" y="2038"/>
                  </a:lnTo>
                  <a:lnTo>
                    <a:pt x="1535" y="2079"/>
                  </a:lnTo>
                  <a:lnTo>
                    <a:pt x="1538" y="2119"/>
                  </a:lnTo>
                  <a:lnTo>
                    <a:pt x="1539" y="2156"/>
                  </a:lnTo>
                  <a:lnTo>
                    <a:pt x="1539" y="2191"/>
                  </a:lnTo>
                  <a:lnTo>
                    <a:pt x="1536" y="2224"/>
                  </a:lnTo>
                  <a:lnTo>
                    <a:pt x="1531" y="2255"/>
                  </a:lnTo>
                  <a:lnTo>
                    <a:pt x="1525" y="2284"/>
                  </a:lnTo>
                  <a:lnTo>
                    <a:pt x="1517" y="2311"/>
                  </a:lnTo>
                  <a:lnTo>
                    <a:pt x="1506" y="2336"/>
                  </a:lnTo>
                  <a:lnTo>
                    <a:pt x="1496" y="2359"/>
                  </a:lnTo>
                  <a:lnTo>
                    <a:pt x="1484" y="2381"/>
                  </a:lnTo>
                  <a:lnTo>
                    <a:pt x="1471" y="2401"/>
                  </a:lnTo>
                  <a:lnTo>
                    <a:pt x="1458" y="2420"/>
                  </a:lnTo>
                  <a:lnTo>
                    <a:pt x="1444" y="2436"/>
                  </a:lnTo>
                  <a:lnTo>
                    <a:pt x="1429" y="2451"/>
                  </a:lnTo>
                  <a:lnTo>
                    <a:pt x="1414" y="2465"/>
                  </a:lnTo>
                  <a:lnTo>
                    <a:pt x="1399" y="2478"/>
                  </a:lnTo>
                  <a:lnTo>
                    <a:pt x="1383" y="2489"/>
                  </a:lnTo>
                  <a:lnTo>
                    <a:pt x="1368" y="2499"/>
                  </a:lnTo>
                  <a:lnTo>
                    <a:pt x="1352" y="2508"/>
                  </a:lnTo>
                  <a:lnTo>
                    <a:pt x="1337" y="2517"/>
                  </a:lnTo>
                  <a:lnTo>
                    <a:pt x="1323" y="2524"/>
                  </a:lnTo>
                  <a:lnTo>
                    <a:pt x="1310" y="2530"/>
                  </a:lnTo>
                  <a:lnTo>
                    <a:pt x="1297" y="2535"/>
                  </a:lnTo>
                  <a:lnTo>
                    <a:pt x="1275" y="2542"/>
                  </a:lnTo>
                  <a:lnTo>
                    <a:pt x="1257" y="2547"/>
                  </a:lnTo>
                  <a:lnTo>
                    <a:pt x="1246" y="2549"/>
                  </a:lnTo>
                  <a:lnTo>
                    <a:pt x="1242" y="2550"/>
                  </a:lnTo>
                  <a:lnTo>
                    <a:pt x="1213" y="2548"/>
                  </a:lnTo>
                  <a:lnTo>
                    <a:pt x="1187" y="2544"/>
                  </a:lnTo>
                  <a:lnTo>
                    <a:pt x="1163" y="2538"/>
                  </a:lnTo>
                  <a:lnTo>
                    <a:pt x="1140" y="2530"/>
                  </a:lnTo>
                  <a:lnTo>
                    <a:pt x="1118" y="2521"/>
                  </a:lnTo>
                  <a:lnTo>
                    <a:pt x="1098" y="2508"/>
                  </a:lnTo>
                  <a:lnTo>
                    <a:pt x="1080" y="2496"/>
                  </a:lnTo>
                  <a:lnTo>
                    <a:pt x="1062" y="2482"/>
                  </a:lnTo>
                  <a:lnTo>
                    <a:pt x="1046" y="2466"/>
                  </a:lnTo>
                  <a:lnTo>
                    <a:pt x="1032" y="2450"/>
                  </a:lnTo>
                  <a:lnTo>
                    <a:pt x="1018" y="2433"/>
                  </a:lnTo>
                  <a:lnTo>
                    <a:pt x="1006" y="2416"/>
                  </a:lnTo>
                  <a:lnTo>
                    <a:pt x="995" y="2397"/>
                  </a:lnTo>
                  <a:lnTo>
                    <a:pt x="985" y="2379"/>
                  </a:lnTo>
                  <a:lnTo>
                    <a:pt x="976" y="2359"/>
                  </a:lnTo>
                  <a:lnTo>
                    <a:pt x="968" y="2340"/>
                  </a:lnTo>
                  <a:lnTo>
                    <a:pt x="961" y="2321"/>
                  </a:lnTo>
                  <a:lnTo>
                    <a:pt x="955" y="2302"/>
                  </a:lnTo>
                  <a:lnTo>
                    <a:pt x="949" y="2283"/>
                  </a:lnTo>
                  <a:lnTo>
                    <a:pt x="944" y="2265"/>
                  </a:lnTo>
                  <a:lnTo>
                    <a:pt x="937" y="2231"/>
                  </a:lnTo>
                  <a:lnTo>
                    <a:pt x="931" y="2199"/>
                  </a:lnTo>
                  <a:lnTo>
                    <a:pt x="926" y="2153"/>
                  </a:lnTo>
                  <a:lnTo>
                    <a:pt x="924" y="2136"/>
                  </a:lnTo>
                  <a:lnTo>
                    <a:pt x="930" y="2105"/>
                  </a:lnTo>
                  <a:lnTo>
                    <a:pt x="937" y="2072"/>
                  </a:lnTo>
                  <a:lnTo>
                    <a:pt x="946" y="2039"/>
                  </a:lnTo>
                  <a:lnTo>
                    <a:pt x="957" y="2006"/>
                  </a:lnTo>
                  <a:lnTo>
                    <a:pt x="969" y="1972"/>
                  </a:lnTo>
                  <a:lnTo>
                    <a:pt x="982" y="1938"/>
                  </a:lnTo>
                  <a:lnTo>
                    <a:pt x="996" y="1904"/>
                  </a:lnTo>
                  <a:lnTo>
                    <a:pt x="1011" y="1870"/>
                  </a:lnTo>
                  <a:lnTo>
                    <a:pt x="1026" y="1837"/>
                  </a:lnTo>
                  <a:lnTo>
                    <a:pt x="1042" y="1805"/>
                  </a:lnTo>
                  <a:lnTo>
                    <a:pt x="1058" y="1772"/>
                  </a:lnTo>
                  <a:lnTo>
                    <a:pt x="1075" y="1742"/>
                  </a:lnTo>
                  <a:lnTo>
                    <a:pt x="1105" y="1687"/>
                  </a:lnTo>
                  <a:lnTo>
                    <a:pt x="1133" y="1637"/>
                  </a:lnTo>
                  <a:lnTo>
                    <a:pt x="1123" y="1633"/>
                  </a:lnTo>
                  <a:lnTo>
                    <a:pt x="1113" y="1629"/>
                  </a:lnTo>
                  <a:lnTo>
                    <a:pt x="1103" y="1624"/>
                  </a:lnTo>
                  <a:lnTo>
                    <a:pt x="1094" y="1619"/>
                  </a:lnTo>
                  <a:lnTo>
                    <a:pt x="1077" y="1665"/>
                  </a:lnTo>
                  <a:lnTo>
                    <a:pt x="1059" y="1706"/>
                  </a:lnTo>
                  <a:lnTo>
                    <a:pt x="1042" y="1745"/>
                  </a:lnTo>
                  <a:lnTo>
                    <a:pt x="1027" y="1781"/>
                  </a:lnTo>
                  <a:lnTo>
                    <a:pt x="997" y="1846"/>
                  </a:lnTo>
                  <a:lnTo>
                    <a:pt x="970" y="1898"/>
                  </a:lnTo>
                  <a:lnTo>
                    <a:pt x="948" y="1940"/>
                  </a:lnTo>
                  <a:lnTo>
                    <a:pt x="931" y="1970"/>
                  </a:lnTo>
                  <a:lnTo>
                    <a:pt x="919" y="1987"/>
                  </a:lnTo>
                  <a:lnTo>
                    <a:pt x="915" y="1993"/>
                  </a:lnTo>
                  <a:close/>
                </a:path>
              </a:pathLst>
            </a:custGeom>
            <a:solidFill>
              <a:srgbClr val="da4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97440" y="6257520"/>
              <a:ext cx="71640" cy="47520"/>
            </a:xfrm>
            <a:custGeom>
              <a:avLst/>
              <a:gdLst/>
              <a:ahLst/>
              <a:rect l="l" t="t" r="r" b="b"/>
              <a:pathLst>
                <a:path w="723" h="723">
                  <a:moveTo>
                    <a:pt x="629" y="117"/>
                  </a:moveTo>
                  <a:lnTo>
                    <a:pt x="616" y="104"/>
                  </a:lnTo>
                  <a:lnTo>
                    <a:pt x="602" y="91"/>
                  </a:lnTo>
                  <a:lnTo>
                    <a:pt x="588" y="80"/>
                  </a:lnTo>
                  <a:lnTo>
                    <a:pt x="573" y="69"/>
                  </a:lnTo>
                  <a:lnTo>
                    <a:pt x="559" y="59"/>
                  </a:lnTo>
                  <a:lnTo>
                    <a:pt x="544" y="49"/>
                  </a:lnTo>
                  <a:lnTo>
                    <a:pt x="528" y="41"/>
                  </a:lnTo>
                  <a:lnTo>
                    <a:pt x="512" y="33"/>
                  </a:lnTo>
                  <a:lnTo>
                    <a:pt x="496" y="26"/>
                  </a:lnTo>
                  <a:lnTo>
                    <a:pt x="480" y="20"/>
                  </a:lnTo>
                  <a:lnTo>
                    <a:pt x="463" y="14"/>
                  </a:lnTo>
                  <a:lnTo>
                    <a:pt x="446" y="10"/>
                  </a:lnTo>
                  <a:lnTo>
                    <a:pt x="429" y="6"/>
                  </a:lnTo>
                  <a:lnTo>
                    <a:pt x="412" y="3"/>
                  </a:lnTo>
                  <a:lnTo>
                    <a:pt x="395" y="1"/>
                  </a:lnTo>
                  <a:lnTo>
                    <a:pt x="378" y="0"/>
                  </a:lnTo>
                  <a:lnTo>
                    <a:pt x="360" y="0"/>
                  </a:lnTo>
                  <a:lnTo>
                    <a:pt x="343" y="0"/>
                  </a:lnTo>
                  <a:lnTo>
                    <a:pt x="326" y="2"/>
                  </a:lnTo>
                  <a:lnTo>
                    <a:pt x="308" y="4"/>
                  </a:lnTo>
                  <a:lnTo>
                    <a:pt x="291" y="7"/>
                  </a:lnTo>
                  <a:lnTo>
                    <a:pt x="274" y="10"/>
                  </a:lnTo>
                  <a:lnTo>
                    <a:pt x="257" y="15"/>
                  </a:lnTo>
                  <a:lnTo>
                    <a:pt x="240" y="21"/>
                  </a:lnTo>
                  <a:lnTo>
                    <a:pt x="224" y="28"/>
                  </a:lnTo>
                  <a:lnTo>
                    <a:pt x="208" y="35"/>
                  </a:lnTo>
                  <a:lnTo>
                    <a:pt x="192" y="43"/>
                  </a:lnTo>
                  <a:lnTo>
                    <a:pt x="177" y="52"/>
                  </a:lnTo>
                  <a:lnTo>
                    <a:pt x="160" y="61"/>
                  </a:lnTo>
                  <a:lnTo>
                    <a:pt x="146" y="72"/>
                  </a:lnTo>
                  <a:lnTo>
                    <a:pt x="131" y="83"/>
                  </a:lnTo>
                  <a:lnTo>
                    <a:pt x="117" y="95"/>
                  </a:lnTo>
                  <a:lnTo>
                    <a:pt x="104" y="108"/>
                  </a:lnTo>
                  <a:lnTo>
                    <a:pt x="91" y="121"/>
                  </a:lnTo>
                  <a:lnTo>
                    <a:pt x="80" y="135"/>
                  </a:lnTo>
                  <a:lnTo>
                    <a:pt x="69" y="150"/>
                  </a:lnTo>
                  <a:lnTo>
                    <a:pt x="59" y="165"/>
                  </a:lnTo>
                  <a:lnTo>
                    <a:pt x="49" y="180"/>
                  </a:lnTo>
                  <a:lnTo>
                    <a:pt x="41" y="196"/>
                  </a:lnTo>
                  <a:lnTo>
                    <a:pt x="33" y="212"/>
                  </a:lnTo>
                  <a:lnTo>
                    <a:pt x="26" y="228"/>
                  </a:lnTo>
                  <a:lnTo>
                    <a:pt x="19" y="244"/>
                  </a:lnTo>
                  <a:lnTo>
                    <a:pt x="14" y="260"/>
                  </a:lnTo>
                  <a:lnTo>
                    <a:pt x="10" y="277"/>
                  </a:lnTo>
                  <a:lnTo>
                    <a:pt x="6" y="294"/>
                  </a:lnTo>
                  <a:lnTo>
                    <a:pt x="3" y="312"/>
                  </a:lnTo>
                  <a:lnTo>
                    <a:pt x="1" y="329"/>
                  </a:lnTo>
                  <a:lnTo>
                    <a:pt x="0" y="346"/>
                  </a:lnTo>
                  <a:lnTo>
                    <a:pt x="0" y="364"/>
                  </a:lnTo>
                  <a:lnTo>
                    <a:pt x="0" y="381"/>
                  </a:lnTo>
                  <a:lnTo>
                    <a:pt x="2" y="398"/>
                  </a:lnTo>
                  <a:lnTo>
                    <a:pt x="4" y="415"/>
                  </a:lnTo>
                  <a:lnTo>
                    <a:pt x="7" y="432"/>
                  </a:lnTo>
                  <a:lnTo>
                    <a:pt x="11" y="449"/>
                  </a:lnTo>
                  <a:lnTo>
                    <a:pt x="15" y="467"/>
                  </a:lnTo>
                  <a:lnTo>
                    <a:pt x="22" y="483"/>
                  </a:lnTo>
                  <a:lnTo>
                    <a:pt x="28" y="500"/>
                  </a:lnTo>
                  <a:lnTo>
                    <a:pt x="35" y="516"/>
                  </a:lnTo>
                  <a:lnTo>
                    <a:pt x="43" y="532"/>
                  </a:lnTo>
                  <a:lnTo>
                    <a:pt x="52" y="547"/>
                  </a:lnTo>
                  <a:lnTo>
                    <a:pt x="61" y="562"/>
                  </a:lnTo>
                  <a:lnTo>
                    <a:pt x="72" y="577"/>
                  </a:lnTo>
                  <a:lnTo>
                    <a:pt x="83" y="592"/>
                  </a:lnTo>
                  <a:lnTo>
                    <a:pt x="95" y="607"/>
                  </a:lnTo>
                  <a:lnTo>
                    <a:pt x="108" y="620"/>
                  </a:lnTo>
                  <a:lnTo>
                    <a:pt x="121" y="633"/>
                  </a:lnTo>
                  <a:lnTo>
                    <a:pt x="135" y="644"/>
                  </a:lnTo>
                  <a:lnTo>
                    <a:pt x="150" y="655"/>
                  </a:lnTo>
                  <a:lnTo>
                    <a:pt x="164" y="665"/>
                  </a:lnTo>
                  <a:lnTo>
                    <a:pt x="180" y="675"/>
                  </a:lnTo>
                  <a:lnTo>
                    <a:pt x="196" y="683"/>
                  </a:lnTo>
                  <a:lnTo>
                    <a:pt x="211" y="691"/>
                  </a:lnTo>
                  <a:lnTo>
                    <a:pt x="227" y="698"/>
                  </a:lnTo>
                  <a:lnTo>
                    <a:pt x="244" y="704"/>
                  </a:lnTo>
                  <a:lnTo>
                    <a:pt x="260" y="709"/>
                  </a:lnTo>
                  <a:lnTo>
                    <a:pt x="277" y="713"/>
                  </a:lnTo>
                  <a:lnTo>
                    <a:pt x="294" y="717"/>
                  </a:lnTo>
                  <a:lnTo>
                    <a:pt x="311" y="720"/>
                  </a:lnTo>
                  <a:lnTo>
                    <a:pt x="329" y="721"/>
                  </a:lnTo>
                  <a:lnTo>
                    <a:pt x="346" y="723"/>
                  </a:lnTo>
                  <a:lnTo>
                    <a:pt x="363" y="723"/>
                  </a:lnTo>
                  <a:lnTo>
                    <a:pt x="381" y="722"/>
                  </a:lnTo>
                  <a:lnTo>
                    <a:pt x="398" y="721"/>
                  </a:lnTo>
                  <a:lnTo>
                    <a:pt x="415" y="719"/>
                  </a:lnTo>
                  <a:lnTo>
                    <a:pt x="432" y="716"/>
                  </a:lnTo>
                  <a:lnTo>
                    <a:pt x="449" y="712"/>
                  </a:lnTo>
                  <a:lnTo>
                    <a:pt x="467" y="707"/>
                  </a:lnTo>
                  <a:lnTo>
                    <a:pt x="483" y="702"/>
                  </a:lnTo>
                  <a:lnTo>
                    <a:pt x="500" y="696"/>
                  </a:lnTo>
                  <a:lnTo>
                    <a:pt x="516" y="688"/>
                  </a:lnTo>
                  <a:lnTo>
                    <a:pt x="531" y="680"/>
                  </a:lnTo>
                  <a:lnTo>
                    <a:pt x="547" y="672"/>
                  </a:lnTo>
                  <a:lnTo>
                    <a:pt x="562" y="662"/>
                  </a:lnTo>
                  <a:lnTo>
                    <a:pt x="577" y="651"/>
                  </a:lnTo>
                  <a:lnTo>
                    <a:pt x="591" y="640"/>
                  </a:lnTo>
                  <a:lnTo>
                    <a:pt x="606" y="628"/>
                  </a:lnTo>
                  <a:lnTo>
                    <a:pt x="620" y="615"/>
                  </a:lnTo>
                  <a:lnTo>
                    <a:pt x="632" y="602"/>
                  </a:lnTo>
                  <a:lnTo>
                    <a:pt x="644" y="587"/>
                  </a:lnTo>
                  <a:lnTo>
                    <a:pt x="655" y="573"/>
                  </a:lnTo>
                  <a:lnTo>
                    <a:pt x="665" y="558"/>
                  </a:lnTo>
                  <a:lnTo>
                    <a:pt x="674" y="543"/>
                  </a:lnTo>
                  <a:lnTo>
                    <a:pt x="683" y="528"/>
                  </a:lnTo>
                  <a:lnTo>
                    <a:pt x="690" y="512"/>
                  </a:lnTo>
                  <a:lnTo>
                    <a:pt x="697" y="496"/>
                  </a:lnTo>
                  <a:lnTo>
                    <a:pt x="703" y="480"/>
                  </a:lnTo>
                  <a:lnTo>
                    <a:pt x="708" y="463"/>
                  </a:lnTo>
                  <a:lnTo>
                    <a:pt x="713" y="445"/>
                  </a:lnTo>
                  <a:lnTo>
                    <a:pt x="716" y="428"/>
                  </a:lnTo>
                  <a:lnTo>
                    <a:pt x="719" y="411"/>
                  </a:lnTo>
                  <a:lnTo>
                    <a:pt x="721" y="394"/>
                  </a:lnTo>
                  <a:lnTo>
                    <a:pt x="722" y="377"/>
                  </a:lnTo>
                  <a:lnTo>
                    <a:pt x="723" y="360"/>
                  </a:lnTo>
                  <a:lnTo>
                    <a:pt x="722" y="343"/>
                  </a:lnTo>
                  <a:lnTo>
                    <a:pt x="721" y="326"/>
                  </a:lnTo>
                  <a:lnTo>
                    <a:pt x="719" y="308"/>
                  </a:lnTo>
                  <a:lnTo>
                    <a:pt x="716" y="290"/>
                  </a:lnTo>
                  <a:lnTo>
                    <a:pt x="712" y="273"/>
                  </a:lnTo>
                  <a:lnTo>
                    <a:pt x="707" y="257"/>
                  </a:lnTo>
                  <a:lnTo>
                    <a:pt x="702" y="240"/>
                  </a:lnTo>
                  <a:lnTo>
                    <a:pt x="696" y="224"/>
                  </a:lnTo>
                  <a:lnTo>
                    <a:pt x="689" y="208"/>
                  </a:lnTo>
                  <a:lnTo>
                    <a:pt x="681" y="192"/>
                  </a:lnTo>
                  <a:lnTo>
                    <a:pt x="672" y="176"/>
                  </a:lnTo>
                  <a:lnTo>
                    <a:pt x="662" y="160"/>
                  </a:lnTo>
                  <a:lnTo>
                    <a:pt x="652" y="145"/>
                  </a:lnTo>
                  <a:lnTo>
                    <a:pt x="641" y="131"/>
                  </a:lnTo>
                  <a:lnTo>
                    <a:pt x="629" y="117"/>
                  </a:lnTo>
                  <a:close/>
                </a:path>
              </a:pathLst>
            </a:custGeom>
            <a:solidFill>
              <a:srgbClr val="ecbb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21280" y="6258600"/>
              <a:ext cx="51120" cy="88560"/>
            </a:xfrm>
            <a:custGeom>
              <a:avLst/>
              <a:gdLst/>
              <a:ahLst/>
              <a:rect l="l" t="t" r="r" b="b"/>
              <a:pathLst>
                <a:path w="523" h="1335">
                  <a:moveTo>
                    <a:pt x="51" y="1335"/>
                  </a:moveTo>
                  <a:lnTo>
                    <a:pt x="50" y="1328"/>
                  </a:lnTo>
                  <a:lnTo>
                    <a:pt x="46" y="1309"/>
                  </a:lnTo>
                  <a:lnTo>
                    <a:pt x="40" y="1278"/>
                  </a:lnTo>
                  <a:lnTo>
                    <a:pt x="32" y="1237"/>
                  </a:lnTo>
                  <a:lnTo>
                    <a:pt x="24" y="1189"/>
                  </a:lnTo>
                  <a:lnTo>
                    <a:pt x="16" y="1132"/>
                  </a:lnTo>
                  <a:lnTo>
                    <a:pt x="9" y="1070"/>
                  </a:lnTo>
                  <a:lnTo>
                    <a:pt x="4" y="1003"/>
                  </a:lnTo>
                  <a:lnTo>
                    <a:pt x="2" y="969"/>
                  </a:lnTo>
                  <a:lnTo>
                    <a:pt x="1" y="934"/>
                  </a:lnTo>
                  <a:lnTo>
                    <a:pt x="0" y="899"/>
                  </a:lnTo>
                  <a:lnTo>
                    <a:pt x="1" y="863"/>
                  </a:lnTo>
                  <a:lnTo>
                    <a:pt x="2" y="827"/>
                  </a:lnTo>
                  <a:lnTo>
                    <a:pt x="4" y="791"/>
                  </a:lnTo>
                  <a:lnTo>
                    <a:pt x="8" y="756"/>
                  </a:lnTo>
                  <a:lnTo>
                    <a:pt x="12" y="721"/>
                  </a:lnTo>
                  <a:lnTo>
                    <a:pt x="18" y="686"/>
                  </a:lnTo>
                  <a:lnTo>
                    <a:pt x="25" y="653"/>
                  </a:lnTo>
                  <a:lnTo>
                    <a:pt x="33" y="620"/>
                  </a:lnTo>
                  <a:lnTo>
                    <a:pt x="44" y="589"/>
                  </a:lnTo>
                  <a:lnTo>
                    <a:pt x="55" y="558"/>
                  </a:lnTo>
                  <a:lnTo>
                    <a:pt x="69" y="529"/>
                  </a:lnTo>
                  <a:lnTo>
                    <a:pt x="84" y="502"/>
                  </a:lnTo>
                  <a:lnTo>
                    <a:pt x="102" y="477"/>
                  </a:lnTo>
                  <a:lnTo>
                    <a:pt x="117" y="463"/>
                  </a:lnTo>
                  <a:lnTo>
                    <a:pt x="157" y="424"/>
                  </a:lnTo>
                  <a:lnTo>
                    <a:pt x="184" y="398"/>
                  </a:lnTo>
                  <a:lnTo>
                    <a:pt x="214" y="367"/>
                  </a:lnTo>
                  <a:lnTo>
                    <a:pt x="247" y="334"/>
                  </a:lnTo>
                  <a:lnTo>
                    <a:pt x="281" y="298"/>
                  </a:lnTo>
                  <a:lnTo>
                    <a:pt x="314" y="259"/>
                  </a:lnTo>
                  <a:lnTo>
                    <a:pt x="347" y="220"/>
                  </a:lnTo>
                  <a:lnTo>
                    <a:pt x="363" y="200"/>
                  </a:lnTo>
                  <a:lnTo>
                    <a:pt x="378" y="180"/>
                  </a:lnTo>
                  <a:lnTo>
                    <a:pt x="393" y="161"/>
                  </a:lnTo>
                  <a:lnTo>
                    <a:pt x="407" y="140"/>
                  </a:lnTo>
                  <a:lnTo>
                    <a:pt x="420" y="121"/>
                  </a:lnTo>
                  <a:lnTo>
                    <a:pt x="431" y="102"/>
                  </a:lnTo>
                  <a:lnTo>
                    <a:pt x="442" y="83"/>
                  </a:lnTo>
                  <a:lnTo>
                    <a:pt x="451" y="65"/>
                  </a:lnTo>
                  <a:lnTo>
                    <a:pt x="459" y="48"/>
                  </a:lnTo>
                  <a:lnTo>
                    <a:pt x="465" y="31"/>
                  </a:lnTo>
                  <a:lnTo>
                    <a:pt x="469" y="15"/>
                  </a:lnTo>
                  <a:lnTo>
                    <a:pt x="471" y="0"/>
                  </a:lnTo>
                  <a:lnTo>
                    <a:pt x="473" y="6"/>
                  </a:lnTo>
                  <a:lnTo>
                    <a:pt x="476" y="21"/>
                  </a:lnTo>
                  <a:lnTo>
                    <a:pt x="481" y="45"/>
                  </a:lnTo>
                  <a:lnTo>
                    <a:pt x="488" y="78"/>
                  </a:lnTo>
                  <a:lnTo>
                    <a:pt x="495" y="117"/>
                  </a:lnTo>
                  <a:lnTo>
                    <a:pt x="502" y="164"/>
                  </a:lnTo>
                  <a:lnTo>
                    <a:pt x="509" y="216"/>
                  </a:lnTo>
                  <a:lnTo>
                    <a:pt x="515" y="271"/>
                  </a:lnTo>
                  <a:lnTo>
                    <a:pt x="519" y="332"/>
                  </a:lnTo>
                  <a:lnTo>
                    <a:pt x="522" y="393"/>
                  </a:lnTo>
                  <a:lnTo>
                    <a:pt x="523" y="425"/>
                  </a:lnTo>
                  <a:lnTo>
                    <a:pt x="523" y="458"/>
                  </a:lnTo>
                  <a:lnTo>
                    <a:pt x="522" y="490"/>
                  </a:lnTo>
                  <a:lnTo>
                    <a:pt x="521" y="522"/>
                  </a:lnTo>
                  <a:lnTo>
                    <a:pt x="518" y="554"/>
                  </a:lnTo>
                  <a:lnTo>
                    <a:pt x="515" y="587"/>
                  </a:lnTo>
                  <a:lnTo>
                    <a:pt x="511" y="618"/>
                  </a:lnTo>
                  <a:lnTo>
                    <a:pt x="505" y="649"/>
                  </a:lnTo>
                  <a:lnTo>
                    <a:pt x="499" y="680"/>
                  </a:lnTo>
                  <a:lnTo>
                    <a:pt x="492" y="710"/>
                  </a:lnTo>
                  <a:lnTo>
                    <a:pt x="483" y="740"/>
                  </a:lnTo>
                  <a:lnTo>
                    <a:pt x="473" y="769"/>
                  </a:lnTo>
                  <a:lnTo>
                    <a:pt x="466" y="784"/>
                  </a:lnTo>
                  <a:lnTo>
                    <a:pt x="445" y="828"/>
                  </a:lnTo>
                  <a:lnTo>
                    <a:pt x="430" y="858"/>
                  </a:lnTo>
                  <a:lnTo>
                    <a:pt x="411" y="893"/>
                  </a:lnTo>
                  <a:lnTo>
                    <a:pt x="389" y="932"/>
                  </a:lnTo>
                  <a:lnTo>
                    <a:pt x="363" y="974"/>
                  </a:lnTo>
                  <a:lnTo>
                    <a:pt x="335" y="1019"/>
                  </a:lnTo>
                  <a:lnTo>
                    <a:pt x="304" y="1065"/>
                  </a:lnTo>
                  <a:lnTo>
                    <a:pt x="287" y="1088"/>
                  </a:lnTo>
                  <a:lnTo>
                    <a:pt x="269" y="1111"/>
                  </a:lnTo>
                  <a:lnTo>
                    <a:pt x="251" y="1135"/>
                  </a:lnTo>
                  <a:lnTo>
                    <a:pt x="231" y="1159"/>
                  </a:lnTo>
                  <a:lnTo>
                    <a:pt x="211" y="1183"/>
                  </a:lnTo>
                  <a:lnTo>
                    <a:pt x="190" y="1206"/>
                  </a:lnTo>
                  <a:lnTo>
                    <a:pt x="169" y="1229"/>
                  </a:lnTo>
                  <a:lnTo>
                    <a:pt x="147" y="1251"/>
                  </a:lnTo>
                  <a:lnTo>
                    <a:pt x="125" y="1273"/>
                  </a:lnTo>
                  <a:lnTo>
                    <a:pt x="101" y="1295"/>
                  </a:lnTo>
                  <a:lnTo>
                    <a:pt x="76" y="1315"/>
                  </a:lnTo>
                  <a:lnTo>
                    <a:pt x="51" y="1335"/>
                  </a:lnTo>
                  <a:close/>
                </a:path>
              </a:pathLst>
            </a:custGeom>
            <a:solidFill>
              <a:srgbClr val="63ad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"/>
          <p:cNvSpPr/>
          <p:nvPr/>
        </p:nvSpPr>
        <p:spPr>
          <a:xfrm>
            <a:off x="1069200" y="112536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婚庆</a:t>
            </a: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L -0.00973 1.33842 E">
                                      <p:cBhvr>
                                        <p:cTn id="6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0.10643 1.3338 E">
                                      <p:cBhvr>
                                        <p:cTn id="8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4.44444E-006 -2.96296E-006 L 0.03923 1.71135 E">
                                      <p:cBhvr>
                                        <p:cTn id="10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3.88889E-006 2.59259E-006 L 0.11927 1.90416 E">
                                      <p:cBhvr>
                                        <p:cTn id="12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313 -0.1787 L -0.16337 1.67292 E">
                                      <p:cBhvr>
                                        <p:cTn id="14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.55556E-007 -2.96296E-006 L -0.16024 1.85162 E">
                                      <p:cBhvr>
                                        <p:cTn id="16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 repeatCount="indefinite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8.33333E-007 -2.59259E-006 C 0.0566 0.0882 0.11319 0.17639 0.1 0.30857 C 0.0868 0.44074 -0.0724 0.63148 -0.07917 0.79329 C -0.08594 0.95463 0.04392 1.1838 0.05972 1.27824 C 0.07552 1.37222 0.01892 1.33727 0.01528 1.35648 C 0.01163 1.3757 0.02448 1.38426 0.0375 1.39306 E">
                                      <p:cBhvr>
                                        <p:cTn id="18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indefinite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5.55556E-006 -7.77778E-006 C -0.03124 0.2493 -0.06232 0.49884 -0.03333 0.64976 C -0.00433 0.80092 0.16407 0.80879 0.17362 0.90717 C 0.18317 1.00578 0.05348 1.13958 0.02362 1.24073 C -0.00624 1.34166 -0.0059 1.42708 -0.00555 1.51273 E">
                                      <p:cBhvr>
                                        <p:cTn id="20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.01007 0.03009 C -0.06441 0.18495 -0.13889 0.33981 -0.12431 0.45092 C -0.10973 0.56203 0.08298 0.56898 0.09757 0.69676 C 0.11215 0.82453 -0.0316 1.09815 -0.03681 1.21759 C -0.04202 1.33703 0.02829 1.3912 0.06632 1.41342 C 0.10434 1.43565 0.16632 1.35856 0.19132 1.35092 C 0.21632 1.34328 0.21632 1.35532 0.21632 1.36759 E">
                                      <p:cBhvr>
                                        <p:cTn id="22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 repeatCount="indefinite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44444E-006 -2.22222E-006 L 0.02952 2.1338 E">
                                      <p:cBhvr>
                                        <p:cTn id="24" dur="5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388360" y="0"/>
            <a:ext cx="755640" cy="6858000"/>
          </a:xfrm>
          <a:prstGeom prst="rect">
            <a:avLst/>
          </a:prstGeom>
          <a:gradFill rotWithShape="0">
            <a:gsLst>
              <a:gs pos="0">
                <a:srgbClr val="ff0000">
                  <a:alpha val="60000"/>
                </a:srgbClr>
              </a:gs>
              <a:gs pos="100000">
                <a:srgbClr val="750000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"/>
          <p:cNvSpPr/>
          <p:nvPr/>
        </p:nvSpPr>
        <p:spPr>
          <a:xfrm rot="679800">
            <a:off x="237960" y="5428800"/>
            <a:ext cx="1081080" cy="1079640"/>
          </a:xfrm>
          <a:custGeom>
            <a:avLst/>
            <a:gdLst>
              <a:gd name="textAreaLeft" fmla="*/ 254160 w 1081080"/>
              <a:gd name="textAreaRight" fmla="*/ 826200 w 1081080"/>
              <a:gd name="textAreaTop" fmla="*/ 126720 h 1079640"/>
              <a:gd name="textAreaBottom" fmla="*/ 677160 h 1079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472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"/>
          <p:cNvSpPr/>
          <p:nvPr/>
        </p:nvSpPr>
        <p:spPr>
          <a:xfrm rot="3244800">
            <a:off x="1258920" y="5877000"/>
            <a:ext cx="649440" cy="836640"/>
          </a:xfrm>
          <a:custGeom>
            <a:avLst/>
            <a:gdLst>
              <a:gd name="textAreaLeft" fmla="*/ 152640 w 649440"/>
              <a:gd name="textAreaRight" fmla="*/ 496440 w 649440"/>
              <a:gd name="textAreaTop" fmla="*/ 98280 h 836640"/>
              <a:gd name="textAreaBottom" fmla="*/ 524880 h 836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"/>
          <p:cNvSpPr/>
          <p:nvPr/>
        </p:nvSpPr>
        <p:spPr>
          <a:xfrm rot="19290000">
            <a:off x="324000" y="4797360"/>
            <a:ext cx="504720" cy="432000"/>
          </a:xfrm>
          <a:custGeom>
            <a:avLst/>
            <a:gdLst>
              <a:gd name="textAreaLeft" fmla="*/ 118440 w 504720"/>
              <a:gd name="textAreaRight" fmla="*/ 385920 w 50472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7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"/>
          <p:cNvSpPr/>
          <p:nvPr/>
        </p:nvSpPr>
        <p:spPr>
          <a:xfrm rot="1825800">
            <a:off x="899640" y="4869000"/>
            <a:ext cx="360360" cy="360360"/>
          </a:xfrm>
          <a:custGeom>
            <a:avLst/>
            <a:gdLst>
              <a:gd name="textAreaLeft" fmla="*/ 84600 w 360360"/>
              <a:gd name="textAreaRight" fmla="*/ 275400 w 360360"/>
              <a:gd name="textAreaTop" fmla="*/ 42120 h 360360"/>
              <a:gd name="textAreaBottom" fmla="*/ 226080 h 36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"/>
          <p:cNvSpPr/>
          <p:nvPr/>
        </p:nvSpPr>
        <p:spPr>
          <a:xfrm rot="19275000">
            <a:off x="125280" y="6159240"/>
            <a:ext cx="432000" cy="503280"/>
          </a:xfrm>
          <a:custGeom>
            <a:avLst/>
            <a:gdLst>
              <a:gd name="textAreaLeft" fmla="*/ 101520 w 432000"/>
              <a:gd name="textAreaRight" fmla="*/ 330120 w 43200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5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"/>
          <p:cNvSpPr/>
          <p:nvPr/>
        </p:nvSpPr>
        <p:spPr>
          <a:xfrm rot="3244800">
            <a:off x="215640" y="3679560"/>
            <a:ext cx="144360" cy="217440"/>
          </a:xfrm>
          <a:custGeom>
            <a:avLst/>
            <a:gdLst>
              <a:gd name="textAreaLeft" fmla="*/ 33840 w 144360"/>
              <a:gd name="textAreaRight" fmla="*/ 110520 w 144360"/>
              <a:gd name="textAreaTop" fmla="*/ 25560 h 217440"/>
              <a:gd name="textAreaBottom" fmla="*/ 136440 h 217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215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1" name=""/>
          <p:cNvSpPr/>
          <p:nvPr/>
        </p:nvSpPr>
        <p:spPr>
          <a:xfrm rot="19641000">
            <a:off x="108000" y="4220640"/>
            <a:ext cx="266760" cy="238320"/>
          </a:xfrm>
          <a:custGeom>
            <a:avLst/>
            <a:gdLst>
              <a:gd name="textAreaLeft" fmla="*/ 62640 w 266760"/>
              <a:gd name="textAreaRight" fmla="*/ 204120 w 266760"/>
              <a:gd name="textAreaTop" fmla="*/ 27720 h 238320"/>
              <a:gd name="textAreaBottom" fmla="*/ 149400 h 2383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3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2" name=""/>
          <p:cNvSpPr/>
          <p:nvPr/>
        </p:nvSpPr>
        <p:spPr>
          <a:xfrm rot="19369200">
            <a:off x="171000" y="3370320"/>
            <a:ext cx="181080" cy="109440"/>
          </a:xfrm>
          <a:custGeom>
            <a:avLst/>
            <a:gdLst>
              <a:gd name="textAreaLeft" fmla="*/ 42480 w 181080"/>
              <a:gd name="textAreaRight" fmla="*/ 138600 w 181080"/>
              <a:gd name="textAreaTop" fmla="*/ 12600 h 109440"/>
              <a:gd name="textAreaBottom" fmla="*/ 68760 h 109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db0000">
                  <a:alpha val="63137"/>
                </a:srgbClr>
              </a:gs>
              <a:gs pos="100000">
                <a:srgbClr val="ff0000">
                  <a:alpha val="19215"/>
                </a:srgbClr>
              </a:gs>
            </a:gsLst>
            <a:lin ang="7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67640" y="2205000"/>
            <a:ext cx="71748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"/>
          <p:cNvSpPr/>
          <p:nvPr/>
        </p:nvSpPr>
        <p:spPr>
          <a:xfrm>
            <a:off x="71280" y="692280"/>
            <a:ext cx="938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00ff">
                  <a:alpha val="41176"/>
                </a:srgbClr>
              </a:gs>
              <a:gs pos="100000">
                <a:srgbClr val="750075">
                  <a:alpha val="4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"/>
          <p:cNvSpPr/>
          <p:nvPr/>
        </p:nvSpPr>
        <p:spPr>
          <a:xfrm flipH="1" rot="14233200">
            <a:off x="-239040" y="3125520"/>
            <a:ext cx="1622520" cy="2371680"/>
          </a:xfrm>
          <a:custGeom>
            <a:avLst/>
            <a:gdLst/>
            <a:ahLst/>
            <a:rect l="l" t="t" r="r" b="b"/>
            <a:pathLst>
              <a:path w="2305" h="1994">
                <a:moveTo>
                  <a:pt x="2042" y="249"/>
                </a:moveTo>
                <a:cubicBezTo>
                  <a:pt x="1993" y="279"/>
                  <a:pt x="1895" y="343"/>
                  <a:pt x="1743" y="427"/>
                </a:cubicBezTo>
                <a:cubicBezTo>
                  <a:pt x="1591" y="511"/>
                  <a:pt x="1187" y="572"/>
                  <a:pt x="1130" y="755"/>
                </a:cubicBezTo>
                <a:cubicBezTo>
                  <a:pt x="1073" y="938"/>
                  <a:pt x="1588" y="1322"/>
                  <a:pt x="1402" y="1526"/>
                </a:cubicBezTo>
                <a:cubicBezTo>
                  <a:pt x="1216" y="1730"/>
                  <a:pt x="0" y="1960"/>
                  <a:pt x="15" y="1977"/>
                </a:cubicBezTo>
                <a:cubicBezTo>
                  <a:pt x="30" y="1994"/>
                  <a:pt x="1305" y="1827"/>
                  <a:pt x="1494" y="1629"/>
                </a:cubicBezTo>
                <a:cubicBezTo>
                  <a:pt x="1683" y="1431"/>
                  <a:pt x="1080" y="1000"/>
                  <a:pt x="1149" y="791"/>
                </a:cubicBezTo>
                <a:cubicBezTo>
                  <a:pt x="1218" y="582"/>
                  <a:pt x="1714" y="509"/>
                  <a:pt x="1907" y="377"/>
                </a:cubicBezTo>
                <a:cubicBezTo>
                  <a:pt x="2100" y="245"/>
                  <a:pt x="2222" y="79"/>
                  <a:pt x="2305" y="0"/>
                </a:cubicBezTo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196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6" name=""/>
          <p:cNvSpPr/>
          <p:nvPr/>
        </p:nvSpPr>
        <p:spPr>
          <a:xfrm>
            <a:off x="3290760" y="1020600"/>
            <a:ext cx="238320" cy="160560"/>
          </a:xfrm>
          <a:custGeom>
            <a:avLst/>
            <a:gdLst/>
            <a:ahLst/>
            <a:rect l="l" t="t" r="r" b="b"/>
            <a:pathLst>
              <a:path w="1194" h="808">
                <a:moveTo>
                  <a:pt x="593" y="440"/>
                </a:moveTo>
                <a:lnTo>
                  <a:pt x="572" y="426"/>
                </a:lnTo>
                <a:lnTo>
                  <a:pt x="551" y="410"/>
                </a:lnTo>
                <a:lnTo>
                  <a:pt x="532" y="395"/>
                </a:lnTo>
                <a:lnTo>
                  <a:pt x="512" y="379"/>
                </a:lnTo>
                <a:lnTo>
                  <a:pt x="473" y="346"/>
                </a:lnTo>
                <a:lnTo>
                  <a:pt x="436" y="312"/>
                </a:lnTo>
                <a:lnTo>
                  <a:pt x="399" y="277"/>
                </a:lnTo>
                <a:lnTo>
                  <a:pt x="361" y="242"/>
                </a:lnTo>
                <a:lnTo>
                  <a:pt x="323" y="208"/>
                </a:lnTo>
                <a:lnTo>
                  <a:pt x="284" y="177"/>
                </a:lnTo>
                <a:lnTo>
                  <a:pt x="267" y="164"/>
                </a:lnTo>
                <a:lnTo>
                  <a:pt x="250" y="153"/>
                </a:lnTo>
                <a:lnTo>
                  <a:pt x="232" y="142"/>
                </a:lnTo>
                <a:lnTo>
                  <a:pt x="214" y="131"/>
                </a:lnTo>
                <a:lnTo>
                  <a:pt x="177" y="109"/>
                </a:lnTo>
                <a:lnTo>
                  <a:pt x="139" y="90"/>
                </a:lnTo>
                <a:lnTo>
                  <a:pt x="101" y="69"/>
                </a:lnTo>
                <a:lnTo>
                  <a:pt x="65" y="47"/>
                </a:lnTo>
                <a:lnTo>
                  <a:pt x="47" y="37"/>
                </a:lnTo>
                <a:lnTo>
                  <a:pt x="30" y="25"/>
                </a:lnTo>
                <a:lnTo>
                  <a:pt x="15" y="13"/>
                </a:lnTo>
                <a:lnTo>
                  <a:pt x="0" y="0"/>
                </a:lnTo>
                <a:lnTo>
                  <a:pt x="36" y="33"/>
                </a:lnTo>
                <a:lnTo>
                  <a:pt x="70" y="68"/>
                </a:lnTo>
                <a:lnTo>
                  <a:pt x="103" y="103"/>
                </a:lnTo>
                <a:lnTo>
                  <a:pt x="133" y="137"/>
                </a:lnTo>
                <a:lnTo>
                  <a:pt x="193" y="205"/>
                </a:lnTo>
                <a:lnTo>
                  <a:pt x="252" y="271"/>
                </a:lnTo>
                <a:lnTo>
                  <a:pt x="282" y="304"/>
                </a:lnTo>
                <a:lnTo>
                  <a:pt x="313" y="335"/>
                </a:lnTo>
                <a:lnTo>
                  <a:pt x="346" y="366"/>
                </a:lnTo>
                <a:lnTo>
                  <a:pt x="381" y="395"/>
                </a:lnTo>
                <a:lnTo>
                  <a:pt x="398" y="409"/>
                </a:lnTo>
                <a:lnTo>
                  <a:pt x="416" y="423"/>
                </a:lnTo>
                <a:lnTo>
                  <a:pt x="436" y="438"/>
                </a:lnTo>
                <a:lnTo>
                  <a:pt x="457" y="451"/>
                </a:lnTo>
                <a:lnTo>
                  <a:pt x="477" y="464"/>
                </a:lnTo>
                <a:lnTo>
                  <a:pt x="499" y="477"/>
                </a:lnTo>
                <a:lnTo>
                  <a:pt x="521" y="490"/>
                </a:lnTo>
                <a:lnTo>
                  <a:pt x="545" y="502"/>
                </a:lnTo>
                <a:lnTo>
                  <a:pt x="585" y="520"/>
                </a:lnTo>
                <a:lnTo>
                  <a:pt x="625" y="539"/>
                </a:lnTo>
                <a:lnTo>
                  <a:pt x="666" y="557"/>
                </a:lnTo>
                <a:lnTo>
                  <a:pt x="708" y="573"/>
                </a:lnTo>
                <a:lnTo>
                  <a:pt x="792" y="607"/>
                </a:lnTo>
                <a:lnTo>
                  <a:pt x="876" y="641"/>
                </a:lnTo>
                <a:lnTo>
                  <a:pt x="917" y="658"/>
                </a:lnTo>
                <a:lnTo>
                  <a:pt x="958" y="675"/>
                </a:lnTo>
                <a:lnTo>
                  <a:pt x="999" y="695"/>
                </a:lnTo>
                <a:lnTo>
                  <a:pt x="1039" y="715"/>
                </a:lnTo>
                <a:lnTo>
                  <a:pt x="1080" y="735"/>
                </a:lnTo>
                <a:lnTo>
                  <a:pt x="1119" y="758"/>
                </a:lnTo>
                <a:lnTo>
                  <a:pt x="1157" y="782"/>
                </a:lnTo>
                <a:lnTo>
                  <a:pt x="1194" y="808"/>
                </a:lnTo>
                <a:lnTo>
                  <a:pt x="1158" y="782"/>
                </a:lnTo>
                <a:lnTo>
                  <a:pt x="1122" y="758"/>
                </a:lnTo>
                <a:lnTo>
                  <a:pt x="1085" y="734"/>
                </a:lnTo>
                <a:lnTo>
                  <a:pt x="1048" y="710"/>
                </a:lnTo>
                <a:lnTo>
                  <a:pt x="972" y="665"/>
                </a:lnTo>
                <a:lnTo>
                  <a:pt x="896" y="619"/>
                </a:lnTo>
                <a:lnTo>
                  <a:pt x="819" y="576"/>
                </a:lnTo>
                <a:lnTo>
                  <a:pt x="743" y="531"/>
                </a:lnTo>
                <a:lnTo>
                  <a:pt x="667" y="486"/>
                </a:lnTo>
                <a:lnTo>
                  <a:pt x="593" y="440"/>
                </a:lnTo>
                <a:close/>
              </a:path>
            </a:pathLst>
          </a:custGeom>
          <a:solidFill>
            <a:srgbClr val="ec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 flipH="1">
            <a:off x="8388000" y="5661000"/>
            <a:ext cx="755640" cy="100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55640" y="909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EFD3-1E78-4EEF-BCA1-7B41E3864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ff0000">
                  <a:alpha val="32156"/>
                </a:srgbClr>
              </a:gs>
              <a:gs pos="100000">
                <a:srgbClr val="a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919560" y="-296640"/>
            <a:ext cx="2055960" cy="1887120"/>
            <a:chOff x="6919560" y="-296640"/>
            <a:chExt cx="2055960" cy="1887120"/>
          </a:xfrm>
        </p:grpSpPr>
        <p:sp>
          <p:nvSpPr>
            <p:cNvPr id="254" name=""/>
            <p:cNvSpPr/>
            <p:nvPr/>
          </p:nvSpPr>
          <p:spPr>
            <a:xfrm flipH="1" rot="15880800">
              <a:off x="8216640" y="514080"/>
              <a:ext cx="716400" cy="469440"/>
            </a:xfrm>
            <a:custGeom>
              <a:avLst/>
              <a:gdLst>
                <a:gd name="textAreaLeft" fmla="*/ 168120 w 716400"/>
                <a:gd name="textAreaRight" fmla="*/ 547560 w 716400"/>
                <a:gd name="textAreaTop" fmla="*/ 55080 h 469440"/>
                <a:gd name="textAreaBottom" fmla="*/ 294480 h 4694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47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rot="13315800">
              <a:off x="8516880" y="1012680"/>
              <a:ext cx="282240" cy="554400"/>
            </a:xfrm>
            <a:custGeom>
              <a:avLst/>
              <a:gdLst>
                <a:gd name="textAreaLeft" fmla="*/ 66600 w 282240"/>
                <a:gd name="textAreaRight" fmla="*/ 216000 w 282240"/>
                <a:gd name="textAreaTop" fmla="*/ 65160 h 554400"/>
                <a:gd name="textAreaBottom" fmla="*/ 347760 h 5544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2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8870600">
              <a:off x="8008200" y="477720"/>
              <a:ext cx="334080" cy="187560"/>
            </a:xfrm>
            <a:custGeom>
              <a:avLst/>
              <a:gdLst>
                <a:gd name="textAreaLeft" fmla="*/ 78480 w 334080"/>
                <a:gd name="textAreaRight" fmla="*/ 255600 w 334080"/>
                <a:gd name="textAreaTop" fmla="*/ 21960 h 187560"/>
                <a:gd name="textAreaBottom" fmla="*/ 117720 h 187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77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rot="14734200">
              <a:off x="8037000" y="827280"/>
              <a:ext cx="238680" cy="156600"/>
            </a:xfrm>
            <a:custGeom>
              <a:avLst/>
              <a:gdLst>
                <a:gd name="textAreaLeft" fmla="*/ 56160 w 238680"/>
                <a:gd name="textAreaRight" fmla="*/ 182520 w 238680"/>
                <a:gd name="textAreaTop" fmla="*/ 18360 h 156600"/>
                <a:gd name="textAreaBottom" fmla="*/ 98280 h 1566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38160">
              <a:solidFill>
                <a:srgbClr val="ff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8885600">
              <a:off x="8653680" y="370800"/>
              <a:ext cx="285840" cy="218880"/>
            </a:xfrm>
            <a:custGeom>
              <a:avLst/>
              <a:gdLst>
                <a:gd name="textAreaLeft" fmla="*/ 67320 w 285840"/>
                <a:gd name="textAreaRight" fmla="*/ 218880 w 285840"/>
                <a:gd name="textAreaTop" fmla="*/ 25560 h 218880"/>
                <a:gd name="textAreaBottom" fmla="*/ 137160 h 2188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noFill/>
            <a:ln w="38160">
              <a:solidFill>
                <a:srgbClr val="ff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3315800">
              <a:off x="7632360" y="249480"/>
              <a:ext cx="62280" cy="144000"/>
            </a:xfrm>
            <a:custGeom>
              <a:avLst/>
              <a:gdLst>
                <a:gd name="textAreaLeft" fmla="*/ 14040 w 62280"/>
                <a:gd name="textAreaRight" fmla="*/ 47160 w 62280"/>
                <a:gd name="textAreaTop" fmla="*/ 16920 h 144000"/>
                <a:gd name="textAreaBottom" fmla="*/ 90360 h 14400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21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8519600">
              <a:off x="7819200" y="268560"/>
              <a:ext cx="176760" cy="103320"/>
            </a:xfrm>
            <a:custGeom>
              <a:avLst/>
              <a:gdLst>
                <a:gd name="textAreaLeft" fmla="*/ 41400 w 176760"/>
                <a:gd name="textAreaRight" fmla="*/ 135360 w 176760"/>
                <a:gd name="textAreaTop" fmla="*/ 11880 h 103320"/>
                <a:gd name="textAreaBottom" fmla="*/ 64800 h 1033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73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rot="18791400">
              <a:off x="7450560" y="268200"/>
              <a:ext cx="119880" cy="47520"/>
            </a:xfrm>
            <a:custGeom>
              <a:avLst/>
              <a:gdLst>
                <a:gd name="textAreaLeft" fmla="*/ 28080 w 119880"/>
                <a:gd name="textAreaRight" fmla="*/ 91800 w 119880"/>
                <a:gd name="textAreaTop" fmla="*/ 5400 h 47520"/>
                <a:gd name="textAreaBottom" fmla="*/ 29880 h 475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gradFill rotWithShape="0">
              <a:gsLst>
                <a:gs pos="0">
                  <a:srgbClr val="db0000">
                    <a:alpha val="63137"/>
                  </a:srgbClr>
                </a:gs>
                <a:gs pos="100000">
                  <a:srgbClr val="ff0000">
                    <a:alpha val="19215"/>
                  </a:srgbClr>
                </a:gs>
              </a:gsLst>
              <a:lin ang="76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6560600">
              <a:off x="7219440" y="146880"/>
              <a:ext cx="475560" cy="1031400"/>
            </a:xfrm>
            <a:custGeom>
              <a:avLst/>
              <a:gdLst/>
              <a:ahLst/>
              <a:rect l="l" t="t" r="r" b="b"/>
              <a:pathLst>
                <a:path w="2305" h="1994">
                  <a:moveTo>
                    <a:pt x="2042" y="249"/>
                  </a:moveTo>
                  <a:cubicBezTo>
                    <a:pt x="1993" y="279"/>
                    <a:pt x="1895" y="343"/>
                    <a:pt x="1743" y="427"/>
                  </a:cubicBezTo>
                  <a:cubicBezTo>
                    <a:pt x="1591" y="511"/>
                    <a:pt x="1187" y="572"/>
                    <a:pt x="1130" y="755"/>
                  </a:cubicBezTo>
                  <a:cubicBezTo>
                    <a:pt x="1073" y="938"/>
                    <a:pt x="1588" y="1322"/>
                    <a:pt x="1402" y="1526"/>
                  </a:cubicBezTo>
                  <a:cubicBezTo>
                    <a:pt x="1216" y="1730"/>
                    <a:pt x="0" y="1960"/>
                    <a:pt x="15" y="1977"/>
                  </a:cubicBezTo>
                  <a:cubicBezTo>
                    <a:pt x="30" y="1994"/>
                    <a:pt x="1305" y="1827"/>
                    <a:pt x="1494" y="1629"/>
                  </a:cubicBezTo>
                  <a:cubicBezTo>
                    <a:pt x="1683" y="1431"/>
                    <a:pt x="1080" y="1000"/>
                    <a:pt x="1149" y="791"/>
                  </a:cubicBezTo>
                  <a:cubicBezTo>
                    <a:pt x="1218" y="582"/>
                    <a:pt x="1714" y="509"/>
                    <a:pt x="1907" y="377"/>
                  </a:cubicBezTo>
                  <a:cubicBezTo>
                    <a:pt x="2100" y="245"/>
                    <a:pt x="2222" y="79"/>
                    <a:pt x="2305" y="0"/>
                  </a:cubicBezTo>
                </a:path>
              </a:pathLst>
            </a:custGeom>
            <a:solidFill>
              <a:srgbClr val="ff0000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2327400">
              <a:off x="7519320" y="-248760"/>
              <a:ext cx="705600" cy="1572120"/>
            </a:xfrm>
            <a:custGeom>
              <a:avLst/>
              <a:gdLst/>
              <a:ahLst/>
              <a:rect l="l" t="t" r="r" b="b"/>
              <a:pathLst>
                <a:path w="2305" h="1994">
                  <a:moveTo>
                    <a:pt x="2042" y="249"/>
                  </a:moveTo>
                  <a:cubicBezTo>
                    <a:pt x="1993" y="279"/>
                    <a:pt x="1895" y="343"/>
                    <a:pt x="1743" y="427"/>
                  </a:cubicBezTo>
                  <a:cubicBezTo>
                    <a:pt x="1591" y="511"/>
                    <a:pt x="1187" y="572"/>
                    <a:pt x="1130" y="755"/>
                  </a:cubicBezTo>
                  <a:cubicBezTo>
                    <a:pt x="1073" y="938"/>
                    <a:pt x="1588" y="1322"/>
                    <a:pt x="1402" y="1526"/>
                  </a:cubicBezTo>
                  <a:cubicBezTo>
                    <a:pt x="1216" y="1730"/>
                    <a:pt x="0" y="1960"/>
                    <a:pt x="15" y="1977"/>
                  </a:cubicBezTo>
                  <a:cubicBezTo>
                    <a:pt x="30" y="1994"/>
                    <a:pt x="1305" y="1827"/>
                    <a:pt x="1494" y="1629"/>
                  </a:cubicBezTo>
                  <a:cubicBezTo>
                    <a:pt x="1683" y="1431"/>
                    <a:pt x="1080" y="1000"/>
                    <a:pt x="1149" y="791"/>
                  </a:cubicBezTo>
                  <a:cubicBezTo>
                    <a:pt x="1218" y="582"/>
                    <a:pt x="1714" y="509"/>
                    <a:pt x="1907" y="377"/>
                  </a:cubicBezTo>
                  <a:cubicBezTo>
                    <a:pt x="2100" y="245"/>
                    <a:pt x="2222" y="79"/>
                    <a:pt x="2305" y="0"/>
                  </a:cubicBezTo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75465e"/>
                </a:gs>
              </a:gsLst>
              <a:lin ang="1963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290760" y="1020600"/>
            <a:ext cx="238320" cy="160560"/>
          </a:xfrm>
          <a:custGeom>
            <a:avLst/>
            <a:gdLst/>
            <a:ahLst/>
            <a:rect l="l" t="t" r="r" b="b"/>
            <a:pathLst>
              <a:path w="1194" h="808">
                <a:moveTo>
                  <a:pt x="593" y="440"/>
                </a:moveTo>
                <a:lnTo>
                  <a:pt x="572" y="426"/>
                </a:lnTo>
                <a:lnTo>
                  <a:pt x="551" y="410"/>
                </a:lnTo>
                <a:lnTo>
                  <a:pt x="532" y="395"/>
                </a:lnTo>
                <a:lnTo>
                  <a:pt x="512" y="379"/>
                </a:lnTo>
                <a:lnTo>
                  <a:pt x="473" y="346"/>
                </a:lnTo>
                <a:lnTo>
                  <a:pt x="436" y="312"/>
                </a:lnTo>
                <a:lnTo>
                  <a:pt x="399" y="277"/>
                </a:lnTo>
                <a:lnTo>
                  <a:pt x="361" y="242"/>
                </a:lnTo>
                <a:lnTo>
                  <a:pt x="323" y="208"/>
                </a:lnTo>
                <a:lnTo>
                  <a:pt x="284" y="177"/>
                </a:lnTo>
                <a:lnTo>
                  <a:pt x="267" y="164"/>
                </a:lnTo>
                <a:lnTo>
                  <a:pt x="250" y="153"/>
                </a:lnTo>
                <a:lnTo>
                  <a:pt x="232" y="142"/>
                </a:lnTo>
                <a:lnTo>
                  <a:pt x="214" y="131"/>
                </a:lnTo>
                <a:lnTo>
                  <a:pt x="177" y="109"/>
                </a:lnTo>
                <a:lnTo>
                  <a:pt x="139" y="90"/>
                </a:lnTo>
                <a:lnTo>
                  <a:pt x="101" y="69"/>
                </a:lnTo>
                <a:lnTo>
                  <a:pt x="65" y="47"/>
                </a:lnTo>
                <a:lnTo>
                  <a:pt x="47" y="37"/>
                </a:lnTo>
                <a:lnTo>
                  <a:pt x="30" y="25"/>
                </a:lnTo>
                <a:lnTo>
                  <a:pt x="15" y="13"/>
                </a:lnTo>
                <a:lnTo>
                  <a:pt x="0" y="0"/>
                </a:lnTo>
                <a:lnTo>
                  <a:pt x="36" y="33"/>
                </a:lnTo>
                <a:lnTo>
                  <a:pt x="70" y="68"/>
                </a:lnTo>
                <a:lnTo>
                  <a:pt x="103" y="103"/>
                </a:lnTo>
                <a:lnTo>
                  <a:pt x="133" y="137"/>
                </a:lnTo>
                <a:lnTo>
                  <a:pt x="193" y="205"/>
                </a:lnTo>
                <a:lnTo>
                  <a:pt x="252" y="271"/>
                </a:lnTo>
                <a:lnTo>
                  <a:pt x="282" y="304"/>
                </a:lnTo>
                <a:lnTo>
                  <a:pt x="313" y="335"/>
                </a:lnTo>
                <a:lnTo>
                  <a:pt x="346" y="366"/>
                </a:lnTo>
                <a:lnTo>
                  <a:pt x="381" y="395"/>
                </a:lnTo>
                <a:lnTo>
                  <a:pt x="398" y="409"/>
                </a:lnTo>
                <a:lnTo>
                  <a:pt x="416" y="423"/>
                </a:lnTo>
                <a:lnTo>
                  <a:pt x="436" y="438"/>
                </a:lnTo>
                <a:lnTo>
                  <a:pt x="457" y="451"/>
                </a:lnTo>
                <a:lnTo>
                  <a:pt x="477" y="464"/>
                </a:lnTo>
                <a:lnTo>
                  <a:pt x="499" y="477"/>
                </a:lnTo>
                <a:lnTo>
                  <a:pt x="521" y="490"/>
                </a:lnTo>
                <a:lnTo>
                  <a:pt x="545" y="502"/>
                </a:lnTo>
                <a:lnTo>
                  <a:pt x="585" y="520"/>
                </a:lnTo>
                <a:lnTo>
                  <a:pt x="625" y="539"/>
                </a:lnTo>
                <a:lnTo>
                  <a:pt x="666" y="557"/>
                </a:lnTo>
                <a:lnTo>
                  <a:pt x="708" y="573"/>
                </a:lnTo>
                <a:lnTo>
                  <a:pt x="792" y="607"/>
                </a:lnTo>
                <a:lnTo>
                  <a:pt x="876" y="641"/>
                </a:lnTo>
                <a:lnTo>
                  <a:pt x="917" y="658"/>
                </a:lnTo>
                <a:lnTo>
                  <a:pt x="958" y="675"/>
                </a:lnTo>
                <a:lnTo>
                  <a:pt x="999" y="695"/>
                </a:lnTo>
                <a:lnTo>
                  <a:pt x="1039" y="715"/>
                </a:lnTo>
                <a:lnTo>
                  <a:pt x="1080" y="735"/>
                </a:lnTo>
                <a:lnTo>
                  <a:pt x="1119" y="758"/>
                </a:lnTo>
                <a:lnTo>
                  <a:pt x="1157" y="782"/>
                </a:lnTo>
                <a:lnTo>
                  <a:pt x="1194" y="808"/>
                </a:lnTo>
                <a:lnTo>
                  <a:pt x="1158" y="782"/>
                </a:lnTo>
                <a:lnTo>
                  <a:pt x="1122" y="758"/>
                </a:lnTo>
                <a:lnTo>
                  <a:pt x="1085" y="734"/>
                </a:lnTo>
                <a:lnTo>
                  <a:pt x="1048" y="710"/>
                </a:lnTo>
                <a:lnTo>
                  <a:pt x="972" y="665"/>
                </a:lnTo>
                <a:lnTo>
                  <a:pt x="896" y="619"/>
                </a:lnTo>
                <a:lnTo>
                  <a:pt x="819" y="576"/>
                </a:lnTo>
                <a:lnTo>
                  <a:pt x="743" y="531"/>
                </a:lnTo>
                <a:lnTo>
                  <a:pt x="667" y="486"/>
                </a:lnTo>
                <a:lnTo>
                  <a:pt x="593" y="440"/>
                </a:lnTo>
                <a:close/>
              </a:path>
            </a:pathLst>
          </a:custGeom>
          <a:solidFill>
            <a:srgbClr val="ece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0T00:28:26Z</dcterms:created>
  <dc:creator>微软用户</dc:creator>
  <dc:description/>
  <dc:language>en-US</dc:language>
  <cp:lastModifiedBy>微软用户</cp:lastModifiedBy>
  <dcterms:modified xsi:type="dcterms:W3CDTF">2015-07-11T15:43:4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