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81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83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2828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81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483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257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25000"/>
              <a:buFont typeface="Wingdings" charset="2"/>
              <a:buChar char=""/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25000"/>
              <a:buFont typeface="Wingdings" charset="2"/>
              <a:buChar char=""/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25000"/>
              <a:buFont typeface="Wingdings" charset="2"/>
              <a:buChar char=""/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25000"/>
              <a:buFont typeface="Wingdings" charset="2"/>
              <a:buChar char=""/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25000"/>
              <a:buFont typeface="Wingdings" charset="2"/>
              <a:buChar char=""/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Wingdings" charset="2"/>
              <a:buChar char=""/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Wingdings" charset="2"/>
              <a:buChar char=""/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2282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CR A Extended"/>
                <a:ea typeface="宋体"/>
              </a:rPr>
              <a:t>Binary Presentation</a:t>
            </a:r>
            <a:endParaRPr b="0" lang="en-US" sz="32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124080" y="1752120"/>
            <a:ext cx="6019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  <a:ea typeface="宋体"/>
              </a:rPr>
              <a:t>Add subtitles here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pic>
        <p:nvPicPr>
          <p:cNvPr id="40" name="Picture 4" descr="Z:\newtek\_backgrounds_1.02\Ryan\Power Point Templates\Binary Presentation\sphere_rotating.gif"/>
          <p:cNvPicPr/>
          <p:nvPr/>
        </p:nvPicPr>
        <p:blipFill>
          <a:blip r:embed="rId2"/>
          <a:stretch/>
        </p:blipFill>
        <p:spPr>
          <a:xfrm>
            <a:off x="8381880" y="5772240"/>
            <a:ext cx="762120" cy="5713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900000" y="4221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20040" y="3200400"/>
            <a:ext cx="390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灰色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CR A Extended"/>
                <a:ea typeface="宋体"/>
              </a:rPr>
              <a:t>Second Title Page</a:t>
            </a:r>
            <a:endParaRPr b="0" lang="en-US" sz="32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25000"/>
              <a:buFont typeface="Wingdings" charset="2"/>
              <a:buChar char=""/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  <a:ea typeface="宋体"/>
              </a:rPr>
              <a:t>Add Subtitles here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5" name=""/>
          <p:cNvSpPr/>
          <p:nvPr/>
        </p:nvSpPr>
        <p:spPr>
          <a:xfrm>
            <a:off x="1260360" y="39337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OCR A Extended"/>
              </a:rPr>
              <a:t>使用规范说明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OCR A Extended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OCR A Extended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OCR A Extended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OCR A Extende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OCR A Extended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OCR A Extende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OCR A Extende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OCR A Extended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OCR A Extend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2T05:38:00Z</dcterms:created>
  <dc:creator>An</dc:creator>
  <dc:description/>
  <dc:language>en-US</dc:language>
  <cp:lastModifiedBy/>
  <dcterms:modified xsi:type="dcterms:W3CDTF">2015-07-11T07:09:1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