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29F-2C93-40E8-AB82-217FAE06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E16-41CB-4D49-BA44-F81E100D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C3D-0692-442F-A283-5AEAD488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30A-5E4D-420E-9FB6-5DE80A35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F8A-F437-4BC7-8CFB-9EAB5A03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62D-3955-48E4-8979-BA2EF7A8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4C1-178C-443A-8B4A-8918DDBF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839-A95C-4189-8A8D-6FC7E1E4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AC8-0BFF-4235-8F85-160EEA0C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1BA-D8E6-49FB-91CE-12819342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9F2-935E-4212-9A80-0FC4C215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51B-7A2C-4E74-9D56-EBC9FA9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A997-A576-4D0F-A9E2-388D7E5B029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7C86-D296-4E73-977C-E8F2B7E169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9" descr=""/>
          <p:cNvPicPr/>
          <p:nvPr/>
        </p:nvPicPr>
        <p:blipFill>
          <a:blip r:embed="rId2"/>
          <a:stretch/>
        </p:blipFill>
        <p:spPr>
          <a:xfrm>
            <a:off x="5508720" y="1509840"/>
            <a:ext cx="3476520" cy="51591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"/>
          <p:cNvPicPr/>
          <p:nvPr/>
        </p:nvPicPr>
        <p:blipFill>
          <a:blip r:embed="rId3"/>
          <a:stretch/>
        </p:blipFill>
        <p:spPr>
          <a:xfrm>
            <a:off x="324000" y="3583080"/>
            <a:ext cx="4032000" cy="306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6" name="图片 11" descr=""/>
          <p:cNvPicPr/>
          <p:nvPr/>
        </p:nvPicPr>
        <p:blipFill>
          <a:blip r:embed="rId4"/>
          <a:stretch/>
        </p:blipFill>
        <p:spPr>
          <a:xfrm>
            <a:off x="252360" y="765000"/>
            <a:ext cx="4083120" cy="2724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629080" y="1413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0280" y="693720"/>
            <a:ext cx="42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接电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DE6-75CF-45BD-BB73-6CC324EBC6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lenovo</cp:lastModifiedBy>
  <dcterms:modified xsi:type="dcterms:W3CDTF">2015-07-11T15:43:54Z</dcterms:modified>
  <cp:revision>945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