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4FC-0671-4A97-ABC0-CA4BD756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D78-46BB-47D8-9948-49CEBCB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32C-14C0-408D-94EF-8B05C7E6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A4A-3F31-487F-84F8-8ACDB0A3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5C6-4309-42C0-A2C2-1C7989A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810-EF1B-41F2-96BA-93C8683F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1CB-F500-4BF2-950A-AF00FEC7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059-9E2C-42AD-8F63-CB634B36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6D5-D1E7-4147-864D-DC4746BB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4C1-4AED-47B5-A2DD-16D140D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A47-8AEF-4EA5-9693-D1C25A7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4EA-2B6B-4059-AF56-10883F3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D1C-1D9F-4CB8-818B-BF100092F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liyongbo\Desktop\mbkp\模板-0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7040" y="16905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873320" y="770040"/>
            <a:ext cx="28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简单是种艺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liyongbo\Desktop\mbkp\模板-0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liyongbo\Desktop\mbkp\模板-0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liyongbo\Desktop\mbkp\模板-0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liyongbo\Desktop\mbkp\模板-0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liyongbo\Desktop\mbkp\模板-0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E6D-3861-4136-9023-E64E844FCD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liyongbo\Desktop\mbkp\模板-06.jpg"/>
          <p:cNvPicPr/>
          <p:nvPr/>
        </p:nvPicPr>
        <p:blipFill>
          <a:blip r:embed="rId1"/>
          <a:stretch/>
        </p:blipFill>
        <p:spPr>
          <a:xfrm>
            <a:off x="-12600" y="-12600"/>
            <a:ext cx="12190320" cy="6872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liyongbo\Desktop\mbkp\模板-08.jpg"/>
          <p:cNvPicPr/>
          <p:nvPr/>
        </p:nvPicPr>
        <p:blipFill>
          <a:blip r:embed="rId1"/>
          <a:srcRect l="115" t="0" r="0" b="0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liyongbo\Desktop\mbkp\模板-09.jpg"/>
          <p:cNvPicPr/>
          <p:nvPr/>
        </p:nvPicPr>
        <p:blipFill>
          <a:blip r:embed="rId1"/>
          <a:stretch/>
        </p:blipFill>
        <p:spPr>
          <a:xfrm>
            <a:off x="0" y="-4680"/>
            <a:ext cx="121921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28:21Z</dcterms:created>
  <dc:creator>An</dc:creator>
  <dc:description/>
  <dc:language>en-US</dc:language>
  <cp:lastModifiedBy/>
  <dcterms:modified xsi:type="dcterms:W3CDTF">2015-07-11T07:10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