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525-8445-458D-B5F0-5E797EFD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716-E256-45F1-9C44-A0E6D8AB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3644-7342-418C-BA32-1CFC108E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7812-EFE4-406C-A20C-42F5C702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87E-2E81-4F1F-95B7-90BB83F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A69-6609-416E-A404-17340568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26A-6BEE-4DCB-BA28-AAF88674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42A3-95BB-4FE8-BF7E-95D92AD3B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35E5-F694-419E-9515-4B53970E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28F-0443-4879-9A82-111A1F79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E06A-D1C4-4793-A71A-FA5324E0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30FF-046F-4B9C-8DB2-17D52F9C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E3C1-5EF4-49E4-8C4D-E834A2676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270828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酒店业职业介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3573360"/>
            <a:ext cx="8351640" cy="0"/>
          </a:xfrm>
          <a:prstGeom prst="line">
            <a:avLst/>
          </a:prstGeom>
          <a:ln w="28440">
            <a:solidFill>
              <a:srgbClr val="8181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407664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8480" y="762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電話接線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5720" y="129384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Telephone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14800" y="2057400"/>
            <a:ext cx="283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Services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29120" y="2743200"/>
            <a:ext cx="300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主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Services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34560" y="3429000"/>
            <a:ext cx="199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電話接線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Telephone 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operator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733920" cy="312732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u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74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87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031760" y="75888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你能勝任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1760" y="13064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Are you Qual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78120" y="1905120"/>
            <a:ext cx="452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Personality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性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Pleasant &amp; Courteous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友善及有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Helpful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樂於助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Adaptab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易於適應各種工作環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Decisiv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思考敏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With a sense of humour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富幽默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66600" y="4724280"/>
            <a:ext cx="39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Appearance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儀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Presentab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大方得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With Friendly Smil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笑容可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74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44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31760" y="75888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你能勝任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1760" y="1293840"/>
            <a:ext cx="28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華康中黑體"/>
              </a:rPr>
              <a:t>Are you Qual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1760" y="2470320"/>
            <a:ext cx="668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Education &amp; Skill 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  <a:ea typeface="華康中黑體"/>
              </a:rPr>
              <a:t>學歷及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From 3 Standard or Abov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中三程度或以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Vocational Training Preferred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有專業訓練為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Good Spoken English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良好英文水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Ability to speak another language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華康中黑體"/>
              </a:rPr>
              <a:t>能操其他外語更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especially for you" descr=""/>
          <p:cNvPicPr/>
          <p:nvPr/>
        </p:nvPicPr>
        <p:blipFill>
          <a:blip r:embed="rId1"/>
          <a:stretch/>
        </p:blipFill>
        <p:spPr>
          <a:xfrm>
            <a:off x="3200400" y="2066760"/>
            <a:ext cx="2743200" cy="2724480"/>
          </a:xfrm>
          <a:prstGeom prst="rect">
            <a:avLst/>
          </a:prstGeom>
          <a:ln w="0">
            <a:noFill/>
          </a:ln>
        </p:spPr>
      </p:pic>
      <p:pic>
        <p:nvPicPr>
          <p:cNvPr id="134" name="look at this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895400" cy="1551240"/>
          </a:xfrm>
          <a:prstGeom prst="rect">
            <a:avLst/>
          </a:prstGeom>
          <a:ln w="0">
            <a:noFill/>
          </a:ln>
        </p:spPr>
      </p:pic>
      <p:pic>
        <p:nvPicPr>
          <p:cNvPr id="135" name="career development" descr=""/>
          <p:cNvPicPr/>
          <p:nvPr/>
        </p:nvPicPr>
        <p:blipFill>
          <a:blip r:embed="rId3"/>
          <a:stretch/>
        </p:blipFill>
        <p:spPr>
          <a:xfrm>
            <a:off x="0" y="0"/>
            <a:ext cx="2630520" cy="2622600"/>
          </a:xfrm>
          <a:prstGeom prst="rect">
            <a:avLst/>
          </a:prstGeom>
          <a:ln w="0">
            <a:noFill/>
          </a:ln>
        </p:spPr>
      </p:pic>
      <p:pic>
        <p:nvPicPr>
          <p:cNvPr id="136" name="education &amp; training" descr=""/>
          <p:cNvPicPr/>
          <p:nvPr/>
        </p:nvPicPr>
        <p:blipFill>
          <a:blip r:embed="rId4"/>
          <a:stretch/>
        </p:blipFill>
        <p:spPr>
          <a:xfrm>
            <a:off x="609480" y="212256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37" name="grantuity" descr=""/>
          <p:cNvPicPr/>
          <p:nvPr/>
        </p:nvPicPr>
        <p:blipFill>
          <a:blip r:embed="rId5"/>
          <a:stretch/>
        </p:blipFill>
        <p:spPr>
          <a:xfrm>
            <a:off x="228600" y="4208400"/>
            <a:ext cx="2597040" cy="2649600"/>
          </a:xfrm>
          <a:prstGeom prst="rect">
            <a:avLst/>
          </a:prstGeom>
          <a:ln w="0">
            <a:noFill/>
          </a:ln>
        </p:spPr>
      </p:pic>
      <p:pic>
        <p:nvPicPr>
          <p:cNvPr id="138" name="medical scheme" descr=""/>
          <p:cNvPicPr/>
          <p:nvPr/>
        </p:nvPicPr>
        <p:blipFill>
          <a:blip r:embed="rId6"/>
          <a:stretch/>
        </p:blipFill>
        <p:spPr>
          <a:xfrm>
            <a:off x="3255840" y="424512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39" name="meet many faces" descr=""/>
          <p:cNvPicPr/>
          <p:nvPr/>
        </p:nvPicPr>
        <p:blipFill>
          <a:blip r:embed="rId7"/>
          <a:stretch/>
        </p:blipFill>
        <p:spPr>
          <a:xfrm>
            <a:off x="6095880" y="396252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40" name="Pfund" descr=""/>
          <p:cNvPicPr/>
          <p:nvPr/>
        </p:nvPicPr>
        <p:blipFill>
          <a:blip r:embed="rId8"/>
          <a:stretch/>
        </p:blipFill>
        <p:spPr>
          <a:xfrm>
            <a:off x="6629400" y="1828800"/>
            <a:ext cx="2325600" cy="2327400"/>
          </a:xfrm>
          <a:prstGeom prst="rect">
            <a:avLst/>
          </a:prstGeom>
          <a:ln w="0">
            <a:noFill/>
          </a:ln>
        </p:spPr>
      </p:pic>
      <p:pic>
        <p:nvPicPr>
          <p:cNvPr id="141" name="show your competence" descr=""/>
          <p:cNvPicPr/>
          <p:nvPr/>
        </p:nvPicPr>
        <p:blipFill>
          <a:blip r:embed="rId9"/>
          <a:stretch/>
        </p:blipFill>
        <p:spPr>
          <a:xfrm>
            <a:off x="4343400" y="0"/>
            <a:ext cx="2630520" cy="2612880"/>
          </a:xfrm>
          <a:prstGeom prst="rect">
            <a:avLst/>
          </a:prstGeom>
          <a:ln w="0">
            <a:noFill/>
          </a:ln>
        </p:spPr>
      </p:pic>
      <p:pic>
        <p:nvPicPr>
          <p:cNvPr id="142" name="staff activities" descr=""/>
          <p:cNvPicPr/>
          <p:nvPr/>
        </p:nvPicPr>
        <p:blipFill>
          <a:blip r:embed="rId10"/>
          <a:stretch/>
        </p:blipFill>
        <p:spPr>
          <a:xfrm>
            <a:off x="2209680" y="0"/>
            <a:ext cx="259740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ank You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74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Times New Roman"/>
                <a:ea typeface="華康中黑體"/>
              </a:rPr>
              <a:t>歡迎加入酒店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28520" y="2057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"/>
              </a:rPr>
              <a:t>Welcome to Hotel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welcom" descr=""/>
          <p:cNvPicPr/>
          <p:nvPr/>
        </p:nvPicPr>
        <p:blipFill>
          <a:blip r:embed="rId2"/>
          <a:stretch/>
        </p:blipFill>
        <p:spPr>
          <a:xfrm>
            <a:off x="3251160" y="2971800"/>
            <a:ext cx="2639880" cy="3392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743200" y="380880"/>
            <a:ext cx="3657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酒店部門架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86280" y="1066680"/>
            <a:ext cx="297180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總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760920"/>
            <a:ext cx="114300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營業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ing &amp;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37609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客務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nt Off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7609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飲食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od &amp; Be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3760920"/>
            <a:ext cx="152424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管家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3760920"/>
            <a:ext cx="106668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保安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3760920"/>
            <a:ext cx="144792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工程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air &amp;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105520"/>
            <a:ext cx="121932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人力資源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5105520"/>
            <a:ext cx="106668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會計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5105520"/>
            <a:ext cx="1066680" cy="95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公關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Re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5105520"/>
            <a:ext cx="137160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採購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5248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29600" y="33526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33526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588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352680"/>
            <a:ext cx="0" cy="1676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2133720"/>
            <a:ext cx="1676160" cy="707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華康中黑體"/>
              </a:rPr>
              <a:t>駐店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p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243828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97180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a50021"/>
                </a:solidFill>
                <a:latin typeface="Times New Roman"/>
                <a:ea typeface="華康中黑體"/>
              </a:rPr>
              <a:t>職位介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侍應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4640" y="129384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Food &amp; Beverage Waiter/Wai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53040" y="2057400"/>
            <a:ext cx="261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飲食部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ood &amp; Beverag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10960" y="2743200"/>
            <a:ext cx="349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飲食部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Food &amp; Beverag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48600" y="3429000"/>
            <a:ext cx="202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餐廳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Restaura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25840" y="4114800"/>
            <a:ext cx="22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Head Waiter / Wai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22440" y="480060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部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ap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3800" y="5486400"/>
            <a:ext cx="1614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侍應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Waiter/Wait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WAITER" descr=""/>
          <p:cNvPicPr/>
          <p:nvPr/>
        </p:nvPicPr>
        <p:blipFill>
          <a:blip r:embed="rId2"/>
          <a:stretch/>
        </p:blipFill>
        <p:spPr>
          <a:xfrm>
            <a:off x="838080" y="2666880"/>
            <a:ext cx="2217960" cy="3886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r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74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722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8560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廚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5000" y="129384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C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658480" y="2057400"/>
            <a:ext cx="15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政總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Executive Ch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68720" y="2743200"/>
            <a:ext cx="112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Sous Ch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6680" y="3429000"/>
            <a:ext cx="65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廚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92240" y="4114800"/>
            <a:ext cx="168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學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pprentice C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ook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2454480" cy="37958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924360" y="6021360"/>
            <a:ext cx="5184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2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74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48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房務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4280" y="129384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Room Att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07400" y="2057400"/>
            <a:ext cx="232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政管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Executive Hous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36200" y="2724120"/>
            <a:ext cx="22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助理管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Housekee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26000" y="339084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總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Head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37520" y="4057560"/>
            <a:ext cx="166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房務領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loor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49760" y="4724280"/>
            <a:ext cx="164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房務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Room Att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ttendant" descr=""/>
          <p:cNvPicPr/>
          <p:nvPr/>
        </p:nvPicPr>
        <p:blipFill>
          <a:blip r:embed="rId2"/>
          <a:stretch/>
        </p:blipFill>
        <p:spPr>
          <a:xfrm>
            <a:off x="838080" y="3048120"/>
            <a:ext cx="3467160" cy="33732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l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74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22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行李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5000" y="129384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Bell Att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33560" y="2057400"/>
            <a:ext cx="163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禮賓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Chief Conci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743200"/>
            <a:ext cx="12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李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Bell Cap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28600" y="3429000"/>
            <a:ext cx="1445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行李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Bell Att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ell attendant" descr=""/>
          <p:cNvPicPr/>
          <p:nvPr/>
        </p:nvPicPr>
        <p:blipFill>
          <a:blip r:embed="rId2"/>
          <a:stretch/>
        </p:blipFill>
        <p:spPr>
          <a:xfrm>
            <a:off x="1295280" y="2666880"/>
            <a:ext cx="1911600" cy="390528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rd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74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22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46440" y="762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接待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5000" y="1293840"/>
            <a:ext cx="43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華康中黑體"/>
              </a:rPr>
              <a:t>Front Desk Clerk / Reception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5840" y="2044800"/>
            <a:ext cx="221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晉升機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華康中黑體"/>
              </a:rPr>
              <a:t>Promotion Opportu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1840" y="2057400"/>
            <a:ext cx="209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大堂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Offic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13000" y="2724120"/>
            <a:ext cx="297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大堂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Front Office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70640" y="3390840"/>
            <a:ext cx="186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副經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Assista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01440" y="4057560"/>
            <a:ext cx="219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款接部主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Desk Supervi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06160" y="4724280"/>
            <a:ext cx="299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款接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華康中黑體"/>
              </a:rPr>
              <a:t>Front Desk Clerk / Reception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INLINE" descr=""/>
          <p:cNvPicPr/>
          <p:nvPr/>
        </p:nvPicPr>
        <p:blipFill>
          <a:blip r:embed="rId2"/>
          <a:stretch/>
        </p:blipFill>
        <p:spPr>
          <a:xfrm>
            <a:off x="838080" y="2819520"/>
            <a:ext cx="3140280" cy="36576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 spd="med">
    <p:pull dir="d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4"/>
                                  </p:iterate>
                                  <p:childTnLst>
                                    <p:set>
                                      <p:cBhvr>
                                        <p:cTn id="3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74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22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3:13:36Z</dcterms:created>
  <dc:creator/>
  <dc:description/>
  <cp:keywords>酒店 职业介绍</cp:keywords>
  <dc:language>en-US</dc:language>
  <cp:lastModifiedBy/>
  <dcterms:modified xsi:type="dcterms:W3CDTF">2015-07-09T13:15:3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