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F4C-A3F1-47EB-B8DA-87CC8C7A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8A24-1197-4478-B729-3DA9C7EF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CDE-161C-4A15-B4CA-202ADE9E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1C0-D069-4273-A715-F972212B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4195-994F-4D59-A224-3E3EFF80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039-BF70-49CF-9B2E-9CE92827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843-59BD-4869-8CEC-27B77131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41E-CC0F-4C38-A2F6-834DE1EC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0800-EA55-4AFF-86E3-CDFA2B83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B711-0045-429F-AADE-07BDCE89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A96C-32C3-4658-98CA-A6DAD3BE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A2B5-C6D0-47EB-8F02-FDB07B4C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95E6-BDB2-45D9-9902-EA024C513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D:\DPT\2003&#32467;&#26500;&#21270;&#23398;&#36873;&#35835;\PDB WWW Home Page.htm" TargetMode="External"/><Relationship Id="rId2" Type="http://schemas.openxmlformats.org/officeDocument/2006/relationships/hyperlink" Target="D:\DPT\2003&#32467;&#26500;&#21270;&#23398;&#36873;&#35835;\Peking University Bioinformatics Homepage.htm" TargetMode="External"/><Relationship Id="rId3" Type="http://schemas.openxmlformats.org/officeDocument/2006/relationships/hyperlink" Target="D:\DPT\2003&#32467;&#26500;&#21270;&#23398;&#36873;&#35835;\The RCSB Protein Data Bank.htm" TargetMode="External"/><Relationship Id="rId4" Type="http://schemas.openxmlformats.org/officeDocument/2006/relationships/hyperlink" Target="D:\DPT\2003&#32467;&#26500;&#21270;&#23398;&#36873;&#35835;\SCOP Structural Classification of Proteins.htm" TargetMode="External"/><Relationship Id="rId5" Type="http://schemas.openxmlformats.org/officeDocument/2006/relationships/hyperlink" Target="D:\DPT\2003&#32467;&#26500;&#21270;&#23398;&#36873;&#35835;\CATH database of structural domains.htm" TargetMode="External"/><Relationship Id="rId6" Type="http://schemas.openxmlformats.org/officeDocument/2006/relationships/hyperlink" Target="D:\DPT\2003&#32467;&#26500;&#21270;&#23398;&#36873;&#35835;\PDBsum.htm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349"/>
              </a:spcBef>
              <a:spcAft>
                <a:spcPts val="20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结构化学选读</a:t>
            </a:r>
            <a:br>
              <a:rPr sz="36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16880" y="2997360"/>
            <a:ext cx="31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765000"/>
            <a:ext cx="71276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蛋白质结构原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种标准氨基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疏水性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a Val Leu Ile Phe Pro M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带电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g Lys Asp Glu (H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极性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 Thr Cys Asn Gln His Tyr Tr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特殊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y (Pr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多肽链状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二硫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YS-S-H + H-S-CYS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YS-S-S-C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84720" y="4005360"/>
            <a:ext cx="3214800" cy="19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1295280"/>
            <a:ext cx="2286000" cy="4302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种标准氨基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疏水性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Ala Val Leu Ile Phe Pro M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带电：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Arg Lys Asp Glu (Hi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极性：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Ser Thr Cys Asn Gln His Tyr Tr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特殊：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Gly (Pr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95280" y="99072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氨基酸的稳定性与后修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2286000"/>
            <a:ext cx="7010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ys, M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, Thr, Ty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1143000"/>
            <a:ext cx="28191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s0.3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s0.2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0.1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ys0.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0.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n0.0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g0.05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n0.0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u0.0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p0.0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a0.0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0.0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1143000"/>
            <a:ext cx="37339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le-0.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r-0.0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-0.0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y-0.0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e-0.1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p-0.1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u-0.1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-0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808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氨基酸残基在活性部位出现的几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课程基本目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生物大分子结构与生物分子识别的基本原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研究生物大分子结构与识别的生物物理化学方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生物大分子结构与生物分子识别研究进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5257800"/>
            <a:ext cx="5334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6094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课程主要内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600200"/>
            <a:ext cx="7086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蛋白质及核酸结构原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蛋白质结构预测方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蛋白质折叠研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用于蛋白质、核酸构象研究的光谱学方法        （紫外、荧光、圆二色光谱等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生物分子识别研究的物理化学方法              （等温滴定量热，超速离心等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 生物大分子结构测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蛋白质及药物分子设计</a:t>
            </a: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052640"/>
            <a:ext cx="3880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蛋白质结构分类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球蛋白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水溶性蛋白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膜蛋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  <a:ea typeface="楷体_GB2312"/>
              </a:rPr>
              <a:t>纤维蛋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09320" y="6858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隶书"/>
              </a:rPr>
              <a:t>蛋白质功能分类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催化功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运输功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营养和贮存功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收缩和运动功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结构功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防御功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调控功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其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蛋白质折叠问题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蛋白质序列、结构、功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781360"/>
            <a:ext cx="2193840" cy="1452600"/>
          </a:xfrm>
          <a:prstGeom prst="ellipse">
            <a:avLst/>
          </a:prstGeom>
          <a:solidFill>
            <a:srgbClr val="ff00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4653000"/>
            <a:ext cx="2194200" cy="1452600"/>
          </a:xfrm>
          <a:prstGeom prst="ellipse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10160" y="4568760"/>
            <a:ext cx="2193840" cy="1452600"/>
          </a:xfrm>
          <a:prstGeom prst="ellipse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131640" y="4114800"/>
            <a:ext cx="360360" cy="574560"/>
          </a:xfrm>
          <a:prstGeom prst="line">
            <a:avLst/>
          </a:prstGeom>
          <a:ln w="381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15000" y="4129200"/>
            <a:ext cx="404640" cy="466560"/>
          </a:xfrm>
          <a:prstGeom prst="line">
            <a:avLst/>
          </a:prstGeom>
          <a:ln w="381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57680" y="5361120"/>
            <a:ext cx="866880" cy="1440"/>
          </a:xfrm>
          <a:prstGeom prst="line">
            <a:avLst/>
          </a:prstGeom>
          <a:ln w="381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321300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序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5084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结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49975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有关的蛋白质结构数据库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蛋白质晶体结构数据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Brookhaven PDB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zh-CN" sz="28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生物信息服务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 u="sng">
                <a:solidFill>
                  <a:srgbClr val="ff0033"/>
                </a:solidFill>
                <a:uFillTx/>
                <a:latin typeface="Times New Roman"/>
                <a:hlinkClick r:id="rId3"/>
              </a:rPr>
              <a:t>RCSB-PDB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rcsb.or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蛋白质结构分类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33"/>
                </a:solidFill>
                <a:uFillTx/>
                <a:latin typeface="Times New Roman"/>
                <a:hlinkClick r:id="rId4"/>
              </a:rPr>
              <a:t>SC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33"/>
                </a:solidFill>
                <a:uFillTx/>
                <a:latin typeface="Times New Roman"/>
                <a:hlinkClick r:id="rId5"/>
              </a:rPr>
              <a:t>C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33"/>
                </a:solidFill>
                <a:uFillTx/>
                <a:latin typeface="Times New Roman"/>
                <a:hlinkClick r:id="rId6"/>
              </a:rPr>
              <a:t>PDBS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880" y="2492280"/>
            <a:ext cx="8763120" cy="2948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3520" y="14479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级结构         二级结构     三级结构                四级结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蛋白质的一级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氨基酸残基由肽键相连成的序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PFSCHEDSGPFCSFPGA?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25:12Z</dcterms:created>
  <dc:creator/>
  <dc:description/>
  <cp:keywords>结构化学 选读</cp:keywords>
  <dc:language>en-US</dc:language>
  <cp:lastModifiedBy/>
  <dcterms:modified xsi:type="dcterms:W3CDTF">2015-07-09T13:26:2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