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jianjie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4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447920" y="1066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cc33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Impact"/>
                <a:ea typeface="宋体"/>
              </a:rPr>
              <a:t>简洁线条</a:t>
            </a:r>
            <a:r>
              <a:rPr b="1" lang="zh-CN" sz="5400" spc="-1" strike="noStrike">
                <a:solidFill>
                  <a:srgbClr val="cc3300"/>
                </a:solidFill>
                <a:latin typeface="Impact"/>
                <a:ea typeface="宋体"/>
              </a:rPr>
              <a:t>PPT</a:t>
            </a:r>
            <a:r>
              <a:rPr b="1" lang="zh-CN" sz="5400" spc="-1" strike="noStrike">
                <a:solidFill>
                  <a:srgbClr val="cc3300"/>
                </a:solidFill>
                <a:latin typeface="Impact"/>
                <a:ea typeface="宋体"/>
              </a:rPr>
              <a:t>模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mpact"/>
                <a:ea typeface="宋体"/>
              </a:rPr>
              <a:t>YOUR 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Impact"/>
                <a:ea typeface="宋体"/>
              </a:rPr>
              <a:t>YOUR SUBTOPIC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7596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mpact"/>
                <a:ea typeface="宋体"/>
              </a:rPr>
              <a:t>TRAN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876920"/>
            <a:ext cx="5756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简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anji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mpact"/>
                <a:ea typeface="宋体"/>
              </a:rPr>
              <a:t>YOUR 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Impact"/>
                <a:ea typeface="宋体"/>
              </a:rPr>
              <a:t>YOUR SUBTOPIC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48769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6705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8954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09880" y="1028880"/>
            <a:ext cx="2286000" cy="17143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324480" y="1028880"/>
            <a:ext cx="2286000" cy="17143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323040" y="3048120"/>
            <a:ext cx="2286000" cy="17143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3808440" y="3048120"/>
            <a:ext cx="2286000" cy="17143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05:03:39Z</dcterms:created>
  <dc:creator>eclipse</dc:creator>
  <dc:description/>
  <dc:language>en-US</dc:language>
  <cp:lastModifiedBy>微软用户</cp:lastModifiedBy>
  <dcterms:modified xsi:type="dcterms:W3CDTF">2015-07-05T07:03:45Z</dcterms:modified>
  <cp:revision>4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