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4C6-263E-4BF3-93A0-9B855D50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AED-8242-4C06-8FD3-0A7F1895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9E4-F1FA-4E2C-BE32-BDFD50FB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6AD-9FE9-4B1E-A04C-06964D9D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F4C1-E896-4579-AF88-7E03E6CC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2D5B-ED8F-4219-BCD7-91B8CFCA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B864-F517-4A1D-9100-F454C0BE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D2CB-E2BD-4D26-840F-9457E8B2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EE04-315D-41D9-A55F-E640C48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E267-E567-45D8-BF7C-8E34F890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F5E9-E4DD-4847-B285-B1F980F1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DA6-B14A-4295-9CD5-5CEA9D3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5667-E1F8-4CAE-968A-7F5D8C3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7945-BF2D-41B2-AAF1-C3F3BDD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74C4-5B7A-4A7D-B5D0-CE7CD4E8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C5D7-2B83-4A33-93AB-4DB92651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F5C0-C628-4EEF-AA4D-92D5B5F5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ED8-611C-4D86-BD6B-B689B368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E4F-636B-4E83-A51B-70F72FD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B6F-1231-4CE3-90A4-C9C06A9C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E61-B32C-45D1-A69E-2CB99DF7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67D-0D0C-4320-A7F9-57C12C2B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6CB-BF84-4677-B083-D1A9A22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2D8-CD4D-4C8D-8D97-35D2F415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7ECF-A3F0-4E2A-8B16-B6326CD8FB90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1465-751F-409F-945B-66E64B44A788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kej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419360"/>
            <a:ext cx="739152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计算机</a:t>
            </a:r>
            <a:r>
              <a:rPr b="0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模板在线下载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5181120"/>
            <a:ext cx="6934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business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business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851040" y="3894120"/>
            <a:ext cx="6242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计算机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952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28954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66880" y="74628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267080" y="7621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867280" y="7621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467480" y="7621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2743920" y="4111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5200" y="4111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960" y="4111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74160" y="4111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6:51:36Z</dcterms:created>
  <dc:creator>eclipse</dc:creator>
  <dc:description/>
  <dc:language>en-US</dc:language>
  <cp:lastModifiedBy>微软用户</cp:lastModifiedBy>
  <dcterms:modified xsi:type="dcterms:W3CDTF">2015-07-05T07:02:17Z</dcterms:modified>
  <cp:revision>2</cp:revision>
  <dc:subject/>
  <dc:title>BUSINESS REL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