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64F-FFF8-4696-B57E-732B540E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278-9CD6-4606-A3E1-83BD778C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496-616F-4F5F-88D4-0B4183DA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AA4-9756-44D1-A3DA-A85B6FA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D54-08E0-464E-869E-9BE92634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22E-F944-4C7F-B963-AA30B832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51A-2F38-4659-9AEB-0AD4A59D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75A-3078-4E14-9912-BA37BD8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B6B-D160-43D7-BA5B-7B5D813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153-AF17-4DFC-8BAC-EB936411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11E-47AA-4FD1-BD6C-BC11D0F3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B90-225B-4AA5-B209-E391334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4BBC-083E-4DC0-B6AC-1EEBF99B125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F43-1BB6-4B74-8E0A-A1367D3C0C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office 2010\PPT\素材管理\PPT图表\PPT图表研究院\作业\小人.png"/>
          <p:cNvPicPr/>
          <p:nvPr/>
        </p:nvPicPr>
        <p:blipFill>
          <a:blip r:embed="rId2"/>
          <a:stretch/>
        </p:blipFill>
        <p:spPr>
          <a:xfrm>
            <a:off x="6516720" y="4092480"/>
            <a:ext cx="797040" cy="12798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47"/>
          <p:cNvGrpSpPr/>
          <p:nvPr/>
        </p:nvGrpSpPr>
        <p:grpSpPr>
          <a:xfrm>
            <a:off x="2851200" y="2383920"/>
            <a:ext cx="4960800" cy="3278880"/>
            <a:chOff x="2851200" y="2383920"/>
            <a:chExt cx="4960800" cy="3278880"/>
          </a:xfrm>
        </p:grpSpPr>
        <p:grpSp>
          <p:nvGrpSpPr>
            <p:cNvPr id="45" name="组合 148"/>
            <p:cNvGrpSpPr/>
            <p:nvPr/>
          </p:nvGrpSpPr>
          <p:grpSpPr>
            <a:xfrm>
              <a:off x="3562200" y="2383920"/>
              <a:ext cx="3263760" cy="3278880"/>
              <a:chOff x="3562200" y="2383920"/>
              <a:chExt cx="3263760" cy="3278880"/>
            </a:xfrm>
          </p:grpSpPr>
          <p:grpSp>
            <p:nvGrpSpPr>
              <p:cNvPr id="46" name="组合 150"/>
              <p:cNvGrpSpPr/>
              <p:nvPr/>
            </p:nvGrpSpPr>
            <p:grpSpPr>
              <a:xfrm>
                <a:off x="3804120" y="2383920"/>
                <a:ext cx="2865960" cy="2243160"/>
                <a:chOff x="3804120" y="2383920"/>
                <a:chExt cx="2865960" cy="2243160"/>
              </a:xfrm>
            </p:grpSpPr>
            <p:sp>
              <p:nvSpPr>
                <p:cNvPr id="47" name="下弧形箭头 1"/>
                <p:cNvSpPr/>
                <p:nvPr/>
              </p:nvSpPr>
              <p:spPr>
                <a:xfrm flipH="1" rot="21306000">
                  <a:off x="4209840" y="2812320"/>
                  <a:ext cx="2389680" cy="171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等腰三角形 35"/>
                <p:cNvSpPr/>
                <p:nvPr/>
              </p:nvSpPr>
              <p:spPr>
                <a:xfrm rot="20163600">
                  <a:off x="3902040" y="2511000"/>
                  <a:ext cx="763560" cy="644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矩形 165"/>
                <p:cNvSpPr/>
                <p:nvPr/>
              </p:nvSpPr>
              <p:spPr>
                <a:xfrm rot="1993800">
                  <a:off x="4105080" y="2647440"/>
                  <a:ext cx="74124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5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下弧形箭头 1"/>
                <p:cNvSpPr/>
                <p:nvPr/>
              </p:nvSpPr>
              <p:spPr>
                <a:xfrm flipH="1" rot="301800">
                  <a:off x="4518000" y="3076920"/>
                  <a:ext cx="2100960" cy="1243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1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椭圆 41"/>
                <p:cNvSpPr/>
                <p:nvPr/>
              </p:nvSpPr>
              <p:spPr>
                <a:xfrm rot="373200">
                  <a:off x="4106160" y="2589840"/>
                  <a:ext cx="659160" cy="50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组合 151"/>
              <p:cNvGrpSpPr/>
              <p:nvPr/>
            </p:nvGrpSpPr>
            <p:grpSpPr>
              <a:xfrm>
                <a:off x="5157000" y="2917080"/>
                <a:ext cx="1668960" cy="1502280"/>
                <a:chOff x="5157000" y="2917080"/>
                <a:chExt cx="1668960" cy="1502280"/>
              </a:xfrm>
            </p:grpSpPr>
            <p:sp>
              <p:nvSpPr>
                <p:cNvPr id="53" name="下弧形箭头 1"/>
                <p:cNvSpPr/>
                <p:nvPr/>
              </p:nvSpPr>
              <p:spPr>
                <a:xfrm flipH="1" rot="415800">
                  <a:off x="5288040" y="3284640"/>
                  <a:ext cx="1472400" cy="104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01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159"/>
                <p:cNvSpPr/>
                <p:nvPr/>
              </p:nvSpPr>
              <p:spPr>
                <a:xfrm rot="2760000">
                  <a:off x="5341320" y="3079440"/>
                  <a:ext cx="471240" cy="6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124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下弧形箭头 1"/>
                <p:cNvSpPr/>
                <p:nvPr/>
              </p:nvSpPr>
              <p:spPr>
                <a:xfrm flipH="1" rot="1011000">
                  <a:off x="5443200" y="3465000"/>
                  <a:ext cx="1301040" cy="756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81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等腰三角形 14"/>
                <p:cNvSpPr/>
                <p:nvPr/>
              </p:nvSpPr>
              <p:spPr>
                <a:xfrm rot="20872200">
                  <a:off x="5193360" y="2963160"/>
                  <a:ext cx="483480" cy="39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椭圆 44"/>
                <p:cNvSpPr/>
                <p:nvPr/>
              </p:nvSpPr>
              <p:spPr>
                <a:xfrm>
                  <a:off x="5341320" y="2971440"/>
                  <a:ext cx="375480" cy="389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152"/>
              <p:cNvGrpSpPr/>
              <p:nvPr/>
            </p:nvGrpSpPr>
            <p:grpSpPr>
              <a:xfrm>
                <a:off x="3562200" y="3098880"/>
                <a:ext cx="3116520" cy="2563920"/>
                <a:chOff x="3562200" y="3098880"/>
                <a:chExt cx="3116520" cy="2563920"/>
              </a:xfrm>
            </p:grpSpPr>
            <p:sp>
              <p:nvSpPr>
                <p:cNvPr id="59" name="下弧形箭头 1"/>
                <p:cNvSpPr/>
                <p:nvPr/>
              </p:nvSpPr>
              <p:spPr>
                <a:xfrm flipH="1" rot="19552800">
                  <a:off x="4193280" y="3588480"/>
                  <a:ext cx="2233080" cy="158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等腰三角形 35"/>
                <p:cNvSpPr/>
                <p:nvPr/>
              </p:nvSpPr>
              <p:spPr>
                <a:xfrm rot="18409800">
                  <a:off x="3657240" y="3909600"/>
                  <a:ext cx="713520" cy="59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矩形 155"/>
                <p:cNvSpPr/>
                <p:nvPr/>
              </p:nvSpPr>
              <p:spPr>
                <a:xfrm rot="240000">
                  <a:off x="3765240" y="3963600"/>
                  <a:ext cx="692640" cy="104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1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下弧形箭头 1"/>
                <p:cNvSpPr/>
                <p:nvPr/>
              </p:nvSpPr>
              <p:spPr>
                <a:xfrm flipH="1" rot="20148600">
                  <a:off x="447372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下弧形箭头 1"/>
                <p:cNvSpPr/>
                <p:nvPr/>
              </p:nvSpPr>
              <p:spPr>
                <a:xfrm flipH="1" rot="20148600">
                  <a:off x="447840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" name="椭圆 149"/>
            <p:cNvSpPr/>
            <p:nvPr/>
          </p:nvSpPr>
          <p:spPr>
            <a:xfrm>
              <a:off x="2851200" y="4782960"/>
              <a:ext cx="4960800" cy="2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68"/>
          <p:cNvGrpSpPr/>
          <p:nvPr/>
        </p:nvGrpSpPr>
        <p:grpSpPr>
          <a:xfrm>
            <a:off x="988920" y="1671480"/>
            <a:ext cx="1661400" cy="379440"/>
            <a:chOff x="988920" y="1671480"/>
            <a:chExt cx="1661400" cy="379440"/>
          </a:xfrm>
        </p:grpSpPr>
        <p:grpSp>
          <p:nvGrpSpPr>
            <p:cNvPr id="66" name="组合 169"/>
            <p:cNvGrpSpPr/>
            <p:nvPr/>
          </p:nvGrpSpPr>
          <p:grpSpPr>
            <a:xfrm>
              <a:off x="988920" y="1671480"/>
              <a:ext cx="257040" cy="379440"/>
              <a:chOff x="988920" y="1671480"/>
              <a:chExt cx="257040" cy="379440"/>
            </a:xfrm>
          </p:grpSpPr>
          <p:sp>
            <p:nvSpPr>
              <p:cNvPr id="67" name="Freeform 11"/>
              <p:cNvSpPr/>
              <p:nvPr/>
            </p:nvSpPr>
            <p:spPr>
              <a:xfrm>
                <a:off x="1063800" y="2010240"/>
                <a:ext cx="111600" cy="406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2"/>
              <p:cNvSpPr/>
              <p:nvPr/>
            </p:nvSpPr>
            <p:spPr>
              <a:xfrm>
                <a:off x="1063800" y="1984320"/>
                <a:ext cx="111600" cy="147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"/>
              <p:cNvSpPr/>
              <p:nvPr/>
            </p:nvSpPr>
            <p:spPr>
              <a:xfrm>
                <a:off x="1018800" y="1752840"/>
                <a:ext cx="201240" cy="2178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4"/>
              <p:cNvSpPr/>
              <p:nvPr/>
            </p:nvSpPr>
            <p:spPr>
              <a:xfrm>
                <a:off x="988920" y="1710720"/>
                <a:ext cx="6120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"/>
              <p:cNvSpPr/>
              <p:nvPr/>
            </p:nvSpPr>
            <p:spPr>
              <a:xfrm>
                <a:off x="1189080" y="1710720"/>
                <a:ext cx="5688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6"/>
              <p:cNvSpPr/>
              <p:nvPr/>
            </p:nvSpPr>
            <p:spPr>
              <a:xfrm>
                <a:off x="1104480" y="1671480"/>
                <a:ext cx="25560" cy="6804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170"/>
            <p:cNvSpPr/>
            <p:nvPr/>
          </p:nvSpPr>
          <p:spPr>
            <a:xfrm>
              <a:off x="164664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直接箭头连接符 171"/>
            <p:cNvCxnSpPr/>
            <p:nvPr/>
          </p:nvCxnSpPr>
          <p:spPr>
            <a:xfrm flipV="1">
              <a:off x="1349640" y="1688040"/>
              <a:ext cx="1080" cy="34632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75" name="矩形 1"/>
          <p:cNvSpPr/>
          <p:nvPr/>
        </p:nvSpPr>
        <p:spPr>
          <a:xfrm>
            <a:off x="511200" y="2016000"/>
            <a:ext cx="2897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506520" y="3733920"/>
            <a:ext cx="2896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5724360" y="2003400"/>
            <a:ext cx="2895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181"/>
          <p:cNvGrpSpPr/>
          <p:nvPr/>
        </p:nvGrpSpPr>
        <p:grpSpPr>
          <a:xfrm>
            <a:off x="6137280" y="1674720"/>
            <a:ext cx="1786680" cy="368280"/>
            <a:chOff x="6137280" y="1674720"/>
            <a:chExt cx="1786680" cy="368280"/>
          </a:xfrm>
        </p:grpSpPr>
        <p:grpSp>
          <p:nvGrpSpPr>
            <p:cNvPr id="79" name="组合 182"/>
            <p:cNvGrpSpPr/>
            <p:nvPr/>
          </p:nvGrpSpPr>
          <p:grpSpPr>
            <a:xfrm>
              <a:off x="6137280" y="1706040"/>
              <a:ext cx="398880" cy="307080"/>
              <a:chOff x="6137280" y="1706040"/>
              <a:chExt cx="398880" cy="307080"/>
            </a:xfrm>
          </p:grpSpPr>
          <p:sp>
            <p:nvSpPr>
              <p:cNvPr id="80" name="Freeform 6"/>
              <p:cNvSpPr/>
              <p:nvPr/>
            </p:nvSpPr>
            <p:spPr>
              <a:xfrm>
                <a:off x="6318360" y="1764720"/>
                <a:ext cx="85680" cy="1324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"/>
              <p:cNvSpPr/>
              <p:nvPr/>
            </p:nvSpPr>
            <p:spPr>
              <a:xfrm>
                <a:off x="6137280" y="1706040"/>
                <a:ext cx="398880" cy="3070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183"/>
            <p:cNvSpPr/>
            <p:nvPr/>
          </p:nvSpPr>
          <p:spPr>
            <a:xfrm>
              <a:off x="6920280" y="1674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直接箭头连接符 184"/>
            <p:cNvCxnSpPr/>
            <p:nvPr/>
          </p:nvCxnSpPr>
          <p:spPr>
            <a:xfrm flipV="1">
              <a:off x="6626880" y="16855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grpSp>
        <p:nvGrpSpPr>
          <p:cNvPr id="84" name="组合 187"/>
          <p:cNvGrpSpPr/>
          <p:nvPr/>
        </p:nvGrpSpPr>
        <p:grpSpPr>
          <a:xfrm>
            <a:off x="947880" y="3409920"/>
            <a:ext cx="1731600" cy="368280"/>
            <a:chOff x="947880" y="3409920"/>
            <a:chExt cx="1731600" cy="368280"/>
          </a:xfrm>
        </p:grpSpPr>
        <p:grpSp>
          <p:nvGrpSpPr>
            <p:cNvPr id="85" name="组合 188"/>
            <p:cNvGrpSpPr/>
            <p:nvPr/>
          </p:nvGrpSpPr>
          <p:grpSpPr>
            <a:xfrm>
              <a:off x="947880" y="3431880"/>
              <a:ext cx="322560" cy="326160"/>
              <a:chOff x="947880" y="3431880"/>
              <a:chExt cx="322560" cy="326160"/>
            </a:xfrm>
          </p:grpSpPr>
          <p:sp>
            <p:nvSpPr>
              <p:cNvPr id="86" name="Oval 17"/>
              <p:cNvSpPr/>
              <p:nvPr/>
            </p:nvSpPr>
            <p:spPr>
              <a:xfrm>
                <a:off x="1157400" y="3519000"/>
                <a:ext cx="47520" cy="5184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8"/>
              <p:cNvSpPr/>
              <p:nvPr/>
            </p:nvSpPr>
            <p:spPr>
              <a:xfrm>
                <a:off x="1131480" y="3580560"/>
                <a:ext cx="99360" cy="17748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9"/>
              <p:cNvSpPr/>
              <p:nvPr/>
            </p:nvSpPr>
            <p:spPr>
              <a:xfrm>
                <a:off x="947880" y="3460320"/>
                <a:ext cx="167400" cy="29772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0"/>
              <p:cNvSpPr/>
              <p:nvPr/>
            </p:nvSpPr>
            <p:spPr>
              <a:xfrm>
                <a:off x="1112400" y="3431880"/>
                <a:ext cx="158040" cy="28404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189"/>
            <p:cNvSpPr/>
            <p:nvPr/>
          </p:nvSpPr>
          <p:spPr>
            <a:xfrm>
              <a:off x="1675800" y="3409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直接箭头连接符 190"/>
            <p:cNvCxnSpPr/>
            <p:nvPr/>
          </p:nvCxnSpPr>
          <p:spPr>
            <a:xfrm flipV="1">
              <a:off x="1380240" y="34207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92" name=""/>
          <p:cNvSpPr/>
          <p:nvPr/>
        </p:nvSpPr>
        <p:spPr>
          <a:xfrm>
            <a:off x="1044720" y="119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840" y="404640"/>
            <a:ext cx="39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802-7702-4478-B1A1-8F7E4052C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1:07Z</dcterms:modified>
  <cp:revision>977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