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45A-541C-4090-A8D2-38DD3F34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EA1-7764-4F3B-BC2D-A07CBA19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FD5-EB30-4A2B-8E51-34229845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9B8-2BC7-4E32-9B31-B2E9AA9C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86E-51EE-4A11-AE07-7D9C4520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E68-1430-4FAD-B1B8-388054DA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F17-7794-4BD7-B5EC-5258450C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742-C1D8-41A8-A0E1-62937CFA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1EC-CB14-4744-9A85-DBBF8C4D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183-2EF4-4DDB-9217-85E5C9F1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DAE-48C0-4E47-A1CD-1D5E0F51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E32-578A-4438-A187-FB502A44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2A74-6E05-4FD9-BAC2-804DAC4F6D7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4733-8D95-4B2E-8179-B941507B0AA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2"/>
          <p:cNvGrpSpPr/>
          <p:nvPr/>
        </p:nvGrpSpPr>
        <p:grpSpPr>
          <a:xfrm>
            <a:off x="190080" y="825840"/>
            <a:ext cx="5750640" cy="3282480"/>
            <a:chOff x="190080" y="825840"/>
            <a:chExt cx="5750640" cy="3282480"/>
          </a:xfrm>
        </p:grpSpPr>
        <p:sp>
          <p:nvSpPr>
            <p:cNvPr id="44" name="Text Box 2"/>
            <p:cNvSpPr/>
            <p:nvPr/>
          </p:nvSpPr>
          <p:spPr>
            <a:xfrm>
              <a:off x="2927160" y="2823840"/>
              <a:ext cx="1537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5"/>
            <p:cNvSpPr/>
            <p:nvPr/>
          </p:nvSpPr>
          <p:spPr>
            <a:xfrm>
              <a:off x="1983240" y="861840"/>
              <a:ext cx="1667160" cy="3138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1"/>
            <p:cNvSpPr/>
            <p:nvPr/>
          </p:nvSpPr>
          <p:spPr>
            <a:xfrm>
              <a:off x="2817720" y="2495520"/>
              <a:ext cx="307800" cy="10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右箭头 1"/>
            <p:cNvSpPr/>
            <p:nvPr/>
          </p:nvSpPr>
          <p:spPr>
            <a:xfrm rot="20832600">
              <a:off x="360360" y="1431360"/>
              <a:ext cx="5219640" cy="212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15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93"/>
            <p:cNvSpPr/>
            <p:nvPr/>
          </p:nvSpPr>
          <p:spPr>
            <a:xfrm rot="20832600">
              <a:off x="3784320" y="1015920"/>
              <a:ext cx="1838160" cy="1063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94"/>
            <p:cNvSpPr/>
            <p:nvPr/>
          </p:nvSpPr>
          <p:spPr>
            <a:xfrm rot="20832600">
              <a:off x="4056120" y="2025360"/>
              <a:ext cx="1787400" cy="1076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95"/>
            <p:cNvSpPr/>
            <p:nvPr/>
          </p:nvSpPr>
          <p:spPr>
            <a:xfrm>
              <a:off x="1748160" y="861840"/>
              <a:ext cx="258840" cy="314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1"/>
            <p:cNvSpPr/>
            <p:nvPr/>
          </p:nvSpPr>
          <p:spPr>
            <a:xfrm flipH="1" rot="20856000">
              <a:off x="3577320" y="1960200"/>
              <a:ext cx="16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未来计划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5"/>
          <p:cNvGrpSpPr/>
          <p:nvPr/>
        </p:nvGrpSpPr>
        <p:grpSpPr>
          <a:xfrm>
            <a:off x="5181480" y="2400480"/>
            <a:ext cx="4102560" cy="4485960"/>
            <a:chOff x="5181480" y="2400480"/>
            <a:chExt cx="4102560" cy="4485960"/>
          </a:xfrm>
        </p:grpSpPr>
        <p:sp>
          <p:nvSpPr>
            <p:cNvPr id="53" name="任意多边形 103"/>
            <p:cNvSpPr/>
            <p:nvPr/>
          </p:nvSpPr>
          <p:spPr>
            <a:xfrm>
              <a:off x="5181480" y="3305160"/>
              <a:ext cx="1141560" cy="266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下箭头 3"/>
            <p:cNvSpPr/>
            <p:nvPr/>
          </p:nvSpPr>
          <p:spPr>
            <a:xfrm rot="20239200">
              <a:off x="6255720" y="2708280"/>
              <a:ext cx="2372040" cy="387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762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下箭头 3"/>
            <p:cNvSpPr/>
            <p:nvPr/>
          </p:nvSpPr>
          <p:spPr>
            <a:xfrm rot="20239200">
              <a:off x="6399000" y="2728440"/>
              <a:ext cx="2237040" cy="3808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762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55640" y="36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160" y="249228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箭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5B0-3002-4A85-9269-18881E59DC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lenovo</cp:lastModifiedBy>
  <dcterms:modified xsi:type="dcterms:W3CDTF">2015-07-11T15:40:33Z</dcterms:modified>
  <cp:revision>1022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