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18.png" ContentType="image/png"/>
  <Override PartName="/ppt/media/image13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9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815-D015-4769-B0BE-3CB1C821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795-9882-43D6-909D-E3B7DD39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274-5BA9-485B-BAE1-12D8B88D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DC8-70B7-4BCB-AAE3-A179E11F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FB0-E1F3-4692-A5D7-C9C5F1CF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440-DE94-4F6A-862A-5A0822CF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9B2-3A44-402F-8D7F-FE5EA25B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F0B-6F96-4AEF-9AEB-E493D39E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290-7492-41B6-89BA-5FA8BEAD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C66-4CDC-4CB5-8991-8EB982C0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BDA-38C7-4FC6-B9F4-3FAA49B6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F4F-B8A0-4FD3-B846-A5CD1A08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79AD-31D2-40EB-8475-EEF6C7F46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2.wmf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36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89920" y="24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快乐的节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20094140224998829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2124000" y="105264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鸟在前面带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风儿吹着我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春天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花园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草地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鲜艳的红领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美丽的衣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像朵朵花儿开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8360" y="26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016000" y="981000"/>
            <a:ext cx="712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花儿向我们点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溪欢快地流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向我们祝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向我们歌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好像在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个世界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更加美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充满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6836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963160" y="1268280"/>
            <a:ext cx="353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亲爱的祖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让我们自由地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小鸟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身上的羽毛长得丰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就勇敢地向着天空飞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飞向我们的理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68360" y="260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870200" y="1700280"/>
            <a:ext cx="727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唱啊，跳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敬爱的老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亲爱的伙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一起度过这快乐的时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5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草地4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016"/>
          <p:cNvPicPr/>
          <p:nvPr/>
        </p:nvPicPr>
        <p:blipFill>
          <a:blip r:embed="rId2"/>
          <a:stretch/>
        </p:blipFill>
        <p:spPr>
          <a:xfrm>
            <a:off x="0" y="0"/>
            <a:ext cx="1368360" cy="554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016"/>
          <p:cNvPicPr/>
          <p:nvPr/>
        </p:nvPicPr>
        <p:blipFill>
          <a:blip r:embed="rId3"/>
          <a:stretch/>
        </p:blipFill>
        <p:spPr>
          <a:xfrm>
            <a:off x="971640" y="1457280"/>
            <a:ext cx="1295280" cy="540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016"/>
          <p:cNvPicPr/>
          <p:nvPr/>
        </p:nvPicPr>
        <p:blipFill>
          <a:blip r:embed="rId4"/>
          <a:stretch/>
        </p:blipFill>
        <p:spPr>
          <a:xfrm>
            <a:off x="2411280" y="0"/>
            <a:ext cx="1297080" cy="6237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016"/>
          <p:cNvPicPr/>
          <p:nvPr/>
        </p:nvPicPr>
        <p:blipFill>
          <a:blip r:embed="rId5"/>
          <a:stretch/>
        </p:blipFill>
        <p:spPr>
          <a:xfrm>
            <a:off x="3419640" y="1341360"/>
            <a:ext cx="1466640" cy="6237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016"/>
          <p:cNvPicPr/>
          <p:nvPr/>
        </p:nvPicPr>
        <p:blipFill>
          <a:blip r:embed="rId6"/>
          <a:stretch/>
        </p:blipFill>
        <p:spPr>
          <a:xfrm>
            <a:off x="4932360" y="189000"/>
            <a:ext cx="1467000" cy="623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16"/>
          <p:cNvPicPr/>
          <p:nvPr/>
        </p:nvPicPr>
        <p:blipFill>
          <a:blip r:embed="rId7"/>
          <a:stretch/>
        </p:blipFill>
        <p:spPr>
          <a:xfrm>
            <a:off x="5940360" y="1557360"/>
            <a:ext cx="1467000" cy="623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16"/>
          <p:cNvPicPr/>
          <p:nvPr/>
        </p:nvPicPr>
        <p:blipFill>
          <a:blip r:embed="rId8"/>
          <a:stretch/>
        </p:blipFill>
        <p:spPr>
          <a:xfrm>
            <a:off x="7524720" y="260280"/>
            <a:ext cx="1467000" cy="6237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8101080" y="404640"/>
            <a:ext cx="79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ì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667640" y="2349360"/>
            <a:ext cx="79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588000" y="1700280"/>
            <a:ext cx="86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ǎ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156360" y="3573360"/>
            <a:ext cx="71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5435640" y="333360"/>
            <a:ext cx="93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ē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148360" y="2205000"/>
            <a:ext cx="93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ǒ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99564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ó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635280" y="3429000"/>
            <a:ext cx="719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916360" y="260280"/>
            <a:ext cx="79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2556000" y="2133720"/>
            <a:ext cx="64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z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1476360" y="1628640"/>
            <a:ext cx="649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è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1116000" y="3284640"/>
            <a:ext cx="64764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539640" y="260280"/>
            <a:ext cx="792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u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179280" y="1773360"/>
            <a:ext cx="757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at_drink_017"/>
          <p:cNvPicPr/>
          <p:nvPr/>
        </p:nvPicPr>
        <p:blipFill>
          <a:blip r:embed="rId3"/>
          <a:stretch/>
        </p:blipFill>
        <p:spPr>
          <a:xfrm>
            <a:off x="684360" y="242100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826920" y="278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eat_drink_017"/>
          <p:cNvPicPr/>
          <p:nvPr/>
        </p:nvPicPr>
        <p:blipFill>
          <a:blip r:embed="rId4"/>
          <a:stretch/>
        </p:blipFill>
        <p:spPr>
          <a:xfrm>
            <a:off x="1619280" y="299736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835280" y="3429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at_drink_017"/>
          <p:cNvPicPr/>
          <p:nvPr/>
        </p:nvPicPr>
        <p:blipFill>
          <a:blip r:embed="rId5"/>
          <a:stretch/>
        </p:blipFill>
        <p:spPr>
          <a:xfrm>
            <a:off x="7524720" y="1989000"/>
            <a:ext cx="1003320" cy="1167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7740720" y="242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eat_drink_017"/>
          <p:cNvPicPr/>
          <p:nvPr/>
        </p:nvPicPr>
        <p:blipFill>
          <a:blip r:embed="rId6"/>
          <a:stretch/>
        </p:blipFill>
        <p:spPr>
          <a:xfrm>
            <a:off x="6516720" y="270828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6732720" y="306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eat_drink_017"/>
          <p:cNvPicPr/>
          <p:nvPr/>
        </p:nvPicPr>
        <p:blipFill>
          <a:blip r:embed="rId7"/>
          <a:stretch/>
        </p:blipFill>
        <p:spPr>
          <a:xfrm flipH="1">
            <a:off x="4067280" y="1557360"/>
            <a:ext cx="877680" cy="1022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421164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eat_drink_017"/>
          <p:cNvPicPr/>
          <p:nvPr/>
        </p:nvPicPr>
        <p:blipFill>
          <a:blip r:embed="rId8"/>
          <a:stretch/>
        </p:blipFill>
        <p:spPr>
          <a:xfrm>
            <a:off x="6659640" y="105264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5"/>
          <p:cNvSpPr/>
          <p:nvPr/>
        </p:nvSpPr>
        <p:spPr>
          <a:xfrm>
            <a:off x="6877080" y="148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eat_drink_017"/>
          <p:cNvPicPr/>
          <p:nvPr/>
        </p:nvPicPr>
        <p:blipFill>
          <a:blip r:embed="rId9"/>
          <a:stretch/>
        </p:blipFill>
        <p:spPr>
          <a:xfrm>
            <a:off x="2771640" y="2133720"/>
            <a:ext cx="817560" cy="950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7"/>
          <p:cNvSpPr/>
          <p:nvPr/>
        </p:nvSpPr>
        <p:spPr>
          <a:xfrm>
            <a:off x="2916360" y="2492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8" descr="eat_drink_017"/>
          <p:cNvPicPr/>
          <p:nvPr/>
        </p:nvPicPr>
        <p:blipFill>
          <a:blip r:embed="rId10"/>
          <a:stretch/>
        </p:blipFill>
        <p:spPr>
          <a:xfrm>
            <a:off x="5076720" y="2997360"/>
            <a:ext cx="878040" cy="10220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9"/>
          <p:cNvSpPr/>
          <p:nvPr/>
        </p:nvSpPr>
        <p:spPr>
          <a:xfrm>
            <a:off x="5219640" y="335772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eat_drink_017"/>
          <p:cNvPicPr/>
          <p:nvPr/>
        </p:nvPicPr>
        <p:blipFill>
          <a:blip r:embed="rId11"/>
          <a:stretch/>
        </p:blipFill>
        <p:spPr>
          <a:xfrm>
            <a:off x="5003640" y="907920"/>
            <a:ext cx="881280" cy="1024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5219640" y="126828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2" descr="eat_drink_017"/>
          <p:cNvPicPr/>
          <p:nvPr/>
        </p:nvPicPr>
        <p:blipFill>
          <a:blip r:embed="rId12"/>
          <a:stretch/>
        </p:blipFill>
        <p:spPr>
          <a:xfrm>
            <a:off x="2843280" y="3500280"/>
            <a:ext cx="755640" cy="879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3"/>
          <p:cNvSpPr/>
          <p:nvPr/>
        </p:nvSpPr>
        <p:spPr>
          <a:xfrm>
            <a:off x="2987640" y="378936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4" descr="eat_drink_017"/>
          <p:cNvPicPr/>
          <p:nvPr/>
        </p:nvPicPr>
        <p:blipFill>
          <a:blip r:embed="rId13"/>
          <a:stretch/>
        </p:blipFill>
        <p:spPr>
          <a:xfrm>
            <a:off x="5724360" y="1989000"/>
            <a:ext cx="939960" cy="1094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5"/>
          <p:cNvSpPr/>
          <p:nvPr/>
        </p:nvSpPr>
        <p:spPr>
          <a:xfrm>
            <a:off x="5867280" y="242100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6" descr="eat_drink_017"/>
          <p:cNvPicPr/>
          <p:nvPr/>
        </p:nvPicPr>
        <p:blipFill>
          <a:blip r:embed="rId14"/>
          <a:stretch/>
        </p:blipFill>
        <p:spPr>
          <a:xfrm>
            <a:off x="3132000" y="981000"/>
            <a:ext cx="939960" cy="1094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7"/>
          <p:cNvSpPr/>
          <p:nvPr/>
        </p:nvSpPr>
        <p:spPr>
          <a:xfrm>
            <a:off x="3348000" y="134136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8" descr="eat_drink_017"/>
          <p:cNvPicPr/>
          <p:nvPr/>
        </p:nvPicPr>
        <p:blipFill>
          <a:blip r:embed="rId15"/>
          <a:stretch/>
        </p:blipFill>
        <p:spPr>
          <a:xfrm>
            <a:off x="3635280" y="2708280"/>
            <a:ext cx="817560" cy="950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9"/>
          <p:cNvSpPr/>
          <p:nvPr/>
        </p:nvSpPr>
        <p:spPr>
          <a:xfrm>
            <a:off x="3851280" y="306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0" descr="eat_drink_017"/>
          <p:cNvPicPr/>
          <p:nvPr/>
        </p:nvPicPr>
        <p:blipFill>
          <a:blip r:embed="rId16"/>
          <a:stretch/>
        </p:blipFill>
        <p:spPr>
          <a:xfrm>
            <a:off x="1547640" y="1484280"/>
            <a:ext cx="878040" cy="10224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1"/>
          <p:cNvSpPr/>
          <p:nvPr/>
        </p:nvSpPr>
        <p:spPr>
          <a:xfrm>
            <a:off x="1763640" y="1844640"/>
            <a:ext cx="43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15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吹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祝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希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祖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3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01680" y="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会连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24000" y="765000"/>
            <a:ext cx="3456000" cy="48423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十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九月十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六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076720" y="836640"/>
            <a:ext cx="3456000" cy="4842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劳动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元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庆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儿童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师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987640" y="1197000"/>
            <a:ext cx="216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2987640" y="2205000"/>
            <a:ext cx="2160720" cy="115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3059280" y="3357720"/>
            <a:ext cx="2089080" cy="18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2916360" y="4292640"/>
            <a:ext cx="21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3059280" y="2276280"/>
            <a:ext cx="2016000" cy="28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725160" y="836640"/>
            <a:ext cx="16426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你最喜欢哪个节日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自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羽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丰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勇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理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敬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度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border_035"/>
          <p:cNvPicPr/>
          <p:nvPr/>
        </p:nvPicPr>
        <p:blipFill>
          <a:blip r:embed="rId1"/>
          <a:stretch/>
        </p:blipFill>
        <p:spPr>
          <a:xfrm>
            <a:off x="0" y="404640"/>
            <a:ext cx="8893080" cy="3095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3132000" y="1197000"/>
            <a:ext cx="5688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祝     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丛林"/>
          <p:cNvPicPr/>
          <p:nvPr/>
        </p:nvPicPr>
        <p:blipFill>
          <a:blip r:embed="rId2"/>
          <a:stretch/>
        </p:blipFill>
        <p:spPr>
          <a:xfrm>
            <a:off x="324000" y="4149720"/>
            <a:ext cx="8569080" cy="2448000"/>
          </a:xfrm>
          <a:prstGeom prst="rect">
            <a:avLst/>
          </a:prstGeom>
          <a:ln w="0">
            <a:noFill/>
          </a:ln>
        </p:spPr>
      </p:pic>
      <p:sp>
        <p:nvSpPr>
          <p:cNvPr id="181" name="Line 7"/>
          <p:cNvSpPr/>
          <p:nvPr/>
        </p:nvSpPr>
        <p:spPr>
          <a:xfrm>
            <a:off x="4427640" y="1844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588000" y="19162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border_036"/>
          <p:cNvPicPr/>
          <p:nvPr/>
        </p:nvPicPr>
        <p:blipFill>
          <a:blip r:embed="rId2"/>
          <a:stretch/>
        </p:blipFill>
        <p:spPr>
          <a:xfrm>
            <a:off x="0" y="1450800"/>
            <a:ext cx="9325080" cy="34182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2987640" y="2060640"/>
            <a:ext cx="6156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找出文中和“快乐的节日‘格式一样的短语，用横线划出来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60020113"/>
          <p:cNvPicPr/>
          <p:nvPr/>
        </p:nvPicPr>
        <p:blipFill>
          <a:blip r:embed="rId1"/>
          <a:stretch/>
        </p:blipFill>
        <p:spPr>
          <a:xfrm>
            <a:off x="900000" y="0"/>
            <a:ext cx="69850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126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09520" y="46450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771640" y="3716280"/>
            <a:ext cx="259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2771640" y="4076640"/>
            <a:ext cx="244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5435640" y="6075360"/>
            <a:ext cx="26654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2010631610378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60020115"/>
          <p:cNvPicPr/>
          <p:nvPr/>
        </p:nvPicPr>
        <p:blipFill>
          <a:blip r:embed="rId1"/>
          <a:stretch/>
        </p:blipFill>
        <p:spPr>
          <a:xfrm>
            <a:off x="4500720" y="-28440"/>
            <a:ext cx="4427280" cy="6886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60020114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497520" y="25653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500720" y="234936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1692360" y="2997360"/>
            <a:ext cx="1366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076720" y="3213000"/>
            <a:ext cx="1366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5003640" y="3645000"/>
            <a:ext cx="1513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7164360" y="407664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9" descr="20097923555495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95280" y="1413000"/>
            <a:ext cx="839952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节日（　　）的红领巾　（　　）的衣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祖国（　　）的老师　（　　）的伙伴（　　）的时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2627280" y="549360"/>
            <a:ext cx="3657600" cy="67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你能正确填写吗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20097923555495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395280" y="1773360"/>
            <a:ext cx="839952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快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节日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鲜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红领巾　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美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衣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可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祖国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敬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老师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亲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伙伴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快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时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627280" y="549360"/>
            <a:ext cx="3657600" cy="67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你能正确填写吗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20097923555495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95280" y="1413000"/>
            <a:ext cx="8399520" cy="5031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球赛（　　）的荷叶　（　　）的松果（　　）的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乌鸦（　　）的天气（　　）的眼睛（　　）的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浪花（　　）的太阳（　　）的贝壳（　　）的夏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684360" y="26028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你还会填吗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border_036"/>
          <p:cNvPicPr/>
          <p:nvPr/>
        </p:nvPicPr>
        <p:blipFill>
          <a:blip r:embed="rId2"/>
          <a:stretch/>
        </p:blipFill>
        <p:spPr>
          <a:xfrm>
            <a:off x="0" y="1450800"/>
            <a:ext cx="9325080" cy="34182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2987640" y="206064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你从文中的哪些地方感受到了节日的“快乐”？用波浪线划一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20094140224998829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2124000" y="105264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鸟在前面带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风儿吹着我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春天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花园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草地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鲜艳的红领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美丽的衣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像朵朵花儿开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26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"/>
          <p:cNvSpPr/>
          <p:nvPr/>
        </p:nvSpPr>
        <p:spPr>
          <a:xfrm>
            <a:off x="2195640" y="580536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"/>
          <p:cNvSpPr/>
          <p:nvPr/>
        </p:nvSpPr>
        <p:spPr>
          <a:xfrm>
            <a:off x="2195640" y="508464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2124000" y="371628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016000" y="981000"/>
            <a:ext cx="712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花儿向我们点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溪欢快地流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向我们祝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向我们歌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好像在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个世界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更加美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充满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46836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"/>
          <p:cNvSpPr/>
          <p:nvPr/>
        </p:nvSpPr>
        <p:spPr>
          <a:xfrm>
            <a:off x="2268360" y="234936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"/>
          <p:cNvSpPr/>
          <p:nvPr/>
        </p:nvSpPr>
        <p:spPr>
          <a:xfrm>
            <a:off x="2340000" y="5734080"/>
            <a:ext cx="374328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268360" y="6381720"/>
            <a:ext cx="381636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2891520" y="1268280"/>
            <a:ext cx="353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亲爱的祖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让我们自由地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小鸟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身上的羽毛长得丰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就勇敢地向着天空飞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飞向我们的理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68360" y="260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"/>
          <p:cNvSpPr/>
          <p:nvPr/>
        </p:nvSpPr>
        <p:spPr>
          <a:xfrm>
            <a:off x="2700360" y="2637000"/>
            <a:ext cx="3095640" cy="14256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"/>
          <p:cNvSpPr/>
          <p:nvPr/>
        </p:nvSpPr>
        <p:spPr>
          <a:xfrm>
            <a:off x="2050920" y="537372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8720" y="573408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870200" y="1700280"/>
            <a:ext cx="727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唱啊，跳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敬爱的老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亲爱的伙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一起度过这快乐的时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55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5"/>
          <p:cNvSpPr/>
          <p:nvPr/>
        </p:nvSpPr>
        <p:spPr>
          <a:xfrm>
            <a:off x="1979640" y="234936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6"/>
          <p:cNvSpPr/>
          <p:nvPr/>
        </p:nvSpPr>
        <p:spPr>
          <a:xfrm>
            <a:off x="3564000" y="4437000"/>
            <a:ext cx="4392720" cy="6984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60020114"/>
          <p:cNvPicPr/>
          <p:nvPr/>
        </p:nvPicPr>
        <p:blipFill>
          <a:blip r:embed="rId2"/>
          <a:stretch/>
        </p:blipFill>
        <p:spPr>
          <a:xfrm>
            <a:off x="2771640" y="1025640"/>
            <a:ext cx="3918240" cy="5832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60020113"/>
          <p:cNvPicPr/>
          <p:nvPr/>
        </p:nvPicPr>
        <p:blipFill>
          <a:blip r:embed="rId3"/>
          <a:stretch/>
        </p:blipFill>
        <p:spPr>
          <a:xfrm>
            <a:off x="0" y="0"/>
            <a:ext cx="3583080" cy="5111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60020115"/>
          <p:cNvPicPr/>
          <p:nvPr/>
        </p:nvPicPr>
        <p:blipFill>
          <a:blip r:embed="rId4"/>
          <a:stretch/>
        </p:blipFill>
        <p:spPr>
          <a:xfrm>
            <a:off x="5796000" y="0"/>
            <a:ext cx="3703680" cy="5761080"/>
          </a:xfrm>
          <a:prstGeom prst="rect">
            <a:avLst/>
          </a:prstGeom>
          <a:ln w="0">
            <a:noFill/>
          </a:ln>
        </p:spPr>
      </p:pic>
      <p:pic>
        <p:nvPicPr>
          <p:cNvPr id="240" name="快乐的节日(1).mp3" descr=""/>
          <p:cNvPicPr/>
          <p:nvPr/>
        </p:nvPicPr>
        <p:blipFill>
          <a:blip r:embed="rId5"/>
          <a:stretch/>
        </p:blipFill>
        <p:spPr>
          <a:xfrm>
            <a:off x="900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9" dur="12578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20100612125657_n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吹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chu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5475960" y="594000"/>
            <a:ext cx="127800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8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地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d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5475960" y="596880"/>
            <a:ext cx="127800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土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1FA-ECA5-4D07-976B-16EA16F710A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6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老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cc"/>
                </a:solidFill>
                <a:latin typeface="Comic Sans MS"/>
              </a:rPr>
              <a:t>l</a:t>
            </a:r>
            <a:r>
              <a:rPr b="1" lang="en-US" sz="9600" spc="-1" strike="noStrike">
                <a:solidFill>
                  <a:srgbClr val="0033cc"/>
                </a:solidFill>
                <a:latin typeface="Arial"/>
              </a:rPr>
              <a:t>ǎ</a:t>
            </a:r>
            <a:r>
              <a:rPr b="1" lang="en-US" sz="96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5520960" y="-1800"/>
            <a:ext cx="1337400" cy="66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7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1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师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sh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5475960" y="733320"/>
            <a:ext cx="1278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5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042920" y="31899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每年六月一日是国际儿童节，又称儿童节、六一儿童节。六一儿童节是全世界少年儿童的节日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14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快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kuà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478120" y="733320"/>
            <a:ext cx="13374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飞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14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乐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l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5328720" y="733320"/>
            <a:ext cx="1826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乐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可乐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乐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乐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60020113"/>
          <p:cNvPicPr/>
          <p:nvPr/>
        </p:nvPicPr>
        <p:blipFill>
          <a:blip r:embed="rId1"/>
          <a:stretch/>
        </p:blipFill>
        <p:spPr>
          <a:xfrm>
            <a:off x="-324000" y="77760"/>
            <a:ext cx="4753080" cy="67802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/>
          <p:cNvSpPr/>
          <p:nvPr/>
        </p:nvSpPr>
        <p:spPr>
          <a:xfrm>
            <a:off x="3311640" y="-27000"/>
            <a:ext cx="5832360" cy="3456000"/>
          </a:xfrm>
          <a:prstGeom prst="cloudCallout">
            <a:avLst>
              <a:gd name="adj1" fmla="val -44013"/>
              <a:gd name="adj2" fmla="val 27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067280" y="40464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读课文，标出小节序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圈出本课生字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324000" y="126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209520" y="46450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2843280" y="6021360"/>
            <a:ext cx="15127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60020115"/>
          <p:cNvPicPr/>
          <p:nvPr/>
        </p:nvPicPr>
        <p:blipFill>
          <a:blip r:embed="rId1"/>
          <a:stretch/>
        </p:blipFill>
        <p:spPr>
          <a:xfrm>
            <a:off x="4500720" y="-28440"/>
            <a:ext cx="4427280" cy="688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60020114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97520" y="25653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500720" y="234936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3:40:35Z</dcterms:created>
  <dc:creator>为您服务教育网 http://www.wsbedu.com/</dc:creator>
  <dc:description/>
  <dc:language>en-US</dc:language>
  <cp:lastModifiedBy>微软用户</cp:lastModifiedBy>
  <dcterms:modified xsi:type="dcterms:W3CDTF">2015-07-09T07:35:40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