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D41-923B-4BE8-A85B-EADF76B4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0EC-CD16-4C5D-9DBE-F2F9989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BA1-C295-4B11-84ED-C546984F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E1C-A4BF-41F7-A0D7-F3A2FCBA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555C-5927-4C97-A7F1-6CFF1BA1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8837-9E16-4535-942C-ACB3FA53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83F-E79B-4396-B471-00D55E6F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1AA-78F8-423E-9F35-D563242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B4EF-C9EC-4510-83A8-37E581D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801-046F-4F81-A471-CBE8B66E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8584-00DF-4D13-817A-2237A5B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929-EE7C-4179-B9C4-55B0D0D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E814-E12B-4724-B673-12AC5C47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421-0C0C-4458-91D6-BD14CED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40FC-FB9C-4990-B558-31402A3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84AE-109F-49DF-91C9-CAFD6DD4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2A0D-D269-4F61-B584-DB47D09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29-A3D7-4170-9C2B-3C3B05F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8CD-713B-4583-9F9B-E91C25B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E3B-0440-4C76-8A65-D9800F3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D26-8933-4A3A-82B7-4FE4053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79D-642C-4D28-8CD5-B98B77E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690-3249-4180-9BDC-7DD6684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9EB-7728-4AA3-BA4A-DC52F3A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FB0-4F93-40FB-87D8-B75BAD8A9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muldoon3" descr=""/>
          <p:cNvPicPr/>
          <p:nvPr/>
        </p:nvPicPr>
        <p:blipFill>
          <a:blip r:embed="rId10"/>
          <a:stretch/>
        </p:blipFill>
        <p:spPr>
          <a:xfrm>
            <a:off x="0" y="3794040"/>
            <a:ext cx="1897200" cy="306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00240" y="8377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BF8-55AA-443F-9A3B-7E0BF4AC9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971800"/>
            <a:ext cx="358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00240" y="8377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卡通人物警察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99736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Impact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Your Titl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Point 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uldoon_bi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609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0:14:46Z</dcterms:created>
  <dc:creator>eclipse</dc:creator>
  <dc:description/>
  <dc:language>en-US</dc:language>
  <cp:lastModifiedBy>微软用户</cp:lastModifiedBy>
  <dcterms:modified xsi:type="dcterms:W3CDTF">2015-07-05T06:13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