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5FF-C064-45A1-9DE7-90D49189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1AB-AB79-4CA4-9B0B-19AF6A72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283-86FE-4E97-9D10-04B293D5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CA5-2318-403D-B480-29355378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E01-C678-4810-9773-5511077F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610-E1E9-4493-97EE-2DEE94AD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8FA-793A-4912-8C70-FF4E4510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247-F1A1-4D8B-A70B-AE16D3E5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379-51CA-4421-9D1E-A69C90C2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2A3-5568-4D1D-B12E-96F77788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93B-F4A6-4878-AA92-1306778F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3B8-9584-454C-BC3D-DE37A845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25EA-E6A1-41E2-8EA4-F2FC4F4A1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360" y="404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1058760"/>
            <a:ext cx="49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M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风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3760" y="693720"/>
            <a:ext cx="91314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1BD-7916-440A-A28D-DDDDF847A1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06:09:40Z</dcterms:created>
  <dc:creator>Administrator</dc:creator>
  <dc:description/>
  <dc:language>en-US</dc:language>
  <cp:lastModifiedBy>微软用户</cp:lastModifiedBy>
  <dcterms:modified xsi:type="dcterms:W3CDTF">2015-07-11T14:39:30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