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CB5B-7114-4FBE-8A09-88C45DC62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9F85-51BA-446C-A864-777324253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A276-2FDD-48E5-A86F-93775F4C1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1933-08C5-4A26-84C8-9362BCA9B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777F9-94AF-4CD6-8DEB-EAA54CD33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740DC-8F61-4D24-AE52-FCA6DCE56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0CB39-D3B2-406E-9C44-0E146B3B8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2590C-867C-4FD4-A0D7-E399D4809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C7CD7-ACE0-4080-A69C-56250B8AE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C06F6-E673-4F57-A0F0-3078676DF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FCA0C-A0F8-4336-BB01-5BE1B458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2301-BA42-4B6E-A9BC-877B534FF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F5260-E604-4300-9999-44D19A3D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03238-D474-4606-AF18-F442250D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D37B5-288B-46C5-8EF2-300EC763F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1E990-2199-4C10-8E6F-B3325F67C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47D84-C449-45E0-8D8D-354C2D31D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D698-5761-4944-B41F-0F56E3DD5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FC6E-7D91-4FF9-BA3F-660764CDA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AD9F-8B56-4353-B738-23BFC82AE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15A3-859B-479A-946F-7FE4FB3B7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1C39-A005-421C-AD09-2FCF6A5B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2555-F9EA-4733-946F-DEB699A8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6AA0-1C22-4BBD-BC29-121BCD3C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04945-6D6A-4190-9DBF-CC0943476D64}" type="slidenum">
              <a:rPr b="1" lang="en-US" sz="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E22F-C32D-458A-AD37-E62F54918EEE}" type="slidenum">
              <a:rPr b="0" lang="en-US" sz="8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nimationfactory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animationfactory.com/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1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960" y="4343040"/>
            <a:ext cx="8915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Microstyle Bold Extended ATT"/>
                <a:ea typeface="宋体"/>
              </a:rPr>
              <a:t>老师卡通形象</a:t>
            </a:r>
            <a:r>
              <a:rPr b="1" lang="zh-CN" sz="6000" spc="-1" strike="noStrike">
                <a:solidFill>
                  <a:srgbClr val="ffffff"/>
                </a:solidFill>
                <a:latin typeface="Microstyle Bold Extended ATT"/>
                <a:ea typeface="宋体"/>
              </a:rPr>
              <a:t>PPT</a:t>
            </a:r>
            <a:r>
              <a:rPr b="1" lang="zh-CN" sz="6000" spc="-1" strike="noStrike">
                <a:solidFill>
                  <a:srgbClr val="ffffff"/>
                </a:solidFill>
                <a:latin typeface="Microstyle Bold Extended ATT"/>
                <a:ea typeface="宋体"/>
              </a:rPr>
              <a:t>模板</a:t>
            </a:r>
            <a:endParaRPr b="0" lang="en-US" sz="6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80720" y="380880"/>
            <a:ext cx="6324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Microstyle Bold Extended ATT"/>
                <a:ea typeface="宋体"/>
              </a:rPr>
              <a:t>YOUR TOPIC GOES HERE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52480" y="990360"/>
            <a:ext cx="7010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icrostyle Bold Extended ATT"/>
                <a:ea typeface="宋体"/>
              </a:rPr>
              <a:t>YOUR SUBTOPIC GOES HER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61960" y="-360"/>
            <a:ext cx="3886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tyle Bold Extended ATT"/>
                <a:ea typeface="宋体"/>
              </a:rPr>
              <a:t>TRANSITIONA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579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Microstyle Bold Extended ATT"/>
                <a:ea typeface="宋体"/>
              </a:rPr>
              <a:t>YOUR TOPIC GOES HERE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14600" y="914040"/>
            <a:ext cx="6324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icrostyle Bold Extended ATT"/>
                <a:ea typeface="宋体"/>
              </a:rPr>
              <a:t>YOUR SUBTOPIC GOES HER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2280" y="944640"/>
            <a:ext cx="2438640" cy="9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Backdrop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These are full sized backdrops, just double click them and size it up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14480"/>
            <a:ext cx="2286000" cy="571320"/>
          </a:xfrm>
          <a:prstGeom prst="rect">
            <a:avLst/>
          </a:prstGeom>
          <a:ln w="0">
            <a:noFill/>
          </a:ln>
        </p:spPr>
      </p:pic>
      <p:sp>
        <p:nvSpPr>
          <p:cNvPr id="91" name="">
            <a:hlinkClick r:id="rId3"/>
          </p:cNvPr>
          <p:cNvSpPr/>
          <p:nvPr/>
        </p:nvSpPr>
        <p:spPr>
          <a:xfrm>
            <a:off x="457920" y="700200"/>
            <a:ext cx="1508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ww.animationfactory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438280" y="2286000"/>
            <a:ext cx="647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2209680"/>
            <a:ext cx="2438280" cy="9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Imag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Most of these .gifs, .jpgs, and .png images can be scaled up to fit your need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667600" y="63972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tle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69240" y="639720"/>
            <a:ext cx="129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ide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68000" y="639720"/>
            <a:ext cx="127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nt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198200" y="639720"/>
            <a:ext cx="179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nsitional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2514600" y="91440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7315200" y="91440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4114800" y="91440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5715000" y="91440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5T15:47:30Z</dcterms:created>
  <dc:creator>eclipse</dc:creator>
  <dc:description/>
  <dc:language>en-US</dc:language>
  <cp:lastModifiedBy>微软用户</cp:lastModifiedBy>
  <dcterms:modified xsi:type="dcterms:W3CDTF">2015-07-05T06:14:49Z</dcterms:modified>
  <cp:revision>2</cp:revision>
  <dc:subject/>
  <dc:title>TURN YOUR MIN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