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F71-06FE-4F71-970C-DE0FF458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C0C-57DD-4826-B997-BB307823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E72-8C58-4295-A7E6-F6789BF3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58F-2228-4353-ADD6-29DF1A6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ED3-2A66-4B64-9BAD-A13E3A6E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8A3-CD1D-48EA-B210-F72C118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606-8537-47AB-B77E-98B5517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52D-A61A-4061-824C-8EB2EE13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897-D52D-4ECB-9E88-CA19421E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CAE-3C5C-4B80-AC72-AA6147B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E2A-AA5C-4C2A-9F28-E3BA516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062-A581-4873-B833-AA517E1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BB68-4465-405C-AA6A-B7676B2495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458C-E456-4D79-B6D0-CBFF8602CE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4920" y="981000"/>
            <a:ext cx="9185400" cy="5372280"/>
          </a:xfrm>
          <a:prstGeom prst="rect">
            <a:avLst/>
          </a:prstGeom>
          <a:ln w="0">
            <a:noFill/>
          </a:ln>
        </p:spPr>
      </p:pic>
      <p:sp>
        <p:nvSpPr>
          <p:cNvPr id="42" name="Oval 3"/>
          <p:cNvSpPr/>
          <p:nvPr/>
        </p:nvSpPr>
        <p:spPr>
          <a:xfrm>
            <a:off x="2178000" y="4054320"/>
            <a:ext cx="5562720" cy="132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-54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 rot="20601600">
            <a:off x="1515600" y="17874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6"/>
          <p:cNvSpPr/>
          <p:nvPr/>
        </p:nvSpPr>
        <p:spPr>
          <a:xfrm rot="20601600">
            <a:off x="4381560" y="2851200"/>
            <a:ext cx="2652480" cy="1320840"/>
          </a:xfrm>
          <a:prstGeom prst="pie">
            <a:avLst/>
          </a:pr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7"/>
          <p:cNvSpPr/>
          <p:nvPr/>
        </p:nvSpPr>
        <p:spPr>
          <a:xfrm rot="20601600">
            <a:off x="4157640" y="1857240"/>
            <a:ext cx="2849760" cy="153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8"/>
          <p:cNvSpPr/>
          <p:nvPr/>
        </p:nvSpPr>
        <p:spPr>
          <a:xfrm flipH="1" rot="20602200">
            <a:off x="1570680" y="3168360"/>
            <a:ext cx="2867040" cy="163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9"/>
          <p:cNvSpPr/>
          <p:nvPr/>
        </p:nvSpPr>
        <p:spPr>
          <a:xfrm rot="20601600">
            <a:off x="3416400" y="1593720"/>
            <a:ext cx="2814480" cy="14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rc 10"/>
          <p:cNvSpPr/>
          <p:nvPr/>
        </p:nvSpPr>
        <p:spPr>
          <a:xfrm flipH="1" rot="20602200">
            <a:off x="1364040" y="2239560"/>
            <a:ext cx="2775240" cy="138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1"/>
          <p:cNvSpPr/>
          <p:nvPr/>
        </p:nvSpPr>
        <p:spPr>
          <a:xfrm rot="20601600">
            <a:off x="4497480" y="3100320"/>
            <a:ext cx="1220760" cy="1498680"/>
          </a:xfrm>
          <a:prstGeom prst="pie">
            <a:avLst/>
          </a:prstGeom>
          <a:noFill/>
          <a:ln w="648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 rot="20601600">
            <a:off x="4390560" y="2847600"/>
            <a:ext cx="2562480" cy="809640"/>
          </a:xfrm>
          <a:prstGeom prst="pi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13"/>
          <p:cNvSpPr/>
          <p:nvPr/>
        </p:nvSpPr>
        <p:spPr>
          <a:xfrm rot="20712600">
            <a:off x="4092480" y="2879280"/>
            <a:ext cx="2949840" cy="127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 rot="20712600">
            <a:off x="4176720" y="3068280"/>
            <a:ext cx="1378080" cy="15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4472640" y="2350800"/>
            <a:ext cx="3270960" cy="2455560"/>
            <a:chOff x="4472640" y="2350800"/>
            <a:chExt cx="3270960" cy="2455560"/>
          </a:xfrm>
        </p:grpSpPr>
        <p:sp>
          <p:nvSpPr>
            <p:cNvPr id="54" name="Freeform 16"/>
            <p:cNvSpPr/>
            <p:nvPr/>
          </p:nvSpPr>
          <p:spPr>
            <a:xfrm rot="20712600">
              <a:off x="5552640" y="3236400"/>
              <a:ext cx="1579320" cy="97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 rot="20601600">
              <a:off x="6063840" y="3139560"/>
              <a:ext cx="1555560" cy="10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8"/>
            <p:cNvSpPr/>
            <p:nvPr/>
          </p:nvSpPr>
          <p:spPr>
            <a:xfrm rot="20539200">
              <a:off x="4615920" y="2758680"/>
              <a:ext cx="2905200" cy="139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 rot="20601600">
              <a:off x="4749120" y="3050640"/>
              <a:ext cx="1359000" cy="159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20"/>
          <p:cNvSpPr/>
          <p:nvPr/>
        </p:nvSpPr>
        <p:spPr>
          <a:xfrm rot="20601600">
            <a:off x="2970360" y="2494080"/>
            <a:ext cx="2695320" cy="1339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1"/>
          <p:cNvSpPr/>
          <p:nvPr/>
        </p:nvSpPr>
        <p:spPr>
          <a:xfrm rot="20601600">
            <a:off x="3070080" y="274644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2"/>
          <p:cNvSpPr/>
          <p:nvPr/>
        </p:nvSpPr>
        <p:spPr>
          <a:xfrm>
            <a:off x="2178000" y="25876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/>
          <p:cNvSpPr/>
          <p:nvPr/>
        </p:nvSpPr>
        <p:spPr>
          <a:xfrm>
            <a:off x="3930480" y="1748880"/>
            <a:ext cx="10670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5530680" y="220608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5530680" y="319716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2025720" y="38062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7"/>
          <p:cNvSpPr/>
          <p:nvPr/>
        </p:nvSpPr>
        <p:spPr>
          <a:xfrm>
            <a:off x="3701880" y="403488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72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18080" y="404640"/>
            <a:ext cx="44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立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d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DD8-5AE0-49FA-9EC9-EF746B9A73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jccook</cp:lastModifiedBy>
  <dcterms:modified xsi:type="dcterms:W3CDTF">2015-07-07T03:28:01Z</dcterms:modified>
  <cp:revision>686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