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  <p:custShowLst>
    <p:custShow name="自定义放映1" id="0">
      <p:sldLst>
        <p:sld r:id="rId13"/>
        <p:sld r:id="rId14"/>
        <p:sld r:id="rId15"/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13D-9C56-4354-BA0D-887D42A6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8CBD-8029-44F8-AF88-83DBD359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D01A-08D6-4004-85FF-0143623B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9CF0-5F65-4BA2-87C7-682A9E64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70C9-9FCE-4936-B296-EA702C37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92A2-D5D6-437C-A37E-C2D3CC76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C64D-4325-4D15-9A73-A08AFE71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85EB-C5BC-4843-B229-1215F7CB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9310-964C-4CF6-9C77-8FA967AC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DBC9-9859-4E0D-B250-AA223825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1ED8-88FF-4B80-B0F0-74E2F9D9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825F-CBD0-41F3-A97D-85E0A458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DAA7-3116-495D-BCAD-5658708360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" name="一" descr=""/>
          <p:cNvPicPr/>
          <p:nvPr/>
        </p:nvPicPr>
        <p:blipFill>
          <a:blip r:embed="rId2"/>
          <a:stretch/>
        </p:blipFill>
        <p:spPr>
          <a:xfrm>
            <a:off x="2286000" y="31680"/>
            <a:ext cx="6858000" cy="6794640"/>
          </a:xfrm>
          <a:prstGeom prst="rect">
            <a:avLst/>
          </a:prstGeom>
          <a:ln w="0">
            <a:noFill/>
          </a:ln>
        </p:spPr>
      </p:pic>
      <p:pic>
        <p:nvPicPr>
          <p:cNvPr id="43" name="二" descr=""/>
          <p:cNvPicPr/>
          <p:nvPr/>
        </p:nvPicPr>
        <p:blipFill>
          <a:blip r:embed="rId3"/>
          <a:stretch/>
        </p:blipFill>
        <p:spPr>
          <a:xfrm>
            <a:off x="1295280" y="533520"/>
            <a:ext cx="3089520" cy="5333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3564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76840" y="2438280"/>
            <a:ext cx="14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老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什么是墓志铭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墓志铭就是刻在墓碑上的文字，内容大多是对死者加以悼念、赞美和安慰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  <a:ea typeface="隶书"/>
              </a:rPr>
              <a:t>牛顿的墓志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自然及其法则在黑夜中隐藏，上帝说，要有牛顿，于是一切顿成光明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      ——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隶书"/>
              </a:rPr>
              <a:t>亚历山大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·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隶书"/>
              </a:rPr>
              <a:t>蒲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金庸的墓志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这里躺着一个人，在二十世纪、二十一世纪，他写过几十部武侠小说，这些小说为几亿人喜欢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             ——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金庸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雪莱的墓志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他并没有消失什么，不过感受了一次海水的变幻，他成了富丽珍奇的瑰宝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   ——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莎士比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3890-1B2A-44B8-A9E7-0B14D63F43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司汤达的墓志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活过，写过，爱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司汤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1" name="308" descr=""/>
          <p:cNvPicPr/>
          <p:nvPr/>
        </p:nvPicPr>
        <p:blipFill>
          <a:blip r:embed="rId2"/>
          <a:stretch/>
        </p:blipFill>
        <p:spPr>
          <a:xfrm>
            <a:off x="838080" y="1143000"/>
            <a:ext cx="7315200" cy="5257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066680" y="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d4d4d"/>
                </a:solidFill>
                <a:latin typeface="Times New Roman"/>
                <a:ea typeface="隶书"/>
              </a:rPr>
              <a:t>好人一生平安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5943600"/>
            <a:ext cx="7467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609300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400800" y="457200"/>
            <a:ext cx="25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隶书"/>
              </a:rPr>
              <a:t>老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45720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作者简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3551400" cy="4038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760" y="609120"/>
            <a:ext cx="464796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杨绛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原名杨季康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生于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911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年，江苏无锡人。作家、文学翻译家。主要作品《洗澡》、 《干校六记》、 《我们仨》、《堂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吉诃德》（译著）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733920" y="1752480"/>
            <a:ext cx="5162400" cy="4334040"/>
          </a:xfrm>
          <a:prstGeom prst="rect">
            <a:avLst/>
          </a:prstGeom>
          <a:ln w="0">
            <a:noFill/>
          </a:ln>
        </p:spPr>
      </p:pic>
      <p:pic>
        <p:nvPicPr>
          <p:cNvPr id="53" name="我们仨3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3051360" cy="4343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Times New Roman"/>
                <a:ea typeface="隶书"/>
              </a:rPr>
              <a:t>我们仨：杨绛、钱钟书</a:t>
            </a:r>
            <a:r>
              <a:rPr b="0" lang="en-US" sz="4800" spc="-1" strike="noStrike">
                <a:solidFill>
                  <a:srgbClr val="996633"/>
                </a:solidFill>
                <a:latin typeface="Times New Roman"/>
                <a:ea typeface="隶书"/>
              </a:rPr>
              <a:t>(</a:t>
            </a:r>
            <a:r>
              <a:rPr b="0" lang="en-US" sz="4800" spc="-1" strike="noStrike">
                <a:solidFill>
                  <a:srgbClr val="996633"/>
                </a:solidFill>
                <a:latin typeface="Times New Roman"/>
                <a:ea typeface="隶书"/>
              </a:rPr>
              <a:t>默存</a:t>
            </a:r>
            <a:r>
              <a:rPr b="0" lang="en-US" sz="4800" spc="-1" strike="noStrike">
                <a:solidFill>
                  <a:srgbClr val="996633"/>
                </a:solidFill>
                <a:latin typeface="Times New Roman"/>
                <a:ea typeface="隶书"/>
              </a:rPr>
              <a:t>)</a:t>
            </a:r>
            <a:r>
              <a:rPr b="0" lang="en-US" sz="4800" spc="-1" strike="noStrike">
                <a:solidFill>
                  <a:srgbClr val="996633"/>
                </a:solidFill>
                <a:latin typeface="Times New Roman"/>
                <a:ea typeface="隶书"/>
              </a:rPr>
              <a:t>和女儿钱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42640" y="1219320"/>
            <a:ext cx="6248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感受《老王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隶书"/>
                <a:ea typeface="隶书"/>
              </a:rPr>
              <a:t>请小声读课文；给每个自然段标上序号；并画出生字词，查字典或向同学请教。读完课文后请检查一下自己是否完成上述要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塌败   骷髅  干校   凑合  伛  翳  滞笨 愧怍  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066680"/>
            <a:ext cx="3733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读一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121896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认识老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6858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老王是个怎样的人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4000" spc="-1" strike="noStrike">
                <a:solidFill>
                  <a:srgbClr val="800000"/>
                </a:solidFill>
                <a:latin typeface="隶书"/>
                <a:ea typeface="隶书"/>
              </a:rPr>
              <a:t>注意从老王的职业、身体状况、生活条件、为人等方面做较为全面的介绍。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560" y="121896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说说老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666520"/>
            <a:ext cx="7010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你心目中的老王是一个怎样的人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纪念老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假如有一天，我们找到了老王的墓，打算为老王立一块墓碑，你打算在上面刻什么字？请为黄土之下的老王写墓志铭。</a:t>
            </a: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8T13:01:52Z</dcterms:created>
  <dc:creator>An</dc:creator>
  <dc:description/>
  <dc:language>en-US</dc:language>
  <cp:lastModifiedBy/>
  <dcterms:modified xsi:type="dcterms:W3CDTF">2015-07-11T07:59:20Z</dcterms:modified>
  <cp:revision>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