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74E-FA90-41C6-86DC-6D93739A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CDF-EDCA-4655-A4E5-F1859E45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059-B11D-43A2-8C38-C20E391A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0D6-69CD-4941-9BE7-2DF53BD6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71A-85BF-49C1-BB0F-25A2ADB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2A6-C480-466E-BCD0-2E2093F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5A5-3E14-4FB1-8DBA-4DAE9CDA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638-0F2C-43C0-9EE5-75D6D4D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F70-6F97-47FD-9802-69D28C6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D8E-47DF-4E6B-B7C9-DDF3A21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A5A-D597-4F76-B442-F175AC9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F5F-9D90-4DC1-992F-0947B4F9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412-3BF6-475E-B771-EDDF6946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252360" y="-603360"/>
            <a:ext cx="9752040" cy="812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45336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08360" y="16286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小组内大声朗读纠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2997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学生朗读打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429264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全班齐读成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64000" y="1413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以小组为单位进行第一二章文意疏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讨论重点词，进行文句口译，标示出不清楚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共同解决解释和翻译中的疑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869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老师提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1760" y="148428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子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曰：“学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时   习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之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不亦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6600" y="3038400"/>
            <a:ext cx="52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有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朋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自远方来，不亦乐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乎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？人不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70720" y="4695840"/>
            <a:ext cx="38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而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不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愠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不亦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君子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乎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76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常，经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6920" y="2205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悦”，愉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00840" y="3759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1760" y="38307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52704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气，发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9760" y="5904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学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0" y="5950080"/>
            <a:ext cx="63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固定句式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: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不亦……乎？”译作“不也是……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9760" y="36147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朋友，志同道合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5267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21747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133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生，指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83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也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916280"/>
            <a:ext cx="82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学习了（知识），然后按一定的时间温习它，不也是很高兴的（一件事）吗？有志同道合的人从远方（到这里）来，不也是很快乐的（一件事）吗？ 别人不了解我，我却不怨恨（他），（我）不也是君子吗？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549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学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77336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曾子曰：“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吾 日 三 省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吾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身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99736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为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人谋而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与朋友交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36572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信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1268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称代词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9079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指，泛指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查，反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替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心竭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78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诚，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5229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老师传授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421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91640" y="1268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00" y="1628640"/>
            <a:ext cx="789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文解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文解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27236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2205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我每天多次反省自己——给人家谋划做事是不是尽心竭力呢？和朋友交往是不是诚实呢？老师传授的知识是不是复习过呢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同学进行文句翻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314172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同样方法学习第三</a:t>
            </a:r>
            <a:r>
              <a:rPr b="1" lang="en-US" sz="4000" spc="-1" strike="noStrike">
                <a:solidFill>
                  <a:srgbClr val="cc5300"/>
                </a:solidFill>
                <a:latin typeface="Arial"/>
                <a:ea typeface="黑体"/>
              </a:rPr>
              <a:t>-</a:t>
            </a: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五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14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又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如“尔来二十有一年矣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1417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站立，站的住。能独立做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27082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志于做学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4508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惑，疑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133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吾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五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志于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而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四十而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惑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五十而知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命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437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不能为人力所支配的事情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如：上天的旨意、自然的禀性与天性、人生的道义和职责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62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），中国古代著名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</a:rPr>
              <a:t>末期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鲁国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尊称为“大成至圣”，联合国教科文组织把他列为世界十大名人之一。相传曾修《诗》《书》，订《礼》《乐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y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序《周易》，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春秋》。孔子曾任鲁国司寇，治理鲁国三个月，便使强大的齐国畏惧。因身处乱世，他所主张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仁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没有施展的空间，后携弟子周游列国。入东周拜老子为师。最终返回鲁国，专心执教。孔子开创私人讲学之风，弟子多达三千，贤弟子七十二人（“弟子三千，七十二贤人”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2133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六十而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耳顺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七十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从心所欲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逾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矩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34136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听得进不同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随心所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96000" y="141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过，超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5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矩，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60228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9640" y="1916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我十五岁就有志于做学问；三十岁能自立于世；四十岁（能通达事理，不为（外物）迷惑；五十岁的时候我知道哪些是不能为人力所支配的事情；六十岁时能听得进各种意见；七十岁能随心所欲，而不会逾越规矩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292640"/>
            <a:ext cx="19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16200" y="1916280"/>
            <a:ext cx="72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温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知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42900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可 以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为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师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矣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637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旧的，学过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422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éi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做，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88000" y="76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，意译为“领悟，获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221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781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2133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温习学过的知识后，能有新理解、新体会，就可以凭借（它）做老师了 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22280" y="2090880"/>
            <a:ext cx="58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学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而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不思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则   罔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76800" y="357336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思而不学则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殆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4365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1800" y="2708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惑，即感到迷茫而无所适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41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，可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1413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只是）读书而不开动脑筋，就会（被知识表象）所迷惑；（而）只是空想却不读书，就会有害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2492280"/>
            <a:ext cx="190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第六、七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692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雍也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844640"/>
            <a:ext cx="805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贤哉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回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！一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箪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食，一瓢饮，在陋巷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人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不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堪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其忧，回也不改其乐。贤哉，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！ 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1197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孔子的弟子颜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38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人，人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2565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代盛饭用的竹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8036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忍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多么有）贤德啊，颜回！一竹篮子饭，一瓢水，住在简陋的小巷子里别人都受不了那穷困的忧愁，颜回却依然自得其乐。（多么有）贤德啊，颜回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220500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 曰：“知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之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不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好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之者，好之者不如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乐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之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1484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词，它。这里指学问和事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924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喜欢，爱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620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雍也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443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……为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628640"/>
            <a:ext cx="820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60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60c"/>
                </a:solidFill>
                <a:latin typeface="Times New Roman"/>
              </a:rPr>
              <a:t>公元前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522</a:t>
            </a:r>
            <a:r>
              <a:rPr b="1" lang="zh-CN" sz="3200" spc="-1" strike="noStrike">
                <a:solidFill>
                  <a:srgbClr val="00060c"/>
                </a:solidFill>
                <a:latin typeface="Times New Roman"/>
              </a:rPr>
              <a:t>年，孔子开始收徒讲学。主张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教无类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”：不分贫富，不分贵贱，不分老少，不分国籍，四方弟子云集。庄子的一则寓言里说，孔子每到一处就在杏林里讲学，休息的时候，就坐在杏坛之上。后来人们就把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杏坛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”称作孔子讲学的地方，也代指教育。关于“杏”有两个不同说法，一指杏红飘香；一指银杏，“多果，象征着弟子满天下。树杆挺拔直立，绝不旁逸斜出，象征弟子们正直的品格。果仁既可食用，又可入药治病，象征弟子们学成后可以有利于社稷民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对于学习），知道怎么学习的人，不如爱好学习的人；爱好学习的人，不如以学习为乐的人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第八、九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述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484280"/>
            <a:ext cx="7662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饭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疏食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饮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曲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肱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枕之，乐亦在其中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不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富且贵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于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我如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云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765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粗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21337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冷水。“汤”，热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胳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35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用）不正当的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2360" y="49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吃粗粮，喝冷水，弯着胳膊当枕头，乐趣也就在其中了。用不正当的手段得来的富贵，对于我来讲就像是天上的浮云一样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述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1700280"/>
            <a:ext cx="7662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人行，必有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师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择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其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善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之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其不善者而改之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981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虚指，几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2492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此，意思是“在其中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7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优点，长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5964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5157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的缺点（如果自己也有）就改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几个人在一块儿，在其中一定有我的老师，我要选择他们的长处来学习，他们的缺点（如果自己也有）就改正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最后三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罕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1916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在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川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上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逝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者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斯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夫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不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舍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昼夜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1197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，河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565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414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在句尾表示感叹、议论。无实在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26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对着滔滔江水，（感慨地）说：“时光就像这流去的江水一样，日夜不停呀！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罕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916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三军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可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夺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匹夫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不可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夺志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也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1268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军队的通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12682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263700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普通的人，男子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07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变志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773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重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材施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注重“学”、“思”结合，其理论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身齐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治国平天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政治、经济、军事、伦理、教育，几乎无所不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还创立了以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为核心的道德学说 。他认为做人应该善良、富有同情心、乐于助人、待人真诚、宽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被尊称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至圣先师，万世师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军队可以改变主帅，（但哪怕是一个）普通的人，也不可以改变志气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张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1700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夏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博学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而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笃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志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切问而近思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仁在其中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349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忠实，坚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38606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恳切地提问，多考虑当前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981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泛地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夏说：“广泛地学习而且能坚守自己的志向，恳切地提问并且能多考虑当前的事情，仁德就在其中了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68240" y="6237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齐读、试背全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335772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重点词总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4572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文言文词语学习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55736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“单”变“双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——             朋——             温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乐——             师——             知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——             见——             改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——             逝——             舍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8480" y="231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78640" y="239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98160" y="239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温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59480" y="323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78640" y="323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24720" y="321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5948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496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看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7448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改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4832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4960" y="48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流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0940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457200"/>
            <a:ext cx="40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通假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863720"/>
            <a:ext cx="687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说：通“悦”，高兴，愉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8000" y="31417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有：通“又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013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通假字的读音和所通的字应该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57200" y="506520"/>
            <a:ext cx="67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古今异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960" y="1295280"/>
            <a:ext cx="79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：常常，经常。按一定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040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：多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99736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：可以凭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64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：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3860640"/>
            <a:ext cx="39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善者：优点，长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0440" y="4665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善者：缺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19280" y="55166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要多比较，留心，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506520"/>
            <a:ext cx="67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词类活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9960" y="1584360"/>
            <a:ext cx="79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378936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疏食饮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458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活用为动词。吃，吃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5661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要多领会，留心，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9960" y="2422440"/>
            <a:ext cx="78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均为形容词活用为名词。故，旧的知识。新，新的知识，新的理解和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8560" y="51768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语气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17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1341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59920" y="22543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矣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11280" y="227664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59920" y="301608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7120" y="299736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，有时无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920" y="38545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焉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6360" y="3716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是“了”，有时无义，文中是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里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90440" y="54450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多读多体会，就会明白，无须死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26920" y="69228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虚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19162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191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它，它们。他，他们。（分别指代不同的对象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3284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而时习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之者不如好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曲肱而枕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其善者而从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77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的弟子和再传弟子，把孔子及其弟子的言行记录下来，作成《论语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论语》是儒家学派的经典著作之一，由孔子的弟子及其再传弟子编撰而成。它以语录体和对话文体为主，记录了孔子及其弟子言行，集中体现了孔子的政治主张、伦理思想、道德观念及教育原则等。与《孟子》《大学》《中庸》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，（《诗经》《尚书》《礼记》《易经》《春秋》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）。通行本《论语》共二十篇。北宋宰相赵普赞曰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半部论语治天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83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《论语》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9640" y="1268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1268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、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92360" y="21337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十有五而志于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2997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、对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19280" y="393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我如浮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472428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06920" y="5661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己所不欲，勿施于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9079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1773360"/>
            <a:ext cx="72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而”字的用法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表转接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（转折）（可是，但是，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表顺接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：表并列、表承接（顺承）、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9640" y="170028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习之，不亦说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不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愠，不亦君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生于忧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死于安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面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8352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2205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371628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可是，但是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56360" y="422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并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56360" y="5157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修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692280"/>
            <a:ext cx="820908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下列句中“而”字的用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人不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为人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忠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与朋友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信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吾十有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志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三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，四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惑，五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天命，六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耳顺，七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心所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1636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213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299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386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522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9640" y="134136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而不思则罔，思而不学则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曲肱而枕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义而富且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择其善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之，其不善者而改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博学而笃志，切问而近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32720" y="134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4000" y="21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修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04000" y="2998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8624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47260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完成“研讨与练习”二、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源于本文的常用成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亦乐乎        三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十而立        四十不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故知新        博学笃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问近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择善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人行，必有我师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221000"/>
            <a:ext cx="352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己所不欲，勿施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事俱备，只欠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醉翁之意不在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40360" y="17733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大声齐背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76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舒体"/>
                <a:ea typeface="方正舒体"/>
              </a:rPr>
              <a:t>全文主要内容包括三个方面</a:t>
            </a:r>
            <a:r>
              <a:rPr b="0" lang="zh-CN" sz="4800" spc="-1" strike="noStrike">
                <a:solidFill>
                  <a:srgbClr val="0000cc"/>
                </a:solidFill>
                <a:latin typeface="方正舒体"/>
                <a:ea typeface="方正舒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3640" y="19162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方法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3880" y="33526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态度</a:t>
            </a: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3880" y="46483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身做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250720" y="101592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63760" y="2565360"/>
            <a:ext cx="261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正确的</a:t>
            </a:r>
            <a:r>
              <a:rPr b="1" lang="zh-CN" sz="4000" spc="-1" strike="noStrike">
                <a:solidFill>
                  <a:srgbClr val="0000cc"/>
                </a:solidFill>
                <a:latin typeface="方正姚体"/>
                <a:ea typeface="方正姚体"/>
              </a:rPr>
              <a:t>学习方法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复习旧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触类旁通，举一反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867280" y="2492280"/>
            <a:ext cx="2914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5640" y="1916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5300"/>
                </a:solidFill>
                <a:latin typeface="Arial"/>
                <a:ea typeface="黑体"/>
              </a:rPr>
              <a:t>老师示范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851120" y="1014480"/>
            <a:ext cx="565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三人行，必有我师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择其善者而从之，其不善者而改之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2760" y="342900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正确的</a:t>
            </a: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学习态度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虚心求教，取长补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867280" y="2492280"/>
            <a:ext cx="2914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03160" y="785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人不知而不愠，不亦君子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48400" y="2708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高尚的</a:t>
            </a: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个人修养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自求长进，提高修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940360" y="2637000"/>
            <a:ext cx="29145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635280" y="162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小组讨论，然后请用不同的符号标示出三方面有关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826920"/>
            <a:ext cx="813744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学习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故而知新，可以为师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而时习之，不亦说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而不思则罔，思而不学则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博学而笃志，切问而近思，仁在其中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765000"/>
            <a:ext cx="3352680" cy="792360"/>
          </a:xfrm>
          <a:prstGeom prst="wedgeRoundRectCallout">
            <a:avLst>
              <a:gd name="adj1" fmla="val -76847"/>
              <a:gd name="adj2" fmla="val 3216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227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学习了以后一定要花时间进行巩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3429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阐述学习和思考的辩证关系，认为一定要学思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4149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要广博地学习，又要有坚定的志向，既要多提问题，又要多想与自己的实际情况密切相关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96600" y="63817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620640"/>
            <a:ext cx="853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学习态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人行，必有我师焉。择其善者而从之，其不善者而改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之者不如好之者，好之者不如乐之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在川上曰：“逝者如斯夫，不舍昼夜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620640"/>
            <a:ext cx="3353040" cy="792360"/>
          </a:xfrm>
          <a:prstGeom prst="wedgeRoundRectCallout">
            <a:avLst>
              <a:gd name="adj1" fmla="val -78740"/>
              <a:gd name="adj2" fmla="val 32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～ ～ 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2565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兴趣对于学习的重要性。“兴趣是最好的老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对时光流逝的慨叹，实际上是劝人们要珍惜时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01480" y="476280"/>
            <a:ext cx="86425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修身做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知而不愠，不亦君子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朋自远方来，不亦乐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日三省吾身：为人谋而不忠乎？与朋友交而不信乎？传不习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49360"/>
            <a:ext cx="3353040" cy="792000"/>
          </a:xfrm>
          <a:prstGeom prst="wedgeRoundRectCallout">
            <a:avLst>
              <a:gd name="adj1" fmla="val -79120"/>
              <a:gd name="adj2" fmla="val 129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〔                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522936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古人治学非常重视品德的修养，“德才兼备”，每天自我反省——是否尽心尽力做事；是否以真诚交友；是否认真复习功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0720" y="29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学习的乐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95280" y="981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饭疏食饮水，曲肱而枕之，乐亦在其中矣。不义而富且贵，于我如浮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贤哉，回也！一箪食，一瓢饮，在陋巷，人不堪其忧，回也不改其乐。贤哉，回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军可夺帅也，匹夫不可夺志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68360" y="3789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高度赞扬颜回安贫乐道、淡泊名利、不与世俗同流合污的高贵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5280" y="227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孔子极力提倡“安贫乐道”的思想，认为真正有道德、有理想的君子，不会为物质享受而奔波忙碌。并且认为不凭道义而获得的富贵，就像虚幻的浮云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3429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人一定要有志气、品格。在任何时候、任何情况下都不能改变自己的心志，应该坚定信念、矢志不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635280" y="836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再次齐背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5280" y="1700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研讨与练习一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文论述的学习方法和学习态度中，你认为最有价值的是哪一点？为什么？ 在学习生活中，你在哪一方面做得最不够，今后有何打算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92360" y="501336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研讨与练习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468360" y="155736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 知之为知之，不知为不知，是知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贡问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文子何以谓之文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敏而好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耻下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以谓之文也。”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默而识之，学而不厌，诲人不倦，何有于我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吾尝终日不食，终夜不寝，以思，无益，不如学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贡问曰：“有一言而可以终身行之者乎？”子曰：“其恕乎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己所不欲，勿施于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曾子曰：“士不可以不弘毅，任重而道远。仁以为己任，不亦重乎？死而后已，不亦远乎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3960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260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765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指：自己不想要的东西，切勿强加给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己所不欲，勿施于人”是儒家思想的精华，所揭晓的是处理人际关系的重要原则，也是中华民族根深蒂固的信条。孔子所强调的是，人应该有宽广的胸怀，待人处事之时切勿心胸狭窄，而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尊重他人，平等待人，宽宏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倘若自己所讨厌的事物，硬推给他人，不仅会破坏与他人的关系，也会将事情弄得僵持而不可收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23600" y="312480"/>
            <a:ext cx="700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曾子杀彘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3960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360" y="170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子之妻之市，其子随之而泣。其母曰：“女还，顾反为女杀彘。”妻适市来，曾子欲捕彘杀之。妻止之曰：“特与婴儿戏耳。”曾子曰：“婴儿非与戏之也。婴儿非有知也，待父母而学者也，听父母之教。今子欺之，是教子欺也。母欺子，子而不信其母，非所以成教也。”遂烹彘也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选自《韩非子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17080" y="6237360"/>
            <a:ext cx="287280" cy="216000"/>
          </a:xfrm>
          <a:custGeom>
            <a:avLst/>
            <a:gdLst>
              <a:gd name="textAreaLeft" fmla="*/ 13320 w 287280"/>
              <a:gd name="textAreaRight" fmla="*/ 273960 w 28728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66" y="1350"/>
                </a:lnTo>
                <a:lnTo>
                  <a:pt x="1350" y="135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66" y="20250"/>
                </a:lnTo>
                <a:lnTo>
                  <a:pt x="27366" y="135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366" y="2025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16" h="21600">
                <a:moveTo>
                  <a:pt x="7314" y="3756"/>
                </a:moveTo>
                <a:lnTo>
                  <a:pt x="21402" y="10800"/>
                </a:lnTo>
                <a:lnTo>
                  <a:pt x="7314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BD3-FA58-446D-97D1-EE098617FBC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95280" y="1628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的夫人到集市上去赶集，她的孩子哭着也要跟着去。母亲就对他说：“你先回家待着，待会儿我回来杀猪给你吃。”曾子的夫人从集市上回来，就看见曾子要捉猪去杀。她就劝阻他说：“我只不过是跟孩子开玩笑罢了。”曾子说：“（夫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可不能开玩笑啊！孩子不知道（你）在和他开玩笑。孩子没有思考和判断能力，要向父母亲学习，听从父母亲给予的正确的教导。现在你在欺骗他，这就是教育孩子骗人啊！母亲欺骗孩子，孩子就不会再相信自己的母亲了，这不是教育孩子的正确方法啊。”于是曾子把猪给杀了，煮了之后把猪给孩子吃掉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26920" y="76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635280" y="1268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2133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背诵默写全文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924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完成学案“课时反馈”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41497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完成 “文科”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501336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预习新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620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检查预习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268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27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61080" y="1341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20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987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91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7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26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1341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2205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ù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2205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400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47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91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4849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5589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陬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5589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ōu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589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141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逾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07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új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9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检查预习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1044720" y="150192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谋而不忠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509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吾十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而志于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221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逝者如斯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4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24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32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4221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75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之者不如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3:24:23Z</dcterms:created>
  <dc:creator>An</dc:creator>
  <dc:description/>
  <dc:language>en-US</dc:language>
  <cp:lastModifiedBy/>
  <dcterms:modified xsi:type="dcterms:W3CDTF">2015-07-11T08:12:4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办公室">
    <vt:lpwstr>中小学教育教育资源</vt:lpwstr>
  </property>
  <property fmtid="{D5CDD505-2E9C-101B-9397-08002B2CF9AE}" pid="4" name="编辑">
    <vt:lpwstr>中小学教育教育资源</vt:lpwstr>
  </property>
  <property fmtid="{D5CDD505-2E9C-101B-9397-08002B2CF9AE}" pid="5" name="部门">
    <vt:lpwstr>www.edudown.net</vt:lpwstr>
  </property>
</Properties>
</file>