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EB3-B50B-48FD-B3CC-A565C8DB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A47-F66E-49F6-88C1-E88917B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81B-01F7-440F-8376-856A96D6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56A-CF95-4A30-8299-D6E030A3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B09-282B-4FE7-BE68-9E58F365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7DB6-FC5C-428D-BD4B-6977C7D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E9B-D704-4394-9BF0-5C93679A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F6D-A652-4AD6-8EE9-2A886C9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E03B-7904-4C67-9EBA-26DAB741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398F-6745-4351-8B52-DFCC5A4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35C-40B9-4CA9-9415-C9B4471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55B-8D52-403C-9285-9CDAE9DD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1766-B24B-4D62-89FA-0CBDE3C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E46B-9E87-469D-9FB2-854D1FD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998-D8E6-4C17-9558-0211B63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53F0-7A14-4956-B069-58F8C7CD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947-A0E7-487C-892B-CAA6477B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7C6-4214-425F-8492-6E57EFE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F0D-9D0D-4024-94B1-0CE9565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FAE-C98C-47C0-8F82-68ECBDCC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A8-DA88-4C3B-8F57-3FF7A4E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965-CD0E-45A6-BF82-5AA99C6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D9E-9CC9-478F-A4F6-351E621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2EE-BE23-4FB0-9E94-55E37CC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000" cy="7676280"/>
            <a:chOff x="-465480" y="-320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000" cy="7676280"/>
              <a:chOff x="-465480" y="-320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640" y="47196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960" y="40784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6000" y="481032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400" y="56214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232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7520" y="3247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8760" y="2979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656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0560" y="59259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72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8560" y="48394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84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5880" y="47404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4840" y="3156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400" y="53294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8720" y="4665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7320" y="58878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720" y="556092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6520" y="4578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000" y="3211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4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400" y="-30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55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400" y="1976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6640" y="1484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1600" y="2293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8120" y="147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360" y="1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50600" y="1354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60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4080" y="2560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3800" y="-30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31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3480" y="51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21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000" y="2293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4160" y="1473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2760" y="1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60400" y="134928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9760" y="7272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5440" y="176364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812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11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8920" y="-103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1036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479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2320" y="507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9600" y="2527200"/>
                <a:ext cx="12733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8880" y="1202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5640" y="-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320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240" y="46620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9760" y="40798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5440" y="511668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8920" y="5702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6880" y="32115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1680" y="31712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9560" y="582156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6048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9240" y="574668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160" y="405972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3760" y="3320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20880" y="3813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480" y="536760"/>
                <a:ext cx="865008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480" y="446400"/>
                <a:ext cx="865008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372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5640" y="149400"/>
              <a:ext cx="1254240" cy="1170000"/>
              <a:chOff x="215640" y="149400"/>
              <a:chExt cx="1254240" cy="1170000"/>
            </a:xfrm>
          </p:grpSpPr>
          <p:sp>
            <p:nvSpPr>
              <p:cNvPr id="91" name=""/>
              <p:cNvSpPr/>
              <p:nvPr/>
            </p:nvSpPr>
            <p:spPr>
              <a:xfrm>
                <a:off x="215640" y="167040"/>
                <a:ext cx="125424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3160"/>
                <a:ext cx="287280" cy="84636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080" y="149400"/>
                <a:ext cx="1057320" cy="30960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440"/>
                <a:ext cx="682560" cy="66204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080" y="379440"/>
                <a:ext cx="406440" cy="40320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7D68-5157-47BE-B5E2-5E7E088BC31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4640" cy="7676280"/>
            <a:chOff x="-468360" y="-293400"/>
            <a:chExt cx="976464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4640" cy="7676280"/>
              <a:chOff x="-468360" y="-293400"/>
              <a:chExt cx="976464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760" y="47466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3080" y="41054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760" y="483732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2160" y="56484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908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464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5880" y="3006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368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116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320" y="59529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84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64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196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560" y="37432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640" y="40924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4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800" y="5940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1160" y="310212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720" y="318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520" y="53564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160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4440" y="59148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792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3280" y="4605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60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1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640" y="739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20" y="177660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800" y="2587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452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268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8720" y="2320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4880" y="150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348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096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772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680" y="73980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72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840" y="2587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9056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90240" y="157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0600" y="78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928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40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4760" y="23209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64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280" y="150084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988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56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7160" y="137628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6520" y="7542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2200" y="179064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48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58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71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168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080" y="5097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6360" y="2554200"/>
                <a:ext cx="12733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29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240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9960" y="73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000" y="468900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6520" y="4106880"/>
                <a:ext cx="156672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2200" y="5143680"/>
                <a:ext cx="103212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29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3640" y="32385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440" y="31982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6320" y="584856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7240" y="5068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6000" y="577368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672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7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764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5040" y="2772720"/>
              <a:ext cx="8877960" cy="2530800"/>
              <a:chOff x="95040" y="2772720"/>
              <a:chExt cx="8877960" cy="253080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3880" y="3305880"/>
                <a:ext cx="178416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240" y="3526200"/>
                <a:ext cx="8744760" cy="223920"/>
                <a:chOff x="228240" y="3526200"/>
                <a:chExt cx="874476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240" y="3526200"/>
                  <a:ext cx="874476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9280" y="3589920"/>
                  <a:ext cx="864972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4760" cy="223920"/>
                <a:chOff x="120600" y="3435480"/>
                <a:chExt cx="8744760" cy="223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4760" cy="223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1640" y="3499200"/>
                  <a:ext cx="8649720" cy="5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2640" y="2772720"/>
                <a:ext cx="2102400" cy="2153160"/>
                <a:chOff x="152640" y="2772720"/>
                <a:chExt cx="2102400" cy="215316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89160" y="3102120"/>
                  <a:ext cx="1628640" cy="149400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58360" y="3729960"/>
                  <a:ext cx="367560" cy="109656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5040" y="3399840"/>
                  <a:ext cx="138060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67600" y="3358800"/>
                  <a:ext cx="885960" cy="85824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59880" y="3656520"/>
                  <a:ext cx="52740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9312-8AAF-4C04-8CDA-129C05A3DB90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066680" y="1447920"/>
            <a:ext cx="76201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工业生产活动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32640" y="6588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工业的不同类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133720"/>
            <a:ext cx="152280" cy="3429000"/>
          </a:xfrm>
          <a:custGeom>
            <a:avLst/>
            <a:gdLst>
              <a:gd name="textAreaLeft" fmla="*/ 97200 w 152280"/>
              <a:gd name="textAreaRight" fmla="*/ 15264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77520" y="5181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05960" y="1905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05960" y="441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金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12440" y="2743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05960" y="3581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36520" y="151452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卫星制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5760" y="227664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水果罐头生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25600" y="311472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大型乙烯生产基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3120" y="3952800"/>
            <a:ext cx="21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家用电器的装配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24440" y="479124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有色金属冶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30640" y="5576760"/>
            <a:ext cx="20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精密光学仪器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398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3360" y="2209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33360" y="3062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金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9840" y="390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33360" y="480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源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33360" y="556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技术密集型工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67040" y="1752480"/>
            <a:ext cx="228600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00560" y="2514600"/>
            <a:ext cx="17524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2320" y="3352680"/>
            <a:ext cx="99072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57760" y="4191120"/>
            <a:ext cx="12952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2840" y="5105520"/>
            <a:ext cx="160020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57760" y="5867280"/>
            <a:ext cx="129528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75840" y="4255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讨论：以下各部门应属于什么类型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10824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世界工业区的分布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024640" y="10666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世界工业的分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7760" y="2629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世界范围内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27760" y="3619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国家范围内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7440" y="2629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欧洲、北美、日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440" y="3611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少数地区和少数城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28954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5334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5560" y="5211720"/>
            <a:ext cx="33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工业分布的集中特点是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集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04920" y="1066680"/>
          <a:ext cx="8610480" cy="4952880"/>
        </p:xfrm>
        <a:graphic>
          <a:graphicData uri="http://schemas.openxmlformats.org/drawingml/2006/table">
            <a:tbl>
              <a:tblPr/>
              <a:tblGrid>
                <a:gridCol w="2438280"/>
                <a:gridCol w="1828800"/>
                <a:gridCol w="2286000"/>
                <a:gridCol w="2057400"/>
              </a:tblGrid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一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二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第三次技术革命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出现年代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标志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工业部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最早分布的主要国家或地区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主要投入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110760" y="22096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界中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3380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蒸汽机发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21160" y="3657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纺织、钢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8176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22600" y="5410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资源、劳动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90160" y="2174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世纪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62840" y="276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电气化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81280" y="3284640"/>
            <a:ext cx="5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电力、化学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石油、汽车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飞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7040" y="45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688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美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3280" y="5300640"/>
            <a:ext cx="22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资金、技术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资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60320" y="2098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世纪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年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24560" y="276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微电子技术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81680" y="3297240"/>
            <a:ext cx="3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信息工业、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物工程、新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源、新材料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72880" y="4668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美国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81680" y="5430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高科技、资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8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发展的几个阶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82120" y="10904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原料和劳动力对工业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投入发生了巨大变化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08600" y="281952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业对劳动力数量、体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投入要求越来越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93400" y="4343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劳动力知识、技术的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入逐渐增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23920" y="33526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07400" y="16160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生产由标准化向定制品发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73680" y="2819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产标准化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30400" y="3886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制品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4840" y="2849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卖方市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14840" y="3886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买方市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31240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609480" y="914400"/>
          <a:ext cx="8381880" cy="5457960"/>
        </p:xfrm>
        <a:graphic>
          <a:graphicData uri="http://schemas.openxmlformats.org/drawingml/2006/table">
            <a:tbl>
              <a:tblPr/>
              <a:tblGrid>
                <a:gridCol w="2819520"/>
                <a:gridCol w="2361960"/>
                <a:gridCol w="3200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农业生产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工业生产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生产对象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生产场所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所需自然条件极其依赖程度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所需社会经济条件极其依赖程度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对环境的不利影响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在国民经济中的作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362120" y="1523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植物、微生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844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自然资源和其他原材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796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农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8600" y="21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工厂、车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8200" y="2840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赖程度很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76960" y="26827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一些部门依赖程度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一些部门依赖程度不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612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3784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越来越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50640" y="3809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依赖程度很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47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要是生态破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88080" y="47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主要是环境污染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76640" y="563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基础部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5440" y="563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具有主导作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08560" y="1969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一种原料可以生产不同的产品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54320" y="5987880"/>
            <a:ext cx="5518080" cy="64260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一种产品需要多种原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6172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5d38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167280" y="1206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的投入举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21932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棉纺织厂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棉花、纺织机械、电力、劳动力、资金、技术、场地、厂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汽车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汽车零部件、电力、机械和电控设备、劳动力、水源、涂料、资金、技术、场地、厂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钢铁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黑色金属矿产、煤炭、耐火砖、电力、机械和电控设备、场地、厂房、劳动力、资金、技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手机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锌片（集成电路）、清洁的水源、电力、资金、技术、厂房、劳动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煤炭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煤炭资源、水源、电力、机械、资金、技术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纯碱生产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海盐、石灰石、氨、芒硝、煤炭、电力、资金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1981080"/>
            <a:ext cx="815328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工业生产的共同投入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土地、原料（零部件）、水源、劳动力、电力、资金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4f8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59892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的投入—产出模式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77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701440" y="1362240"/>
            <a:ext cx="4455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工业投入的特点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在地域上的灵活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季节上的连续生产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产品更新换代的周期越来越短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科学技术投入加大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4920" y="287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工业产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233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活需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6560" y="3382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产需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21280" y="27496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76680" y="717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工业产出的用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5:06Z</dcterms:created>
  <dc:creator/>
  <dc:description/>
  <cp:keywords>工业生产 活动</cp:keywords>
  <dc:language>en-US</dc:language>
  <cp:lastModifiedBy/>
  <dcterms:modified xsi:type="dcterms:W3CDTF">2015-07-09T13:26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