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701760" y="134100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55600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2888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701760" y="3221640"/>
            <a:ext cx="197388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97720" y="322164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97720" y="1341000"/>
            <a:ext cx="29916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56000" y="3221640"/>
            <a:ext cx="6130800" cy="17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66"/>
                </a:solidFill>
                <a:latin typeface="Arial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34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3348000" y="2981160"/>
            <a:ext cx="532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4292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35320" y="324648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免费情人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56000" y="1341000"/>
            <a:ext cx="6130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4720" y="4870440"/>
            <a:ext cx="62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60360" y="4870440"/>
            <a:ext cx="649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285264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图片素材来自互联网，版权归原作者所有。本模板仅供学习与参考，请勿使用于商业用途
</dc:description>
  <cp:keywords>ppt幻灯设计/ppt模板设计</cp:keywords>
  <dc:language>en-US</dc:language>
  <cp:lastModifiedBy>jccook</cp:lastModifiedBy>
  <dcterms:modified xsi:type="dcterms:W3CDTF">2015-07-11T15:38:44Z</dcterms:modified>
  <cp:revision>6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