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EFF-FA11-47B9-A98D-1081B2AB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5C4-B765-41E0-856E-970A14B3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1A9-750C-495D-80B1-72CAB53B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9EE-5C56-4201-92B7-FA157B3F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C61-2C61-42CC-B295-BBE67470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602-9471-4DD3-8C90-D85AB9B7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968-4B46-464D-ABA1-3F212398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6D4-1853-4A79-B836-37F8574C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B63-16BB-484C-A713-87E4CE73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EE8-EB57-4ACC-8F2F-E32D94D9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773-AB0A-4286-A9DF-756C912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DB6-AB53-4315-A50E-EC571667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5AB1-FF62-465B-A3E3-148272E7A0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92AE-91E2-4B8E-B8DE-04D63716DB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iStock_000005493081Small.jpg"/>
          <p:cNvPicPr/>
          <p:nvPr/>
        </p:nvPicPr>
        <p:blipFill>
          <a:blip r:embed="rId1"/>
          <a:srcRect l="0" t="0" r="25" b="39"/>
          <a:stretch/>
        </p:blipFill>
        <p:spPr>
          <a:xfrm>
            <a:off x="1444680" y="2840040"/>
            <a:ext cx="7696080" cy="40496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158760"/>
            <a:ext cx="9144000" cy="3124080"/>
            <a:chOff x="0" y="158760"/>
            <a:chExt cx="9144000" cy="3124080"/>
          </a:xfrm>
        </p:grpSpPr>
        <p:sp>
          <p:nvSpPr>
            <p:cNvPr id="44" name="Rectangle 23"/>
            <p:cNvSpPr/>
            <p:nvPr/>
          </p:nvSpPr>
          <p:spPr>
            <a:xfrm>
              <a:off x="0" y="2503440"/>
              <a:ext cx="9144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3"/>
            <p:cNvSpPr/>
            <p:nvPr/>
          </p:nvSpPr>
          <p:spPr>
            <a:xfrm>
              <a:off x="963360" y="158760"/>
              <a:ext cx="685800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0" spc="-1" strike="noStrike">
                  <a:solidFill>
                    <a:srgbClr val="808080"/>
                  </a:solidFill>
                  <a:latin typeface="Arial Narrow"/>
                </a:rPr>
                <a:t>6.4%</a:t>
              </a:r>
              <a:r>
                <a:rPr b="1" lang="es-ES" sz="9600" spc="-1" strike="noStrike">
                  <a:solidFill>
                    <a:srgbClr val="808080"/>
                  </a:solidFill>
                  <a:latin typeface="Arial Narrow"/>
                </a:rPr>
                <a:t> </a:t>
              </a:r>
              <a:r>
                <a:rPr b="1" lang="es-ES" sz="4000" spc="-1" strike="noStrike">
                  <a:solidFill>
                    <a:srgbClr val="808080"/>
                  </a:solidFill>
                  <a:latin typeface="Arial Narrow"/>
                </a:rPr>
                <a:t>(2%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90560" y="2840040"/>
            <a:ext cx="49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女货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8720" y="3718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7-06T14:15:5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