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C973-34FE-49C9-BC10-3E760C12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27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7E2-E22E-4B4E-9106-CD8EF4F1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6EB3-3E3E-45EB-AF57-5CCD8F9A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D1D-EBD9-404D-B628-775A6423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BB9E-8075-4878-BC5F-30ED9FE9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EA53-3317-4166-BA37-245E0EDF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7303-A599-4CB9-8EF1-593692E4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1566-8DF4-47DF-90E4-20ED4D05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DCEB-8FCF-48C9-A4C4-87A019CE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00040" y="285840"/>
            <a:ext cx="8229600" cy="19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EB83-490E-453E-AB90-A9038C98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C558-3765-4DA1-997B-1B17A080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B626-1040-43A1-8A70-C0DBA173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7306-0D4C-45B5-A0CD-069BEFF7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7115-AAC7-4057-A3AE-56BB1773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27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ABB8-3670-4DF0-A2C1-1E7D9D55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37B8-FC37-4936-AD0C-401A0AF9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0C64-DA31-4AD6-8532-08414C40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50C41-A747-4115-AFCF-85EBF95D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98F7C-BC62-4466-811C-80F52B2D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3CC85-E187-427A-A695-2E262D8C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6F886-F210-4522-AA7C-0C00532E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30162-5A21-42C5-9C2D-E04F4E6E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E88-1395-4CA1-947B-9291D4FF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00040" y="285840"/>
            <a:ext cx="8229600" cy="19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F6B31-109B-4AF6-B236-B6125A5F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1FBBC-1E31-464A-BB53-23370CDB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77F20-55C2-4AC7-BC82-D0DE6516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1338D-80DE-4BD0-84C3-E8BA45F6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27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6C740-BBD7-4C13-8DFB-D0D78DDD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60016-A031-48CB-9F23-EFB9F676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BAFFB-EDF7-46E0-8516-66E9FEBE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8EB-2ABF-4C59-BF96-7A5E3EFE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02BD-F643-4BA0-AA5F-EB0F047F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0040" y="285840"/>
            <a:ext cx="8229600" cy="19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B783-1FDF-4FB7-8072-43CFD299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715-8E6F-4140-BFAB-E84BB312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0A2-55EF-4992-8667-6865D2C0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705-CD40-417B-AC5A-0915B4F9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内页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051F-3FEF-4228-B6B7-7CCCE63CB0CE}" type="slidenum">
              <a:rPr b="0" lang="zh-CN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1.png"/>
          <p:cNvPicPr/>
          <p:nvPr/>
        </p:nvPicPr>
        <p:blipFill>
          <a:blip r:embed="rId3"/>
          <a:srcRect l="18705" t="7777" r="19908" b="12344"/>
          <a:stretch/>
        </p:blipFill>
        <p:spPr>
          <a:xfrm>
            <a:off x="1709640" y="533520"/>
            <a:ext cx="5613480" cy="54784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2.png"/>
          <p:cNvPicPr/>
          <p:nvPr/>
        </p:nvPicPr>
        <p:blipFill>
          <a:blip r:embed="rId4"/>
          <a:srcRect l="26668" t="17035" r="27129" b="21110"/>
          <a:stretch/>
        </p:blipFill>
        <p:spPr>
          <a:xfrm>
            <a:off x="2405160" y="1150920"/>
            <a:ext cx="4224240" cy="42418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3.png"/>
          <p:cNvPicPr/>
          <p:nvPr/>
        </p:nvPicPr>
        <p:blipFill>
          <a:blip r:embed="rId5"/>
          <a:srcRect l="0" t="0" r="75005" b="82299"/>
          <a:stretch/>
        </p:blipFill>
        <p:spPr>
          <a:xfrm>
            <a:off x="0" y="0"/>
            <a:ext cx="2286000" cy="1214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4877-2719-4304-83DF-CB6FAEF31A4B}" type="slidenum">
              <a:rPr b="0" lang="zh-CN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7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8" descr="1.png"/>
          <p:cNvPicPr/>
          <p:nvPr/>
        </p:nvPicPr>
        <p:blipFill>
          <a:blip r:embed="rId3"/>
          <a:srcRect l="18705" t="7777" r="19908" b="12344"/>
          <a:stretch/>
        </p:blipFill>
        <p:spPr>
          <a:xfrm>
            <a:off x="1709640" y="533520"/>
            <a:ext cx="5613480" cy="54784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9" descr="2.png"/>
          <p:cNvPicPr/>
          <p:nvPr/>
        </p:nvPicPr>
        <p:blipFill>
          <a:blip r:embed="rId4"/>
          <a:srcRect l="26668" t="17035" r="27129" b="21110"/>
          <a:stretch/>
        </p:blipFill>
        <p:spPr>
          <a:xfrm>
            <a:off x="2405160" y="1150920"/>
            <a:ext cx="4224240" cy="42418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0" descr="3.png"/>
          <p:cNvPicPr/>
          <p:nvPr/>
        </p:nvPicPr>
        <p:blipFill>
          <a:blip r:embed="rId5"/>
          <a:srcRect l="0" t="0" r="75005" b="82299"/>
          <a:stretch/>
        </p:blipFill>
        <p:spPr>
          <a:xfrm>
            <a:off x="3357720" y="2500200"/>
            <a:ext cx="2286000" cy="1214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FA8D-00DD-4459-9CD5-0BA787E72543}" type="slidenum">
              <a:rPr b="0" lang="zh-CN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jier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1"/>
          <p:cNvSpPr/>
          <p:nvPr/>
        </p:nvSpPr>
        <p:spPr>
          <a:xfrm>
            <a:off x="3687120" y="292896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b0087"/>
                </a:solidFill>
                <a:latin typeface="幼圆"/>
                <a:ea typeface="幼圆"/>
              </a:rPr>
              <a:t>母亲节</a:t>
            </a:r>
            <a:r>
              <a:rPr b="1" lang="zh-CN" sz="2400" spc="-1" strike="noStrike">
                <a:solidFill>
                  <a:srgbClr val="eb0087"/>
                </a:solidFill>
                <a:latin typeface="幼圆"/>
                <a:ea typeface="幼圆"/>
              </a:rPr>
              <a:t>PPT</a:t>
            </a:r>
            <a:r>
              <a:rPr b="1" lang="zh-CN" sz="2400" spc="-1" strike="noStrike">
                <a:solidFill>
                  <a:srgbClr val="eb0087"/>
                </a:solidFill>
                <a:latin typeface="幼圆"/>
                <a:ea typeface="幼圆"/>
              </a:rPr>
              <a:t>模板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38600" y="6526080"/>
            <a:ext cx="229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华文细黑"/>
              </a:rPr>
              <a:t>模板使用说明</a:t>
            </a: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85640" y="108864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华文细黑"/>
              </a:rPr>
              <a:t>添加</a:t>
            </a:r>
            <a:r>
              <a:rPr b="0" lang="en-US" sz="1800" spc="-1" strike="noStrike">
                <a:solidFill>
                  <a:srgbClr val="262626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262626"/>
                </a:solidFill>
                <a:latin typeface="华文细黑"/>
              </a:rPr>
              <a:t>：</a:t>
            </a:r>
            <a:endParaRPr b="0" lang="en-US" sz="18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03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版本选择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视图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——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母版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——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幻灯片母版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下调整；</a:t>
            </a: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07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版本选择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视图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——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幻灯片母版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，</a:t>
            </a: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华文细黑"/>
              </a:rPr>
              <a:t>字体格式的设置：</a:t>
            </a:r>
            <a:endParaRPr b="0" lang="en-US" sz="18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本模板默认字体为“华文细黑”，</a:t>
            </a: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如需修改字体请在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视图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--&gt;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母版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--&gt;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幻灯片母版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下调整。</a:t>
            </a: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华文细黑"/>
              </a:rPr>
              <a:t>版权说明：</a:t>
            </a:r>
            <a:endParaRPr b="0" lang="en-US" sz="18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此模板为免费模板，</a:t>
            </a: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请勿用于任何形式的付费下载，</a:t>
            </a: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4941720"/>
            <a:ext cx="5614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bad16f"/>
                </a:solidFill>
                <a:uFillTx/>
                <a:latin typeface="Arial"/>
                <a:hlinkClick r:id="rId1"/>
              </a:rPr>
              <a:t>母亲节ppt模板</a:t>
            </a: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3:29:13Z</dcterms:created>
  <dc:creator>IdeaPPT</dc:creator>
  <dc:description>www.ideappt.com  中国专业PPT设计团队</dc:description>
  <dc:language>en-US</dc:language>
  <cp:lastModifiedBy>xuduo</cp:lastModifiedBy>
  <dcterms:modified xsi:type="dcterms:W3CDTF">2015-07-09T10:51:20Z</dcterms:modified>
  <cp:revision>40</cp:revision>
  <dc:subject/>
  <dc:title>节日-粉色-母亲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