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4C28-FACA-4ECF-ADC1-71386E2C1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765D-4A7B-49A1-A8C1-796030142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0E43-C839-4DF6-9E68-B448439E7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5116-EF7D-40F1-9A6F-96B23F668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A8990-A7AA-4EE0-A3A6-F39BD89FF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0CEE-AFBD-475C-918D-E418DAE8F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38A1-ADC5-4702-93D0-F2E84F87F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FF88-8CB7-4486-9D8A-53300130E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C85E-3B09-47F9-B7EE-F8C93A8A0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EBB5-763D-48D0-9BEB-DFA947589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099C-428F-4F94-B896-58EFDC607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46F10-51A1-4882-834E-9B157078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2563C-F1CB-4DF6-8868-F3CEBC014A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76320" y="1371600"/>
            <a:ext cx="9144000" cy="4876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9600" y="617364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1676520"/>
            <a:ext cx="46069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18000" y="533520"/>
            <a:ext cx="321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跑进家来的松鼠课件 鲁教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90720" y="685800"/>
            <a:ext cx="6532560" cy="74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828800" y="762120"/>
            <a:ext cx="63244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动脑筋，想一想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2819520"/>
            <a:ext cx="7523280" cy="304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c0c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c0c0c"/>
                </a:solidFill>
                <a:latin typeface="Arial"/>
                <a:ea typeface="华文仿宋"/>
              </a:rPr>
              <a:t>“</a:t>
            </a:r>
            <a:r>
              <a:rPr b="1" lang="zh-CN" sz="4400" spc="-1" strike="noStrike">
                <a:solidFill>
                  <a:srgbClr val="fc0c0c"/>
                </a:solidFill>
                <a:latin typeface="Arial"/>
                <a:ea typeface="华文仿宋"/>
              </a:rPr>
              <a:t>我们一家人”对松鼠干的“坏事”是什么态度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c0c0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c0c0c"/>
                </a:solidFill>
                <a:latin typeface="Arial"/>
                <a:ea typeface="华文仿宋"/>
              </a:rPr>
              <a:t>从课文中找到相关的句子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0" y="380880"/>
            <a:ext cx="1517760" cy="18050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39600" y="617364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7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2" dur="500"/>
                                        <p:tgtEl>
                                          <p:spTgt spid="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838080"/>
            <a:ext cx="712944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爸爸哈哈大笑，说：“我怎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没想到这一点呢！咱们家的松鼠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在储备冬粮呢。森林里的松鼠到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秋天，就要开始储备冬粮。这是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鼠的天性，咱们的松鼠自然也不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落后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85800" y="1295280"/>
            <a:ext cx="712944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爸爸</a:t>
            </a:r>
            <a:r>
              <a:rPr b="1" lang="zh-CN" sz="3600" spc="-1" strike="noStrike">
                <a:solidFill>
                  <a:srgbClr val="fc0c0c"/>
                </a:solidFill>
                <a:latin typeface="Comic Sans MS"/>
              </a:rPr>
              <a:t>哈哈大笑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，说：“我怎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没想到这一点呢！</a:t>
            </a:r>
            <a:r>
              <a:rPr b="1" lang="zh-CN" sz="3600" spc="-1" strike="noStrike">
                <a:solidFill>
                  <a:srgbClr val="fc0c0c"/>
                </a:solidFill>
                <a:latin typeface="Comic Sans MS"/>
              </a:rPr>
              <a:t>咱们家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的松鼠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在储备冬粮呢。森林里的松鼠到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秋天，就要开始储备冬粮。这是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鼠的天性，</a:t>
            </a:r>
            <a:r>
              <a:rPr b="1" lang="zh-CN" sz="3600" spc="-1" strike="noStrike">
                <a:solidFill>
                  <a:srgbClr val="fc0c0c"/>
                </a:solidFill>
                <a:latin typeface="Comic Sans MS"/>
              </a:rPr>
              <a:t>咱们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的松鼠自然也不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落后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143000" y="1676520"/>
            <a:ext cx="6858000" cy="8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18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有一天，它干脆失踪了，哪儿也找不到。也许它跑到花园或森林里去了吧？我们心里空落落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600" y="617364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6F54E-6CB8-48F2-84E4-64FB06F5FDF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143000" y="1676520"/>
            <a:ext cx="6858000" cy="8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0" bIns="118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有一天，它干脆失踪了，哪儿也找不到。也许它跑到花园或森林里去了吧？我们心里</a:t>
            </a:r>
            <a:r>
              <a:rPr b="1" lang="zh-CN" sz="4000" spc="-1" strike="noStrike">
                <a:solidFill>
                  <a:srgbClr val="fc0c0c"/>
                </a:solidFill>
                <a:latin typeface="Comic Sans MS"/>
              </a:rPr>
              <a:t>空落落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0000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2514600" y="1066680"/>
            <a:ext cx="5589720" cy="7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66ff"/>
                </a:solidFill>
                <a:latin typeface="Arial"/>
                <a:ea typeface="华文中宋"/>
              </a:rPr>
              <a:t>作文训练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914400" y="2666880"/>
            <a:ext cx="754380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华文仿宋"/>
              </a:rPr>
              <a:t>借鉴本文的写法，完成作文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华文仿宋"/>
              </a:rPr>
              <a:t>《＿＿＿与＿＿＿的故事》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华文仿宋"/>
              </a:rPr>
              <a:t>（可以是我与动物，也可以是别人与动物之间发生的真情故事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533520" y="762120"/>
            <a:ext cx="1798560" cy="180792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284120" y="6364440"/>
            <a:ext cx="6766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3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1752480" y="1600200"/>
            <a:ext cx="533412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962520" y="2970360"/>
            <a:ext cx="5181480" cy="38876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914400" y="83808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橱柜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放置餐具的柜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1523880"/>
            <a:ext cx="5181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储备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储存起来准备必要时用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  <a:ea typeface="楷体_GB2312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14400" y="220968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哭笑不得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形容处境尴尬，不知如何是好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281952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蹿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向上或向前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3276720"/>
            <a:ext cx="63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楷体_GB2312"/>
              </a:rPr>
              <a:t>垫窝</a:t>
            </a:r>
            <a:r>
              <a:rPr b="1" lang="zh-CN" sz="2800" spc="-1" strike="noStrike">
                <a:solidFill>
                  <a:srgbClr val="006600"/>
                </a:solidFill>
                <a:latin typeface="Arial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fc0c0c"/>
                </a:solidFill>
                <a:latin typeface="Arial"/>
                <a:ea typeface="楷体_GB2312"/>
              </a:rPr>
              <a:t>文中指松鼠把手套、头巾等铺在自己的窝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14400" y="2209680"/>
            <a:ext cx="7086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c0c0c"/>
                </a:solidFill>
                <a:latin typeface="黑体"/>
                <a:ea typeface="黑体"/>
              </a:rPr>
              <a:t>   </a:t>
            </a:r>
            <a:r>
              <a:rPr b="1" lang="zh-CN" sz="4800" spc="-1" strike="noStrike">
                <a:solidFill>
                  <a:srgbClr val="fc0c0c"/>
                </a:solidFill>
                <a:latin typeface="黑体"/>
                <a:ea typeface="黑体"/>
              </a:rPr>
              <a:t>默读课文，说说松鼠在“我”家做了哪些事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819520" y="609480"/>
            <a:ext cx="328284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3d4a8"/>
                    </a:gs>
                    <a:gs pos="100000">
                      <a:srgbClr val="005cbf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华文中宋"/>
              </a:rPr>
              <a:t>整体把握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3d4a8"/>
                  </a:gs>
                  <a:gs pos="100000">
                    <a:srgbClr val="005cbf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562720" y="4419720"/>
            <a:ext cx="1798560" cy="18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09480" y="685800"/>
            <a:ext cx="1689120" cy="16002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666880" y="838080"/>
            <a:ext cx="403884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008000"/>
                </a:solidFill>
                <a:latin typeface="Arial"/>
              </a:rPr>
              <a:t>主要内容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3520" y="2133720"/>
            <a:ext cx="8208720" cy="35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松鼠千方百计地“贮存冬粮”，把糖、面包皮、骨头等藏到大柜顶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我们采来的一篮子鲜蘑菇，松鼠忙活了一个早晨，把它们全晾上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66"/>
                </a:solidFill>
                <a:latin typeface="Arial"/>
                <a:ea typeface="黑体"/>
              </a:rPr>
              <a:t>天冷了，松鼠把手套、头巾等东西叼到烟囱里，给自己垫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600" y="6173640"/>
            <a:ext cx="202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>
            <a:lum bright="18000"/>
          </a:blip>
          <a:srcRect l="1998" t="2678" r="1002" b="6331"/>
          <a:stretch/>
        </p:blipFill>
        <p:spPr>
          <a:xfrm>
            <a:off x="0" y="914400"/>
            <a:ext cx="9144000" cy="54100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187280" y="1773360"/>
            <a:ext cx="698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Comic Sans MS"/>
              </a:rPr>
              <a:t>它整天满屋乱跑，在橱柜和架子上跳来跳去，动作灵活得惊人，从来没有碰掉过一样东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187280" y="1773360"/>
            <a:ext cx="6985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它整天</a:t>
            </a:r>
            <a:r>
              <a:rPr b="1" lang="zh-CN" sz="5400" spc="-1" strike="noStrike">
                <a:solidFill>
                  <a:srgbClr val="fc0c0c"/>
                </a:solidFill>
                <a:latin typeface="Comic Sans MS"/>
              </a:rPr>
              <a:t>满屋乱跑</a:t>
            </a: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，在橱柜和架子上</a:t>
            </a:r>
            <a:r>
              <a:rPr b="1" lang="zh-CN" sz="5400" spc="-1" strike="noStrike">
                <a:solidFill>
                  <a:srgbClr val="fc0c0c"/>
                </a:solidFill>
                <a:latin typeface="Comic Sans MS"/>
              </a:rPr>
              <a:t>跳来跳去</a:t>
            </a: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，动作</a:t>
            </a:r>
            <a:r>
              <a:rPr b="1" lang="zh-CN" sz="5400" spc="-1" strike="noStrike">
                <a:solidFill>
                  <a:srgbClr val="fc0c0c"/>
                </a:solidFill>
                <a:latin typeface="Comic Sans MS"/>
              </a:rPr>
              <a:t>灵活</a:t>
            </a: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得</a:t>
            </a:r>
            <a:r>
              <a:rPr b="1" lang="zh-CN" sz="5400" spc="-1" strike="noStrike">
                <a:solidFill>
                  <a:srgbClr val="fc0c0c"/>
                </a:solidFill>
                <a:latin typeface="Comic Sans MS"/>
              </a:rPr>
              <a:t>惊人</a:t>
            </a: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，</a:t>
            </a:r>
            <a:r>
              <a:rPr b="1" lang="zh-CN" sz="5400" spc="-1" strike="noStrike">
                <a:solidFill>
                  <a:srgbClr val="fc0c0c"/>
                </a:solidFill>
                <a:latin typeface="Comic Sans MS"/>
              </a:rPr>
              <a:t>从来没有</a:t>
            </a:r>
            <a:r>
              <a:rPr b="1" lang="zh-CN" sz="5400" spc="-1" strike="noStrike">
                <a:solidFill>
                  <a:srgbClr val="000000"/>
                </a:solidFill>
                <a:latin typeface="Comic Sans MS"/>
              </a:rPr>
              <a:t>碰掉过一样东西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838080" y="838080"/>
            <a:ext cx="701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时，松鼠跳到我的肩上，用小嘴蹭我的脸，还轻轻咬我的耳朵，我想它是又想吃糖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2209680" y="2666880"/>
            <a:ext cx="69343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85800" y="83808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有时，松鼠</a:t>
            </a:r>
            <a:r>
              <a:rPr b="1" lang="zh-CN" sz="3600" spc="-1" strike="noStrike">
                <a:solidFill>
                  <a:srgbClr val="fc0c0c"/>
                </a:solidFill>
                <a:latin typeface="Arial"/>
              </a:rPr>
              <a:t>跳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到我的肩上，用小嘴</a:t>
            </a:r>
            <a:r>
              <a:rPr b="1" lang="zh-CN" sz="3600" spc="-1" strike="noStrike">
                <a:solidFill>
                  <a:srgbClr val="fc0c0c"/>
                </a:solidFill>
                <a:latin typeface="Arial"/>
              </a:rPr>
              <a:t>蹭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的脸，还轻轻</a:t>
            </a:r>
            <a:r>
              <a:rPr b="1" lang="zh-CN" sz="3600" spc="-1" strike="noStrike">
                <a:solidFill>
                  <a:srgbClr val="fc0c0c"/>
                </a:solidFill>
                <a:latin typeface="Arial"/>
              </a:rPr>
              <a:t>咬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的耳朵，我想它是又想吃糖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590920" y="2743200"/>
            <a:ext cx="6248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08T11:51:43Z</dcterms:created>
  <dc:creator/>
  <dc:description> </dc:description>
  <dc:language>en-US</dc:language>
  <cp:lastModifiedBy/>
  <dcterms:modified xsi:type="dcterms:W3CDTF">2015-07-11T08:15:17Z</dcterms:modified>
  <cp:revision>0</cp:revision>
  <dc:subject/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