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169A-43DD-4AD4-843F-D2A8B90D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D36D-D26A-44B5-AC32-1F589626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F5E3-364D-45F2-A49C-6C78C0BF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D18E-9DF0-4AFD-A2BA-B5B13497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1DD5-8099-4192-B44C-3653EE4EE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EC63-5BA5-424E-A80C-F381102F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764C-57F5-4AFD-85FB-1E30777C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1D6B-AC7E-488E-8182-1F8BD6C4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BC71-D085-41F7-AC07-F5641382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E95C-659E-44FF-8957-81E3B999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23A3-7DBA-4B7C-8336-51489C50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28D0-C160-40B3-B394-9B68731B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5C1C3-8A50-457A-A79B-5CCF513FF94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0769-4721-4885-981F-6A7EC10B2BD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0" y="-14400"/>
            <a:ext cx="9144000" cy="871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765000"/>
            <a:ext cx="9191520" cy="537228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1241280" y="2158920"/>
            <a:ext cx="6643800" cy="3359160"/>
            <a:chOff x="1241280" y="2158920"/>
            <a:chExt cx="6643800" cy="3359160"/>
          </a:xfrm>
        </p:grpSpPr>
        <p:sp>
          <p:nvSpPr>
            <p:cNvPr id="44" name=""/>
            <p:cNvSpPr/>
            <p:nvPr/>
          </p:nvSpPr>
          <p:spPr>
            <a:xfrm>
              <a:off x="1241280" y="2158920"/>
              <a:ext cx="3357720" cy="3359160"/>
            </a:xfrm>
            <a:custGeom>
              <a:avLst/>
              <a:gdLst>
                <a:gd name="textAreaLeft" fmla="*/ 0 w 3357720"/>
                <a:gd name="textAreaRight" fmla="*/ 3358080 w 3357720"/>
                <a:gd name="textAreaTop" fmla="*/ 0 h 3359160"/>
                <a:gd name="textAreaBottom" fmla="*/ 3359520 h 3359160"/>
              </a:gdLst>
              <a:ahLst/>
              <a:rect l="textAreaLeft" t="textAreaTop" r="textAreaRight" b="textAreaBottom"/>
              <a:pathLst>
                <a:path w="3357586" h="3357586">
                  <a:moveTo>
                    <a:pt x="1678793" y="3357586"/>
                  </a:moveTo>
                  <a:lnTo>
                    <a:pt x="1678793" y="3357586"/>
                  </a:lnTo>
                  <a:arcTo wR="1678793" hR="1678793" stAng="5400000" swAng="10800000"/>
                  <a:lnTo>
                    <a:pt x="1678793" y="167879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919960" y="2158920"/>
              <a:ext cx="4965120" cy="335916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bc00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919960" y="2158920"/>
              <a:ext cx="24825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文字内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28800" y="3166560"/>
              <a:ext cx="2182320" cy="2183400"/>
            </a:xfrm>
            <a:custGeom>
              <a:avLst/>
              <a:gdLst>
                <a:gd name="textAreaLeft" fmla="*/ 0 w 2182320"/>
                <a:gd name="textAreaRight" fmla="*/ 2182680 w 2182320"/>
                <a:gd name="textAreaTop" fmla="*/ 0 h 2183400"/>
                <a:gd name="textAreaBottom" fmla="*/ 2183760 h 2183400"/>
              </a:gdLst>
              <a:ahLst/>
              <a:rect l="textAreaLeft" t="textAreaTop" r="textAreaRight" b="textAreaBottom"/>
              <a:pathLst>
                <a:path w="2182428" h="2182428">
                  <a:moveTo>
                    <a:pt x="1091214" y="2182428"/>
                  </a:moveTo>
                  <a:lnTo>
                    <a:pt x="1091214" y="2182428"/>
                  </a:lnTo>
                  <a:arcTo wR="1091214" hR="1091214" stAng="5400000" swAng="10800000"/>
                  <a:lnTo>
                    <a:pt x="1091214" y="109121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19960" y="3166560"/>
              <a:ext cx="4965120" cy="218340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82d6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19960" y="3166560"/>
              <a:ext cx="24825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文字内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16320" y="4174560"/>
              <a:ext cx="1007280" cy="1007640"/>
            </a:xfrm>
            <a:custGeom>
              <a:avLst/>
              <a:gdLst>
                <a:gd name="textAreaLeft" fmla="*/ 0 w 1007280"/>
                <a:gd name="textAreaRight" fmla="*/ 1007640 w 1007280"/>
                <a:gd name="textAreaTop" fmla="*/ 0 h 1007640"/>
                <a:gd name="textAreaBottom" fmla="*/ 1008000 h 1007640"/>
              </a:gdLst>
              <a:ahLst/>
              <a:rect l="textAreaLeft" t="textAreaTop" r="textAreaRight" b="textAreaBottom"/>
              <a:pathLst>
                <a:path w="1007274" h="1007274">
                  <a:moveTo>
                    <a:pt x="503637" y="1007274"/>
                  </a:moveTo>
                  <a:lnTo>
                    <a:pt x="503637" y="1007274"/>
                  </a:lnTo>
                  <a:arcTo wR="503637" hR="503637" stAng="5400000" swAng="10800000"/>
                  <a:lnTo>
                    <a:pt x="503637" y="50363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19960" y="4174560"/>
              <a:ext cx="4965120" cy="100764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fefe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19960" y="4174560"/>
              <a:ext cx="24825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2040" rIns="122040" tIns="122040" bIns="12204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… 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402520" y="2158920"/>
              <a:ext cx="24825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02520" y="2158920"/>
              <a:ext cx="24825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87480" bIns="87480" anchor="ctr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 </a:t>
              </a:r>
              <a:r>
                <a:rPr b="0" lang="zh-CN" sz="23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文字内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文字内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02520" y="3166560"/>
              <a:ext cx="24825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02520" y="3166560"/>
              <a:ext cx="24825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87480" bIns="87480" anchor="ctr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文字内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3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文字内容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402520" y="4174560"/>
              <a:ext cx="24825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402520" y="4174560"/>
              <a:ext cx="24825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87480" bIns="87480" anchor="ctr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42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矩形 46"/>
          <p:cNvSpPr/>
          <p:nvPr/>
        </p:nvSpPr>
        <p:spPr>
          <a:xfrm>
            <a:off x="598320" y="1020600"/>
            <a:ext cx="50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5950080"/>
            <a:ext cx="496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3080" y="1773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0240" y="1054080"/>
            <a:ext cx="44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包含关系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8650-1487-42D9-BDEF-CE928AE722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An</dc:creator>
  <dc:description/>
  <dc:language>en-US</dc:language>
  <cp:lastModifiedBy/>
  <dcterms:modified xsi:type="dcterms:W3CDTF">2015-07-10T00:55:40Z</dcterms:modified>
  <cp:revision>95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锐普图表</vt:lpwstr>
  </property>
</Properties>
</file>