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7691-8E6E-4F58-AFD2-F5969609C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FB1A-7AD8-4C9A-9DF5-F4165C12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9681-842E-48B9-A782-5029F431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CFC4-D0E6-4AE8-8A2A-9EA2BE6DD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99DE-A2BE-4DF0-B957-E597FC31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8866-608D-47DB-B502-155C19A9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3524-684C-4DF3-B3E3-1C090C89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FA62-37F9-4E3D-83CD-A2010311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1D8F-9BE0-44D9-A8F9-8DE358EB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3246-35E9-4D52-AE82-C63A5056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8E14-340B-4D13-9121-5DA5D19B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FBD6-2C1D-4F33-84BE-EACF909D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3286-45EC-4574-A7F7-73C84C6A458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FD1C-EFF2-46B7-9660-491C016D945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"/>
          <p:cNvPicPr/>
          <p:nvPr/>
        </p:nvPicPr>
        <p:blipFill>
          <a:blip r:embed="rId1"/>
          <a:stretch/>
        </p:blipFill>
        <p:spPr>
          <a:xfrm>
            <a:off x="5641920" y="1339920"/>
            <a:ext cx="3357720" cy="47973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5" descr=""/>
          <p:cNvPicPr/>
          <p:nvPr/>
        </p:nvPicPr>
        <p:blipFill>
          <a:blip r:embed="rId2"/>
          <a:stretch/>
        </p:blipFill>
        <p:spPr>
          <a:xfrm>
            <a:off x="146160" y="2060640"/>
            <a:ext cx="5003640" cy="3336840"/>
          </a:xfrm>
          <a:prstGeom prst="rect">
            <a:avLst/>
          </a:prstGeom>
          <a:ln w="0">
            <a:noFill/>
          </a:ln>
        </p:spPr>
      </p:pic>
      <p:pic>
        <p:nvPicPr>
          <p:cNvPr id="43" name="图片 5" descr=""/>
          <p:cNvPicPr/>
          <p:nvPr/>
        </p:nvPicPr>
        <p:blipFill>
          <a:blip r:embed="rId3"/>
          <a:stretch/>
        </p:blipFill>
        <p:spPr>
          <a:xfrm>
            <a:off x="158760" y="2060640"/>
            <a:ext cx="5003640" cy="3336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0440" y="1054080"/>
            <a:ext cx="41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插图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EE0F-C9AE-49A4-8D65-4D3743C76D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dongdong</dc:creator>
  <dc:description/>
  <dc:language>en-US</dc:language>
  <cp:lastModifiedBy>ABC</cp:lastModifiedBy>
  <dcterms:modified xsi:type="dcterms:W3CDTF">2015-07-11T14:47:47Z</dcterms:modified>
  <cp:revision>978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